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3455-5281-46F6-B25D-4136396158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AE84-B0CD-4C5D-9C2E-EB25574B04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2CD0-0708-4CA0-9958-4D3C8BE2AD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BED5-0248-4580-9329-73ED7D49A1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DAA2-35E6-4B20-9B26-84C38CD7546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102E-5284-43D0-9A62-189773C0534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F19-D219-4246-8497-0FCDBF9C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BE4A-B8F3-4A12-86EF-25098AD0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79E-80D0-47A7-BD5D-9FF3A5EE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3EF9-44A1-45C4-ADBE-4207FA98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118E-9811-47A8-BE14-DE270DF4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B645-DADA-4425-89EB-B09FE7E1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F7CA-7187-45D0-AF2B-6B40071C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8426-4287-49FE-AF5E-CCDDA641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C5D8-8A69-4BEA-9B49-61AD2651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BEA2-7D00-42F2-BB27-A2DF0D88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5748-8AC6-4906-B43B-D26DF369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C8A-B24B-4842-92FB-B172B39E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4DB3-7BBE-4DD9-B2FC-121686EC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0B65-1562-4939-9BA9-99B95C6A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CE23-7371-4596-8CEA-1FB2C9CD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0099-9979-4A0A-9A9C-8EF5B5AB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D725-82E9-4847-88BB-13456BE0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3BE6B-C429-4F91-B5B9-FA035D88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53621-70AF-4ED3-92D2-144E4667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4141A-A7B3-4A60-B1AE-30679A44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41120-6BB4-4C2B-820A-4B04DDA9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BE003-CFD3-46D7-B5AC-00718164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B5F-F084-441B-946A-8BC68838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3FB6C-5A20-45AD-BF9A-AEC4FE6F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9BC10-8E61-498D-BB5F-E9007AEC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79A0C-D43C-4F7E-96B1-CAD3DC00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F080F-6644-4AF0-A9E3-39FA05FF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97204-8CB6-4B46-A498-D21D8B06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89ED0-B531-450F-AB27-59321222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5E29C-C833-4DEB-9C7F-AD81893C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FE75A-68BE-4048-8E59-E677C7E5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A432D-4519-4261-9B86-8EC1CEB2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5CB29-B77A-4BE3-8329-CD1B1186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DA42-DBA6-4629-8E37-C6538FF8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518F3-55B7-419A-A004-0CB351D9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C2C0C-0D40-4993-93DA-B0583BDB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2F13B-E56A-42AD-ACE1-7A03D86C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12A1A-2B3D-42A9-B0D2-08C7C98A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C9CB9-C513-435B-9E39-80A63A91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27F34-56B8-4BE6-9AF8-52C97C22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AA6B3-E37B-48AC-9BB2-4C1FCE3C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9012B-F88E-4744-9BD8-FC952F79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4A7CD-255C-45E6-AD6A-86B86312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EC7-FDCE-406B-80B9-D0881CD7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8AAF-6EA2-4DD9-A533-F3B4E97B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773-1BC1-4354-A840-C768DE27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641-4DF0-49BE-8558-9B2CC365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9ED-001C-484F-A99B-DDA01A48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1475-9406-4FDA-9283-F8B960668AB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9E35-7366-4A54-9E58-09FA166B898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BC38-9C56-47CF-A542-A497A8F1F6D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2F39-537A-4511-AC0F-72F3764AB56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5040360" y="4581000"/>
            <a:ext cx="385272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дготовила учитель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сшей категории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лотникова Г. Е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14160" y="584280"/>
            <a:ext cx="7918200" cy="23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Narrow"/>
              </a:rPr>
              <a:t>ОБНОВЛЕНИЕ СИСТЕМЫ</a:t>
            </a:r>
            <a:br>
              <a:rPr sz="3200"/>
            </a:br>
            <a:r>
              <a:rPr b="1" lang="ru-RU" sz="3200" spc="-1" strike="noStrike">
                <a:solidFill>
                  <a:srgbClr val="ffc000"/>
                </a:solidFill>
                <a:latin typeface="Arial Narrow"/>
              </a:rPr>
              <a:t>ОЦЕНКИ ДОСТИЖЕНИЯ ПЛАНИРУЕМЫХ</a:t>
            </a:r>
            <a:br>
              <a:rPr sz="3200"/>
            </a:br>
            <a:r>
              <a:rPr b="1" lang="ru-RU" sz="3200" spc="-1" strike="noStrike">
                <a:solidFill>
                  <a:srgbClr val="ffc000"/>
                </a:solidFill>
                <a:latin typeface="Arial Narrow"/>
              </a:rPr>
              <a:t>РЕЗУЛЬТАТОВ ПРИ ВВЕДЕНИИ ФГОС,</a:t>
            </a:r>
            <a:br>
              <a:rPr sz="3200"/>
            </a:br>
            <a:r>
              <a:rPr b="1" lang="ru-RU" sz="3200" spc="-1" strike="noStrike">
                <a:solidFill>
                  <a:srgbClr val="ffc000"/>
                </a:solidFill>
                <a:latin typeface="Arial Narrow"/>
              </a:rPr>
              <a:t>НОВЫЕ ТЕХНОЛОГИИ ОЦЕНКИ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1413000"/>
            <a:ext cx="73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ТОГОВАЯ ОЦЕНКА ВЫПУСКНИК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ормируется на основе накопленной оценки по всем учебным предметам и оценок за выполнение, как минимум, трёх итоговых работ (по русскому языку, математике и комплексной работы на межпредметной основе)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47280" y="836280"/>
            <a:ext cx="784692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Комплексная работа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оценивает сформированность отдельных универсальных учебных способов действий: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знавательных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(общеучебных, логических, постановки и решения проблем),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коммуникативных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(например, умений выражать свои мысли в соответствии с задачами и условиями коммуникации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егулятивных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(например, действие контроля и оценки во внутреннем плане) на межпредметной основе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7280" y="189000"/>
            <a:ext cx="8352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Рассмотри коробку с игрушкой.</a:t>
            </a:r>
            <a:r>
              <a:rPr b="0" lang="ru-RU" sz="2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На обратной стороне этой коробки есть текст, прочти его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Рисунок 1" descr="C:\Documents and Settings\Администратор\Рабочий стол\robot_avto_2.jpg"/>
          <p:cNvPicPr/>
          <p:nvPr/>
        </p:nvPicPr>
        <p:blipFill>
          <a:blip r:embed="rId1"/>
          <a:stretch/>
        </p:blipFill>
        <p:spPr>
          <a:xfrm>
            <a:off x="216000" y="1376280"/>
            <a:ext cx="3238560" cy="306072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1"/>
          <p:cNvSpPr/>
          <p:nvPr/>
        </p:nvSpPr>
        <p:spPr>
          <a:xfrm>
            <a:off x="3492360" y="1233360"/>
            <a:ext cx="54007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оботы-трансформеры -  герои многих мультфильмов и комиксов, они отважны, справедливы, они способны из автомобилей превращаться в робо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итание робота осуществляется от 4  батареек. Гарантия на игрушку 14 дне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ашинкой  «робот-трансформер» интересно играть  потому, что  можно открывать дверцы или капот, включать фары, она имеет различные звуковые эффект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атериал: пластмасса. Возраст: 5+.  Изготовитель: Кита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59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Находить информацию, факты, заданные в тексте в явном виде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4360" y="220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Сколько надо батареек для игрушки? Подчеркни ответ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 батарейку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4 батарейк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6 батареек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7088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Работать с информацией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едставленной в разных формах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4360" y="2133720"/>
            <a:ext cx="7696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Возраст 5+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Что означает эта запись?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Подчеркни  2 правильных ответа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окупать детям пяти лет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окупать детям младше 5 лет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окупать детям старше 5 лет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47280" y="404280"/>
            <a:ext cx="8604360" cy="120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истемная оценка личностных, метапредметных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 предметных результатов реализуется в рамках накопительной системы – РАБОЧЕГО ПОРТФОЛИО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2060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Портфолио позволяет решить следующие педагогические задачи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c9e1f"/>
                </a:solidFill>
                <a:latin typeface="Arial Narrow"/>
              </a:rPr>
              <a:t>поддерживать высокую учебную мотивацию школьников;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c9e1f"/>
                </a:solidFill>
                <a:latin typeface="Arial Narrow"/>
              </a:rPr>
              <a:t>поощрять их активность и самостоятельность, расширять возможности обучения и самообучения;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c9e1f"/>
                </a:solidFill>
                <a:latin typeface="Arial Narrow"/>
              </a:rPr>
              <a:t>формировать умение учиться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179280" y="44280"/>
            <a:ext cx="8748720" cy="1081080"/>
          </a:xfrm>
          <a:prstGeom prst="roundRect">
            <a:avLst>
              <a:gd name="adj" fmla="val 46389"/>
            </a:avLst>
          </a:prstGeom>
          <a:noFill/>
          <a:ln w="0">
            <a:noFill/>
          </a:ln>
          <a:effectLst>
            <a:outerShdw dist="107932" dir="2700000" blurRad="0" rotWithShape="0">
              <a:srgbClr val="1f21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ланируемые результат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ыносимые на итоговую оцен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3"/>
          <p:cNvSpPr/>
          <p:nvPr/>
        </p:nvSpPr>
        <p:spPr>
          <a:xfrm>
            <a:off x="5543640" y="2133720"/>
            <a:ext cx="2879640" cy="2879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6265800" y="3249720"/>
            <a:ext cx="13701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2123"/>
                </a:solidFill>
                <a:latin typeface="Arial"/>
              </a:rPr>
              <a:t>опор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2123"/>
                </a:solidFill>
                <a:latin typeface="Arial"/>
              </a:rPr>
              <a:t>учеб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2123"/>
                </a:solidFill>
                <a:latin typeface="Arial"/>
              </a:rPr>
              <a:t>матери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76360" y="591336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5869080" y="4149720"/>
            <a:ext cx="22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2123"/>
                </a:solidFill>
                <a:latin typeface="Arial"/>
              </a:rPr>
              <a:t>актуальные</a:t>
            </a:r>
            <a:r>
              <a:rPr b="0" lang="ru-RU" sz="1800" spc="-1" strike="noStrike">
                <a:solidFill>
                  <a:srgbClr val="1f2123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1f2123"/>
                </a:solidFill>
                <a:latin typeface="Arial"/>
              </a:rPr>
              <a:t>исполнительская компетентность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2"/>
          <a:stretch/>
        </p:blipFill>
        <p:spPr>
          <a:xfrm>
            <a:off x="162000" y="3171960"/>
            <a:ext cx="2592360" cy="1654200"/>
          </a:xfrm>
          <a:prstGeom prst="rect">
            <a:avLst/>
          </a:prstGeom>
          <a:ln w="0">
            <a:noFill/>
          </a:ln>
        </p:spPr>
      </p:pic>
      <p:sp>
        <p:nvSpPr>
          <p:cNvPr id="211" name="Oval 10"/>
          <p:cNvSpPr/>
          <p:nvPr/>
        </p:nvSpPr>
        <p:spPr>
          <a:xfrm>
            <a:off x="468360" y="3897360"/>
            <a:ext cx="1727280" cy="433440"/>
          </a:xfrm>
          <a:prstGeom prst="ellipse">
            <a:avLst/>
          </a:prstGeom>
          <a:noFill/>
          <a:ln w="31680">
            <a:solidFill>
              <a:srgbClr val="64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 rot="10800000">
            <a:off x="162000" y="2599920"/>
            <a:ext cx="1404720" cy="539640"/>
          </a:xfrm>
          <a:prstGeom prst="wedgeRoundRectCallout">
            <a:avLst>
              <a:gd name="adj1" fmla="val -41865"/>
              <a:gd name="adj2" fmla="val -247060"/>
              <a:gd name="adj3" fmla="val 16667"/>
            </a:avLst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c9e1f"/>
                </a:solidFill>
                <a:latin typeface="Arial"/>
              </a:rPr>
              <a:t>Выпускн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c9e1f"/>
                </a:solidFill>
                <a:latin typeface="Arial"/>
              </a:rPr>
              <a:t>научи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6012000" y="249228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2123"/>
                </a:solidFill>
                <a:latin typeface="Arial"/>
              </a:rPr>
              <a:t>перспективные</a:t>
            </a:r>
            <a:r>
              <a:rPr b="0" lang="ru-RU" sz="1800" spc="-1" strike="noStrike">
                <a:solidFill>
                  <a:srgbClr val="1f2123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1f2123"/>
                </a:solidFill>
                <a:latin typeface="Arial"/>
              </a:rPr>
              <a:t>зона ближайшего развити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179280" y="1268280"/>
            <a:ext cx="39261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итоговую оценку выносятся метапредметные и предметные результаты, представленные в блоках «Выпускник научитс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216000" y="5084640"/>
            <a:ext cx="5221080" cy="14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стижение этих результатов проверяется с помощью учебно-познавательных и учебно-практических задач </a:t>
            </a:r>
            <a:r>
              <a:rPr b="1" lang="ru-RU" sz="1800" spc="-1" strike="noStrike" u="sng">
                <a:solidFill>
                  <a:srgbClr val="ffc000"/>
                </a:solidFill>
                <a:uFillTx/>
                <a:latin typeface="Arial"/>
              </a:rPr>
              <a:t>базов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 u="sng">
                <a:solidFill>
                  <a:srgbClr val="ffc000"/>
                </a:solidFill>
                <a:uFillTx/>
                <a:latin typeface="Arial"/>
              </a:rPr>
              <a:t>повышен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ровней, построенных на </a:t>
            </a:r>
            <a:r>
              <a:rPr b="1" lang="ru-RU" sz="1800" spc="-1" strike="noStrike" u="sng">
                <a:solidFill>
                  <a:srgbClr val="ffc000"/>
                </a:solidFill>
                <a:uFillTx/>
                <a:latin typeface="Arial"/>
              </a:rPr>
              <a:t>опорно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чебном материа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5904000" y="1268280"/>
            <a:ext cx="2519280" cy="684360"/>
          </a:xfrm>
          <a:prstGeom prst="wedgeRoundRectCallout">
            <a:avLst>
              <a:gd name="adj1" fmla="val -7337"/>
              <a:gd name="adj2" fmla="val 175060"/>
              <a:gd name="adj3" fmla="val 16667"/>
            </a:avLst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904000" y="1341360"/>
            <a:ext cx="25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c9e1f"/>
                </a:solidFill>
                <a:latin typeface="Arial"/>
              </a:rPr>
              <a:t>Задания </a:t>
            </a:r>
            <a:r>
              <a:rPr b="1" lang="ru-RU" sz="1600" spc="-1" strike="noStrike">
                <a:solidFill>
                  <a:srgbClr val="dc9e1f"/>
                </a:solidFill>
                <a:latin typeface="Arial"/>
              </a:rPr>
              <a:t>повышенного</a:t>
            </a:r>
            <a:r>
              <a:rPr b="0" lang="ru-RU" sz="1600" spc="-1" strike="noStrike">
                <a:solidFill>
                  <a:srgbClr val="dc9e1f"/>
                </a:solidFill>
                <a:latin typeface="Arial"/>
              </a:rPr>
              <a:t> уров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5796000" y="5191200"/>
            <a:ext cx="2448000" cy="684000"/>
          </a:xfrm>
          <a:prstGeom prst="wedgeRoundRectCallout">
            <a:avLst>
              <a:gd name="adj1" fmla="val -1361"/>
              <a:gd name="adj2" fmla="val -203134"/>
              <a:gd name="adj3" fmla="val 16667"/>
            </a:avLst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5796000" y="5224320"/>
            <a:ext cx="25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c9e1f"/>
                </a:solidFill>
                <a:latin typeface="Arial"/>
              </a:rPr>
              <a:t>Задания </a:t>
            </a:r>
            <a:r>
              <a:rPr b="1" lang="ru-RU" sz="1600" spc="-1" strike="noStrike">
                <a:solidFill>
                  <a:srgbClr val="dc9e1f"/>
                </a:solidFill>
                <a:latin typeface="Arial"/>
              </a:rPr>
              <a:t>базового</a:t>
            </a:r>
            <a:r>
              <a:rPr b="0" lang="ru-RU" sz="1600" spc="-1" strike="noStrike">
                <a:solidFill>
                  <a:srgbClr val="dc9e1f"/>
                </a:solidFill>
                <a:latin typeface="Arial"/>
              </a:rPr>
              <a:t> уров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2987640" y="2781360"/>
            <a:ext cx="2376360" cy="1368360"/>
          </a:xfrm>
          <a:prstGeom prst="wedgeRoundRectCallout">
            <a:avLst>
              <a:gd name="adj1" fmla="val 94152"/>
              <a:gd name="adj2" fmla="val 11949"/>
              <a:gd name="adj3" fmla="val 16667"/>
            </a:avLst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2879640" y="288936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c9e1f"/>
                </a:solidFill>
                <a:latin typeface="Arial"/>
              </a:rPr>
              <a:t>Особое место занимаю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1"/>
          <p:cNvSpPr/>
          <p:nvPr/>
        </p:nvSpPr>
        <p:spPr>
          <a:xfrm>
            <a:off x="3203640" y="321300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9e1f"/>
                </a:solidFill>
                <a:latin typeface="Arial"/>
              </a:rPr>
              <a:t>Русский яз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2"/>
          <p:cNvSpPr/>
          <p:nvPr/>
        </p:nvSpPr>
        <p:spPr>
          <a:xfrm>
            <a:off x="3203640" y="350028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9e1f"/>
                </a:solidFill>
                <a:latin typeface="Arial"/>
              </a:rPr>
              <a:t>Матема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3203640" y="378936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9e1f"/>
                </a:solidFill>
                <a:latin typeface="Arial"/>
              </a:rPr>
              <a:t>Чт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УУ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1"/>
          <p:cNvSpPr/>
          <p:nvPr/>
        </p:nvSpPr>
        <p:spPr>
          <a:xfrm>
            <a:off x="5437080" y="60976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2"/>
          <p:cNvSpPr/>
          <p:nvPr/>
        </p:nvSpPr>
        <p:spPr>
          <a:xfrm rot="5400000">
            <a:off x="6992640" y="351504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УЧЕБНЫЕ 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184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Выпускник овладел  опорной системой знаний на уровне осознанного применения учебных действий, в том числе при решении нестандартных задач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4360" y="2492280"/>
            <a:ext cx="777384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Такой вывод делается, если в материалах накопительной системы оценки зафиксировано достижение планируемых результатов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c9e1f"/>
                </a:solidFill>
                <a:latin typeface="Arial Narrow"/>
              </a:rPr>
              <a:t>не менее чем по половине разделов образовательной программы с оценкой «хорошо» или «отлично»,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а результаты выполнения итоговых работ свидетельствуют о правильном выполнении</a:t>
            </a: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dc9e1f"/>
                </a:solidFill>
                <a:latin typeface="Arial Narrow"/>
              </a:rPr>
              <a:t>не менее 65% заданий необходимого (базового) уровня и не менее 50% от максимального балла за выполнение заданий повышенного уровня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7640" y="252360"/>
            <a:ext cx="7810560" cy="206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5829480"/>
                <a:tab algn="l" pos="5923080"/>
                <a:tab algn="l" pos="762624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Выпускник овладел опорной системой знаний, необходимой для продолжения образования на следующей ступени общего образования, на уровне осознанного произвольного овладения учебными действиями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5280" y="2636640"/>
            <a:ext cx="84614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 Narrow"/>
              </a:rPr>
              <a:t>Такой вывод делается, если в материалах накопительной системы оценки зафиксировано достижение планируемых результатов по всем основным разделам учебной </a:t>
            </a:r>
            <a:r>
              <a:rPr b="1" lang="ru-RU" sz="2200" spc="-1" strike="noStrike">
                <a:solidFill>
                  <a:srgbClr val="ffc000"/>
                </a:solidFill>
                <a:latin typeface="Arial Narrow"/>
              </a:rPr>
              <a:t>программы как минимум с оценкой «зачтено» (или «удовлетворительно»</a:t>
            </a:r>
            <a:r>
              <a:rPr b="1" lang="ru-RU" sz="2200" spc="-1" strike="noStrike">
                <a:solidFill>
                  <a:srgbClr val="ffff00"/>
                </a:solidFill>
                <a:latin typeface="Arial Narrow"/>
              </a:rPr>
              <a:t>), </a:t>
            </a:r>
            <a:r>
              <a:rPr b="1" lang="ru-RU" sz="2200" spc="-1" strike="noStrike">
                <a:solidFill>
                  <a:srgbClr val="ffffff"/>
                </a:solidFill>
                <a:latin typeface="Arial Narrow"/>
              </a:rPr>
              <a:t>а результаты выполнения итоговых работ свидетельствуют о правильном выполнении</a:t>
            </a:r>
            <a:r>
              <a:rPr b="1" lang="ru-RU" sz="2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ffc000"/>
                </a:solidFill>
                <a:latin typeface="Arial Narrow"/>
              </a:rPr>
              <a:t>не менее 50 % заданий базового уровня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184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Выпускник не овладел опорной системой знаний и учебными действиями, необходимыми для продолжения образования на следующей ступени общего образования.</a:t>
            </a: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4360" y="2492280"/>
            <a:ext cx="777384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Такой вывод делается, если в материалах накопительной    системы оценки </a:t>
            </a:r>
            <a:r>
              <a:rPr b="1" lang="ru-RU" sz="2000" spc="-1" strike="noStrike">
                <a:solidFill>
                  <a:srgbClr val="ffc000"/>
                </a:solidFill>
                <a:latin typeface="Arial Narrow"/>
              </a:rPr>
              <a:t>не зафиксировано 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достижение планируемых результатов </a:t>
            </a:r>
            <a:r>
              <a:rPr b="1" lang="ru-RU" sz="2000" spc="-1" strike="noStrike">
                <a:solidFill>
                  <a:srgbClr val="ffc000"/>
                </a:solidFill>
                <a:latin typeface="Arial Narrow"/>
              </a:rPr>
              <a:t>по всем основным разделам учебной программы, а результаты выполнения итоговых работ свидетельствуют о правильном выполнении менее 50% заданий базового уровня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держательная и критериальная основа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ланируемые результаты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предметных, метапредметных, личностных результатов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способности решать учебно-познавательные и учебно-практические задачи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динамики учебных достижений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 стандартизированных и нестандартизированных методов (устных и письменных, индивидуальных и групповых, само- и взаимооценки и др.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четание внутренней и внешней оценки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копительная система оценки индивидуальных достижений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персонифицированной и неперсонифицированной информации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вневый подход  в инструментарии, в представлении результатов; оценка методом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«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жения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претация результатов на основе контекстной информации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0" y="214200"/>
            <a:ext cx="942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истема оценки: основные особен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42800" y="5949720"/>
            <a:ext cx="4754520" cy="68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Arial Narrow"/>
              </a:rPr>
              <a:t>СПАСИБО ЗА ВНИМАНИЕ !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4" name="Рисунок 1" descr=""/>
          <p:cNvPicPr/>
          <p:nvPr/>
        </p:nvPicPr>
        <p:blipFill>
          <a:blip r:embed="rId1"/>
          <a:stretch/>
        </p:blipFill>
        <p:spPr>
          <a:xfrm>
            <a:off x="1573200" y="1341360"/>
            <a:ext cx="6094440" cy="453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2004590-83621-3-embed-embed"/>
          <p:cNvPicPr/>
          <p:nvPr/>
        </p:nvPicPr>
        <p:blipFill>
          <a:blip r:embed="rId1"/>
          <a:stretch/>
        </p:blipFill>
        <p:spPr>
          <a:xfrm>
            <a:off x="3059280" y="1052640"/>
            <a:ext cx="2376360" cy="18223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469800" y="47628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ичностные У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4000" y="1557360"/>
            <a:ext cx="25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гуля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5654520" y="1413000"/>
            <a:ext cx="309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050920" y="5734080"/>
            <a:ext cx="51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2268360" y="2997360"/>
            <a:ext cx="41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знавательные У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7200" y="3657600"/>
            <a:ext cx="8001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лавное отличие Стандарта – новый образовательный результ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ные (личностные УУД), метапредметные (регулятивные, коммуникативные и познавательные УУД) и предмет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5640" y="512280"/>
            <a:ext cx="8677080" cy="9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БЪЕКТОМ ОЦЕНКИ ЛИЧНОСТНЫХ РЕЗУЛЬТАТ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УЖИТ СФОРМИРОВАННОСТЬ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УУД, 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79280" y="1384200"/>
            <a:ext cx="885672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Narrow"/>
              </a:rPr>
              <a:t>самоопределение</a:t>
            </a: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— сформированность внутренней позиции обучающегося —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нятие и освоение новой социальной роли обучающегося; становление основ российской гражданской идентичности личности как чувства гордости за свою Родину, народ, историю и осознание своей этнической принадлежности; развитие самоуважения и способности адекватно оценивать себя и свои достижения, видеть сильные и слабые стороны своей личности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Narrow"/>
              </a:rPr>
              <a:t>смыслоообразование</a:t>
            </a: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 —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оиск и установление личностного смысла (т. е. «значения для себя») учения обучающимися на основе устойчивой системы учебно-познавательных и социальных мотивов; понимания границ того, «что я знаю», и того, «что я не знаю», «незнания» и стремления к преодолению этого разрыва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Narrow"/>
              </a:rPr>
              <a:t>нравственно-этическая ориентация</a:t>
            </a:r>
            <a:r>
              <a:rPr b="0" i="1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— знание основных моральных норм и ориентация на их выполнение на основе понимания их социальной необходимости;   развитие этических чувств — стыда, вины, совести как регуляторов морального поведения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68000" y="1483920"/>
            <a:ext cx="79722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планируемых результатах, описывающих эту группу, отсутствует блок «Выпускник научится». Это означает, что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личностные результаты выпускников на ступени начального общего образования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полном соответствии с требованиями Стандарта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не подлежат итоговой оценке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94920" y="1773360"/>
            <a:ext cx="79930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бъект оценки метапредметных результатов -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сформированность у обучающегося регулятивных, коммуникативных и познавательных универсальных действий,  т. е. таких умственных действий обучающихся, которые направлены на анализ своей познавательной деятельности и управление ею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296640"/>
            <a:ext cx="76327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СНОВНЫЕ ФОРМЫ ОЦЕНИВАНИЯ ДОСТИЖЕНИЙ МЕТАПРЕДМЕТНЫХ РЕЗУЛЬТАТОВ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2920" y="1160280"/>
            <a:ext cx="780876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результат выполнения специально сконструированных диагностических задач, направленных на оценку уровня сформированности конкретного вида универсальных учебных действий;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средство решения и  условие успешности выполнения учебных и учебно-практических задач средствами учебных предметов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успешное выполнение комплексных заданий на межпредметной основе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78920" y="1926720"/>
            <a:ext cx="86058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БЪЕКТ ОЦЕНКИ ПРЕДМЕТНЫХ РЕЗУЛЬТАТОВ –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пособность учащихся решать учебно-познавательные 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учебно-практические задач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одержание заданий для итоговой оценки достижения предметных результатов курса строится вокруг изучаемого опорного учебного материала, представленного в разделе «Выпускник научится»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847280" cy="129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СНОВНЫЕ ФОРМЫ ОЦЕНИВАНИЯ ДОСТИЖЕНИЙ ПРЕДМЕТНЫХ РЕЗУЛЬТАТОВ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10920" y="2313000"/>
            <a:ext cx="78469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ценка достижения предметных результатов ведётся как в ходе текущего и промежуточного оценивания, так и в ходе выполнения итоговых проверочных работ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0T11:53:38Z</dcterms:created>
  <dc:creator>Плотникова Галина</dc:creator>
  <dc:description/>
  <dc:language>en-US</dc:language>
  <cp:lastModifiedBy>Valeriy Plotnikov</cp:lastModifiedBy>
  <cp:lastPrinted>2002-07-25T21:58:31Z</cp:lastPrinted>
  <dcterms:modified xsi:type="dcterms:W3CDTF">2012-12-27T13:08:24Z</dcterms:modified>
  <cp:revision>565</cp:revision>
  <dc:subject/>
  <dc:title>Система оценки</dc:title>
</cp:coreProperties>
</file>