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4FD2-A869-4D4E-955A-FF54E0B016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CB6F-65C7-4B51-9863-3928D264A4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42B9-8C5A-4F10-9A18-6E2B41BDAB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3CB8-5932-47F1-BA17-70B3C5C339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BB33-73A9-4025-9900-BB20A91828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04B-1F5C-4B78-B5CD-CC52F624CD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F17-62EC-41BD-9AFA-0741576A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002-80CF-4F08-9224-14E15E6A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21D-C2B9-4820-8F2B-D6901A7B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2FE-F355-4C3C-943E-2D2FCC16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4B54-7BEE-4ED0-A5C1-F7DFBE52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0BDA-BDC0-44D2-B644-5811B432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0F88-4CDB-4C5B-8825-992C28ED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6EF8-6687-49AC-9F19-BB2FEA5A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86BC-BBAF-4856-BE42-22A3730D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FBA4-956D-4E3A-8500-8806AC60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0B0C-90E6-458F-BB94-5D7A3F2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F3F-36E2-414E-9029-6716765D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D8F1-C7B7-48BE-A7A7-E6A76896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9015-B0FB-42AB-A917-E1CACC8B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3312-A130-4A26-B9AD-F2C3A3EE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0720-41DA-40F0-81BC-E97F9EC6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9A55-BD6B-432E-BF84-49023C52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9302B-BB6F-4CF3-8C20-E6FF054E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E5BB-38C9-4651-84EB-5FC50EA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5FAD-AF37-47A3-BFAA-5E15EDA3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321A-22C9-4936-9CAA-A5A326C4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15E0-9810-4BE5-B022-6DE96116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225-5442-4E7A-9D51-04569AAA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E3AC-68D2-4079-B576-1B33746F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897F-69B4-4E19-94DB-0A66BF43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E7A9-8AA0-444D-AEFC-591837EB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0DA3-2994-4D6B-AEAE-A244B5B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2D0A-6105-4904-AC69-D5C27F93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E311-B6E1-4654-BBFD-9D2D7289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EC16-4F41-4BC4-80E4-B0AF0A48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FEBA-89A5-45AA-A8E9-E8171E25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C147-3AEE-4A97-A6F6-842F9FFD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6E06-CF59-4BAA-B241-D9866E64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B83-8E4D-4DFB-BBA6-92989CC3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FE23-57A4-4346-A576-4AF29DE6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C0C3-8079-4097-A40C-7474D164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7EAF-A867-4686-BDC3-5B1F58D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18A6-DF39-443F-B7FC-0BE93F4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E1AE-D7BB-411E-895F-7A8C2FA0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4C1F-BCC2-448A-BDD4-9DCF01D0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8D9A-EC39-4BA8-AA9E-CA885539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E1733-E281-4A3A-BFE2-F0E206BF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F9E0-4185-44A6-8A9B-41E4F5A4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690-F7F4-44A2-8818-A22DECCB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B92-6F87-463F-9CD8-2FA7B831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9F2-773A-4AE9-A849-978F48D1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2B8-05F1-4E06-A31C-67E1880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116-743B-4EF5-91B8-9CDB67C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07A1-D898-419D-8B78-656CBDB758D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3363-1A21-4AFB-A0EC-FAFAF34300F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538B-41EC-4D00-8B0D-DBFA8EF5889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3E78-345D-4312-BFEB-8A98B7FDA20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040360" y="4581000"/>
            <a:ext cx="3852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готовила учитель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отникова Г. 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14160" y="584280"/>
            <a:ext cx="791820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ОБНОВЛЕНИЕ СИСТЕМЫ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ОЦЕНКИ ДОСТИЖЕНИЯ ПЛАНИРУЕМЫХ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РЕЗУЛЬТАТОВ ПРИ ВВЕДЕНИИ ФГОС,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НОВЫЕ ТЕХНОЛОГИИ ОЦЕНКИ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1413000"/>
            <a:ext cx="73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ТОГОВАЯ ОЦЕНКА ВЫПУСКНИК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ормируется на основе накопленной оценки по всем учебным предметам и оценок за выполнение, как минимум, трёх итоговых работ (по русскому языку, математике и комплексной работы на межпредметной основе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47280" y="836280"/>
            <a:ext cx="7846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Комплексная работа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оценивает сформированность отдельных универсальных учебных способов действий: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знавательных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(общеучебных, логических, постановки и решения проблем),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коммуникативных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(например, умений выражать свои мысли в соответствии с задачами и условиями коммуникации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егулятивных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(например, действие контроля и оценки во внутреннем плане) на межпредметной основе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7280" y="189000"/>
            <a:ext cx="8352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Рассмотри коробку с игрушкой.</a:t>
            </a:r>
            <a:r>
              <a:rPr b="0" lang="ru-RU" sz="2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обратной стороне этой коробки есть текст, прочти его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Рисунок 1" descr="C:\Documents and Settings\Администратор\Рабочий стол\robot_avto_2.jpg"/>
          <p:cNvPicPr/>
          <p:nvPr/>
        </p:nvPicPr>
        <p:blipFill>
          <a:blip r:embed="rId1"/>
          <a:stretch/>
        </p:blipFill>
        <p:spPr>
          <a:xfrm>
            <a:off x="216000" y="1376280"/>
            <a:ext cx="3238560" cy="306072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"/>
          <p:cNvSpPr/>
          <p:nvPr/>
        </p:nvSpPr>
        <p:spPr>
          <a:xfrm>
            <a:off x="3492360" y="1233360"/>
            <a:ext cx="54007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оботы-трансформеры -  герои многих мультфильмов и комиксов, они отважны, справедливы, они способны из автомобилей превращаться в робо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итание робота осуществляется от 4  батареек. Гарантия на игрушку 14 дн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шинкой  «робот-трансформер» интересно играть  потому, что  можно открывать дверцы или капот, включать фары, она имеет различные звуковые эффект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териал: пластмасса. Возраст: 5+.  Изготовитель: Кита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59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ходить информацию, факты, заданные в тексте в явном вид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колько надо батареек для игрушки? Подчеркни ответ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 батарейку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4 батарейк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6 батареек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7088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Работать с информацие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ставленной в разных формах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4360" y="2133720"/>
            <a:ext cx="7696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Возраст 5+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Что означает эта запись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дчеркни  2 правильных отве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купать детям пяти лет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купать детям младше 5 лет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купать детям старше 5 лет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7280" y="404280"/>
            <a:ext cx="8604360" cy="12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истемная оценка личностных, метапредметных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предметных результатов реализуется в рамках накопительной системы – РАБОЧЕГО ПОРТФОЛИО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ртфолио позволяет решить следующие педагогические задачи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9e1f"/>
                </a:solidFill>
                <a:latin typeface="Arial Narrow"/>
              </a:rPr>
              <a:t>поддерживать высокую учебную мотивацию школьников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9e1f"/>
                </a:solidFill>
                <a:latin typeface="Arial Narrow"/>
              </a:rPr>
              <a:t>поощрять их активность и самостоятельность, расширять возможности обучения и самообучения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9e1f"/>
                </a:solidFill>
                <a:latin typeface="Arial Narrow"/>
              </a:rPr>
              <a:t>формировать умение учиться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179280" y="44280"/>
            <a:ext cx="8748720" cy="1081080"/>
          </a:xfrm>
          <a:prstGeom prst="roundRect">
            <a:avLst>
              <a:gd name="adj" fmla="val 46389"/>
            </a:avLst>
          </a:prstGeom>
          <a:noFill/>
          <a:ln w="0">
            <a:noFill/>
          </a:ln>
          <a:effectLst>
            <a:outerShdw dist="107932" dir="2700000" blurRad="0" rotWithShape="0">
              <a:srgbClr val="1f21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ланируемые результат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носимые на итоговую оце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3"/>
          <p:cNvSpPr/>
          <p:nvPr/>
        </p:nvSpPr>
        <p:spPr>
          <a:xfrm>
            <a:off x="5543640" y="2133720"/>
            <a:ext cx="2879640" cy="28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265800" y="3249720"/>
            <a:ext cx="13701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2123"/>
                </a:solidFill>
                <a:latin typeface="Arial"/>
              </a:rPr>
              <a:t>опо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2123"/>
                </a:solidFill>
                <a:latin typeface="Arial"/>
              </a:rPr>
              <a:t>учеб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2123"/>
                </a:solidFill>
                <a:latin typeface="Arial"/>
              </a:rPr>
              <a:t>матери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76360" y="591336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869080" y="4149720"/>
            <a:ext cx="22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2123"/>
                </a:solidFill>
                <a:latin typeface="Arial"/>
              </a:rPr>
              <a:t>актуальные</a:t>
            </a:r>
            <a:r>
              <a:rPr b="0" lang="ru-RU" sz="1800" spc="-1" strike="noStrike">
                <a:solidFill>
                  <a:srgbClr val="1f2123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1f2123"/>
                </a:solidFill>
                <a:latin typeface="Arial"/>
              </a:rPr>
              <a:t>исполнительская компетентнос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2"/>
          <a:stretch/>
        </p:blipFill>
        <p:spPr>
          <a:xfrm>
            <a:off x="162000" y="3171960"/>
            <a:ext cx="2592360" cy="1654200"/>
          </a:xfrm>
          <a:prstGeom prst="rect">
            <a:avLst/>
          </a:prstGeom>
          <a:ln w="0">
            <a:noFill/>
          </a:ln>
        </p:spPr>
      </p:pic>
      <p:sp>
        <p:nvSpPr>
          <p:cNvPr id="211" name="Oval 10"/>
          <p:cNvSpPr/>
          <p:nvPr/>
        </p:nvSpPr>
        <p:spPr>
          <a:xfrm>
            <a:off x="468360" y="3897360"/>
            <a:ext cx="1727280" cy="433440"/>
          </a:xfrm>
          <a:prstGeom prst="ellipse">
            <a:avLst/>
          </a:prstGeom>
          <a:noFill/>
          <a:ln w="316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 rot="10800000">
            <a:off x="162000" y="2599920"/>
            <a:ext cx="1404720" cy="539640"/>
          </a:xfrm>
          <a:prstGeom prst="wedgeRoundRectCallout">
            <a:avLst>
              <a:gd name="adj1" fmla="val -41865"/>
              <a:gd name="adj2" fmla="val -247060"/>
              <a:gd name="adj3" fmla="val 16667"/>
            </a:avLst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9e1f"/>
                </a:solidFill>
                <a:latin typeface="Arial"/>
              </a:rPr>
              <a:t>Выпускн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9e1f"/>
                </a:solidFill>
                <a:latin typeface="Arial"/>
              </a:rPr>
              <a:t>науч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012000" y="2492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2123"/>
                </a:solidFill>
                <a:latin typeface="Arial"/>
              </a:rPr>
              <a:t>перспективные</a:t>
            </a:r>
            <a:r>
              <a:rPr b="0" lang="ru-RU" sz="1800" spc="-1" strike="noStrike">
                <a:solidFill>
                  <a:srgbClr val="1f2123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1f2123"/>
                </a:solidFill>
                <a:latin typeface="Arial"/>
              </a:rPr>
              <a:t>зона ближайшего развит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179280" y="1268280"/>
            <a:ext cx="39261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тоговую оценку выносятся метапредметные и предметные результаты, представленные в блоках «Выпускник научитс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216000" y="5084640"/>
            <a:ext cx="5221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ижение этих результатов проверяется с помощью учебно-познавательных и учебно-практических задач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"/>
              </a:rPr>
              <a:t>базов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"/>
              </a:rPr>
              <a:t>повышен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ровней, построенных на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"/>
              </a:rPr>
              <a:t>опорн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чебном матери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904000" y="1268280"/>
            <a:ext cx="2519280" cy="684360"/>
          </a:xfrm>
          <a:prstGeom prst="wedgeRoundRectCallout">
            <a:avLst>
              <a:gd name="adj1" fmla="val -7337"/>
              <a:gd name="adj2" fmla="val 175060"/>
              <a:gd name="adj3" fmla="val 16667"/>
            </a:avLst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904000" y="1341360"/>
            <a:ext cx="25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Задания </a:t>
            </a:r>
            <a:r>
              <a:rPr b="1" lang="ru-RU" sz="1600" spc="-1" strike="noStrike">
                <a:solidFill>
                  <a:srgbClr val="dc9e1f"/>
                </a:solidFill>
                <a:latin typeface="Arial"/>
              </a:rPr>
              <a:t>повышенного</a:t>
            </a: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5796000" y="5191200"/>
            <a:ext cx="2448000" cy="684000"/>
          </a:xfrm>
          <a:prstGeom prst="wedgeRoundRectCallout">
            <a:avLst>
              <a:gd name="adj1" fmla="val -1361"/>
              <a:gd name="adj2" fmla="val -203134"/>
              <a:gd name="adj3" fmla="val 16667"/>
            </a:avLst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5796000" y="5224320"/>
            <a:ext cx="25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Задания </a:t>
            </a:r>
            <a:r>
              <a:rPr b="1" lang="ru-RU" sz="1600" spc="-1" strike="noStrike">
                <a:solidFill>
                  <a:srgbClr val="dc9e1f"/>
                </a:solidFill>
                <a:latin typeface="Arial"/>
              </a:rPr>
              <a:t>базового</a:t>
            </a: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2987640" y="2781360"/>
            <a:ext cx="2376360" cy="1368360"/>
          </a:xfrm>
          <a:prstGeom prst="wedgeRoundRectCallout">
            <a:avLst>
              <a:gd name="adj1" fmla="val 94152"/>
              <a:gd name="adj2" fmla="val 11949"/>
              <a:gd name="adj3" fmla="val 16667"/>
            </a:avLst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2879640" y="2889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Особое место занимаю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3203640" y="32130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9e1f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3203640" y="3500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9e1f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203640" y="37893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9e1f"/>
                </a:solidFill>
                <a:latin typeface="Arial"/>
              </a:rPr>
              <a:t>Чт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У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5437080" y="60976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 rot="5400000">
            <a:off x="6992640" y="351504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ЧЕБНЫЕ 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8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пускник овладел  опорной системой знаний на уровне осознанного применения учебных действий, в том числе при решении нестандартных задач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4360" y="2492280"/>
            <a:ext cx="77738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Такой вывод делается, если в материалах накопительной системы оценки зафиксировано достижение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9e1f"/>
                </a:solidFill>
                <a:latin typeface="Arial Narrow"/>
              </a:rPr>
              <a:t>не менее чем по половине разделов образовательной программы с оценкой «хорошо» или «отлично»,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а результаты выполнения итоговых работ свидетельствуют о правильном выполнении</a:t>
            </a: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dc9e1f"/>
                </a:solidFill>
                <a:latin typeface="Arial Narrow"/>
              </a:rPr>
              <a:t>не менее 65% заданий необходимого (базового) уровня и не менее 50% от максимального балла за выполнение заданий повышенного уровн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7640" y="252360"/>
            <a:ext cx="7810560" cy="20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829480"/>
                <a:tab algn="l" pos="5923080"/>
                <a:tab algn="l" pos="762624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пускник овладел опорной системой знаний, необходимой для продолжения образования на следующей ступени общего образования, на уровне осознанного произвольного овладения учебными действиями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5280" y="2636640"/>
            <a:ext cx="84614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Такой вывод делается, если в материалах накопительной системы оценки зафиксировано достижение планируемых результатов по всем основным разделам учебной </a:t>
            </a:r>
            <a:r>
              <a:rPr b="1" lang="ru-RU" sz="2200" spc="-1" strike="noStrike">
                <a:solidFill>
                  <a:srgbClr val="ffc000"/>
                </a:solidFill>
                <a:latin typeface="Arial Narrow"/>
              </a:rPr>
              <a:t>программы как минимум с оценкой «зачтено» (или «удовлетворительно»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), 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а результаты выполнения итоговых работ свидетельствуют о правильном выполнении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Arial Narrow"/>
              </a:rPr>
              <a:t>не менее 50 % заданий базового уровня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8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пускник не овладел опорной системой знаний и учебными действиями, необходимыми для продолжения образования на следующей ступени общего образования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4360" y="2492280"/>
            <a:ext cx="77738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Такой вывод делается, если в материалах накопительной    системы оценки </a:t>
            </a:r>
            <a:r>
              <a:rPr b="1" lang="ru-RU" sz="2000" spc="-1" strike="noStrike">
                <a:solidFill>
                  <a:srgbClr val="ffc000"/>
                </a:solidFill>
                <a:latin typeface="Arial Narrow"/>
              </a:rPr>
              <a:t>не зафиксировано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достижение планируемых результатов </a:t>
            </a:r>
            <a:r>
              <a:rPr b="1" lang="ru-RU" sz="2000" spc="-1" strike="noStrike">
                <a:solidFill>
                  <a:srgbClr val="ffc000"/>
                </a:solidFill>
                <a:latin typeface="Arial Narrow"/>
              </a:rPr>
              <a:t>по всем основным разделам учебной программы, а результаты выполнения итоговых работ свидетельствуют о правильном выполнении менее 50% заданий базового уровн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держательная и критериальная основа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ланируемые результаты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предметных, метапредметных, личностных результатов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способности решать учебно-познавательные и учебно-практические задачи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динамики учебных достижений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 стандартизированных и нестандартизированных методов (устных и письменных, индивидуальных и групповых, само- и взаимооценки и др.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четание внутренней и внешней оценки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ельная система оценки индивидуальных достижений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персонифицированной и неперсонифицированной информации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вневый подход  в инструментарии, в представлении результатов; оценка методом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жения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претация результатов на основе контекстной информации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0" y="214200"/>
            <a:ext cx="942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истема оценки: основные особ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42800" y="5949720"/>
            <a:ext cx="475452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Arial Narrow"/>
              </a:rPr>
              <a:t>СПАСИБО ЗА ВНИМАНИЕ !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4" name="Рисунок 1" descr=""/>
          <p:cNvPicPr/>
          <p:nvPr/>
        </p:nvPicPr>
        <p:blipFill>
          <a:blip r:embed="rId1"/>
          <a:stretch/>
        </p:blipFill>
        <p:spPr>
          <a:xfrm>
            <a:off x="1573200" y="1341360"/>
            <a:ext cx="6094440" cy="453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2004590-83621-3-embed-embed"/>
          <p:cNvPicPr/>
          <p:nvPr/>
        </p:nvPicPr>
        <p:blipFill>
          <a:blip r:embed="rId1"/>
          <a:stretch/>
        </p:blipFill>
        <p:spPr>
          <a:xfrm>
            <a:off x="3059280" y="1052640"/>
            <a:ext cx="2376360" cy="1822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469800" y="4762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4000" y="155736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654520" y="1413000"/>
            <a:ext cx="30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050920" y="5734080"/>
            <a:ext cx="51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268360" y="299736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знавательные 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657600"/>
            <a:ext cx="8001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лавное отличие Стандарта – новый образовательный результ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ые (личностные УУД), метапредметные (регулятивные, коммуникативные и познавательные УУД) и предме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5640" y="512280"/>
            <a:ext cx="867708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БЪЕКТОМ ОЦЕНКИ ЛИЧНОСТНЫХ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УЖИТ СФОРМИРОВАННОСТЬ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УУД,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9280" y="1384200"/>
            <a:ext cx="885672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самоопределение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— сформированность внутренней позиции обучающегося —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нятие и освоение новой социальной роли обучающегося; становление основ российской гражданской идентичности личности как чувства гордости за свою Родину, народ, историю и осознание своей этнической принадлежности; развитие самоуважения и способности адекватно оценивать себя и свои достижения, видеть сильные и слабые стороны своей личности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смыслоообразование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—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иск и установление личностного смысла (т. е. «значения для себя») учения обучающимися на основе устойчивой системы учебно-познавательных и социальных мотивов; понимания границ того, «что я знаю», и того, «что я не знаю», «незнания» и стремления к преодолению этого разрыва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нравственно-этическая ориентация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— знание основных моральных норм и ориентация на их выполнение на основе понимания их социальной необходимости;   развитие этических чувств — стыда, вины, совести как регуляторов морального поведени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000" y="1483920"/>
            <a:ext cx="79722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ланируемых результатах, описывающих эту группу, отсутствует блок «Выпускник научится». Это означает, что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личностные результаты выпускников на ступени начального общего образования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олном соответствии с требованиями Стандарта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е подлежат итоговой оценк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94920" y="1773360"/>
            <a:ext cx="79930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бъект оценки метапредметных результатов -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формированность у обучающегося регулятивных, коммуникативных и познавательных универсальных действий,  т. е. таких умственных действий обучающихся, которые направлены на анализ своей познавательной деятельности и управление е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29664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СНОВНЫЕ ФОРМЫ ОЦЕНИВАНИЯ ДОСТИЖЕНИЙ МЕТАПРЕДМЕТНЫХ РЕЗУЛЬТАТОВ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2920" y="1160280"/>
            <a:ext cx="78087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езультат выполнения специально сконструированных диагностических задач, направленных на оценку уровня сформированности конкретного вида универсальных учебных действий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редство решения и  условие успешности выполнения учебных и учебно-практических задач средствами учебных предметов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успешное выполнение комплексных заданий на межпредметной основе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8920" y="1926720"/>
            <a:ext cx="86058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БЪЕКТ ОЦЕНКИ ПРЕДМЕТНЫХ РЕЗУЛЬТАТОВ –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пособность учащихся решать учебно-познавательные 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учебно-практические задач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держание заданий для итоговой оценки достижения предметных результатов курса строится вокруг изучаемого опорного учебного материала, представленного в разделе «Выпускник научится»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847280" cy="12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СНОВНЫЕ ФОРМЫ ОЦЕНИВАНИЯ ДОСТИЖЕНИЙ ПРЕДМЕТНЫХ РЕЗУЛЬТАТОВ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10920" y="2313000"/>
            <a:ext cx="78469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ценка достижения предметных результатов ведётся как в ходе текущего и промежуточного оценивания, так и в ходе выполнения итоговых проверочных работ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1:53:38Z</dcterms:created>
  <dc:creator>Плотникова Галина</dc:creator>
  <dc:description/>
  <dc:language>en-US</dc:language>
  <cp:lastModifiedBy>Valeriy Plotnikov</cp:lastModifiedBy>
  <cp:lastPrinted>2002-07-25T21:58:31Z</cp:lastPrinted>
  <dcterms:modified xsi:type="dcterms:W3CDTF">2012-12-27T13:08:24Z</dcterms:modified>
  <cp:revision>565</cp:revision>
  <dc:subject/>
  <dc:title>Система оценки</dc:title>
</cp:coreProperties>
</file>