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79B-4D20-442E-AF93-7C0E11FC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2A5-3CB7-4597-ACB3-851BDC04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437-E094-4351-896E-87159356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1D3-E853-44A0-AA28-408C80FC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218-9DA8-4723-9BA0-2FFF8639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966-1C73-4EFA-A2E6-07BD4115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2E0-4527-4E38-82AF-4E6DDB67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8ED-20DE-4977-9FB1-6C5BC937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542-4978-4348-A1FB-FE9ABA5D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D26-C1C1-4EA7-B134-656FC30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B36-52B7-4339-BDA9-603ECCA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677-AEDF-425F-9BBC-4C05F8F1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1E0F-F35A-4186-B9FC-CCD6D8103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42840" y="225360"/>
            <a:ext cx="908208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743040" y="1006560"/>
            <a:ext cx="6973920" cy="3595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00000" y="6021360"/>
            <a:ext cx="680112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Приготовила и провела: учитель Ивашкова Г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Соц.педагог Подольская Т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7" descr="0_5ca52_a714e456_XL.jpg"/>
          <p:cNvPicPr/>
          <p:nvPr/>
        </p:nvPicPr>
        <p:blipFill>
          <a:blip r:embed="rId3"/>
          <a:stretch/>
        </p:blipFill>
        <p:spPr>
          <a:xfrm>
            <a:off x="3276720" y="3860640"/>
            <a:ext cx="22334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едеральная президентская программа «Дети Росс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едеральный закон «О государственной поддержке молодежный и детских общественных объединен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едеральный закон «Об основных гарантиях прав ребенка в Российский Федерац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914400"/>
            <a:ext cx="8723520" cy="2359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pic001 (1).jpg"/>
          <p:cNvPicPr/>
          <p:nvPr/>
        </p:nvPicPr>
        <p:blipFill>
          <a:blip r:embed="rId2"/>
          <a:stretch/>
        </p:blipFill>
        <p:spPr>
          <a:xfrm>
            <a:off x="2124000" y="2997360"/>
            <a:ext cx="446256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560" y="764640"/>
            <a:ext cx="8697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Физическое насил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Психическое насил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Сексуальное насилие над дет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9280" y="692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Административная ответственн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Уголовная ответств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Гражданско-правовая ответств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Дисциплинарная ответств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771120" cy="3121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Fotolia_3489567_S.jpg"/>
          <p:cNvPicPr/>
          <p:nvPr/>
        </p:nvPicPr>
        <p:blipFill>
          <a:blip r:embed="rId2"/>
          <a:stretch/>
        </p:blipFill>
        <p:spPr>
          <a:xfrm>
            <a:off x="1835280" y="3141720"/>
            <a:ext cx="496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питание ребенка с четким представле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ы. Это целенаправленный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дневный процесс, в котором происходит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осовершенствование и саморазвит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ая работа ведет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умфу личности ребенка. Это путь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ению ученика, его родителей и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e3dedee09f59t.jpg"/>
          <p:cNvPicPr/>
          <p:nvPr/>
        </p:nvPicPr>
        <p:blipFill>
          <a:blip r:embed="rId1"/>
          <a:stretch/>
        </p:blipFill>
        <p:spPr>
          <a:xfrm>
            <a:off x="1979640" y="0"/>
            <a:ext cx="4711680" cy="662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50560" y="549000"/>
            <a:ext cx="869796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амятка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оваривайте с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ворите о совей люб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веряйте ребе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равниваете ни с к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титесь к специалис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йте чувство собственного достоин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йте свой авторит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5" descr=""/>
          <p:cNvPicPr/>
          <p:nvPr/>
        </p:nvPicPr>
        <p:blipFill>
          <a:blip r:embed="rId1"/>
          <a:stretch/>
        </p:blipFill>
        <p:spPr>
          <a:xfrm>
            <a:off x="60480" y="281160"/>
            <a:ext cx="5645160" cy="1029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8" descr=""/>
          <p:cNvPicPr/>
          <p:nvPr/>
        </p:nvPicPr>
        <p:blipFill>
          <a:blip r:embed="rId2"/>
          <a:stretch/>
        </p:blipFill>
        <p:spPr>
          <a:xfrm>
            <a:off x="55440" y="933480"/>
            <a:ext cx="499284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9" descr=""/>
          <p:cNvPicPr/>
          <p:nvPr/>
        </p:nvPicPr>
        <p:blipFill>
          <a:blip r:embed="rId3"/>
          <a:stretch/>
        </p:blipFill>
        <p:spPr>
          <a:xfrm>
            <a:off x="-12600" y="1579680"/>
            <a:ext cx="556560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4"/>
          <a:stretch/>
        </p:blipFill>
        <p:spPr>
          <a:xfrm>
            <a:off x="-19080" y="2152800"/>
            <a:ext cx="588348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1" descr=""/>
          <p:cNvPicPr/>
          <p:nvPr/>
        </p:nvPicPr>
        <p:blipFill>
          <a:blip r:embed="rId5"/>
          <a:stretch/>
        </p:blipFill>
        <p:spPr>
          <a:xfrm>
            <a:off x="-12600" y="2730600"/>
            <a:ext cx="560844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2" descr=""/>
          <p:cNvPicPr/>
          <p:nvPr/>
        </p:nvPicPr>
        <p:blipFill>
          <a:blip r:embed="rId6"/>
          <a:stretch/>
        </p:blipFill>
        <p:spPr>
          <a:xfrm>
            <a:off x="-12600" y="3303720"/>
            <a:ext cx="5743440" cy="10303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3" descr=""/>
          <p:cNvPicPr/>
          <p:nvPr/>
        </p:nvPicPr>
        <p:blipFill>
          <a:blip r:embed="rId7"/>
          <a:stretch/>
        </p:blipFill>
        <p:spPr>
          <a:xfrm>
            <a:off x="-12600" y="3882960"/>
            <a:ext cx="539568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4" descr=""/>
          <p:cNvPicPr/>
          <p:nvPr/>
        </p:nvPicPr>
        <p:blipFill>
          <a:blip r:embed="rId8"/>
          <a:stretch/>
        </p:blipFill>
        <p:spPr>
          <a:xfrm>
            <a:off x="-49320" y="4475160"/>
            <a:ext cx="6357960" cy="1401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5" descr=""/>
          <p:cNvPicPr/>
          <p:nvPr/>
        </p:nvPicPr>
        <p:blipFill>
          <a:blip r:embed="rId9"/>
          <a:stretch/>
        </p:blipFill>
        <p:spPr>
          <a:xfrm>
            <a:off x="5310360" y="281160"/>
            <a:ext cx="1680840" cy="10299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6" descr=""/>
          <p:cNvPicPr/>
          <p:nvPr/>
        </p:nvPicPr>
        <p:blipFill>
          <a:blip r:embed="rId10"/>
          <a:stretch/>
        </p:blipFill>
        <p:spPr>
          <a:xfrm>
            <a:off x="4797360" y="933480"/>
            <a:ext cx="245124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7" descr=""/>
          <p:cNvPicPr/>
          <p:nvPr/>
        </p:nvPicPr>
        <p:blipFill>
          <a:blip r:embed="rId11"/>
          <a:stretch/>
        </p:blipFill>
        <p:spPr>
          <a:xfrm>
            <a:off x="5151600" y="1579680"/>
            <a:ext cx="200484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8" descr=""/>
          <p:cNvPicPr/>
          <p:nvPr/>
        </p:nvPicPr>
        <p:blipFill>
          <a:blip r:embed="rId12"/>
          <a:stretch/>
        </p:blipFill>
        <p:spPr>
          <a:xfrm>
            <a:off x="5383080" y="2152800"/>
            <a:ext cx="2571840" cy="10285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9" descr=""/>
          <p:cNvPicPr/>
          <p:nvPr/>
        </p:nvPicPr>
        <p:blipFill>
          <a:blip r:embed="rId13"/>
          <a:stretch/>
        </p:blipFill>
        <p:spPr>
          <a:xfrm>
            <a:off x="5303880" y="2730600"/>
            <a:ext cx="165744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0" descr=""/>
          <p:cNvPicPr/>
          <p:nvPr/>
        </p:nvPicPr>
        <p:blipFill>
          <a:blip r:embed="rId14"/>
          <a:stretch/>
        </p:blipFill>
        <p:spPr>
          <a:xfrm>
            <a:off x="5230800" y="3303720"/>
            <a:ext cx="3432240" cy="10303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1" descr=""/>
          <p:cNvPicPr/>
          <p:nvPr/>
        </p:nvPicPr>
        <p:blipFill>
          <a:blip r:embed="rId15"/>
          <a:stretch/>
        </p:blipFill>
        <p:spPr>
          <a:xfrm>
            <a:off x="5005440" y="3882960"/>
            <a:ext cx="179712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2" descr=""/>
          <p:cNvPicPr/>
          <p:nvPr/>
        </p:nvPicPr>
        <p:blipFill>
          <a:blip r:embed="rId16"/>
          <a:stretch/>
        </p:blipFill>
        <p:spPr>
          <a:xfrm>
            <a:off x="6095880" y="4748040"/>
            <a:ext cx="20732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725400" y="390600"/>
            <a:ext cx="7400880" cy="20844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5" descr=""/>
          <p:cNvPicPr/>
          <p:nvPr/>
        </p:nvPicPr>
        <p:blipFill>
          <a:blip r:embed="rId2"/>
          <a:stretch/>
        </p:blipFill>
        <p:spPr>
          <a:xfrm>
            <a:off x="774720" y="2932200"/>
            <a:ext cx="76136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11040"/>
            <a:ext cx="8863200" cy="26575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4" descr=""/>
          <p:cNvPicPr/>
          <p:nvPr/>
        </p:nvPicPr>
        <p:blipFill>
          <a:blip r:embed="rId2"/>
          <a:stretch/>
        </p:blipFill>
        <p:spPr>
          <a:xfrm>
            <a:off x="755640" y="2876400"/>
            <a:ext cx="76392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-189000"/>
            <a:ext cx="8167680" cy="4432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0012-007-Itog-besedy.png"/>
          <p:cNvPicPr/>
          <p:nvPr/>
        </p:nvPicPr>
        <p:blipFill>
          <a:blip r:embed="rId2"/>
          <a:stretch/>
        </p:blipFill>
        <p:spPr>
          <a:xfrm>
            <a:off x="2771640" y="3814920"/>
            <a:ext cx="34624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6" descr=""/>
          <p:cNvPicPr/>
          <p:nvPr/>
        </p:nvPicPr>
        <p:blipFill>
          <a:blip r:embed="rId1"/>
          <a:stretch/>
        </p:blipFill>
        <p:spPr>
          <a:xfrm>
            <a:off x="79200" y="1000080"/>
            <a:ext cx="9479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-219240"/>
            <a:ext cx="8645760" cy="3857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lovely_illustration_of_happy_family_on_sofa_wallcoo-com.jpg"/>
          <p:cNvPicPr/>
          <p:nvPr/>
        </p:nvPicPr>
        <p:blipFill>
          <a:blip r:embed="rId2"/>
          <a:stretch/>
        </p:blipFill>
        <p:spPr>
          <a:xfrm>
            <a:off x="2268360" y="3284640"/>
            <a:ext cx="43419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Декларация прав Ребенка(принята ООН в 1959 году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Конвенция о Правах Ребенка(принята ООН 20 ноября 1989 год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8000" y="0"/>
            <a:ext cx="85788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ституция Российской Федерации ст.38,4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жданский кодекс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емейный кодекс Р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2:20:56Z</dcterms:created>
  <dc:creator>Администратор</dc:creator>
  <dc:description/>
  <dc:language>en-US</dc:language>
  <cp:lastModifiedBy>xxx</cp:lastModifiedBy>
  <dcterms:modified xsi:type="dcterms:W3CDTF">2014-01-27T06:23:06Z</dcterms:modified>
  <cp:revision>28</cp:revision>
  <dc:subject/>
  <dc:title>Слайд 1</dc:title>
</cp:coreProperties>
</file>