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766-7AAE-4AB8-9844-F28A811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E06-15F7-484B-8AA3-631B41C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4A1-57DC-4C8E-8525-A46E9573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B05-923C-4061-BF05-89F9823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444-0C11-45A8-8DE1-50561850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2C2-D149-4C36-B109-7CE928B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5B4-BF8E-4BF7-B0B6-7ED6C68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AC1-620F-4B5C-8081-0E837CA8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F50-1179-4AC1-B1C3-640BB51A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BC6-5A55-4DF1-B64C-D1EC014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758-8798-41C6-8AA7-75488DA0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39A-DF24-4ABD-9BAD-70A47649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AE58-98F9-4E83-BB56-8049D56E7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908208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743040" y="1006560"/>
            <a:ext cx="6973920" cy="3595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00000" y="6021360"/>
            <a:ext cx="68011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Приготовила и провела: учитель Ивашкова Г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Соц.педагог Подольская Т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0_5ca52_a714e456_XL.jpg"/>
          <p:cNvPicPr/>
          <p:nvPr/>
        </p:nvPicPr>
        <p:blipFill>
          <a:blip r:embed="rId3"/>
          <a:stretch/>
        </p:blipFill>
        <p:spPr>
          <a:xfrm>
            <a:off x="3276720" y="3860640"/>
            <a:ext cx="2233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ая президентская программа «Дети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ый закон «О государственной поддержке молодежный и детских общественных объединен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едеральный закон «Об основных гарантиях прав ребенка в Российский Федерац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914400"/>
            <a:ext cx="872352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pic001 (1).jpg"/>
          <p:cNvPicPr/>
          <p:nvPr/>
        </p:nvPicPr>
        <p:blipFill>
          <a:blip r:embed="rId2"/>
          <a:stretch/>
        </p:blipFill>
        <p:spPr>
          <a:xfrm>
            <a:off x="2124000" y="2997360"/>
            <a:ext cx="446256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560" y="764640"/>
            <a:ext cx="8697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Физическое наси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Психическое насил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Сексуальное насилие над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9280" y="692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Административная ответствен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Уголовн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Гражданско-правов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Дисциплинарная ответств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771120" cy="3121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Fotolia_3489567_S.jpg"/>
          <p:cNvPicPr/>
          <p:nvPr/>
        </p:nvPicPr>
        <p:blipFill>
          <a:blip r:embed="rId2"/>
          <a:stretch/>
        </p:blipFill>
        <p:spPr>
          <a:xfrm>
            <a:off x="1835280" y="3141720"/>
            <a:ext cx="496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итание ребенка с четким представл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ы. Это целенаправленны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дневный процесс, в котором происходит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осовершенствование и саморазвит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ая работа ведет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умфу личности ребенка. Это пут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ению ученика, его родителей и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e3dedee09f59t.jpg"/>
          <p:cNvPicPr/>
          <p:nvPr/>
        </p:nvPicPr>
        <p:blipFill>
          <a:blip r:embed="rId1"/>
          <a:stretch/>
        </p:blipFill>
        <p:spPr>
          <a:xfrm>
            <a:off x="1979640" y="0"/>
            <a:ext cx="4711680" cy="662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0560" y="549000"/>
            <a:ext cx="869796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амятка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варивайте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орите о совей любв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еряйте реб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равниваете ни с к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итесь к специалис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йте чувство собственного достоин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 свой автори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60480" y="281160"/>
            <a:ext cx="5645160" cy="10299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2"/>
          <a:stretch/>
        </p:blipFill>
        <p:spPr>
          <a:xfrm>
            <a:off x="55440" y="933480"/>
            <a:ext cx="499284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9" descr=""/>
          <p:cNvPicPr/>
          <p:nvPr/>
        </p:nvPicPr>
        <p:blipFill>
          <a:blip r:embed="rId3"/>
          <a:stretch/>
        </p:blipFill>
        <p:spPr>
          <a:xfrm>
            <a:off x="-12600" y="1579680"/>
            <a:ext cx="55656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0" descr=""/>
          <p:cNvPicPr/>
          <p:nvPr/>
        </p:nvPicPr>
        <p:blipFill>
          <a:blip r:embed="rId4"/>
          <a:stretch/>
        </p:blipFill>
        <p:spPr>
          <a:xfrm>
            <a:off x="-19080" y="2152800"/>
            <a:ext cx="588348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5"/>
          <a:stretch/>
        </p:blipFill>
        <p:spPr>
          <a:xfrm>
            <a:off x="-12600" y="2730600"/>
            <a:ext cx="56084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2" descr=""/>
          <p:cNvPicPr/>
          <p:nvPr/>
        </p:nvPicPr>
        <p:blipFill>
          <a:blip r:embed="rId6"/>
          <a:stretch/>
        </p:blipFill>
        <p:spPr>
          <a:xfrm>
            <a:off x="-12600" y="3303720"/>
            <a:ext cx="5743440" cy="1030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3" descr=""/>
          <p:cNvPicPr/>
          <p:nvPr/>
        </p:nvPicPr>
        <p:blipFill>
          <a:blip r:embed="rId7"/>
          <a:stretch/>
        </p:blipFill>
        <p:spPr>
          <a:xfrm>
            <a:off x="-12600" y="3882960"/>
            <a:ext cx="539568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4" descr=""/>
          <p:cNvPicPr/>
          <p:nvPr/>
        </p:nvPicPr>
        <p:blipFill>
          <a:blip r:embed="rId8"/>
          <a:stretch/>
        </p:blipFill>
        <p:spPr>
          <a:xfrm>
            <a:off x="-49320" y="4475160"/>
            <a:ext cx="6357960" cy="1401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5" descr=""/>
          <p:cNvPicPr/>
          <p:nvPr/>
        </p:nvPicPr>
        <p:blipFill>
          <a:blip r:embed="rId9"/>
          <a:stretch/>
        </p:blipFill>
        <p:spPr>
          <a:xfrm>
            <a:off x="5310360" y="281160"/>
            <a:ext cx="1680840" cy="10299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10"/>
          <a:stretch/>
        </p:blipFill>
        <p:spPr>
          <a:xfrm>
            <a:off x="4797360" y="933480"/>
            <a:ext cx="245124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7" descr=""/>
          <p:cNvPicPr/>
          <p:nvPr/>
        </p:nvPicPr>
        <p:blipFill>
          <a:blip r:embed="rId11"/>
          <a:stretch/>
        </p:blipFill>
        <p:spPr>
          <a:xfrm>
            <a:off x="5151600" y="1579680"/>
            <a:ext cx="2004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8" descr=""/>
          <p:cNvPicPr/>
          <p:nvPr/>
        </p:nvPicPr>
        <p:blipFill>
          <a:blip r:embed="rId12"/>
          <a:stretch/>
        </p:blipFill>
        <p:spPr>
          <a:xfrm>
            <a:off x="5383080" y="2152800"/>
            <a:ext cx="2571840" cy="1028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9" descr=""/>
          <p:cNvPicPr/>
          <p:nvPr/>
        </p:nvPicPr>
        <p:blipFill>
          <a:blip r:embed="rId13"/>
          <a:stretch/>
        </p:blipFill>
        <p:spPr>
          <a:xfrm>
            <a:off x="5303880" y="2730600"/>
            <a:ext cx="16574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0" descr=""/>
          <p:cNvPicPr/>
          <p:nvPr/>
        </p:nvPicPr>
        <p:blipFill>
          <a:blip r:embed="rId14"/>
          <a:stretch/>
        </p:blipFill>
        <p:spPr>
          <a:xfrm>
            <a:off x="5230800" y="3303720"/>
            <a:ext cx="3432240" cy="10303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1" descr=""/>
          <p:cNvPicPr/>
          <p:nvPr/>
        </p:nvPicPr>
        <p:blipFill>
          <a:blip r:embed="rId15"/>
          <a:stretch/>
        </p:blipFill>
        <p:spPr>
          <a:xfrm>
            <a:off x="5005440" y="3882960"/>
            <a:ext cx="17971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2" descr=""/>
          <p:cNvPicPr/>
          <p:nvPr/>
        </p:nvPicPr>
        <p:blipFill>
          <a:blip r:embed="rId16"/>
          <a:stretch/>
        </p:blipFill>
        <p:spPr>
          <a:xfrm>
            <a:off x="6095880" y="4748040"/>
            <a:ext cx="20732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725400" y="390600"/>
            <a:ext cx="7400880" cy="2084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2"/>
          <a:stretch/>
        </p:blipFill>
        <p:spPr>
          <a:xfrm>
            <a:off x="774720" y="2932200"/>
            <a:ext cx="7613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11040"/>
            <a:ext cx="8863200" cy="26575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" descr=""/>
          <p:cNvPicPr/>
          <p:nvPr/>
        </p:nvPicPr>
        <p:blipFill>
          <a:blip r:embed="rId2"/>
          <a:stretch/>
        </p:blipFill>
        <p:spPr>
          <a:xfrm>
            <a:off x="755640" y="2876400"/>
            <a:ext cx="7639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-189000"/>
            <a:ext cx="8167680" cy="4432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0012-007-Itog-besedy.png"/>
          <p:cNvPicPr/>
          <p:nvPr/>
        </p:nvPicPr>
        <p:blipFill>
          <a:blip r:embed="rId2"/>
          <a:stretch/>
        </p:blipFill>
        <p:spPr>
          <a:xfrm>
            <a:off x="2771640" y="3814920"/>
            <a:ext cx="34624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6" descr=""/>
          <p:cNvPicPr/>
          <p:nvPr/>
        </p:nvPicPr>
        <p:blipFill>
          <a:blip r:embed="rId1"/>
          <a:stretch/>
        </p:blipFill>
        <p:spPr>
          <a:xfrm>
            <a:off x="79200" y="1000080"/>
            <a:ext cx="94791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-219240"/>
            <a:ext cx="8645760" cy="3857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lovely_illustration_of_happy_family_on_sofa_wallcoo-com.jpg"/>
          <p:cNvPicPr/>
          <p:nvPr/>
        </p:nvPicPr>
        <p:blipFill>
          <a:blip r:embed="rId2"/>
          <a:stretch/>
        </p:blipFill>
        <p:spPr>
          <a:xfrm>
            <a:off x="2268360" y="3284640"/>
            <a:ext cx="43419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Декларация прав Ребенка(принята ООН в 1959 году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Gothic"/>
              </a:rPr>
              <a:t>Конвенция о Правах Ребенка(принята ООН 20 ноября 1989 года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08000" y="0"/>
            <a:ext cx="8578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 ст.38,4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жданский кодекс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емейный кодекс Р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2:20:56Z</dcterms:created>
  <dc:creator>Администратор</dc:creator>
  <dc:description/>
  <dc:language>en-US</dc:language>
  <cp:lastModifiedBy>xxx</cp:lastModifiedBy>
  <dcterms:modified xsi:type="dcterms:W3CDTF">2014-01-27T06:23:06Z</dcterms:modified>
  <cp:revision>28</cp:revision>
  <dc:subject/>
  <dc:title>Слайд 1</dc:title>
</cp:coreProperties>
</file>