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018-1C5D-495C-A977-301B8033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9B2-459C-44AE-A76E-17910E67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F5E-38E5-418E-8331-2058DFB2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5B6-47E0-4D71-A4FA-F6E8C718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811-EBDD-4793-93C5-064D14E6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F58-9589-45C2-B4B6-01DED175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19E-41F6-4EE6-8CE8-541860A9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E49-28BE-41E1-BC6A-753F0BE9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E1E-5E67-4D49-87B3-5097D688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4B5-6E07-4EAC-BEBE-65B27F4A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D16-13EF-4F0C-8D12-6D778422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62E-D2D0-4D81-AEB9-C950FA21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C260-5D65-4255-B305-D6B087429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6033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Теорема косинусо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итель математи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.В. Кобычев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Школа № 5 г.Новый Урен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Определить вид треугольника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(остроугольный, прямоугольный, тупоугольны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0718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роны треугольника равны 3,4,5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роны треугольника равны 5, 12,1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роны треугольника равны 4, 6, 8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4429080" y="49291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тороны треуг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4"/>
          <p:cNvSpPr/>
          <p:nvPr/>
        </p:nvSpPr>
        <p:spPr>
          <a:xfrm>
            <a:off x="1143000" y="4857840"/>
            <a:ext cx="2357280" cy="1357200"/>
          </a:xfrm>
          <a:prstGeom prst="triangle">
            <a:avLst>
              <a:gd name="adj" fmla="val 72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1439280" y="58579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2836440" y="57862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718640" y="52149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1"/>
          <a:stretch/>
        </p:blipFill>
        <p:spPr>
          <a:xfrm>
            <a:off x="689040" y="-103320"/>
            <a:ext cx="6765840" cy="841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пособ находить стороны и углы треугольников по трем известным элемен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зать теорему косину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Теорема косину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драт стороны треугольника равен сумме квадратов двух других сторон минус удвоенное произведение этих сторон на косинус угла между н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Равнобедренный треугольник 3"/>
          <p:cNvSpPr/>
          <p:nvPr/>
        </p:nvSpPr>
        <p:spPr>
          <a:xfrm>
            <a:off x="1214280" y="3786120"/>
            <a:ext cx="3357720" cy="1714680"/>
          </a:xfrm>
          <a:prstGeom prst="triangle">
            <a:avLst>
              <a:gd name="adj" fmla="val 713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928800" y="557208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500720" y="55008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500280" y="3429000"/>
            <a:ext cx="3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1285920" y="6072120"/>
                <a:ext cx="6894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ишите теорему косинусов  для треугольник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2960" y="1928520"/>
            <a:ext cx="1542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X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2214720" y="1928880"/>
                <a:ext cx="660852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t xml:space="preserve">B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∠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оказательств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Равнобедренный треугольник 3"/>
          <p:cNvSpPr/>
          <p:nvPr/>
        </p:nvSpPr>
        <p:spPr>
          <a:xfrm>
            <a:off x="357120" y="1785960"/>
            <a:ext cx="3429000" cy="2143080"/>
          </a:xfrm>
          <a:prstGeom prst="triangle">
            <a:avLst>
              <a:gd name="adj" fmla="val 796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5"/>
          <p:cNvCxnSpPr/>
          <p:nvPr/>
        </p:nvCxnSpPr>
        <p:spPr>
          <a:xfrm flipV="1">
            <a:off x="355680" y="999720"/>
            <a:ext cx="2160" cy="3574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Прямая со стрелкой 6"/>
          <p:cNvCxnSpPr/>
          <p:nvPr/>
        </p:nvCxnSpPr>
        <p:spPr>
          <a:xfrm>
            <a:off x="0" y="3929040"/>
            <a:ext cx="49298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3600" y="39290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932200" y="128592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3646440" y="39290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431280" y="92880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4791240" y="3929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221400" y="3929040"/>
            <a:ext cx="8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0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934800" y="392904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с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227040" y="1285920"/>
            <a:ext cx="23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cos A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sin A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1572480" y="228600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2145600" y="3929040"/>
            <a:ext cx="3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431160" y="242892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571680" y="4429080"/>
                <a:ext cx="5533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500040" y="5000760"/>
                <a:ext cx="5797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571680" y="5572080"/>
                <a:ext cx="5715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571680" y="6143760"/>
                <a:ext cx="3643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Box 25"/>
          <p:cNvSpPr/>
          <p:nvPr/>
        </p:nvSpPr>
        <p:spPr>
          <a:xfrm>
            <a:off x="6143760" y="714240"/>
            <a:ext cx="207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=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4995720" y="3286080"/>
                <a:ext cx="4148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ыразим косинус угла из теоремы косину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57120" y="1714680"/>
                <a:ext cx="8261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500040" y="2571840"/>
                <a:ext cx="8215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428840" y="4000680"/>
                <a:ext cx="61038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97-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99 конспект в тетр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25(а, ж,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1-27T08:16:00Z</dcterms:modified>
  <cp:revision>14</cp:revision>
  <dc:subject/>
  <dc:title>Теорема косинусов Теорема синусов</dc:title>
</cp:coreProperties>
</file>