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D4B6-1C38-4089-82D7-3401B8F68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30C9-A319-4840-AEFE-77A49102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6424-FC24-4F90-A9FE-40CDB3992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437C-4B52-40D3-BC4B-9EAD33120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1C84-DF55-4622-B2BD-8E3616A6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7CE6-11B9-48C8-934D-039C8C91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3BEE-FFFC-4477-B415-A28B5F7D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5C04-5AF6-4CDE-BDC3-8D481889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F29B-87B4-46A4-9B3B-997CA22C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8F50-8DA0-4A19-82F3-4C8F59CB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7CB1-4914-4245-A682-D5BB9D47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8EA6-3C45-4710-B7EB-CDBFEB20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2605-1FEF-4AE9-8948-202593B335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-60336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Теорема косинусов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Учитель математик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М.В. Кобычева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Школа № 5 г.Новый Уренг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Определить вид треугольника</a:t>
            </a: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(остроугольный, прямоугольный, тупоугольный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207180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ороны треугольника равны 3,4,5 с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ороны треугольника равны 5, 12,13 с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ороны треугольника равны 4, 6, 8 с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4429080" y="4929120"/>
            <a:ext cx="371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йти стороны треуголь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Равнобедренный треугольник 4"/>
          <p:cNvSpPr/>
          <p:nvPr/>
        </p:nvSpPr>
        <p:spPr>
          <a:xfrm>
            <a:off x="1143000" y="4857840"/>
            <a:ext cx="2357280" cy="1357200"/>
          </a:xfrm>
          <a:prstGeom prst="triangle">
            <a:avLst>
              <a:gd name="adj" fmla="val 7295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1439280" y="585792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5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6"/>
          <p:cNvSpPr/>
          <p:nvPr/>
        </p:nvSpPr>
        <p:spPr>
          <a:xfrm>
            <a:off x="2836440" y="578628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1718640" y="521496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Прямоугольник 8" descr=""/>
          <p:cNvPicPr/>
          <p:nvPr/>
        </p:nvPicPr>
        <p:blipFill>
          <a:blip r:embed="rId1"/>
          <a:stretch/>
        </p:blipFill>
        <p:spPr>
          <a:xfrm>
            <a:off x="689040" y="-103320"/>
            <a:ext cx="6765840" cy="841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йти способ находить стороны и углы треугольников по трем известным элемент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казать теорему косину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Теорема косинус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вадрат стороны треугольника равен сумме квадратов двух других сторон минус удвоенное произведение этих сторон на косинус угла между ни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Равнобедренный треугольник 3"/>
          <p:cNvSpPr/>
          <p:nvPr/>
        </p:nvSpPr>
        <p:spPr>
          <a:xfrm>
            <a:off x="1214280" y="3786120"/>
            <a:ext cx="3357720" cy="1714680"/>
          </a:xfrm>
          <a:prstGeom prst="triangle">
            <a:avLst>
              <a:gd name="adj" fmla="val 7131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928800" y="5572080"/>
            <a:ext cx="4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4500720" y="550080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3500280" y="3429000"/>
            <a:ext cx="3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2"/>
              <p:cNvSpPr txBox="1"/>
              <p:nvPr/>
            </p:nvSpPr>
            <p:spPr>
              <a:xfrm>
                <a:off x="1285920" y="6072120"/>
                <a:ext cx="68943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F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F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F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FN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∠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пишите теорему косинусов  для треугольников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42960" y="1928520"/>
            <a:ext cx="15429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В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X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T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2"/>
              <p:cNvSpPr txBox="1"/>
              <p:nvPr/>
            </p:nvSpPr>
            <p:spPr>
              <a:xfrm>
                <a:off x="2214720" y="1928880"/>
                <a:ext cx="6608520" cy="19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∠</m:t>
                        </m:r>
                        <m:r>
                          <m:t xml:space="preserve">C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∠</m:t>
                        </m:r>
                        <m:r>
                          <m:t xml:space="preserve">B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∠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Доказательств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Равнобедренный треугольник 3"/>
          <p:cNvSpPr/>
          <p:nvPr/>
        </p:nvSpPr>
        <p:spPr>
          <a:xfrm>
            <a:off x="357120" y="1785960"/>
            <a:ext cx="3429000" cy="2143080"/>
          </a:xfrm>
          <a:prstGeom prst="triangle">
            <a:avLst>
              <a:gd name="adj" fmla="val 7963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Прямая со стрелкой 5"/>
          <p:cNvCxnSpPr/>
          <p:nvPr/>
        </p:nvCxnSpPr>
        <p:spPr>
          <a:xfrm flipV="1">
            <a:off x="355680" y="999720"/>
            <a:ext cx="2160" cy="3574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6" name="Прямая со стрелкой 6"/>
          <p:cNvCxnSpPr/>
          <p:nvPr/>
        </p:nvCxnSpPr>
        <p:spPr>
          <a:xfrm>
            <a:off x="0" y="3929040"/>
            <a:ext cx="492984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9"/>
          <p:cNvSpPr/>
          <p:nvPr/>
        </p:nvSpPr>
        <p:spPr>
          <a:xfrm>
            <a:off x="3600" y="392904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2932200" y="1285920"/>
            <a:ext cx="36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1"/>
          <p:cNvSpPr/>
          <p:nvPr/>
        </p:nvSpPr>
        <p:spPr>
          <a:xfrm>
            <a:off x="3646440" y="392904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431280" y="928800"/>
            <a:ext cx="34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3"/>
          <p:cNvSpPr/>
          <p:nvPr/>
        </p:nvSpPr>
        <p:spPr>
          <a:xfrm>
            <a:off x="4791240" y="39290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4"/>
          <p:cNvSpPr/>
          <p:nvPr/>
        </p:nvSpPr>
        <p:spPr>
          <a:xfrm>
            <a:off x="221400" y="3929040"/>
            <a:ext cx="86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0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5"/>
          <p:cNvSpPr/>
          <p:nvPr/>
        </p:nvSpPr>
        <p:spPr>
          <a:xfrm>
            <a:off x="3934800" y="3929040"/>
            <a:ext cx="8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с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6"/>
          <p:cNvSpPr/>
          <p:nvPr/>
        </p:nvSpPr>
        <p:spPr>
          <a:xfrm>
            <a:off x="3227040" y="1285920"/>
            <a:ext cx="237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cos A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sin A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7"/>
          <p:cNvSpPr/>
          <p:nvPr/>
        </p:nvSpPr>
        <p:spPr>
          <a:xfrm>
            <a:off x="1572480" y="2286000"/>
            <a:ext cx="37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8"/>
          <p:cNvSpPr/>
          <p:nvPr/>
        </p:nvSpPr>
        <p:spPr>
          <a:xfrm>
            <a:off x="2145600" y="3929040"/>
            <a:ext cx="33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9"/>
          <p:cNvSpPr/>
          <p:nvPr/>
        </p:nvSpPr>
        <p:spPr>
          <a:xfrm>
            <a:off x="3431160" y="2428920"/>
            <a:ext cx="36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2"/>
              <p:cNvSpPr txBox="1"/>
              <p:nvPr/>
            </p:nvSpPr>
            <p:spPr>
              <a:xfrm>
                <a:off x="571680" y="4429080"/>
                <a:ext cx="55339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A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3"/>
              <p:cNvSpPr txBox="1"/>
              <p:nvPr/>
            </p:nvSpPr>
            <p:spPr>
              <a:xfrm>
                <a:off x="500040" y="5000760"/>
                <a:ext cx="57974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A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A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4"/>
              <p:cNvSpPr txBox="1"/>
              <p:nvPr/>
            </p:nvSpPr>
            <p:spPr>
              <a:xfrm>
                <a:off x="571680" y="5572080"/>
                <a:ext cx="571500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A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A</m:t>
                        </m:r>
                      </m:e>
                    </m:d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A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5"/>
              <p:cNvSpPr txBox="1"/>
              <p:nvPr/>
            </p:nvSpPr>
            <p:spPr>
              <a:xfrm>
                <a:off x="571680" y="6143760"/>
                <a:ext cx="36432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TextBox 25"/>
          <p:cNvSpPr/>
          <p:nvPr/>
        </p:nvSpPr>
        <p:spPr>
          <a:xfrm>
            <a:off x="6143760" y="714240"/>
            <a:ext cx="2071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ан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АВ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=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оказ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6"/>
              <p:cNvSpPr txBox="1"/>
              <p:nvPr/>
            </p:nvSpPr>
            <p:spPr>
              <a:xfrm>
                <a:off x="4995720" y="3286080"/>
                <a:ext cx="41482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Выразим косинус угла из теоремы косинус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4"/>
              <p:cNvSpPr txBox="1"/>
              <p:nvPr/>
            </p:nvSpPr>
            <p:spPr>
              <a:xfrm>
                <a:off x="357120" y="1714680"/>
                <a:ext cx="82612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∠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5"/>
              <p:cNvSpPr txBox="1"/>
              <p:nvPr/>
            </p:nvSpPr>
            <p:spPr>
              <a:xfrm>
                <a:off x="500040" y="2571840"/>
                <a:ext cx="82152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6"/>
              <p:cNvSpPr txBox="1"/>
              <p:nvPr/>
            </p:nvSpPr>
            <p:spPr>
              <a:xfrm>
                <a:off x="1428840" y="4000680"/>
                <a:ext cx="610380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∠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xit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.97-9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.99 конспект в тетрад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025(а, ж,з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4-01-27T08:16:00Z</dcterms:modified>
  <cp:revision>14</cp:revision>
  <dc:subject/>
  <dc:title>Теорема косинусов Теорема синусов</dc:title>
</cp:coreProperties>
</file>