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B37-4DF9-4F34-B865-370AAC26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AD2-8332-4121-B47E-1559AC0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427-4A62-4D0A-A4CC-167EB456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51F-E762-4E45-B4E3-53160A8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C58-4D42-40A2-B89A-1E46064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D17-4102-4840-8ED5-6B97C9C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164-B44A-48B0-9150-288BB26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63B-AE67-443F-81F8-207619E1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68F-C4C2-4B2C-A842-68430C6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670-7CED-4681-9F1B-6A70BD8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FA9-048D-43CF-B49B-BDDA0E2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D39-A60A-4999-A4CB-A126E76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62B-28B1-42C3-AA29-4AC89BB62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539640" y="1125360"/>
            <a:ext cx="79502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ипология обще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3995640" y="52293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БОУ СОШ №6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убкина Ольг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критерии положены в основу типологии общест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числите основные типы обществ? Приведите примеры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пользуя критерии , дайте характеристику современному российскому общ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11-12 ,  выучить консп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вы возможные определения понятия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ществ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общество можно считать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остной систем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 какие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фе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ходят в эту сист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ипология об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по общему уровню развития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708280"/>
            <a:ext cx="3168720" cy="1800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48360" y="2708280"/>
            <a:ext cx="3168720" cy="1800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068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ПИСЬ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219640" y="33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ИСЬ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195280" y="981000"/>
            <a:ext cx="2305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500720" y="981000"/>
            <a:ext cx="223200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684360" y="4941720"/>
            <a:ext cx="7920000" cy="16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ная типология использует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ющего крит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лько один показатель духовного развития общест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наличие пись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ипология обществ по числу уров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управления 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и по степени его дифференц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9640" y="2205000"/>
            <a:ext cx="345600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148360" y="2205000"/>
            <a:ext cx="367164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5280" y="2637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219640" y="242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84360" y="4149720"/>
            <a:ext cx="3240000" cy="9169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руководителей и подчиненных, богатых и бе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64000" y="4221000"/>
            <a:ext cx="3311640" cy="20142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колько уровней управления и несколько социальных слоев населения, расположенных сверху вниз по мере убывания д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195640" y="3500280"/>
            <a:ext cx="0" cy="649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877080" y="3500280"/>
            <a:ext cx="0" cy="72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 flipH="1">
            <a:off x="2268000" y="1557360"/>
            <a:ext cx="2232360" cy="647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427640" y="1557360"/>
            <a:ext cx="2232000" cy="647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ипология об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о социально-экономической 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2349360"/>
            <a:ext cx="194436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бы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788000" y="4797360"/>
            <a:ext cx="2952720" cy="158436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питалис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258920" y="4797360"/>
            <a:ext cx="2736720" cy="158436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владель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276720" y="2349360"/>
            <a:ext cx="237492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од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588000" y="2349360"/>
            <a:ext cx="223200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с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332000" y="1125360"/>
            <a:ext cx="0" cy="122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627280" y="1125360"/>
            <a:ext cx="0" cy="359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4500720" y="1125360"/>
            <a:ext cx="0" cy="122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7667640" y="1125360"/>
            <a:ext cx="0" cy="1151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6156360" y="1125360"/>
            <a:ext cx="0" cy="3672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ипология об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о технико-технологическому фак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50920" y="2133720"/>
            <a:ext cx="180000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бы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ир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411280" y="2133720"/>
            <a:ext cx="180036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гр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500720" y="2133720"/>
            <a:ext cx="208728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устри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77080" y="2133720"/>
            <a:ext cx="201600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устр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755640" y="4437000"/>
            <a:ext cx="7488360" cy="115272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Какой критерий положен в основу этой типолог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1115640" y="1125360"/>
            <a:ext cx="360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3347640" y="112536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4716360" y="1125360"/>
            <a:ext cx="338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4716360" y="1125360"/>
            <a:ext cx="935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радиционное (аграрное)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подство сельского натураль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обладание экстенсивно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реме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четание общинной, корпоративной и государственной форм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ловная структура общества, стабильность и неподвижность социальной 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ведение человека регулируется обычаями, тради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йне ограниченное число образова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подство армии и церкви в политической сфер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имущество государственной власти перед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Индустриальное общ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производительности труда, широкое производство товаров массового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ход от экстенсивного хозяйства к интенсив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средств коммуникации и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принципов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яющая роль урбанизации в соци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ий уровень социальной моби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ушение традиционных сословных струк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растание рол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уховные ценности: индивидуализм, рационализм, секуляризаци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Постиндустриальн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вижение на первый план сферы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изация производства и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ущая роль науки, знаний и информации в обществе. Компьютер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ирание классовых различий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ст удельного веса средне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работка  нового отношения общества и человека к окружающей прир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знание человека с его индивидуальными особенностями как центра циви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9:44:58Z</dcterms:created>
  <dc:creator>1</dc:creator>
  <dc:description/>
  <dc:language>en-US</dc:language>
  <cp:lastModifiedBy>Olga</cp:lastModifiedBy>
  <dcterms:modified xsi:type="dcterms:W3CDTF">2014-01-27T15:14:10Z</dcterms:modified>
  <cp:revision>7</cp:revision>
  <dc:subject/>
  <dc:title>Слайд 1</dc:title>
</cp:coreProperties>
</file>