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4E1-6FCD-48BE-92ED-D39637E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7E2-19EC-4E2A-B226-222114D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CA5-BDC9-44BF-BE22-7F1B70DA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2D4-CFDD-42FA-9E7E-2340B4C5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E1C-2E3E-4D8A-88F5-A53FA501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166-BDDD-4865-B3A3-DDAD4EA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E37-2F9C-4551-8AC9-F58D4DD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D0FC-C18B-4C3A-B00C-C90E049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A64-DC88-4C5D-A9EF-448631FC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3E9-473F-4442-9E4B-F0F5291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1D2-EB23-46EC-B3FF-DD4FD07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2B9-2753-4128-A1F3-9FB2B46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500D-CA18-4553-94DB-BC5D680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2580-9329-4196-8BFD-87DBA42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89F7-B407-4734-B7D2-8A30EC7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0B11-AD61-42D3-A590-CAA26CA1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504-DEE8-45C5-942B-B13F8FAA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652-A681-4776-91F4-C6F8D30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0CE-D1B9-4CEE-8236-8AFA5E96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62A-EF5F-45F3-8D50-B57B3BC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E93-8D5C-42FC-BCCA-21E2D4B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827-0E7F-49C6-9226-554F03B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7F2-DA0F-4666-98B5-25B366A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C10-5174-44D9-A701-315D4297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0AD-58C7-4722-8D32-9F00E4FAEA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B7E3-3108-4E13-844F-5EDF241A8B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4100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Урок русского языка в 3 класс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559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Ясиновская М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редняя общеобразовательная школа ст. Совет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      работ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ина    мАш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ина    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пуста    кАрто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кета     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Разбор по составу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ескрай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езлюд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9999ff"/>
                </a:solidFill>
                <a:latin typeface="Arial"/>
              </a:rPr>
              <a:t>Ф и з минутка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бег,  бег,  разб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ет,   лет,  вылет,   пере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нес,   занес,   нес,   вын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ход,  ход, выход,  переход,  по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йди   лишнее  слово 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пах,  забота,  забег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говорка,  повязка, подуш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 О Д У М А Й 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очка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…п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а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…бе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ядка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…пла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ня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…р…п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…Русский народ создал русский язык,  яркий,  как радуга  после весеннего ливня,  меткий,  как стрелы,  певучий  и  богатый, задушевный,  как  песня  над колыбелью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65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 Русский  язык  в  умел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уках  и  опытных  устах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расив, певуч, выразител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ибок, послушен, ловок  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местителен…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И.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0:13:27Z</dcterms:created>
  <dc:creator>4k110104349</dc:creator>
  <dc:description/>
  <dc:language>en-US</dc:language>
  <cp:lastModifiedBy>Марина</cp:lastModifiedBy>
  <dcterms:modified xsi:type="dcterms:W3CDTF">2014-01-27T18:08:40Z</dcterms:modified>
  <cp:revision>20</cp:revision>
  <dc:subject/>
  <dc:title>Урок русского языка в 3 классе.</dc:title>
</cp:coreProperties>
</file>