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EECC-F85D-4034-85F4-0AEDF360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9903-883F-4F9F-B543-D8956DBA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DC2-3C38-40AF-8A30-220D1119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B93-7C2E-46ED-AAD8-507FCEF1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9D09-B1C4-4B3F-986B-E2797867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4471-7664-48D7-B14E-DD618AE5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D445-CD0D-4883-9B52-13C7AB12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DD51-BB1F-4BE6-8161-35FE201D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8BCF-4B97-47F8-AD09-9A92918D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8CAC-9766-40BF-9B89-4E830A92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16BE-7BC5-4D6C-9C9D-E357639C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1EE-CA14-42D0-8997-6C56DC91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DE51-E406-4487-9508-22BD23B0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6183-81AC-4ACC-91E4-AD7CAC93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DCD4-5593-4611-8D86-84CBBCD5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2C6A-E5E4-4E97-AC8E-22EF9F42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9D4B-7608-432D-8A97-95C4684D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B2F-5A85-4C5D-A085-498B2946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76F-708C-48F3-BE3E-2BD93E1E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674-3D0D-4234-86DF-0CDD1128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223-5B86-4F11-A855-6CDE5993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2B1B-08C3-4F3B-A1BC-91CC37BA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F74-EF22-4E78-978A-D6179EA5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4A58-FA1E-4724-87E6-B5E6F648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129D-43F0-4D0C-8F98-68EBFCDF4CD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A5E8-37EF-48C0-BCD0-23952D2652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34100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Урок русского языка в 3 классе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559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: Ясиновская М.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средняя общеобразовательная школа ст. Совет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ловарная       работа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ина    мАш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тина    квАрт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пуста    кАртоф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кета     пАль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Разбор по составу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бескрайни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безлюдны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9999ff"/>
                </a:solidFill>
                <a:latin typeface="Arial"/>
              </a:rPr>
              <a:t>Ф и з минутка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бег,  бег,  разбе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ет,   лет,  вылет,   перел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нес,   занес,   нес,   выне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ход,  ход, выход,  переход,  пох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Найди   лишнее  слово 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пах,  забота,  забег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говорка,  повязка, подуш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 О Д У М А Й 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дочка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…п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нига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…беж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рядка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…пла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сня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…р…п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…Русский народ создал русский язык,  яркий,  как радуга  после весеннего ливня,  меткий,  как стрелы,  певучий  и  богатый, задушевный,  как  песня  над колыбелью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.Толс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465300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 Русский  язык  в  умел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уках  и  опытных  устах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расив, певуч, выразителен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гибок, послушен, ловок   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местителен… 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.И.Куп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0:13:27Z</dcterms:created>
  <dc:creator>4k110104349</dc:creator>
  <dc:description/>
  <dc:language>en-US</dc:language>
  <cp:lastModifiedBy>Марина</cp:lastModifiedBy>
  <dcterms:modified xsi:type="dcterms:W3CDTF">2014-01-27T18:08:40Z</dcterms:modified>
  <cp:revision>20</cp:revision>
  <dc:subject/>
  <dc:title>Урок русского языка в 3 классе.</dc:title>
</cp:coreProperties>
</file>