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6E9-EBBF-4189-9930-8A72029D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AAC-3E80-49D8-8F16-2CF6B39F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34A-9709-423A-AD66-BF6678A2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0CF-5062-4A93-A48B-C5C8B5F6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D68B-27F2-4D1A-BC1A-7D2575D7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452E-5C10-4CB9-A251-8CBB81E4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A83D-8DAD-41D1-9E3B-6199895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42AF-5AE4-4703-85C5-808FD1A8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0CAF-9097-4E8E-B622-897B6E85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60DF-0F03-4E1F-98ED-3C062AB7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C197-F39E-4F57-95E2-141F63D5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136-B8C6-4A82-99E1-D34A3D07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0B69-241F-4267-B7BB-781D5A7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DD50-55BB-49B8-B2E6-492FD56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7C38-09E0-4551-BA77-A9E96C7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D344-3722-4AF7-8116-DA5E8FF8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8DB4-99AA-4F8A-A01A-87D09B50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433-E8EE-4A13-8F13-6A18910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1B6-C8FB-405F-82DF-8B4D125F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110-0FDD-4ADD-A05D-FBE2B51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287-C9DF-4F4F-AE9F-0299C57C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455-0B91-463C-90F3-8C203F6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EAE-D90B-4317-A57F-C4B0E70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12B-ECB8-4509-B397-87CA734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Group 4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" name="Group 19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Group 11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Freeform 5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7" name="Oval 6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2" name="Group 18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Freeform 12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Oval 13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1D42-EBA5-4D7B-B273-E49F023B9D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Freeform 2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00D1-600F-49F2-A3F0-C965C476E3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УСТРОЙСТВО РИМСКОЙ РЕСПУБЛИК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5160" y="1571760"/>
            <a:ext cx="432612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рижды в месяц войско совершало мар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ро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ки на 30 к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ины шли в быстром темп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о скоростью 6,5 и даже 8 км в час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егионеры учились строить и разбирать военный лаге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54" name="Picture 8" descr="6"/>
          <p:cNvPicPr/>
          <p:nvPr/>
        </p:nvPicPr>
        <p:blipFill>
          <a:blip r:embed="rId2"/>
          <a:stretch/>
        </p:blipFill>
        <p:spPr>
          <a:xfrm>
            <a:off x="239760" y="1106640"/>
            <a:ext cx="4325760" cy="51940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412880" y="1114200"/>
            <a:ext cx="4349880" cy="5067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винившихся солдат подвергали телесным наказани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егиону, оказавшему н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виновение, умен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шали рацион пит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 же возникали бун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ы,то проводилась д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цимация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казнь по жребию каждого 10-го во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57" name="Picture 8" descr="5"/>
          <p:cNvPicPr/>
          <p:nvPr/>
        </p:nvPicPr>
        <p:blipFill>
          <a:blip r:embed="rId2"/>
          <a:stretch/>
        </p:blipFill>
        <p:spPr>
          <a:xfrm>
            <a:off x="181080" y="1162080"/>
            <a:ext cx="4152960" cy="5002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84240" y="1271160"/>
            <a:ext cx="4375080" cy="465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м где не было дорог,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инам приходилось внести весь свой скарб на себ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ша воина состояла из оружия, запасов пищи, личных вещей, строи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ельного инструмента и 2 тяжелых колов для строительства лагер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60" name="Picture 8" descr="4"/>
          <p:cNvPicPr/>
          <p:nvPr/>
        </p:nvPicPr>
        <p:blipFill>
          <a:blip r:embed="rId2"/>
          <a:stretch/>
        </p:blipFill>
        <p:spPr>
          <a:xfrm>
            <a:off x="169920" y="1987560"/>
            <a:ext cx="4316400" cy="33256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1" dur="1" fill="hold"/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27720" y="1641240"/>
            <a:ext cx="4402080" cy="393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мимо обучения воен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му искусству, вои-ны изучали ремесло землемера, строителя или каменщика, а так-же учились строить до-роги, сооружать кана-лы и различные зда-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63" name="Picture 9" descr="3"/>
          <p:cNvPicPr/>
          <p:nvPr/>
        </p:nvPicPr>
        <p:blipFill>
          <a:blip r:embed="rId2"/>
          <a:stretch/>
        </p:blipFill>
        <p:spPr>
          <a:xfrm>
            <a:off x="165240" y="1305000"/>
            <a:ext cx="4325760" cy="46116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99080" y="1117440"/>
            <a:ext cx="4324320" cy="4956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ины получали жал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вание ок.250 денарие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реть денег уходила на пищу, которую леги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еры приобретали за свой сч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да была простой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сыр, бобы, хлеб. Питьем для солдат была вода, или поска -дешевый сорт в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66" name="Picture 9" descr="2"/>
          <p:cNvPicPr/>
          <p:nvPr/>
        </p:nvPicPr>
        <p:blipFill>
          <a:blip r:embed="rId2"/>
          <a:stretch/>
        </p:blipFill>
        <p:spPr>
          <a:xfrm>
            <a:off x="152280" y="1362240"/>
            <a:ext cx="4408560" cy="45180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59040" y="939600"/>
            <a:ext cx="4375080" cy="5575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ступая на службу н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бранец получал фор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а тело надевалась кольчуга без рукавов, или металлический доспех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а голове кожаный или металлический шл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оружение состояла из копья, 2-х дротиков, меча и щи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69" name="Picture 9" descr="Рисунок11"/>
          <p:cNvPicPr/>
          <p:nvPr/>
        </p:nvPicPr>
        <p:blipFill>
          <a:blip r:embed="rId2"/>
          <a:stretch/>
        </p:blipFill>
        <p:spPr>
          <a:xfrm>
            <a:off x="181080" y="1060560"/>
            <a:ext cx="42955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46080" y="1069920"/>
            <a:ext cx="4273560" cy="511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 время походов леги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ны на ночевки соо-ружали лагер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круг лагеря соору-жался огромный р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алатки устанавлив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ись так,чтобы до них не долетели стрелы против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агерь делился на улицы и кварта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72" name="Picture 10" descr="Рисунок12"/>
          <p:cNvPicPr/>
          <p:nvPr/>
        </p:nvPicPr>
        <p:blipFill>
          <a:blip r:embed="rId2"/>
          <a:stretch/>
        </p:blipFill>
        <p:spPr>
          <a:xfrm>
            <a:off x="274680" y="1015920"/>
            <a:ext cx="402444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ЛАН УРОКА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720" y="2066400"/>
            <a:ext cx="7772400" cy="3495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УРАВНЕНИЕ ПЛЕБЕЕВ И ПАТРИ-ЦИЕВ В ПРАВ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СЕНАТ И ЕГО РОЛЬ В Р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РИМСКОЕ ВОЙСК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63600" y="57240"/>
            <a:ext cx="8570880" cy="458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1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.Уравнение плебеев и патрициев в правах.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08" name="Picture 8" descr="9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33440" y="555480"/>
            <a:ext cx="6723000" cy="47674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5400" y="5395680"/>
            <a:ext cx="8991360" cy="1385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 результате 200-летней борьбы плебеи стали полно-правными гражданами и принимали участие в вы- борах сенаторов, консулов и выработке зако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63600" y="57240"/>
            <a:ext cx="8570880" cy="458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1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.Уравнение плебеев и патрициев в правах.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11" name="Picture 3" descr="Рисунок13"/>
          <p:cNvPicPr/>
          <p:nvPr/>
        </p:nvPicPr>
        <p:blipFill>
          <a:blip r:embed="rId1"/>
          <a:stretch/>
        </p:blipFill>
        <p:spPr>
          <a:xfrm>
            <a:off x="1322280" y="581040"/>
            <a:ext cx="6723000" cy="48243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5400" y="5414760"/>
            <a:ext cx="8991360" cy="1385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оры проводились на Марсовом поле.Избиратели на табличках писали имя избранника.Законы принимались Форуме-главной площади го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231920" y="471600"/>
            <a:ext cx="19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Форум</a:t>
            </a:r>
            <a:endParaRPr b="0" lang="en-US" sz="4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3" descr="Рисунок1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812520"/>
            <a:ext cx="9144000" cy="99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имом управлял СЕНАТ из 300 человек. Это звание было пожизнен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812880"/>
            <a:ext cx="9144000" cy="99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ждый год граждане выбирали из сенаторов государственные должностные лиц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73120" y="76320"/>
            <a:ext cx="7772400" cy="731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2.СЕНАТ И ЕГО РОЛЬ В РИМЕ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371680" y="1797120"/>
            <a:ext cx="39765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8 </a:t>
            </a: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преторов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 избирались для того, чтобы стать судьями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67920" y="2413080"/>
            <a:ext cx="1960920" cy="155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Управляли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 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всеми дела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ми в Сена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те 2 </a:t>
            </a: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консула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377040" y="1822320"/>
            <a:ext cx="2809800" cy="192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4 </a:t>
            </a: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эдила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 наблю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дали за поряд-ком на улицах, рынках и устр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ивали зрелищ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135400" y="4294080"/>
            <a:ext cx="39783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20 </a:t>
            </a: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квесторов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 следили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за состоянием казны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27080" y="4113360"/>
            <a:ext cx="2968560" cy="265428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Цензоры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-руково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дили обществен-ными работами, сбором налогов,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заключали госу-дарственные до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говоры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748680" y="5584680"/>
            <a:ext cx="48196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При черезвычайных обстоятель-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ствах назначался диктатор,сро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ком на 6 месяцев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46000" y="2955960"/>
            <a:ext cx="178128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2 консул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674800" y="2106720"/>
            <a:ext cx="21081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8 преторов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095960" y="2879640"/>
            <a:ext cx="15606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4 эдил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19280" y="5634000"/>
            <a:ext cx="167148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2цензор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713560" y="4475160"/>
            <a:ext cx="22748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20 квесторов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4082400" y="5994360"/>
            <a:ext cx="15141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Диктатор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0" y="812880"/>
            <a:ext cx="9144000" cy="99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енат не перед кем ни отчитывался и не отвечал,       за свои реше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0" y="812880"/>
            <a:ext cx="9144000" cy="99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?  Как вы думаете, почему сенаторам были предоставлены такие права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1" descr="Рисунок2"/>
          <p:cNvPicPr/>
          <p:nvPr/>
        </p:nvPicPr>
        <p:blipFill>
          <a:blip r:embed="rId1"/>
          <a:stretch/>
        </p:blipFill>
        <p:spPr>
          <a:xfrm>
            <a:off x="171360" y="919080"/>
            <a:ext cx="4313160" cy="57117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13040" y="831600"/>
            <a:ext cx="4530600" cy="6026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лавной боевой единицей была центурия состояв-шая из 80 вои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 контурберний входило 8 воинов - римляне счи-тали, что таким коли-чеством легко управ-ля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бы в подразделение не мог проникнуть враг каждая центурия имела свой пароль менявший- ся каждый день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19040" y="76320"/>
            <a:ext cx="7772400" cy="6807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44348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cc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7" name="Text Box 7"/>
          <p:cNvSpPr/>
          <p:nvPr/>
        </p:nvSpPr>
        <p:spPr>
          <a:xfrm rot="3001800">
            <a:off x="-186120" y="5263560"/>
            <a:ext cx="2606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 Cyr"/>
              </a:rPr>
              <a:t>КОНТУБЕРНИЙ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Text Box 8"/>
          <p:cNvSpPr/>
          <p:nvPr/>
        </p:nvSpPr>
        <p:spPr>
          <a:xfrm rot="18717000">
            <a:off x="-129600" y="1569600"/>
            <a:ext cx="192888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ЦЕНТУРИЯ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91160" y="2390760"/>
            <a:ext cx="2346480" cy="155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ЦЕНТУРИЯ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СОСТОЯЛА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ИЗ 10 КОНТУР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БЕРНИЕВ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6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2" descr="Рисунок3"/>
          <p:cNvPicPr/>
          <p:nvPr/>
        </p:nvPicPr>
        <p:blipFill>
          <a:blip r:embed="rId1"/>
          <a:stretch/>
        </p:blipFill>
        <p:spPr>
          <a:xfrm>
            <a:off x="144360" y="1384200"/>
            <a:ext cx="4865760" cy="4067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024520" y="782280"/>
            <a:ext cx="4068720" cy="5948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Центурии объединя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ись в когор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10 когорт  составляли легион.Его числен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сть не превыш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а 5000 челов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я когорта  в каждом легионе имела боль-шую численност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ем остальны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~800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инов.Среди них были гонцы,писари, пова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43" name="Text Box 7"/>
          <p:cNvSpPr/>
          <p:nvPr/>
        </p:nvSpPr>
        <p:spPr>
          <a:xfrm rot="3543600">
            <a:off x="3267720" y="1168200"/>
            <a:ext cx="15415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горт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44" name="Text Box 9"/>
          <p:cNvSpPr/>
          <p:nvPr/>
        </p:nvSpPr>
        <p:spPr>
          <a:xfrm rot="19952400">
            <a:off x="1184400" y="1878840"/>
            <a:ext cx="1517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 Cyr"/>
              </a:rPr>
              <a:t>ЛЕГИО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207800" y="5170320"/>
            <a:ext cx="22291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 Cyr"/>
              </a:rPr>
              <a:t>1-Я КОГОРТ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03680" y="1855800"/>
            <a:ext cx="4402080" cy="367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ступая на службу в ар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ию, новобранец давал клятву вер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ежде это было обещ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ие исполнять прик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зы своих команди-ов, затем-клятва верности император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48" name="Picture 11" descr="8"/>
          <p:cNvPicPr/>
          <p:nvPr/>
        </p:nvPicPr>
        <p:blipFill>
          <a:blip r:embed="rId2"/>
          <a:stretch/>
        </p:blipFill>
        <p:spPr>
          <a:xfrm>
            <a:off x="225360" y="1251000"/>
            <a:ext cx="4284720" cy="48877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22400" y="2017800"/>
            <a:ext cx="4375080" cy="3287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енная подготовка была очень тяжелой. Каждый день все вои-ны легиона трениро-вались в плавании, бе-ге, прыжках, метании дротика и фехтова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51" name="Picture 9" descr="7"/>
          <p:cNvPicPr/>
          <p:nvPr/>
        </p:nvPicPr>
        <p:blipFill>
          <a:blip r:embed="rId2"/>
          <a:stretch/>
        </p:blipFill>
        <p:spPr>
          <a:xfrm>
            <a:off x="289080" y="1049400"/>
            <a:ext cx="4267080" cy="52671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13:01:16Z</dcterms:created>
  <dc:creator>ЧЕРНОВ АЛЕКСЕЙ</dc:creator>
  <dc:description/>
  <dc:language>en-US</dc:language>
  <cp:lastModifiedBy>1</cp:lastModifiedBy>
  <dcterms:modified xsi:type="dcterms:W3CDTF">2012-10-15T08:56:32Z</dcterms:modified>
  <cp:revision>33</cp:revision>
  <dc:subject/>
  <dc:title>Заголовок слайда отсутствует</dc:title>
</cp:coreProperties>
</file>