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4528-C01F-4F0A-9051-EE0B2AED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0720" y="4216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F94C-70DF-46D4-8CEA-7F582FB8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43340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621A-C575-4A1D-A3E4-F2A19AAD9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07872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70636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072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07872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70636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0B8C-5DE5-413E-8A91-33353BEC9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B337-0FAE-48CE-A92D-956D4C27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6F56-E016-4E9C-A5A7-46FB5722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B9F9-28D3-415C-8765-A1C5E5C1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67D9-B051-45F8-A1D9-F605FC51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BB37-1137-4FAB-A525-9B928C54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20840" y="334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9D82-037C-43EB-B31B-A45255BD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3B2F-4226-4129-B185-87A7407D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6B23-1CBF-476D-A28C-D26071E8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43340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1E18-700D-48FB-8D91-59697D19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44AD-F54F-4DF5-AC98-C1DD4BE5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0720" y="4216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02C5-96A9-435A-981C-8F93F5C9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43340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0AB5-4316-426B-83C9-2018E8C9E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7872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70636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072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7872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70636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1497-B7D6-457D-853A-A0F336F45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D254-D9F3-43EE-BEC9-C0E5CBD0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9437-C249-4383-835E-14AEB9EA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6D30-7116-4770-A993-A1CEB751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20840" y="334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FEF8-1C2B-40A8-BB22-3390A9A3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8E64-7279-4706-9D69-A1D37500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43340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3A87-7FA4-4E47-ABFB-532BB8BF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6D7D-0BC3-463F-A65A-2D72BB3F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219240" y="1622520"/>
            <a:ext cx="8800920" cy="5045040"/>
            <a:chOff x="219240" y="1622520"/>
            <a:chExt cx="8800920" cy="5045040"/>
          </a:xfrm>
        </p:grpSpPr>
        <p:grpSp>
          <p:nvGrpSpPr>
            <p:cNvPr id="1" name="Group 4"/>
            <p:cNvGrpSpPr/>
            <p:nvPr/>
          </p:nvGrpSpPr>
          <p:grpSpPr>
            <a:xfrm>
              <a:off x="219240" y="1622520"/>
              <a:ext cx="8305560" cy="150840"/>
              <a:chOff x="219240" y="1622520"/>
              <a:chExt cx="8305560" cy="150840"/>
            </a:xfrm>
          </p:grpSpPr>
          <p:sp>
            <p:nvSpPr>
              <p:cNvPr id="2" name="Freeform 2"/>
              <p:cNvSpPr/>
              <p:nvPr/>
            </p:nvSpPr>
            <p:spPr>
              <a:xfrm>
                <a:off x="219240" y="1638360"/>
                <a:ext cx="8288280" cy="135000"/>
              </a:xfrm>
              <a:custGeom>
                <a:avLst/>
                <a:gdLst/>
                <a:ahLst/>
                <a:rect l="l" t="t" r="r" b="b"/>
                <a:pathLst>
                  <a:path w="5221" h="85">
                    <a:moveTo>
                      <a:pt x="0" y="25"/>
                    </a:moveTo>
                    <a:lnTo>
                      <a:pt x="94" y="16"/>
                    </a:lnTo>
                    <a:lnTo>
                      <a:pt x="125" y="8"/>
                    </a:lnTo>
                    <a:lnTo>
                      <a:pt x="167" y="8"/>
                    </a:lnTo>
                    <a:lnTo>
                      <a:pt x="198" y="8"/>
                    </a:lnTo>
                    <a:lnTo>
                      <a:pt x="240" y="8"/>
                    </a:lnTo>
                    <a:lnTo>
                      <a:pt x="324" y="8"/>
                    </a:lnTo>
                    <a:lnTo>
                      <a:pt x="355" y="16"/>
                    </a:lnTo>
                    <a:lnTo>
                      <a:pt x="386" y="16"/>
                    </a:lnTo>
                    <a:lnTo>
                      <a:pt x="428" y="25"/>
                    </a:lnTo>
                    <a:lnTo>
                      <a:pt x="459" y="33"/>
                    </a:lnTo>
                    <a:lnTo>
                      <a:pt x="491" y="33"/>
                    </a:lnTo>
                    <a:lnTo>
                      <a:pt x="574" y="33"/>
                    </a:lnTo>
                    <a:lnTo>
                      <a:pt x="616" y="33"/>
                    </a:lnTo>
                    <a:lnTo>
                      <a:pt x="657" y="33"/>
                    </a:lnTo>
                    <a:lnTo>
                      <a:pt x="731" y="33"/>
                    </a:lnTo>
                    <a:lnTo>
                      <a:pt x="793" y="33"/>
                    </a:lnTo>
                    <a:lnTo>
                      <a:pt x="856" y="33"/>
                    </a:lnTo>
                    <a:lnTo>
                      <a:pt x="918" y="33"/>
                    </a:lnTo>
                    <a:lnTo>
                      <a:pt x="950" y="33"/>
                    </a:lnTo>
                    <a:lnTo>
                      <a:pt x="1023" y="25"/>
                    </a:lnTo>
                    <a:lnTo>
                      <a:pt x="1065" y="16"/>
                    </a:lnTo>
                    <a:lnTo>
                      <a:pt x="1107" y="0"/>
                    </a:lnTo>
                    <a:lnTo>
                      <a:pt x="1137" y="0"/>
                    </a:lnTo>
                    <a:lnTo>
                      <a:pt x="1169" y="0"/>
                    </a:lnTo>
                    <a:lnTo>
                      <a:pt x="1232" y="0"/>
                    </a:lnTo>
                    <a:lnTo>
                      <a:pt x="1273" y="8"/>
                    </a:lnTo>
                    <a:lnTo>
                      <a:pt x="1336" y="8"/>
                    </a:lnTo>
                    <a:lnTo>
                      <a:pt x="1398" y="8"/>
                    </a:lnTo>
                    <a:lnTo>
                      <a:pt x="1420" y="16"/>
                    </a:lnTo>
                    <a:lnTo>
                      <a:pt x="1483" y="16"/>
                    </a:lnTo>
                    <a:lnTo>
                      <a:pt x="1545" y="25"/>
                    </a:lnTo>
                    <a:lnTo>
                      <a:pt x="1608" y="25"/>
                    </a:lnTo>
                    <a:lnTo>
                      <a:pt x="1649" y="25"/>
                    </a:lnTo>
                    <a:lnTo>
                      <a:pt x="1691" y="25"/>
                    </a:lnTo>
                    <a:lnTo>
                      <a:pt x="1733" y="25"/>
                    </a:lnTo>
                    <a:lnTo>
                      <a:pt x="1774" y="25"/>
                    </a:lnTo>
                    <a:lnTo>
                      <a:pt x="1816" y="16"/>
                    </a:lnTo>
                    <a:lnTo>
                      <a:pt x="1900" y="16"/>
                    </a:lnTo>
                    <a:lnTo>
                      <a:pt x="1984" y="25"/>
                    </a:lnTo>
                    <a:lnTo>
                      <a:pt x="2046" y="25"/>
                    </a:lnTo>
                    <a:lnTo>
                      <a:pt x="2109" y="25"/>
                    </a:lnTo>
                    <a:lnTo>
                      <a:pt x="2171" y="25"/>
                    </a:lnTo>
                    <a:lnTo>
                      <a:pt x="2234" y="25"/>
                    </a:lnTo>
                    <a:lnTo>
                      <a:pt x="2265" y="25"/>
                    </a:lnTo>
                    <a:lnTo>
                      <a:pt x="2307" y="25"/>
                    </a:lnTo>
                    <a:lnTo>
                      <a:pt x="2390" y="25"/>
                    </a:lnTo>
                    <a:lnTo>
                      <a:pt x="2464" y="25"/>
                    </a:lnTo>
                    <a:lnTo>
                      <a:pt x="2505" y="25"/>
                    </a:lnTo>
                    <a:lnTo>
                      <a:pt x="2547" y="25"/>
                    </a:lnTo>
                    <a:lnTo>
                      <a:pt x="2589" y="25"/>
                    </a:lnTo>
                    <a:lnTo>
                      <a:pt x="2651" y="25"/>
                    </a:lnTo>
                    <a:lnTo>
                      <a:pt x="2693" y="25"/>
                    </a:lnTo>
                    <a:lnTo>
                      <a:pt x="2725" y="25"/>
                    </a:lnTo>
                    <a:lnTo>
                      <a:pt x="2756" y="25"/>
                    </a:lnTo>
                    <a:lnTo>
                      <a:pt x="2819" y="25"/>
                    </a:lnTo>
                    <a:lnTo>
                      <a:pt x="2881" y="25"/>
                    </a:lnTo>
                    <a:lnTo>
                      <a:pt x="2965" y="25"/>
                    </a:lnTo>
                    <a:lnTo>
                      <a:pt x="3006" y="33"/>
                    </a:lnTo>
                    <a:lnTo>
                      <a:pt x="3038" y="33"/>
                    </a:lnTo>
                    <a:lnTo>
                      <a:pt x="3069" y="33"/>
                    </a:lnTo>
                    <a:lnTo>
                      <a:pt x="3101" y="59"/>
                    </a:lnTo>
                    <a:lnTo>
                      <a:pt x="3131" y="84"/>
                    </a:lnTo>
                    <a:lnTo>
                      <a:pt x="3152" y="59"/>
                    </a:lnTo>
                    <a:lnTo>
                      <a:pt x="3216" y="67"/>
                    </a:lnTo>
                    <a:lnTo>
                      <a:pt x="3246" y="67"/>
                    </a:lnTo>
                    <a:lnTo>
                      <a:pt x="3288" y="59"/>
                    </a:lnTo>
                    <a:lnTo>
                      <a:pt x="3320" y="50"/>
                    </a:lnTo>
                    <a:lnTo>
                      <a:pt x="3351" y="50"/>
                    </a:lnTo>
                    <a:lnTo>
                      <a:pt x="3435" y="50"/>
                    </a:lnTo>
                    <a:lnTo>
                      <a:pt x="3539" y="50"/>
                    </a:lnTo>
                    <a:lnTo>
                      <a:pt x="3643" y="50"/>
                    </a:lnTo>
                    <a:lnTo>
                      <a:pt x="3706" y="50"/>
                    </a:lnTo>
                    <a:lnTo>
                      <a:pt x="3768" y="42"/>
                    </a:lnTo>
                    <a:lnTo>
                      <a:pt x="3810" y="33"/>
                    </a:lnTo>
                    <a:lnTo>
                      <a:pt x="3832" y="25"/>
                    </a:lnTo>
                    <a:lnTo>
                      <a:pt x="3862" y="16"/>
                    </a:lnTo>
                    <a:lnTo>
                      <a:pt x="3894" y="8"/>
                    </a:lnTo>
                    <a:lnTo>
                      <a:pt x="3957" y="8"/>
                    </a:lnTo>
                    <a:lnTo>
                      <a:pt x="3987" y="8"/>
                    </a:lnTo>
                    <a:lnTo>
                      <a:pt x="4072" y="8"/>
                    </a:lnTo>
                    <a:lnTo>
                      <a:pt x="4155" y="8"/>
                    </a:lnTo>
                    <a:lnTo>
                      <a:pt x="4186" y="8"/>
                    </a:lnTo>
                    <a:lnTo>
                      <a:pt x="4227" y="8"/>
                    </a:lnTo>
                    <a:lnTo>
                      <a:pt x="4312" y="8"/>
                    </a:lnTo>
                    <a:lnTo>
                      <a:pt x="4374" y="8"/>
                    </a:lnTo>
                    <a:lnTo>
                      <a:pt x="4405" y="25"/>
                    </a:lnTo>
                    <a:lnTo>
                      <a:pt x="4437" y="33"/>
                    </a:lnTo>
                    <a:lnTo>
                      <a:pt x="4478" y="33"/>
                    </a:lnTo>
                    <a:lnTo>
                      <a:pt x="4562" y="33"/>
                    </a:lnTo>
                    <a:lnTo>
                      <a:pt x="4624" y="33"/>
                    </a:lnTo>
                    <a:lnTo>
                      <a:pt x="4687" y="33"/>
                    </a:lnTo>
                    <a:lnTo>
                      <a:pt x="4709" y="33"/>
                    </a:lnTo>
                    <a:lnTo>
                      <a:pt x="4750" y="33"/>
                    </a:lnTo>
                    <a:lnTo>
                      <a:pt x="4792" y="33"/>
                    </a:lnTo>
                    <a:lnTo>
                      <a:pt x="4834" y="33"/>
                    </a:lnTo>
                    <a:lnTo>
                      <a:pt x="4896" y="33"/>
                    </a:lnTo>
                    <a:lnTo>
                      <a:pt x="4928" y="33"/>
                    </a:lnTo>
                    <a:lnTo>
                      <a:pt x="5000" y="33"/>
                    </a:lnTo>
                    <a:lnTo>
                      <a:pt x="5074" y="33"/>
                    </a:lnTo>
                    <a:lnTo>
                      <a:pt x="5147" y="33"/>
                    </a:lnTo>
                    <a:lnTo>
                      <a:pt x="5178" y="33"/>
                    </a:lnTo>
                    <a:lnTo>
                      <a:pt x="5220" y="50"/>
                    </a:lnTo>
                    <a:lnTo>
                      <a:pt x="5199" y="76"/>
                    </a:lnTo>
                    <a:lnTo>
                      <a:pt x="5115" y="76"/>
                    </a:lnTo>
                    <a:lnTo>
                      <a:pt x="5084" y="76"/>
                    </a:lnTo>
                    <a:lnTo>
                      <a:pt x="5000" y="67"/>
                    </a:lnTo>
                    <a:lnTo>
                      <a:pt x="4938" y="67"/>
                    </a:lnTo>
                    <a:lnTo>
                      <a:pt x="4906" y="67"/>
                    </a:lnTo>
                    <a:lnTo>
                      <a:pt x="4864" y="67"/>
                    </a:lnTo>
                    <a:lnTo>
                      <a:pt x="4792" y="67"/>
                    </a:lnTo>
                    <a:lnTo>
                      <a:pt x="4719" y="67"/>
                    </a:lnTo>
                    <a:lnTo>
                      <a:pt x="4687" y="67"/>
                    </a:lnTo>
                    <a:lnTo>
                      <a:pt x="4624" y="67"/>
                    </a:lnTo>
                    <a:lnTo>
                      <a:pt x="4583" y="67"/>
                    </a:lnTo>
                    <a:lnTo>
                      <a:pt x="4499" y="76"/>
                    </a:lnTo>
                    <a:lnTo>
                      <a:pt x="4468" y="84"/>
                    </a:lnTo>
                    <a:lnTo>
                      <a:pt x="4426" y="84"/>
                    </a:lnTo>
                    <a:lnTo>
                      <a:pt x="4395" y="84"/>
                    </a:lnTo>
                    <a:lnTo>
                      <a:pt x="4312" y="84"/>
                    </a:lnTo>
                    <a:lnTo>
                      <a:pt x="4248" y="84"/>
                    </a:lnTo>
                    <a:lnTo>
                      <a:pt x="4218" y="84"/>
                    </a:lnTo>
                    <a:lnTo>
                      <a:pt x="4113" y="76"/>
                    </a:lnTo>
                    <a:lnTo>
                      <a:pt x="4029" y="76"/>
                    </a:lnTo>
                    <a:lnTo>
                      <a:pt x="3946" y="67"/>
                    </a:lnTo>
                    <a:lnTo>
                      <a:pt x="3883" y="59"/>
                    </a:lnTo>
                    <a:lnTo>
                      <a:pt x="3852" y="59"/>
                    </a:lnTo>
                    <a:lnTo>
                      <a:pt x="3821" y="59"/>
                    </a:lnTo>
                    <a:lnTo>
                      <a:pt x="3789" y="59"/>
                    </a:lnTo>
                    <a:lnTo>
                      <a:pt x="3758" y="59"/>
                    </a:lnTo>
                    <a:lnTo>
                      <a:pt x="3675" y="59"/>
                    </a:lnTo>
                    <a:lnTo>
                      <a:pt x="3612" y="59"/>
                    </a:lnTo>
                    <a:lnTo>
                      <a:pt x="3549" y="59"/>
                    </a:lnTo>
                    <a:lnTo>
                      <a:pt x="3518" y="59"/>
                    </a:lnTo>
                    <a:lnTo>
                      <a:pt x="3486" y="76"/>
                    </a:lnTo>
                    <a:lnTo>
                      <a:pt x="3456" y="76"/>
                    </a:lnTo>
                    <a:lnTo>
                      <a:pt x="3393" y="84"/>
                    </a:lnTo>
                    <a:lnTo>
                      <a:pt x="3320" y="84"/>
                    </a:lnTo>
                    <a:lnTo>
                      <a:pt x="3236" y="84"/>
                    </a:lnTo>
                    <a:lnTo>
                      <a:pt x="3205" y="84"/>
                    </a:lnTo>
                    <a:lnTo>
                      <a:pt x="3121" y="84"/>
                    </a:lnTo>
                    <a:lnTo>
                      <a:pt x="3059" y="84"/>
                    </a:lnTo>
                    <a:lnTo>
                      <a:pt x="3027" y="84"/>
                    </a:lnTo>
                    <a:lnTo>
                      <a:pt x="2944" y="76"/>
                    </a:lnTo>
                    <a:lnTo>
                      <a:pt x="2860" y="76"/>
                    </a:lnTo>
                    <a:lnTo>
                      <a:pt x="2798" y="76"/>
                    </a:lnTo>
                    <a:lnTo>
                      <a:pt x="2714" y="76"/>
                    </a:lnTo>
                    <a:lnTo>
                      <a:pt x="2651" y="84"/>
                    </a:lnTo>
                    <a:lnTo>
                      <a:pt x="2589" y="84"/>
                    </a:lnTo>
                    <a:lnTo>
                      <a:pt x="2505" y="84"/>
                    </a:lnTo>
                    <a:lnTo>
                      <a:pt x="2474" y="76"/>
                    </a:lnTo>
                    <a:lnTo>
                      <a:pt x="2432" y="76"/>
                    </a:lnTo>
                    <a:lnTo>
                      <a:pt x="2360" y="76"/>
                    </a:lnTo>
                    <a:lnTo>
                      <a:pt x="2318" y="76"/>
                    </a:lnTo>
                    <a:lnTo>
                      <a:pt x="2254" y="76"/>
                    </a:lnTo>
                    <a:lnTo>
                      <a:pt x="2192" y="76"/>
                    </a:lnTo>
                    <a:lnTo>
                      <a:pt x="2150" y="76"/>
                    </a:lnTo>
                    <a:lnTo>
                      <a:pt x="2088" y="76"/>
                    </a:lnTo>
                    <a:lnTo>
                      <a:pt x="2056" y="67"/>
                    </a:lnTo>
                    <a:lnTo>
                      <a:pt x="2014" y="59"/>
                    </a:lnTo>
                    <a:lnTo>
                      <a:pt x="1973" y="59"/>
                    </a:lnTo>
                    <a:lnTo>
                      <a:pt x="1889" y="59"/>
                    </a:lnTo>
                    <a:lnTo>
                      <a:pt x="1859" y="59"/>
                    </a:lnTo>
                    <a:lnTo>
                      <a:pt x="1837" y="67"/>
                    </a:lnTo>
                    <a:lnTo>
                      <a:pt x="1774" y="76"/>
                    </a:lnTo>
                    <a:lnTo>
                      <a:pt x="1743" y="84"/>
                    </a:lnTo>
                    <a:lnTo>
                      <a:pt x="1660" y="76"/>
                    </a:lnTo>
                    <a:lnTo>
                      <a:pt x="1628" y="76"/>
                    </a:lnTo>
                    <a:lnTo>
                      <a:pt x="1545" y="84"/>
                    </a:lnTo>
                    <a:lnTo>
                      <a:pt x="1513" y="84"/>
                    </a:lnTo>
                    <a:lnTo>
                      <a:pt x="1483" y="84"/>
                    </a:lnTo>
                    <a:lnTo>
                      <a:pt x="1451" y="59"/>
                    </a:lnTo>
                    <a:lnTo>
                      <a:pt x="1409" y="50"/>
                    </a:lnTo>
                    <a:lnTo>
                      <a:pt x="1336" y="50"/>
                    </a:lnTo>
                    <a:lnTo>
                      <a:pt x="1294" y="59"/>
                    </a:lnTo>
                    <a:lnTo>
                      <a:pt x="1211" y="59"/>
                    </a:lnTo>
                    <a:lnTo>
                      <a:pt x="1127" y="67"/>
                    </a:lnTo>
                    <a:lnTo>
                      <a:pt x="1023" y="67"/>
                    </a:lnTo>
                    <a:lnTo>
                      <a:pt x="960" y="67"/>
                    </a:lnTo>
                    <a:lnTo>
                      <a:pt x="876" y="67"/>
                    </a:lnTo>
                    <a:lnTo>
                      <a:pt x="846" y="67"/>
                    </a:lnTo>
                    <a:lnTo>
                      <a:pt x="762" y="76"/>
                    </a:lnTo>
                    <a:lnTo>
                      <a:pt x="699" y="76"/>
                    </a:lnTo>
                    <a:lnTo>
                      <a:pt x="668" y="59"/>
                    </a:lnTo>
                    <a:lnTo>
                      <a:pt x="636" y="42"/>
                    </a:lnTo>
                    <a:lnTo>
                      <a:pt x="606" y="42"/>
                    </a:lnTo>
                    <a:lnTo>
                      <a:pt x="543" y="42"/>
                    </a:lnTo>
                    <a:lnTo>
                      <a:pt x="521" y="42"/>
                    </a:lnTo>
                    <a:lnTo>
                      <a:pt x="491" y="50"/>
                    </a:lnTo>
                    <a:lnTo>
                      <a:pt x="459" y="50"/>
                    </a:lnTo>
                    <a:lnTo>
                      <a:pt x="428" y="50"/>
                    </a:lnTo>
                    <a:lnTo>
                      <a:pt x="324" y="50"/>
                    </a:lnTo>
                    <a:lnTo>
                      <a:pt x="292" y="50"/>
                    </a:lnTo>
                    <a:lnTo>
                      <a:pt x="250" y="50"/>
                    </a:lnTo>
                    <a:lnTo>
                      <a:pt x="219" y="50"/>
                    </a:lnTo>
                    <a:lnTo>
                      <a:pt x="135" y="50"/>
                    </a:lnTo>
                    <a:lnTo>
                      <a:pt x="52" y="50"/>
                    </a:lnTo>
                    <a:lnTo>
                      <a:pt x="0" y="2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8f8f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" name="Freeform 3"/>
              <p:cNvSpPr/>
              <p:nvPr/>
            </p:nvSpPr>
            <p:spPr>
              <a:xfrm>
                <a:off x="236520" y="1622520"/>
                <a:ext cx="8288280" cy="135000"/>
              </a:xfrm>
              <a:custGeom>
                <a:avLst/>
                <a:gdLst/>
                <a:ahLst/>
                <a:rect l="l" t="t" r="r" b="b"/>
                <a:pathLst>
                  <a:path w="5221" h="85">
                    <a:moveTo>
                      <a:pt x="0" y="25"/>
                    </a:moveTo>
                    <a:lnTo>
                      <a:pt x="94" y="16"/>
                    </a:lnTo>
                    <a:lnTo>
                      <a:pt x="125" y="8"/>
                    </a:lnTo>
                    <a:lnTo>
                      <a:pt x="167" y="8"/>
                    </a:lnTo>
                    <a:lnTo>
                      <a:pt x="198" y="8"/>
                    </a:lnTo>
                    <a:lnTo>
                      <a:pt x="240" y="8"/>
                    </a:lnTo>
                    <a:lnTo>
                      <a:pt x="324" y="8"/>
                    </a:lnTo>
                    <a:lnTo>
                      <a:pt x="355" y="16"/>
                    </a:lnTo>
                    <a:lnTo>
                      <a:pt x="386" y="16"/>
                    </a:lnTo>
                    <a:lnTo>
                      <a:pt x="428" y="25"/>
                    </a:lnTo>
                    <a:lnTo>
                      <a:pt x="459" y="33"/>
                    </a:lnTo>
                    <a:lnTo>
                      <a:pt x="491" y="33"/>
                    </a:lnTo>
                    <a:lnTo>
                      <a:pt x="574" y="33"/>
                    </a:lnTo>
                    <a:lnTo>
                      <a:pt x="616" y="33"/>
                    </a:lnTo>
                    <a:lnTo>
                      <a:pt x="657" y="33"/>
                    </a:lnTo>
                    <a:lnTo>
                      <a:pt x="731" y="33"/>
                    </a:lnTo>
                    <a:lnTo>
                      <a:pt x="793" y="33"/>
                    </a:lnTo>
                    <a:lnTo>
                      <a:pt x="856" y="33"/>
                    </a:lnTo>
                    <a:lnTo>
                      <a:pt x="918" y="33"/>
                    </a:lnTo>
                    <a:lnTo>
                      <a:pt x="950" y="33"/>
                    </a:lnTo>
                    <a:lnTo>
                      <a:pt x="1023" y="25"/>
                    </a:lnTo>
                    <a:lnTo>
                      <a:pt x="1065" y="16"/>
                    </a:lnTo>
                    <a:lnTo>
                      <a:pt x="1107" y="0"/>
                    </a:lnTo>
                    <a:lnTo>
                      <a:pt x="1137" y="0"/>
                    </a:lnTo>
                    <a:lnTo>
                      <a:pt x="1169" y="0"/>
                    </a:lnTo>
                    <a:lnTo>
                      <a:pt x="1232" y="0"/>
                    </a:lnTo>
                    <a:lnTo>
                      <a:pt x="1273" y="8"/>
                    </a:lnTo>
                    <a:lnTo>
                      <a:pt x="1336" y="8"/>
                    </a:lnTo>
                    <a:lnTo>
                      <a:pt x="1398" y="8"/>
                    </a:lnTo>
                    <a:lnTo>
                      <a:pt x="1420" y="16"/>
                    </a:lnTo>
                    <a:lnTo>
                      <a:pt x="1483" y="16"/>
                    </a:lnTo>
                    <a:lnTo>
                      <a:pt x="1545" y="25"/>
                    </a:lnTo>
                    <a:lnTo>
                      <a:pt x="1608" y="25"/>
                    </a:lnTo>
                    <a:lnTo>
                      <a:pt x="1649" y="25"/>
                    </a:lnTo>
                    <a:lnTo>
                      <a:pt x="1691" y="25"/>
                    </a:lnTo>
                    <a:lnTo>
                      <a:pt x="1733" y="25"/>
                    </a:lnTo>
                    <a:lnTo>
                      <a:pt x="1774" y="25"/>
                    </a:lnTo>
                    <a:lnTo>
                      <a:pt x="1816" y="16"/>
                    </a:lnTo>
                    <a:lnTo>
                      <a:pt x="1900" y="16"/>
                    </a:lnTo>
                    <a:lnTo>
                      <a:pt x="1984" y="25"/>
                    </a:lnTo>
                    <a:lnTo>
                      <a:pt x="2046" y="25"/>
                    </a:lnTo>
                    <a:lnTo>
                      <a:pt x="2109" y="25"/>
                    </a:lnTo>
                    <a:lnTo>
                      <a:pt x="2171" y="25"/>
                    </a:lnTo>
                    <a:lnTo>
                      <a:pt x="2234" y="25"/>
                    </a:lnTo>
                    <a:lnTo>
                      <a:pt x="2265" y="25"/>
                    </a:lnTo>
                    <a:lnTo>
                      <a:pt x="2307" y="25"/>
                    </a:lnTo>
                    <a:lnTo>
                      <a:pt x="2390" y="25"/>
                    </a:lnTo>
                    <a:lnTo>
                      <a:pt x="2464" y="25"/>
                    </a:lnTo>
                    <a:lnTo>
                      <a:pt x="2505" y="25"/>
                    </a:lnTo>
                    <a:lnTo>
                      <a:pt x="2547" y="25"/>
                    </a:lnTo>
                    <a:lnTo>
                      <a:pt x="2589" y="25"/>
                    </a:lnTo>
                    <a:lnTo>
                      <a:pt x="2651" y="25"/>
                    </a:lnTo>
                    <a:lnTo>
                      <a:pt x="2693" y="25"/>
                    </a:lnTo>
                    <a:lnTo>
                      <a:pt x="2725" y="25"/>
                    </a:lnTo>
                    <a:lnTo>
                      <a:pt x="2756" y="25"/>
                    </a:lnTo>
                    <a:lnTo>
                      <a:pt x="2819" y="25"/>
                    </a:lnTo>
                    <a:lnTo>
                      <a:pt x="2881" y="25"/>
                    </a:lnTo>
                    <a:lnTo>
                      <a:pt x="2965" y="25"/>
                    </a:lnTo>
                    <a:lnTo>
                      <a:pt x="3006" y="33"/>
                    </a:lnTo>
                    <a:lnTo>
                      <a:pt x="3038" y="33"/>
                    </a:lnTo>
                    <a:lnTo>
                      <a:pt x="3069" y="33"/>
                    </a:lnTo>
                    <a:lnTo>
                      <a:pt x="3101" y="59"/>
                    </a:lnTo>
                    <a:lnTo>
                      <a:pt x="3131" y="84"/>
                    </a:lnTo>
                    <a:lnTo>
                      <a:pt x="3152" y="59"/>
                    </a:lnTo>
                    <a:lnTo>
                      <a:pt x="3216" y="67"/>
                    </a:lnTo>
                    <a:lnTo>
                      <a:pt x="3246" y="67"/>
                    </a:lnTo>
                    <a:lnTo>
                      <a:pt x="3288" y="59"/>
                    </a:lnTo>
                    <a:lnTo>
                      <a:pt x="3320" y="50"/>
                    </a:lnTo>
                    <a:lnTo>
                      <a:pt x="3351" y="50"/>
                    </a:lnTo>
                    <a:lnTo>
                      <a:pt x="3435" y="50"/>
                    </a:lnTo>
                    <a:lnTo>
                      <a:pt x="3539" y="50"/>
                    </a:lnTo>
                    <a:lnTo>
                      <a:pt x="3643" y="50"/>
                    </a:lnTo>
                    <a:lnTo>
                      <a:pt x="3706" y="50"/>
                    </a:lnTo>
                    <a:lnTo>
                      <a:pt x="3768" y="42"/>
                    </a:lnTo>
                    <a:lnTo>
                      <a:pt x="3810" y="33"/>
                    </a:lnTo>
                    <a:lnTo>
                      <a:pt x="3832" y="25"/>
                    </a:lnTo>
                    <a:lnTo>
                      <a:pt x="3862" y="16"/>
                    </a:lnTo>
                    <a:lnTo>
                      <a:pt x="3894" y="8"/>
                    </a:lnTo>
                    <a:lnTo>
                      <a:pt x="3957" y="8"/>
                    </a:lnTo>
                    <a:lnTo>
                      <a:pt x="3987" y="8"/>
                    </a:lnTo>
                    <a:lnTo>
                      <a:pt x="4072" y="8"/>
                    </a:lnTo>
                    <a:lnTo>
                      <a:pt x="4155" y="8"/>
                    </a:lnTo>
                    <a:lnTo>
                      <a:pt x="4186" y="8"/>
                    </a:lnTo>
                    <a:lnTo>
                      <a:pt x="4227" y="8"/>
                    </a:lnTo>
                    <a:lnTo>
                      <a:pt x="4312" y="8"/>
                    </a:lnTo>
                    <a:lnTo>
                      <a:pt x="4374" y="8"/>
                    </a:lnTo>
                    <a:lnTo>
                      <a:pt x="4405" y="25"/>
                    </a:lnTo>
                    <a:lnTo>
                      <a:pt x="4437" y="33"/>
                    </a:lnTo>
                    <a:lnTo>
                      <a:pt x="4478" y="33"/>
                    </a:lnTo>
                    <a:lnTo>
                      <a:pt x="4562" y="33"/>
                    </a:lnTo>
                    <a:lnTo>
                      <a:pt x="4624" y="33"/>
                    </a:lnTo>
                    <a:lnTo>
                      <a:pt x="4687" y="33"/>
                    </a:lnTo>
                    <a:lnTo>
                      <a:pt x="4709" y="33"/>
                    </a:lnTo>
                    <a:lnTo>
                      <a:pt x="4750" y="33"/>
                    </a:lnTo>
                    <a:lnTo>
                      <a:pt x="4792" y="33"/>
                    </a:lnTo>
                    <a:lnTo>
                      <a:pt x="4834" y="33"/>
                    </a:lnTo>
                    <a:lnTo>
                      <a:pt x="4896" y="33"/>
                    </a:lnTo>
                    <a:lnTo>
                      <a:pt x="4928" y="33"/>
                    </a:lnTo>
                    <a:lnTo>
                      <a:pt x="5000" y="33"/>
                    </a:lnTo>
                    <a:lnTo>
                      <a:pt x="5074" y="33"/>
                    </a:lnTo>
                    <a:lnTo>
                      <a:pt x="5147" y="33"/>
                    </a:lnTo>
                    <a:lnTo>
                      <a:pt x="5178" y="33"/>
                    </a:lnTo>
                    <a:lnTo>
                      <a:pt x="5220" y="50"/>
                    </a:lnTo>
                    <a:lnTo>
                      <a:pt x="5199" y="76"/>
                    </a:lnTo>
                    <a:lnTo>
                      <a:pt x="5115" y="76"/>
                    </a:lnTo>
                    <a:lnTo>
                      <a:pt x="5084" y="76"/>
                    </a:lnTo>
                    <a:lnTo>
                      <a:pt x="5000" y="67"/>
                    </a:lnTo>
                    <a:lnTo>
                      <a:pt x="4938" y="67"/>
                    </a:lnTo>
                    <a:lnTo>
                      <a:pt x="4906" y="67"/>
                    </a:lnTo>
                    <a:lnTo>
                      <a:pt x="4864" y="67"/>
                    </a:lnTo>
                    <a:lnTo>
                      <a:pt x="4792" y="67"/>
                    </a:lnTo>
                    <a:lnTo>
                      <a:pt x="4719" y="67"/>
                    </a:lnTo>
                    <a:lnTo>
                      <a:pt x="4687" y="67"/>
                    </a:lnTo>
                    <a:lnTo>
                      <a:pt x="4624" y="67"/>
                    </a:lnTo>
                    <a:lnTo>
                      <a:pt x="4583" y="67"/>
                    </a:lnTo>
                    <a:lnTo>
                      <a:pt x="4499" y="76"/>
                    </a:lnTo>
                    <a:lnTo>
                      <a:pt x="4468" y="84"/>
                    </a:lnTo>
                    <a:lnTo>
                      <a:pt x="4426" y="84"/>
                    </a:lnTo>
                    <a:lnTo>
                      <a:pt x="4395" y="84"/>
                    </a:lnTo>
                    <a:lnTo>
                      <a:pt x="4312" y="84"/>
                    </a:lnTo>
                    <a:lnTo>
                      <a:pt x="4248" y="84"/>
                    </a:lnTo>
                    <a:lnTo>
                      <a:pt x="4218" y="84"/>
                    </a:lnTo>
                    <a:lnTo>
                      <a:pt x="4113" y="76"/>
                    </a:lnTo>
                    <a:lnTo>
                      <a:pt x="4029" y="76"/>
                    </a:lnTo>
                    <a:lnTo>
                      <a:pt x="3946" y="67"/>
                    </a:lnTo>
                    <a:lnTo>
                      <a:pt x="3883" y="59"/>
                    </a:lnTo>
                    <a:lnTo>
                      <a:pt x="3852" y="59"/>
                    </a:lnTo>
                    <a:lnTo>
                      <a:pt x="3821" y="59"/>
                    </a:lnTo>
                    <a:lnTo>
                      <a:pt x="3789" y="59"/>
                    </a:lnTo>
                    <a:lnTo>
                      <a:pt x="3758" y="59"/>
                    </a:lnTo>
                    <a:lnTo>
                      <a:pt x="3675" y="59"/>
                    </a:lnTo>
                    <a:lnTo>
                      <a:pt x="3612" y="59"/>
                    </a:lnTo>
                    <a:lnTo>
                      <a:pt x="3549" y="59"/>
                    </a:lnTo>
                    <a:lnTo>
                      <a:pt x="3518" y="59"/>
                    </a:lnTo>
                    <a:lnTo>
                      <a:pt x="3486" y="76"/>
                    </a:lnTo>
                    <a:lnTo>
                      <a:pt x="3456" y="76"/>
                    </a:lnTo>
                    <a:lnTo>
                      <a:pt x="3393" y="84"/>
                    </a:lnTo>
                    <a:lnTo>
                      <a:pt x="3320" y="84"/>
                    </a:lnTo>
                    <a:lnTo>
                      <a:pt x="3236" y="84"/>
                    </a:lnTo>
                    <a:lnTo>
                      <a:pt x="3205" y="84"/>
                    </a:lnTo>
                    <a:lnTo>
                      <a:pt x="3121" y="84"/>
                    </a:lnTo>
                    <a:lnTo>
                      <a:pt x="3059" y="84"/>
                    </a:lnTo>
                    <a:lnTo>
                      <a:pt x="3027" y="84"/>
                    </a:lnTo>
                    <a:lnTo>
                      <a:pt x="2944" y="76"/>
                    </a:lnTo>
                    <a:lnTo>
                      <a:pt x="2860" y="76"/>
                    </a:lnTo>
                    <a:lnTo>
                      <a:pt x="2798" y="76"/>
                    </a:lnTo>
                    <a:lnTo>
                      <a:pt x="2714" y="76"/>
                    </a:lnTo>
                    <a:lnTo>
                      <a:pt x="2651" y="84"/>
                    </a:lnTo>
                    <a:lnTo>
                      <a:pt x="2589" y="84"/>
                    </a:lnTo>
                    <a:lnTo>
                      <a:pt x="2505" y="84"/>
                    </a:lnTo>
                    <a:lnTo>
                      <a:pt x="2474" y="76"/>
                    </a:lnTo>
                    <a:lnTo>
                      <a:pt x="2432" y="76"/>
                    </a:lnTo>
                    <a:lnTo>
                      <a:pt x="2360" y="76"/>
                    </a:lnTo>
                    <a:lnTo>
                      <a:pt x="2318" y="76"/>
                    </a:lnTo>
                    <a:lnTo>
                      <a:pt x="2254" y="76"/>
                    </a:lnTo>
                    <a:lnTo>
                      <a:pt x="2192" y="76"/>
                    </a:lnTo>
                    <a:lnTo>
                      <a:pt x="2150" y="76"/>
                    </a:lnTo>
                    <a:lnTo>
                      <a:pt x="2088" y="76"/>
                    </a:lnTo>
                    <a:lnTo>
                      <a:pt x="2056" y="67"/>
                    </a:lnTo>
                    <a:lnTo>
                      <a:pt x="2014" y="59"/>
                    </a:lnTo>
                    <a:lnTo>
                      <a:pt x="1973" y="59"/>
                    </a:lnTo>
                    <a:lnTo>
                      <a:pt x="1889" y="59"/>
                    </a:lnTo>
                    <a:lnTo>
                      <a:pt x="1859" y="59"/>
                    </a:lnTo>
                    <a:lnTo>
                      <a:pt x="1837" y="67"/>
                    </a:lnTo>
                    <a:lnTo>
                      <a:pt x="1774" y="76"/>
                    </a:lnTo>
                    <a:lnTo>
                      <a:pt x="1743" y="84"/>
                    </a:lnTo>
                    <a:lnTo>
                      <a:pt x="1660" y="76"/>
                    </a:lnTo>
                    <a:lnTo>
                      <a:pt x="1628" y="76"/>
                    </a:lnTo>
                    <a:lnTo>
                      <a:pt x="1545" y="84"/>
                    </a:lnTo>
                    <a:lnTo>
                      <a:pt x="1513" y="84"/>
                    </a:lnTo>
                    <a:lnTo>
                      <a:pt x="1483" y="84"/>
                    </a:lnTo>
                    <a:lnTo>
                      <a:pt x="1451" y="59"/>
                    </a:lnTo>
                    <a:lnTo>
                      <a:pt x="1409" y="50"/>
                    </a:lnTo>
                    <a:lnTo>
                      <a:pt x="1336" y="50"/>
                    </a:lnTo>
                    <a:lnTo>
                      <a:pt x="1294" y="59"/>
                    </a:lnTo>
                    <a:lnTo>
                      <a:pt x="1211" y="59"/>
                    </a:lnTo>
                    <a:lnTo>
                      <a:pt x="1127" y="67"/>
                    </a:lnTo>
                    <a:lnTo>
                      <a:pt x="1023" y="67"/>
                    </a:lnTo>
                    <a:lnTo>
                      <a:pt x="960" y="67"/>
                    </a:lnTo>
                    <a:lnTo>
                      <a:pt x="876" y="67"/>
                    </a:lnTo>
                    <a:lnTo>
                      <a:pt x="846" y="67"/>
                    </a:lnTo>
                    <a:lnTo>
                      <a:pt x="762" y="76"/>
                    </a:lnTo>
                    <a:lnTo>
                      <a:pt x="699" y="76"/>
                    </a:lnTo>
                    <a:lnTo>
                      <a:pt x="668" y="59"/>
                    </a:lnTo>
                    <a:lnTo>
                      <a:pt x="636" y="42"/>
                    </a:lnTo>
                    <a:lnTo>
                      <a:pt x="606" y="42"/>
                    </a:lnTo>
                    <a:lnTo>
                      <a:pt x="543" y="42"/>
                    </a:lnTo>
                    <a:lnTo>
                      <a:pt x="521" y="42"/>
                    </a:lnTo>
                    <a:lnTo>
                      <a:pt x="491" y="50"/>
                    </a:lnTo>
                    <a:lnTo>
                      <a:pt x="459" y="50"/>
                    </a:lnTo>
                    <a:lnTo>
                      <a:pt x="428" y="50"/>
                    </a:lnTo>
                    <a:lnTo>
                      <a:pt x="324" y="50"/>
                    </a:lnTo>
                    <a:lnTo>
                      <a:pt x="292" y="50"/>
                    </a:lnTo>
                    <a:lnTo>
                      <a:pt x="250" y="50"/>
                    </a:lnTo>
                    <a:lnTo>
                      <a:pt x="219" y="50"/>
                    </a:lnTo>
                    <a:lnTo>
                      <a:pt x="135" y="50"/>
                    </a:lnTo>
                    <a:lnTo>
                      <a:pt x="52" y="50"/>
                    </a:lnTo>
                    <a:lnTo>
                      <a:pt x="0" y="2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</p:grpSp>
        <p:grpSp>
          <p:nvGrpSpPr>
            <p:cNvPr id="4" name="Group 19"/>
            <p:cNvGrpSpPr/>
            <p:nvPr/>
          </p:nvGrpSpPr>
          <p:grpSpPr>
            <a:xfrm>
              <a:off x="8408880" y="5302080"/>
              <a:ext cx="611280" cy="1365480"/>
              <a:chOff x="8408880" y="5302080"/>
              <a:chExt cx="611280" cy="1365480"/>
            </a:xfrm>
          </p:grpSpPr>
          <p:grpSp>
            <p:nvGrpSpPr>
              <p:cNvPr id="5" name="Group 11"/>
              <p:cNvGrpSpPr/>
              <p:nvPr/>
            </p:nvGrpSpPr>
            <p:grpSpPr>
              <a:xfrm>
                <a:off x="8415360" y="5319360"/>
                <a:ext cx="604800" cy="1348200"/>
                <a:chOff x="8415360" y="5319360"/>
                <a:chExt cx="604800" cy="1348200"/>
              </a:xfrm>
            </p:grpSpPr>
            <p:sp>
              <p:nvSpPr>
                <p:cNvPr id="6" name="Freeform 5"/>
                <p:cNvSpPr/>
                <p:nvPr/>
              </p:nvSpPr>
              <p:spPr>
                <a:xfrm>
                  <a:off x="8415360" y="5662440"/>
                  <a:ext cx="536400" cy="1005120"/>
                </a:xfrm>
                <a:custGeom>
                  <a:avLst/>
                  <a:gdLst/>
                  <a:ahLst/>
                  <a:rect l="l" t="t" r="r" b="b"/>
                  <a:pathLst>
                    <a:path w="338" h="633">
                      <a:moveTo>
                        <a:pt x="90" y="369"/>
                      </a:moveTo>
                      <a:lnTo>
                        <a:pt x="111" y="321"/>
                      </a:lnTo>
                      <a:lnTo>
                        <a:pt x="90" y="240"/>
                      </a:lnTo>
                      <a:lnTo>
                        <a:pt x="64" y="190"/>
                      </a:lnTo>
                      <a:lnTo>
                        <a:pt x="54" y="132"/>
                      </a:lnTo>
                      <a:lnTo>
                        <a:pt x="57" y="96"/>
                      </a:lnTo>
                      <a:lnTo>
                        <a:pt x="63" y="75"/>
                      </a:lnTo>
                      <a:lnTo>
                        <a:pt x="74" y="42"/>
                      </a:lnTo>
                      <a:lnTo>
                        <a:pt x="111" y="18"/>
                      </a:lnTo>
                      <a:lnTo>
                        <a:pt x="148" y="0"/>
                      </a:lnTo>
                      <a:lnTo>
                        <a:pt x="180" y="0"/>
                      </a:lnTo>
                      <a:lnTo>
                        <a:pt x="211" y="11"/>
                      </a:lnTo>
                      <a:lnTo>
                        <a:pt x="232" y="42"/>
                      </a:lnTo>
                      <a:lnTo>
                        <a:pt x="243" y="64"/>
                      </a:lnTo>
                      <a:lnTo>
                        <a:pt x="274" y="95"/>
                      </a:lnTo>
                      <a:lnTo>
                        <a:pt x="295" y="127"/>
                      </a:lnTo>
                      <a:lnTo>
                        <a:pt x="327" y="158"/>
                      </a:lnTo>
                      <a:lnTo>
                        <a:pt x="337" y="190"/>
                      </a:lnTo>
                      <a:lnTo>
                        <a:pt x="337" y="221"/>
                      </a:lnTo>
                      <a:lnTo>
                        <a:pt x="327" y="243"/>
                      </a:lnTo>
                      <a:lnTo>
                        <a:pt x="316" y="274"/>
                      </a:lnTo>
                      <a:lnTo>
                        <a:pt x="295" y="306"/>
                      </a:lnTo>
                      <a:lnTo>
                        <a:pt x="274" y="337"/>
                      </a:lnTo>
                      <a:lnTo>
                        <a:pt x="243" y="358"/>
                      </a:lnTo>
                      <a:lnTo>
                        <a:pt x="232" y="390"/>
                      </a:lnTo>
                      <a:lnTo>
                        <a:pt x="211" y="421"/>
                      </a:lnTo>
                      <a:lnTo>
                        <a:pt x="190" y="443"/>
                      </a:lnTo>
                      <a:lnTo>
                        <a:pt x="180" y="485"/>
                      </a:lnTo>
                      <a:lnTo>
                        <a:pt x="169" y="516"/>
                      </a:lnTo>
                      <a:lnTo>
                        <a:pt x="158" y="548"/>
                      </a:lnTo>
                      <a:lnTo>
                        <a:pt x="137" y="579"/>
                      </a:lnTo>
                      <a:lnTo>
                        <a:pt x="95" y="611"/>
                      </a:lnTo>
                      <a:lnTo>
                        <a:pt x="64" y="632"/>
                      </a:lnTo>
                      <a:lnTo>
                        <a:pt x="32" y="622"/>
                      </a:lnTo>
                      <a:lnTo>
                        <a:pt x="11" y="600"/>
                      </a:lnTo>
                      <a:lnTo>
                        <a:pt x="0" y="588"/>
                      </a:lnTo>
                      <a:lnTo>
                        <a:pt x="0" y="555"/>
                      </a:lnTo>
                      <a:lnTo>
                        <a:pt x="3" y="519"/>
                      </a:lnTo>
                      <a:lnTo>
                        <a:pt x="15" y="483"/>
                      </a:lnTo>
                      <a:lnTo>
                        <a:pt x="24" y="450"/>
                      </a:lnTo>
                      <a:lnTo>
                        <a:pt x="66" y="408"/>
                      </a:lnTo>
                      <a:lnTo>
                        <a:pt x="90" y="369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7" name="Oval 6"/>
                <p:cNvSpPr/>
                <p:nvPr/>
              </p:nvSpPr>
              <p:spPr>
                <a:xfrm rot="705000">
                  <a:off x="8577360" y="5331960"/>
                  <a:ext cx="158760" cy="311400"/>
                </a:xfrm>
                <a:prstGeom prst="ellipse">
                  <a:avLst/>
                </a:pr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8" name="Freeform 7"/>
                <p:cNvSpPr/>
                <p:nvPr/>
              </p:nvSpPr>
              <p:spPr>
                <a:xfrm>
                  <a:off x="8753400" y="5448240"/>
                  <a:ext cx="85680" cy="214200"/>
                </a:xfrm>
                <a:custGeom>
                  <a:avLst/>
                  <a:gdLst/>
                  <a:ahLst/>
                  <a:rect l="l" t="t" r="r" b="b"/>
                  <a:pathLst>
                    <a:path w="54" h="135">
                      <a:moveTo>
                        <a:pt x="6" y="11"/>
                      </a:moveTo>
                      <a:lnTo>
                        <a:pt x="3" y="37"/>
                      </a:lnTo>
                      <a:lnTo>
                        <a:pt x="0" y="63"/>
                      </a:lnTo>
                      <a:lnTo>
                        <a:pt x="0" y="86"/>
                      </a:lnTo>
                      <a:lnTo>
                        <a:pt x="6" y="108"/>
                      </a:lnTo>
                      <a:lnTo>
                        <a:pt x="26" y="134"/>
                      </a:lnTo>
                      <a:lnTo>
                        <a:pt x="45" y="115"/>
                      </a:lnTo>
                      <a:lnTo>
                        <a:pt x="53" y="67"/>
                      </a:lnTo>
                      <a:lnTo>
                        <a:pt x="50" y="40"/>
                      </a:lnTo>
                      <a:lnTo>
                        <a:pt x="42" y="18"/>
                      </a:lnTo>
                      <a:lnTo>
                        <a:pt x="20" y="0"/>
                      </a:lnTo>
                      <a:lnTo>
                        <a:pt x="6" y="11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9" name="Freeform 8"/>
                <p:cNvSpPr/>
                <p:nvPr/>
              </p:nvSpPr>
              <p:spPr>
                <a:xfrm>
                  <a:off x="8829720" y="5565600"/>
                  <a:ext cx="92160" cy="169920"/>
                </a:xfrm>
                <a:custGeom>
                  <a:avLst/>
                  <a:gdLst/>
                  <a:ahLst/>
                  <a:rect l="l" t="t" r="r" b="b"/>
                  <a:pathLst>
                    <a:path w="58" h="107">
                      <a:moveTo>
                        <a:pt x="19" y="6"/>
                      </a:moveTo>
                      <a:lnTo>
                        <a:pt x="11" y="26"/>
                      </a:lnTo>
                      <a:lnTo>
                        <a:pt x="4" y="46"/>
                      </a:lnTo>
                      <a:lnTo>
                        <a:pt x="0" y="63"/>
                      </a:lnTo>
                      <a:lnTo>
                        <a:pt x="2" y="82"/>
                      </a:lnTo>
                      <a:lnTo>
                        <a:pt x="18" y="106"/>
                      </a:lnTo>
                      <a:lnTo>
                        <a:pt x="39" y="95"/>
                      </a:lnTo>
                      <a:lnTo>
                        <a:pt x="55" y="60"/>
                      </a:lnTo>
                      <a:lnTo>
                        <a:pt x="57" y="37"/>
                      </a:lnTo>
                      <a:lnTo>
                        <a:pt x="53" y="19"/>
                      </a:lnTo>
                      <a:lnTo>
                        <a:pt x="34" y="0"/>
                      </a:lnTo>
                      <a:lnTo>
                        <a:pt x="19" y="6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0" name="Freeform 9"/>
                <p:cNvSpPr/>
                <p:nvPr/>
              </p:nvSpPr>
              <p:spPr>
                <a:xfrm>
                  <a:off x="8943840" y="5781600"/>
                  <a:ext cx="76320" cy="131760"/>
                </a:xfrm>
                <a:custGeom>
                  <a:avLst/>
                  <a:gdLst/>
                  <a:ahLst/>
                  <a:rect l="l" t="t" r="r" b="b"/>
                  <a:pathLst>
                    <a:path w="48" h="83">
                      <a:moveTo>
                        <a:pt x="15" y="4"/>
                      </a:moveTo>
                      <a:lnTo>
                        <a:pt x="9" y="20"/>
                      </a:lnTo>
                      <a:lnTo>
                        <a:pt x="3" y="35"/>
                      </a:lnTo>
                      <a:lnTo>
                        <a:pt x="0" y="48"/>
                      </a:lnTo>
                      <a:lnTo>
                        <a:pt x="1" y="63"/>
                      </a:lnTo>
                      <a:lnTo>
                        <a:pt x="14" y="82"/>
                      </a:lnTo>
                      <a:lnTo>
                        <a:pt x="32" y="73"/>
                      </a:lnTo>
                      <a:lnTo>
                        <a:pt x="45" y="46"/>
                      </a:lnTo>
                      <a:lnTo>
                        <a:pt x="47" y="28"/>
                      </a:lnTo>
                      <a:lnTo>
                        <a:pt x="43" y="14"/>
                      </a:lnTo>
                      <a:lnTo>
                        <a:pt x="28" y="0"/>
                      </a:lnTo>
                      <a:lnTo>
                        <a:pt x="15" y="4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1" name="Freeform 10"/>
                <p:cNvSpPr/>
                <p:nvPr/>
              </p:nvSpPr>
              <p:spPr>
                <a:xfrm>
                  <a:off x="8888400" y="5683320"/>
                  <a:ext cx="88920" cy="147600"/>
                </a:xfrm>
                <a:custGeom>
                  <a:avLst/>
                  <a:gdLst/>
                  <a:ahLst/>
                  <a:rect l="l" t="t" r="r" b="b"/>
                  <a:pathLst>
                    <a:path w="56" h="93">
                      <a:moveTo>
                        <a:pt x="18" y="5"/>
                      </a:moveTo>
                      <a:lnTo>
                        <a:pt x="10" y="22"/>
                      </a:lnTo>
                      <a:lnTo>
                        <a:pt x="3" y="39"/>
                      </a:lnTo>
                      <a:lnTo>
                        <a:pt x="0" y="54"/>
                      </a:lnTo>
                      <a:lnTo>
                        <a:pt x="1" y="71"/>
                      </a:lnTo>
                      <a:lnTo>
                        <a:pt x="17" y="92"/>
                      </a:lnTo>
                      <a:lnTo>
                        <a:pt x="37" y="82"/>
                      </a:lnTo>
                      <a:lnTo>
                        <a:pt x="53" y="52"/>
                      </a:lnTo>
                      <a:lnTo>
                        <a:pt x="55" y="32"/>
                      </a:lnTo>
                      <a:lnTo>
                        <a:pt x="51" y="16"/>
                      </a:lnTo>
                      <a:lnTo>
                        <a:pt x="32" y="0"/>
                      </a:lnTo>
                      <a:lnTo>
                        <a:pt x="18" y="5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</p:grpSp>
          <p:grpSp>
            <p:nvGrpSpPr>
              <p:cNvPr id="12" name="Group 18"/>
              <p:cNvGrpSpPr/>
              <p:nvPr/>
            </p:nvGrpSpPr>
            <p:grpSpPr>
              <a:xfrm>
                <a:off x="8408880" y="5302080"/>
                <a:ext cx="604800" cy="1347840"/>
                <a:chOff x="8408880" y="5302080"/>
                <a:chExt cx="604800" cy="1347840"/>
              </a:xfrm>
            </p:grpSpPr>
            <p:sp>
              <p:nvSpPr>
                <p:cNvPr id="13" name="Freeform 12"/>
                <p:cNvSpPr/>
                <p:nvPr/>
              </p:nvSpPr>
              <p:spPr>
                <a:xfrm>
                  <a:off x="8408880" y="5645160"/>
                  <a:ext cx="536760" cy="1004760"/>
                </a:xfrm>
                <a:custGeom>
                  <a:avLst/>
                  <a:gdLst/>
                  <a:ahLst/>
                  <a:rect l="l" t="t" r="r" b="b"/>
                  <a:pathLst>
                    <a:path w="338" h="633">
                      <a:moveTo>
                        <a:pt x="90" y="369"/>
                      </a:moveTo>
                      <a:lnTo>
                        <a:pt x="111" y="321"/>
                      </a:lnTo>
                      <a:lnTo>
                        <a:pt x="90" y="240"/>
                      </a:lnTo>
                      <a:lnTo>
                        <a:pt x="64" y="190"/>
                      </a:lnTo>
                      <a:lnTo>
                        <a:pt x="54" y="132"/>
                      </a:lnTo>
                      <a:lnTo>
                        <a:pt x="57" y="96"/>
                      </a:lnTo>
                      <a:lnTo>
                        <a:pt x="63" y="75"/>
                      </a:lnTo>
                      <a:lnTo>
                        <a:pt x="74" y="42"/>
                      </a:lnTo>
                      <a:lnTo>
                        <a:pt x="111" y="18"/>
                      </a:lnTo>
                      <a:lnTo>
                        <a:pt x="148" y="0"/>
                      </a:lnTo>
                      <a:lnTo>
                        <a:pt x="180" y="0"/>
                      </a:lnTo>
                      <a:lnTo>
                        <a:pt x="211" y="11"/>
                      </a:lnTo>
                      <a:lnTo>
                        <a:pt x="232" y="42"/>
                      </a:lnTo>
                      <a:lnTo>
                        <a:pt x="243" y="64"/>
                      </a:lnTo>
                      <a:lnTo>
                        <a:pt x="274" y="95"/>
                      </a:lnTo>
                      <a:lnTo>
                        <a:pt x="295" y="127"/>
                      </a:lnTo>
                      <a:lnTo>
                        <a:pt x="327" y="158"/>
                      </a:lnTo>
                      <a:lnTo>
                        <a:pt x="337" y="190"/>
                      </a:lnTo>
                      <a:lnTo>
                        <a:pt x="337" y="221"/>
                      </a:lnTo>
                      <a:lnTo>
                        <a:pt x="327" y="243"/>
                      </a:lnTo>
                      <a:lnTo>
                        <a:pt x="316" y="274"/>
                      </a:lnTo>
                      <a:lnTo>
                        <a:pt x="295" y="306"/>
                      </a:lnTo>
                      <a:lnTo>
                        <a:pt x="274" y="337"/>
                      </a:lnTo>
                      <a:lnTo>
                        <a:pt x="243" y="358"/>
                      </a:lnTo>
                      <a:lnTo>
                        <a:pt x="232" y="390"/>
                      </a:lnTo>
                      <a:lnTo>
                        <a:pt x="211" y="421"/>
                      </a:lnTo>
                      <a:lnTo>
                        <a:pt x="190" y="443"/>
                      </a:lnTo>
                      <a:lnTo>
                        <a:pt x="180" y="485"/>
                      </a:lnTo>
                      <a:lnTo>
                        <a:pt x="169" y="516"/>
                      </a:lnTo>
                      <a:lnTo>
                        <a:pt x="158" y="548"/>
                      </a:lnTo>
                      <a:lnTo>
                        <a:pt x="137" y="579"/>
                      </a:lnTo>
                      <a:lnTo>
                        <a:pt x="95" y="611"/>
                      </a:lnTo>
                      <a:lnTo>
                        <a:pt x="64" y="632"/>
                      </a:lnTo>
                      <a:lnTo>
                        <a:pt x="32" y="622"/>
                      </a:lnTo>
                      <a:lnTo>
                        <a:pt x="11" y="600"/>
                      </a:lnTo>
                      <a:lnTo>
                        <a:pt x="0" y="588"/>
                      </a:lnTo>
                      <a:lnTo>
                        <a:pt x="0" y="555"/>
                      </a:lnTo>
                      <a:lnTo>
                        <a:pt x="3" y="519"/>
                      </a:lnTo>
                      <a:lnTo>
                        <a:pt x="15" y="483"/>
                      </a:lnTo>
                      <a:lnTo>
                        <a:pt x="24" y="450"/>
                      </a:lnTo>
                      <a:lnTo>
                        <a:pt x="66" y="408"/>
                      </a:lnTo>
                      <a:lnTo>
                        <a:pt x="90" y="369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4" name="Oval 13"/>
                <p:cNvSpPr/>
                <p:nvPr/>
              </p:nvSpPr>
              <p:spPr>
                <a:xfrm rot="705000">
                  <a:off x="8570880" y="5314680"/>
                  <a:ext cx="158760" cy="311040"/>
                </a:xfrm>
                <a:prstGeom prst="ellipse">
                  <a:avLst/>
                </a:pr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5" name="Freeform 14"/>
                <p:cNvSpPr/>
                <p:nvPr/>
              </p:nvSpPr>
              <p:spPr>
                <a:xfrm>
                  <a:off x="8747280" y="5430960"/>
                  <a:ext cx="85680" cy="214200"/>
                </a:xfrm>
                <a:custGeom>
                  <a:avLst/>
                  <a:gdLst/>
                  <a:ahLst/>
                  <a:rect l="l" t="t" r="r" b="b"/>
                  <a:pathLst>
                    <a:path w="54" h="135">
                      <a:moveTo>
                        <a:pt x="6" y="11"/>
                      </a:moveTo>
                      <a:lnTo>
                        <a:pt x="3" y="37"/>
                      </a:lnTo>
                      <a:lnTo>
                        <a:pt x="0" y="63"/>
                      </a:lnTo>
                      <a:lnTo>
                        <a:pt x="0" y="86"/>
                      </a:lnTo>
                      <a:lnTo>
                        <a:pt x="6" y="108"/>
                      </a:lnTo>
                      <a:lnTo>
                        <a:pt x="26" y="134"/>
                      </a:lnTo>
                      <a:lnTo>
                        <a:pt x="45" y="115"/>
                      </a:lnTo>
                      <a:lnTo>
                        <a:pt x="53" y="67"/>
                      </a:lnTo>
                      <a:lnTo>
                        <a:pt x="50" y="40"/>
                      </a:lnTo>
                      <a:lnTo>
                        <a:pt x="42" y="18"/>
                      </a:lnTo>
                      <a:lnTo>
                        <a:pt x="20" y="0"/>
                      </a:lnTo>
                      <a:lnTo>
                        <a:pt x="6" y="11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8823240" y="5548320"/>
                  <a:ext cx="92160" cy="169920"/>
                </a:xfrm>
                <a:custGeom>
                  <a:avLst/>
                  <a:gdLst/>
                  <a:ahLst/>
                  <a:rect l="l" t="t" r="r" b="b"/>
                  <a:pathLst>
                    <a:path w="58" h="107">
                      <a:moveTo>
                        <a:pt x="19" y="6"/>
                      </a:moveTo>
                      <a:lnTo>
                        <a:pt x="11" y="26"/>
                      </a:lnTo>
                      <a:lnTo>
                        <a:pt x="4" y="46"/>
                      </a:lnTo>
                      <a:lnTo>
                        <a:pt x="0" y="63"/>
                      </a:lnTo>
                      <a:lnTo>
                        <a:pt x="2" y="82"/>
                      </a:lnTo>
                      <a:lnTo>
                        <a:pt x="18" y="106"/>
                      </a:lnTo>
                      <a:lnTo>
                        <a:pt x="39" y="95"/>
                      </a:lnTo>
                      <a:lnTo>
                        <a:pt x="55" y="60"/>
                      </a:lnTo>
                      <a:lnTo>
                        <a:pt x="57" y="37"/>
                      </a:lnTo>
                      <a:lnTo>
                        <a:pt x="53" y="19"/>
                      </a:lnTo>
                      <a:lnTo>
                        <a:pt x="34" y="0"/>
                      </a:lnTo>
                      <a:lnTo>
                        <a:pt x="19" y="6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8937720" y="5764320"/>
                  <a:ext cx="75960" cy="131760"/>
                </a:xfrm>
                <a:custGeom>
                  <a:avLst/>
                  <a:gdLst/>
                  <a:ahLst/>
                  <a:rect l="l" t="t" r="r" b="b"/>
                  <a:pathLst>
                    <a:path w="48" h="83">
                      <a:moveTo>
                        <a:pt x="15" y="4"/>
                      </a:moveTo>
                      <a:lnTo>
                        <a:pt x="9" y="20"/>
                      </a:lnTo>
                      <a:lnTo>
                        <a:pt x="3" y="35"/>
                      </a:lnTo>
                      <a:lnTo>
                        <a:pt x="0" y="48"/>
                      </a:lnTo>
                      <a:lnTo>
                        <a:pt x="1" y="63"/>
                      </a:lnTo>
                      <a:lnTo>
                        <a:pt x="14" y="82"/>
                      </a:lnTo>
                      <a:lnTo>
                        <a:pt x="32" y="73"/>
                      </a:lnTo>
                      <a:lnTo>
                        <a:pt x="45" y="46"/>
                      </a:lnTo>
                      <a:lnTo>
                        <a:pt x="47" y="28"/>
                      </a:lnTo>
                      <a:lnTo>
                        <a:pt x="43" y="14"/>
                      </a:lnTo>
                      <a:lnTo>
                        <a:pt x="28" y="0"/>
                      </a:lnTo>
                      <a:lnTo>
                        <a:pt x="15" y="4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8881920" y="5665680"/>
                  <a:ext cx="88920" cy="147600"/>
                </a:xfrm>
                <a:custGeom>
                  <a:avLst/>
                  <a:gdLst/>
                  <a:ahLst/>
                  <a:rect l="l" t="t" r="r" b="b"/>
                  <a:pathLst>
                    <a:path w="56" h="93">
                      <a:moveTo>
                        <a:pt x="18" y="5"/>
                      </a:moveTo>
                      <a:lnTo>
                        <a:pt x="10" y="22"/>
                      </a:lnTo>
                      <a:lnTo>
                        <a:pt x="3" y="39"/>
                      </a:lnTo>
                      <a:lnTo>
                        <a:pt x="0" y="54"/>
                      </a:lnTo>
                      <a:lnTo>
                        <a:pt x="1" y="71"/>
                      </a:lnTo>
                      <a:lnTo>
                        <a:pt x="17" y="92"/>
                      </a:lnTo>
                      <a:lnTo>
                        <a:pt x="37" y="82"/>
                      </a:lnTo>
                      <a:lnTo>
                        <a:pt x="53" y="52"/>
                      </a:lnTo>
                      <a:lnTo>
                        <a:pt x="55" y="32"/>
                      </a:lnTo>
                      <a:lnTo>
                        <a:pt x="51" y="16"/>
                      </a:lnTo>
                      <a:lnTo>
                        <a:pt x="32" y="0"/>
                      </a:lnTo>
                      <a:lnTo>
                        <a:pt x="18" y="5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6188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2900160" y="6232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329160" y="6232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2AF2-C4CB-4643-9946-6C5483EF53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"/>
          <p:cNvGrpSpPr/>
          <p:nvPr/>
        </p:nvGrpSpPr>
        <p:grpSpPr>
          <a:xfrm>
            <a:off x="244440" y="3316320"/>
            <a:ext cx="8305920" cy="150840"/>
            <a:chOff x="244440" y="3316320"/>
            <a:chExt cx="8305920" cy="150840"/>
          </a:xfrm>
        </p:grpSpPr>
        <p:sp>
          <p:nvSpPr>
            <p:cNvPr id="61" name="Freeform 2"/>
            <p:cNvSpPr/>
            <p:nvPr/>
          </p:nvSpPr>
          <p:spPr>
            <a:xfrm>
              <a:off x="244440" y="3332160"/>
              <a:ext cx="8288280" cy="135000"/>
            </a:xfrm>
            <a:custGeom>
              <a:avLst/>
              <a:gdLst/>
              <a:ahLst/>
              <a:rect l="l" t="t" r="r" b="b"/>
              <a:pathLst>
                <a:path w="5221" h="85">
                  <a:moveTo>
                    <a:pt x="0" y="25"/>
                  </a:moveTo>
                  <a:lnTo>
                    <a:pt x="94" y="16"/>
                  </a:lnTo>
                  <a:lnTo>
                    <a:pt x="125" y="8"/>
                  </a:lnTo>
                  <a:lnTo>
                    <a:pt x="167" y="8"/>
                  </a:lnTo>
                  <a:lnTo>
                    <a:pt x="198" y="8"/>
                  </a:lnTo>
                  <a:lnTo>
                    <a:pt x="240" y="8"/>
                  </a:lnTo>
                  <a:lnTo>
                    <a:pt x="324" y="8"/>
                  </a:lnTo>
                  <a:lnTo>
                    <a:pt x="355" y="16"/>
                  </a:lnTo>
                  <a:lnTo>
                    <a:pt x="386" y="16"/>
                  </a:lnTo>
                  <a:lnTo>
                    <a:pt x="428" y="25"/>
                  </a:lnTo>
                  <a:lnTo>
                    <a:pt x="459" y="33"/>
                  </a:lnTo>
                  <a:lnTo>
                    <a:pt x="491" y="33"/>
                  </a:lnTo>
                  <a:lnTo>
                    <a:pt x="574" y="33"/>
                  </a:lnTo>
                  <a:lnTo>
                    <a:pt x="616" y="33"/>
                  </a:lnTo>
                  <a:lnTo>
                    <a:pt x="657" y="33"/>
                  </a:lnTo>
                  <a:lnTo>
                    <a:pt x="731" y="33"/>
                  </a:lnTo>
                  <a:lnTo>
                    <a:pt x="793" y="33"/>
                  </a:lnTo>
                  <a:lnTo>
                    <a:pt x="856" y="33"/>
                  </a:lnTo>
                  <a:lnTo>
                    <a:pt x="918" y="33"/>
                  </a:lnTo>
                  <a:lnTo>
                    <a:pt x="950" y="33"/>
                  </a:lnTo>
                  <a:lnTo>
                    <a:pt x="1023" y="25"/>
                  </a:lnTo>
                  <a:lnTo>
                    <a:pt x="1065" y="16"/>
                  </a:lnTo>
                  <a:lnTo>
                    <a:pt x="1107" y="0"/>
                  </a:lnTo>
                  <a:lnTo>
                    <a:pt x="1137" y="0"/>
                  </a:lnTo>
                  <a:lnTo>
                    <a:pt x="1169" y="0"/>
                  </a:lnTo>
                  <a:lnTo>
                    <a:pt x="1232" y="0"/>
                  </a:lnTo>
                  <a:lnTo>
                    <a:pt x="1273" y="8"/>
                  </a:lnTo>
                  <a:lnTo>
                    <a:pt x="1336" y="8"/>
                  </a:lnTo>
                  <a:lnTo>
                    <a:pt x="1398" y="8"/>
                  </a:lnTo>
                  <a:lnTo>
                    <a:pt x="1420" y="16"/>
                  </a:lnTo>
                  <a:lnTo>
                    <a:pt x="1483" y="16"/>
                  </a:lnTo>
                  <a:lnTo>
                    <a:pt x="1545" y="25"/>
                  </a:lnTo>
                  <a:lnTo>
                    <a:pt x="1608" y="25"/>
                  </a:lnTo>
                  <a:lnTo>
                    <a:pt x="1649" y="25"/>
                  </a:lnTo>
                  <a:lnTo>
                    <a:pt x="1691" y="25"/>
                  </a:lnTo>
                  <a:lnTo>
                    <a:pt x="1733" y="25"/>
                  </a:lnTo>
                  <a:lnTo>
                    <a:pt x="1774" y="25"/>
                  </a:lnTo>
                  <a:lnTo>
                    <a:pt x="1816" y="16"/>
                  </a:lnTo>
                  <a:lnTo>
                    <a:pt x="1900" y="16"/>
                  </a:lnTo>
                  <a:lnTo>
                    <a:pt x="1984" y="25"/>
                  </a:lnTo>
                  <a:lnTo>
                    <a:pt x="2046" y="25"/>
                  </a:lnTo>
                  <a:lnTo>
                    <a:pt x="2109" y="25"/>
                  </a:lnTo>
                  <a:lnTo>
                    <a:pt x="2171" y="25"/>
                  </a:lnTo>
                  <a:lnTo>
                    <a:pt x="2234" y="25"/>
                  </a:lnTo>
                  <a:lnTo>
                    <a:pt x="2265" y="25"/>
                  </a:lnTo>
                  <a:lnTo>
                    <a:pt x="2307" y="25"/>
                  </a:lnTo>
                  <a:lnTo>
                    <a:pt x="2390" y="25"/>
                  </a:lnTo>
                  <a:lnTo>
                    <a:pt x="2464" y="25"/>
                  </a:lnTo>
                  <a:lnTo>
                    <a:pt x="2505" y="25"/>
                  </a:lnTo>
                  <a:lnTo>
                    <a:pt x="2547" y="25"/>
                  </a:lnTo>
                  <a:lnTo>
                    <a:pt x="2589" y="25"/>
                  </a:lnTo>
                  <a:lnTo>
                    <a:pt x="2651" y="25"/>
                  </a:lnTo>
                  <a:lnTo>
                    <a:pt x="2693" y="25"/>
                  </a:lnTo>
                  <a:lnTo>
                    <a:pt x="2725" y="25"/>
                  </a:lnTo>
                  <a:lnTo>
                    <a:pt x="2756" y="25"/>
                  </a:lnTo>
                  <a:lnTo>
                    <a:pt x="2819" y="25"/>
                  </a:lnTo>
                  <a:lnTo>
                    <a:pt x="2881" y="25"/>
                  </a:lnTo>
                  <a:lnTo>
                    <a:pt x="2965" y="25"/>
                  </a:lnTo>
                  <a:lnTo>
                    <a:pt x="3006" y="33"/>
                  </a:lnTo>
                  <a:lnTo>
                    <a:pt x="3038" y="33"/>
                  </a:lnTo>
                  <a:lnTo>
                    <a:pt x="3069" y="33"/>
                  </a:lnTo>
                  <a:lnTo>
                    <a:pt x="3101" y="59"/>
                  </a:lnTo>
                  <a:lnTo>
                    <a:pt x="3131" y="84"/>
                  </a:lnTo>
                  <a:lnTo>
                    <a:pt x="3152" y="59"/>
                  </a:lnTo>
                  <a:lnTo>
                    <a:pt x="3216" y="67"/>
                  </a:lnTo>
                  <a:lnTo>
                    <a:pt x="3246" y="67"/>
                  </a:lnTo>
                  <a:lnTo>
                    <a:pt x="3288" y="59"/>
                  </a:lnTo>
                  <a:lnTo>
                    <a:pt x="3320" y="50"/>
                  </a:lnTo>
                  <a:lnTo>
                    <a:pt x="3351" y="50"/>
                  </a:lnTo>
                  <a:lnTo>
                    <a:pt x="3435" y="50"/>
                  </a:lnTo>
                  <a:lnTo>
                    <a:pt x="3539" y="50"/>
                  </a:lnTo>
                  <a:lnTo>
                    <a:pt x="3643" y="50"/>
                  </a:lnTo>
                  <a:lnTo>
                    <a:pt x="3706" y="50"/>
                  </a:lnTo>
                  <a:lnTo>
                    <a:pt x="3768" y="42"/>
                  </a:lnTo>
                  <a:lnTo>
                    <a:pt x="3810" y="33"/>
                  </a:lnTo>
                  <a:lnTo>
                    <a:pt x="3832" y="25"/>
                  </a:lnTo>
                  <a:lnTo>
                    <a:pt x="3862" y="16"/>
                  </a:lnTo>
                  <a:lnTo>
                    <a:pt x="3894" y="8"/>
                  </a:lnTo>
                  <a:lnTo>
                    <a:pt x="3957" y="8"/>
                  </a:lnTo>
                  <a:lnTo>
                    <a:pt x="3987" y="8"/>
                  </a:lnTo>
                  <a:lnTo>
                    <a:pt x="4072" y="8"/>
                  </a:lnTo>
                  <a:lnTo>
                    <a:pt x="4155" y="8"/>
                  </a:lnTo>
                  <a:lnTo>
                    <a:pt x="4186" y="8"/>
                  </a:lnTo>
                  <a:lnTo>
                    <a:pt x="4227" y="8"/>
                  </a:lnTo>
                  <a:lnTo>
                    <a:pt x="4312" y="8"/>
                  </a:lnTo>
                  <a:lnTo>
                    <a:pt x="4374" y="8"/>
                  </a:lnTo>
                  <a:lnTo>
                    <a:pt x="4405" y="25"/>
                  </a:lnTo>
                  <a:lnTo>
                    <a:pt x="4437" y="33"/>
                  </a:lnTo>
                  <a:lnTo>
                    <a:pt x="4478" y="33"/>
                  </a:lnTo>
                  <a:lnTo>
                    <a:pt x="4562" y="33"/>
                  </a:lnTo>
                  <a:lnTo>
                    <a:pt x="4624" y="33"/>
                  </a:lnTo>
                  <a:lnTo>
                    <a:pt x="4687" y="33"/>
                  </a:lnTo>
                  <a:lnTo>
                    <a:pt x="4709" y="33"/>
                  </a:lnTo>
                  <a:lnTo>
                    <a:pt x="4750" y="33"/>
                  </a:lnTo>
                  <a:lnTo>
                    <a:pt x="4792" y="33"/>
                  </a:lnTo>
                  <a:lnTo>
                    <a:pt x="4834" y="33"/>
                  </a:lnTo>
                  <a:lnTo>
                    <a:pt x="4896" y="33"/>
                  </a:lnTo>
                  <a:lnTo>
                    <a:pt x="4928" y="33"/>
                  </a:lnTo>
                  <a:lnTo>
                    <a:pt x="5000" y="33"/>
                  </a:lnTo>
                  <a:lnTo>
                    <a:pt x="5074" y="33"/>
                  </a:lnTo>
                  <a:lnTo>
                    <a:pt x="5147" y="33"/>
                  </a:lnTo>
                  <a:lnTo>
                    <a:pt x="5178" y="33"/>
                  </a:lnTo>
                  <a:lnTo>
                    <a:pt x="5220" y="50"/>
                  </a:lnTo>
                  <a:lnTo>
                    <a:pt x="5199" y="76"/>
                  </a:lnTo>
                  <a:lnTo>
                    <a:pt x="5115" y="76"/>
                  </a:lnTo>
                  <a:lnTo>
                    <a:pt x="5084" y="76"/>
                  </a:lnTo>
                  <a:lnTo>
                    <a:pt x="5000" y="67"/>
                  </a:lnTo>
                  <a:lnTo>
                    <a:pt x="4938" y="67"/>
                  </a:lnTo>
                  <a:lnTo>
                    <a:pt x="4906" y="67"/>
                  </a:lnTo>
                  <a:lnTo>
                    <a:pt x="4864" y="67"/>
                  </a:lnTo>
                  <a:lnTo>
                    <a:pt x="4792" y="67"/>
                  </a:lnTo>
                  <a:lnTo>
                    <a:pt x="4719" y="67"/>
                  </a:lnTo>
                  <a:lnTo>
                    <a:pt x="4687" y="67"/>
                  </a:lnTo>
                  <a:lnTo>
                    <a:pt x="4624" y="67"/>
                  </a:lnTo>
                  <a:lnTo>
                    <a:pt x="4583" y="67"/>
                  </a:lnTo>
                  <a:lnTo>
                    <a:pt x="4499" y="76"/>
                  </a:lnTo>
                  <a:lnTo>
                    <a:pt x="4468" y="84"/>
                  </a:lnTo>
                  <a:lnTo>
                    <a:pt x="4426" y="84"/>
                  </a:lnTo>
                  <a:lnTo>
                    <a:pt x="4395" y="84"/>
                  </a:lnTo>
                  <a:lnTo>
                    <a:pt x="4312" y="84"/>
                  </a:lnTo>
                  <a:lnTo>
                    <a:pt x="4248" y="84"/>
                  </a:lnTo>
                  <a:lnTo>
                    <a:pt x="4218" y="84"/>
                  </a:lnTo>
                  <a:lnTo>
                    <a:pt x="4113" y="76"/>
                  </a:lnTo>
                  <a:lnTo>
                    <a:pt x="4029" y="76"/>
                  </a:lnTo>
                  <a:lnTo>
                    <a:pt x="3946" y="67"/>
                  </a:lnTo>
                  <a:lnTo>
                    <a:pt x="3883" y="59"/>
                  </a:lnTo>
                  <a:lnTo>
                    <a:pt x="3852" y="59"/>
                  </a:lnTo>
                  <a:lnTo>
                    <a:pt x="3821" y="59"/>
                  </a:lnTo>
                  <a:lnTo>
                    <a:pt x="3789" y="59"/>
                  </a:lnTo>
                  <a:lnTo>
                    <a:pt x="3758" y="59"/>
                  </a:lnTo>
                  <a:lnTo>
                    <a:pt x="3675" y="59"/>
                  </a:lnTo>
                  <a:lnTo>
                    <a:pt x="3612" y="59"/>
                  </a:lnTo>
                  <a:lnTo>
                    <a:pt x="3549" y="59"/>
                  </a:lnTo>
                  <a:lnTo>
                    <a:pt x="3518" y="59"/>
                  </a:lnTo>
                  <a:lnTo>
                    <a:pt x="3486" y="76"/>
                  </a:lnTo>
                  <a:lnTo>
                    <a:pt x="3456" y="76"/>
                  </a:lnTo>
                  <a:lnTo>
                    <a:pt x="3393" y="84"/>
                  </a:lnTo>
                  <a:lnTo>
                    <a:pt x="3320" y="84"/>
                  </a:lnTo>
                  <a:lnTo>
                    <a:pt x="3236" y="84"/>
                  </a:lnTo>
                  <a:lnTo>
                    <a:pt x="3205" y="84"/>
                  </a:lnTo>
                  <a:lnTo>
                    <a:pt x="3121" y="84"/>
                  </a:lnTo>
                  <a:lnTo>
                    <a:pt x="3059" y="84"/>
                  </a:lnTo>
                  <a:lnTo>
                    <a:pt x="3027" y="84"/>
                  </a:lnTo>
                  <a:lnTo>
                    <a:pt x="2944" y="76"/>
                  </a:lnTo>
                  <a:lnTo>
                    <a:pt x="2860" y="76"/>
                  </a:lnTo>
                  <a:lnTo>
                    <a:pt x="2798" y="76"/>
                  </a:lnTo>
                  <a:lnTo>
                    <a:pt x="2714" y="76"/>
                  </a:lnTo>
                  <a:lnTo>
                    <a:pt x="2651" y="84"/>
                  </a:lnTo>
                  <a:lnTo>
                    <a:pt x="2589" y="84"/>
                  </a:lnTo>
                  <a:lnTo>
                    <a:pt x="2505" y="84"/>
                  </a:lnTo>
                  <a:lnTo>
                    <a:pt x="2474" y="76"/>
                  </a:lnTo>
                  <a:lnTo>
                    <a:pt x="2432" y="76"/>
                  </a:lnTo>
                  <a:lnTo>
                    <a:pt x="2360" y="76"/>
                  </a:lnTo>
                  <a:lnTo>
                    <a:pt x="2318" y="76"/>
                  </a:lnTo>
                  <a:lnTo>
                    <a:pt x="2254" y="76"/>
                  </a:lnTo>
                  <a:lnTo>
                    <a:pt x="2192" y="76"/>
                  </a:lnTo>
                  <a:lnTo>
                    <a:pt x="2150" y="76"/>
                  </a:lnTo>
                  <a:lnTo>
                    <a:pt x="2088" y="76"/>
                  </a:lnTo>
                  <a:lnTo>
                    <a:pt x="2056" y="67"/>
                  </a:lnTo>
                  <a:lnTo>
                    <a:pt x="2014" y="59"/>
                  </a:lnTo>
                  <a:lnTo>
                    <a:pt x="1973" y="59"/>
                  </a:lnTo>
                  <a:lnTo>
                    <a:pt x="1889" y="59"/>
                  </a:lnTo>
                  <a:lnTo>
                    <a:pt x="1859" y="59"/>
                  </a:lnTo>
                  <a:lnTo>
                    <a:pt x="1837" y="67"/>
                  </a:lnTo>
                  <a:lnTo>
                    <a:pt x="1774" y="76"/>
                  </a:lnTo>
                  <a:lnTo>
                    <a:pt x="1743" y="84"/>
                  </a:lnTo>
                  <a:lnTo>
                    <a:pt x="1660" y="76"/>
                  </a:lnTo>
                  <a:lnTo>
                    <a:pt x="1628" y="76"/>
                  </a:lnTo>
                  <a:lnTo>
                    <a:pt x="1545" y="84"/>
                  </a:lnTo>
                  <a:lnTo>
                    <a:pt x="1513" y="84"/>
                  </a:lnTo>
                  <a:lnTo>
                    <a:pt x="1483" y="84"/>
                  </a:lnTo>
                  <a:lnTo>
                    <a:pt x="1451" y="59"/>
                  </a:lnTo>
                  <a:lnTo>
                    <a:pt x="1409" y="50"/>
                  </a:lnTo>
                  <a:lnTo>
                    <a:pt x="1336" y="50"/>
                  </a:lnTo>
                  <a:lnTo>
                    <a:pt x="1294" y="59"/>
                  </a:lnTo>
                  <a:lnTo>
                    <a:pt x="1211" y="59"/>
                  </a:lnTo>
                  <a:lnTo>
                    <a:pt x="1127" y="67"/>
                  </a:lnTo>
                  <a:lnTo>
                    <a:pt x="1023" y="67"/>
                  </a:lnTo>
                  <a:lnTo>
                    <a:pt x="960" y="67"/>
                  </a:lnTo>
                  <a:lnTo>
                    <a:pt x="876" y="67"/>
                  </a:lnTo>
                  <a:lnTo>
                    <a:pt x="846" y="67"/>
                  </a:lnTo>
                  <a:lnTo>
                    <a:pt x="762" y="76"/>
                  </a:lnTo>
                  <a:lnTo>
                    <a:pt x="699" y="76"/>
                  </a:lnTo>
                  <a:lnTo>
                    <a:pt x="668" y="59"/>
                  </a:lnTo>
                  <a:lnTo>
                    <a:pt x="636" y="42"/>
                  </a:lnTo>
                  <a:lnTo>
                    <a:pt x="606" y="42"/>
                  </a:lnTo>
                  <a:lnTo>
                    <a:pt x="543" y="42"/>
                  </a:lnTo>
                  <a:lnTo>
                    <a:pt x="521" y="42"/>
                  </a:lnTo>
                  <a:lnTo>
                    <a:pt x="491" y="50"/>
                  </a:lnTo>
                  <a:lnTo>
                    <a:pt x="459" y="50"/>
                  </a:lnTo>
                  <a:lnTo>
                    <a:pt x="428" y="50"/>
                  </a:lnTo>
                  <a:lnTo>
                    <a:pt x="324" y="50"/>
                  </a:lnTo>
                  <a:lnTo>
                    <a:pt x="292" y="50"/>
                  </a:lnTo>
                  <a:lnTo>
                    <a:pt x="250" y="50"/>
                  </a:lnTo>
                  <a:lnTo>
                    <a:pt x="219" y="50"/>
                  </a:lnTo>
                  <a:lnTo>
                    <a:pt x="135" y="50"/>
                  </a:lnTo>
                  <a:lnTo>
                    <a:pt x="52" y="50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solidFill>
              <a:srgbClr val="f8f8f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2" name="Freeform 3"/>
            <p:cNvSpPr/>
            <p:nvPr/>
          </p:nvSpPr>
          <p:spPr>
            <a:xfrm>
              <a:off x="262080" y="3316320"/>
              <a:ext cx="8288280" cy="135000"/>
            </a:xfrm>
            <a:custGeom>
              <a:avLst/>
              <a:gdLst/>
              <a:ahLst/>
              <a:rect l="l" t="t" r="r" b="b"/>
              <a:pathLst>
                <a:path w="5221" h="85">
                  <a:moveTo>
                    <a:pt x="0" y="25"/>
                  </a:moveTo>
                  <a:lnTo>
                    <a:pt x="94" y="16"/>
                  </a:lnTo>
                  <a:lnTo>
                    <a:pt x="125" y="8"/>
                  </a:lnTo>
                  <a:lnTo>
                    <a:pt x="167" y="8"/>
                  </a:lnTo>
                  <a:lnTo>
                    <a:pt x="198" y="8"/>
                  </a:lnTo>
                  <a:lnTo>
                    <a:pt x="240" y="8"/>
                  </a:lnTo>
                  <a:lnTo>
                    <a:pt x="324" y="8"/>
                  </a:lnTo>
                  <a:lnTo>
                    <a:pt x="355" y="16"/>
                  </a:lnTo>
                  <a:lnTo>
                    <a:pt x="386" y="16"/>
                  </a:lnTo>
                  <a:lnTo>
                    <a:pt x="428" y="25"/>
                  </a:lnTo>
                  <a:lnTo>
                    <a:pt x="459" y="33"/>
                  </a:lnTo>
                  <a:lnTo>
                    <a:pt x="491" y="33"/>
                  </a:lnTo>
                  <a:lnTo>
                    <a:pt x="574" y="33"/>
                  </a:lnTo>
                  <a:lnTo>
                    <a:pt x="616" y="33"/>
                  </a:lnTo>
                  <a:lnTo>
                    <a:pt x="657" y="33"/>
                  </a:lnTo>
                  <a:lnTo>
                    <a:pt x="731" y="33"/>
                  </a:lnTo>
                  <a:lnTo>
                    <a:pt x="793" y="33"/>
                  </a:lnTo>
                  <a:lnTo>
                    <a:pt x="856" y="33"/>
                  </a:lnTo>
                  <a:lnTo>
                    <a:pt x="918" y="33"/>
                  </a:lnTo>
                  <a:lnTo>
                    <a:pt x="950" y="33"/>
                  </a:lnTo>
                  <a:lnTo>
                    <a:pt x="1023" y="25"/>
                  </a:lnTo>
                  <a:lnTo>
                    <a:pt x="1065" y="16"/>
                  </a:lnTo>
                  <a:lnTo>
                    <a:pt x="1107" y="0"/>
                  </a:lnTo>
                  <a:lnTo>
                    <a:pt x="1137" y="0"/>
                  </a:lnTo>
                  <a:lnTo>
                    <a:pt x="1169" y="0"/>
                  </a:lnTo>
                  <a:lnTo>
                    <a:pt x="1232" y="0"/>
                  </a:lnTo>
                  <a:lnTo>
                    <a:pt x="1273" y="8"/>
                  </a:lnTo>
                  <a:lnTo>
                    <a:pt x="1336" y="8"/>
                  </a:lnTo>
                  <a:lnTo>
                    <a:pt x="1398" y="8"/>
                  </a:lnTo>
                  <a:lnTo>
                    <a:pt x="1420" y="16"/>
                  </a:lnTo>
                  <a:lnTo>
                    <a:pt x="1483" y="16"/>
                  </a:lnTo>
                  <a:lnTo>
                    <a:pt x="1545" y="25"/>
                  </a:lnTo>
                  <a:lnTo>
                    <a:pt x="1608" y="25"/>
                  </a:lnTo>
                  <a:lnTo>
                    <a:pt x="1649" y="25"/>
                  </a:lnTo>
                  <a:lnTo>
                    <a:pt x="1691" y="25"/>
                  </a:lnTo>
                  <a:lnTo>
                    <a:pt x="1733" y="25"/>
                  </a:lnTo>
                  <a:lnTo>
                    <a:pt x="1774" y="25"/>
                  </a:lnTo>
                  <a:lnTo>
                    <a:pt x="1816" y="16"/>
                  </a:lnTo>
                  <a:lnTo>
                    <a:pt x="1900" y="16"/>
                  </a:lnTo>
                  <a:lnTo>
                    <a:pt x="1984" y="25"/>
                  </a:lnTo>
                  <a:lnTo>
                    <a:pt x="2046" y="25"/>
                  </a:lnTo>
                  <a:lnTo>
                    <a:pt x="2109" y="25"/>
                  </a:lnTo>
                  <a:lnTo>
                    <a:pt x="2171" y="25"/>
                  </a:lnTo>
                  <a:lnTo>
                    <a:pt x="2234" y="25"/>
                  </a:lnTo>
                  <a:lnTo>
                    <a:pt x="2265" y="25"/>
                  </a:lnTo>
                  <a:lnTo>
                    <a:pt x="2307" y="25"/>
                  </a:lnTo>
                  <a:lnTo>
                    <a:pt x="2390" y="25"/>
                  </a:lnTo>
                  <a:lnTo>
                    <a:pt x="2464" y="25"/>
                  </a:lnTo>
                  <a:lnTo>
                    <a:pt x="2505" y="25"/>
                  </a:lnTo>
                  <a:lnTo>
                    <a:pt x="2547" y="25"/>
                  </a:lnTo>
                  <a:lnTo>
                    <a:pt x="2589" y="25"/>
                  </a:lnTo>
                  <a:lnTo>
                    <a:pt x="2651" y="25"/>
                  </a:lnTo>
                  <a:lnTo>
                    <a:pt x="2693" y="25"/>
                  </a:lnTo>
                  <a:lnTo>
                    <a:pt x="2725" y="25"/>
                  </a:lnTo>
                  <a:lnTo>
                    <a:pt x="2756" y="25"/>
                  </a:lnTo>
                  <a:lnTo>
                    <a:pt x="2819" y="25"/>
                  </a:lnTo>
                  <a:lnTo>
                    <a:pt x="2881" y="25"/>
                  </a:lnTo>
                  <a:lnTo>
                    <a:pt x="2965" y="25"/>
                  </a:lnTo>
                  <a:lnTo>
                    <a:pt x="3006" y="33"/>
                  </a:lnTo>
                  <a:lnTo>
                    <a:pt x="3038" y="33"/>
                  </a:lnTo>
                  <a:lnTo>
                    <a:pt x="3069" y="33"/>
                  </a:lnTo>
                  <a:lnTo>
                    <a:pt x="3101" y="59"/>
                  </a:lnTo>
                  <a:lnTo>
                    <a:pt x="3131" y="84"/>
                  </a:lnTo>
                  <a:lnTo>
                    <a:pt x="3152" y="59"/>
                  </a:lnTo>
                  <a:lnTo>
                    <a:pt x="3216" y="67"/>
                  </a:lnTo>
                  <a:lnTo>
                    <a:pt x="3246" y="67"/>
                  </a:lnTo>
                  <a:lnTo>
                    <a:pt x="3288" y="59"/>
                  </a:lnTo>
                  <a:lnTo>
                    <a:pt x="3320" y="50"/>
                  </a:lnTo>
                  <a:lnTo>
                    <a:pt x="3351" y="50"/>
                  </a:lnTo>
                  <a:lnTo>
                    <a:pt x="3435" y="50"/>
                  </a:lnTo>
                  <a:lnTo>
                    <a:pt x="3539" y="50"/>
                  </a:lnTo>
                  <a:lnTo>
                    <a:pt x="3643" y="50"/>
                  </a:lnTo>
                  <a:lnTo>
                    <a:pt x="3706" y="50"/>
                  </a:lnTo>
                  <a:lnTo>
                    <a:pt x="3768" y="42"/>
                  </a:lnTo>
                  <a:lnTo>
                    <a:pt x="3810" y="33"/>
                  </a:lnTo>
                  <a:lnTo>
                    <a:pt x="3832" y="25"/>
                  </a:lnTo>
                  <a:lnTo>
                    <a:pt x="3862" y="16"/>
                  </a:lnTo>
                  <a:lnTo>
                    <a:pt x="3894" y="8"/>
                  </a:lnTo>
                  <a:lnTo>
                    <a:pt x="3957" y="8"/>
                  </a:lnTo>
                  <a:lnTo>
                    <a:pt x="3987" y="8"/>
                  </a:lnTo>
                  <a:lnTo>
                    <a:pt x="4072" y="8"/>
                  </a:lnTo>
                  <a:lnTo>
                    <a:pt x="4155" y="8"/>
                  </a:lnTo>
                  <a:lnTo>
                    <a:pt x="4186" y="8"/>
                  </a:lnTo>
                  <a:lnTo>
                    <a:pt x="4227" y="8"/>
                  </a:lnTo>
                  <a:lnTo>
                    <a:pt x="4312" y="8"/>
                  </a:lnTo>
                  <a:lnTo>
                    <a:pt x="4374" y="8"/>
                  </a:lnTo>
                  <a:lnTo>
                    <a:pt x="4405" y="25"/>
                  </a:lnTo>
                  <a:lnTo>
                    <a:pt x="4437" y="33"/>
                  </a:lnTo>
                  <a:lnTo>
                    <a:pt x="4478" y="33"/>
                  </a:lnTo>
                  <a:lnTo>
                    <a:pt x="4562" y="33"/>
                  </a:lnTo>
                  <a:lnTo>
                    <a:pt x="4624" y="33"/>
                  </a:lnTo>
                  <a:lnTo>
                    <a:pt x="4687" y="33"/>
                  </a:lnTo>
                  <a:lnTo>
                    <a:pt x="4709" y="33"/>
                  </a:lnTo>
                  <a:lnTo>
                    <a:pt x="4750" y="33"/>
                  </a:lnTo>
                  <a:lnTo>
                    <a:pt x="4792" y="33"/>
                  </a:lnTo>
                  <a:lnTo>
                    <a:pt x="4834" y="33"/>
                  </a:lnTo>
                  <a:lnTo>
                    <a:pt x="4896" y="33"/>
                  </a:lnTo>
                  <a:lnTo>
                    <a:pt x="4928" y="33"/>
                  </a:lnTo>
                  <a:lnTo>
                    <a:pt x="5000" y="33"/>
                  </a:lnTo>
                  <a:lnTo>
                    <a:pt x="5074" y="33"/>
                  </a:lnTo>
                  <a:lnTo>
                    <a:pt x="5147" y="33"/>
                  </a:lnTo>
                  <a:lnTo>
                    <a:pt x="5178" y="33"/>
                  </a:lnTo>
                  <a:lnTo>
                    <a:pt x="5220" y="50"/>
                  </a:lnTo>
                  <a:lnTo>
                    <a:pt x="5199" y="76"/>
                  </a:lnTo>
                  <a:lnTo>
                    <a:pt x="5115" y="76"/>
                  </a:lnTo>
                  <a:lnTo>
                    <a:pt x="5084" y="76"/>
                  </a:lnTo>
                  <a:lnTo>
                    <a:pt x="5000" y="67"/>
                  </a:lnTo>
                  <a:lnTo>
                    <a:pt x="4938" y="67"/>
                  </a:lnTo>
                  <a:lnTo>
                    <a:pt x="4906" y="67"/>
                  </a:lnTo>
                  <a:lnTo>
                    <a:pt x="4864" y="67"/>
                  </a:lnTo>
                  <a:lnTo>
                    <a:pt x="4792" y="67"/>
                  </a:lnTo>
                  <a:lnTo>
                    <a:pt x="4719" y="67"/>
                  </a:lnTo>
                  <a:lnTo>
                    <a:pt x="4687" y="67"/>
                  </a:lnTo>
                  <a:lnTo>
                    <a:pt x="4624" y="67"/>
                  </a:lnTo>
                  <a:lnTo>
                    <a:pt x="4583" y="67"/>
                  </a:lnTo>
                  <a:lnTo>
                    <a:pt x="4499" y="76"/>
                  </a:lnTo>
                  <a:lnTo>
                    <a:pt x="4468" y="84"/>
                  </a:lnTo>
                  <a:lnTo>
                    <a:pt x="4426" y="84"/>
                  </a:lnTo>
                  <a:lnTo>
                    <a:pt x="4395" y="84"/>
                  </a:lnTo>
                  <a:lnTo>
                    <a:pt x="4312" y="84"/>
                  </a:lnTo>
                  <a:lnTo>
                    <a:pt x="4248" y="84"/>
                  </a:lnTo>
                  <a:lnTo>
                    <a:pt x="4218" y="84"/>
                  </a:lnTo>
                  <a:lnTo>
                    <a:pt x="4113" y="76"/>
                  </a:lnTo>
                  <a:lnTo>
                    <a:pt x="4029" y="76"/>
                  </a:lnTo>
                  <a:lnTo>
                    <a:pt x="3946" y="67"/>
                  </a:lnTo>
                  <a:lnTo>
                    <a:pt x="3883" y="59"/>
                  </a:lnTo>
                  <a:lnTo>
                    <a:pt x="3852" y="59"/>
                  </a:lnTo>
                  <a:lnTo>
                    <a:pt x="3821" y="59"/>
                  </a:lnTo>
                  <a:lnTo>
                    <a:pt x="3789" y="59"/>
                  </a:lnTo>
                  <a:lnTo>
                    <a:pt x="3758" y="59"/>
                  </a:lnTo>
                  <a:lnTo>
                    <a:pt x="3675" y="59"/>
                  </a:lnTo>
                  <a:lnTo>
                    <a:pt x="3612" y="59"/>
                  </a:lnTo>
                  <a:lnTo>
                    <a:pt x="3549" y="59"/>
                  </a:lnTo>
                  <a:lnTo>
                    <a:pt x="3518" y="59"/>
                  </a:lnTo>
                  <a:lnTo>
                    <a:pt x="3486" y="76"/>
                  </a:lnTo>
                  <a:lnTo>
                    <a:pt x="3456" y="76"/>
                  </a:lnTo>
                  <a:lnTo>
                    <a:pt x="3393" y="84"/>
                  </a:lnTo>
                  <a:lnTo>
                    <a:pt x="3320" y="84"/>
                  </a:lnTo>
                  <a:lnTo>
                    <a:pt x="3236" y="84"/>
                  </a:lnTo>
                  <a:lnTo>
                    <a:pt x="3205" y="84"/>
                  </a:lnTo>
                  <a:lnTo>
                    <a:pt x="3121" y="84"/>
                  </a:lnTo>
                  <a:lnTo>
                    <a:pt x="3059" y="84"/>
                  </a:lnTo>
                  <a:lnTo>
                    <a:pt x="3027" y="84"/>
                  </a:lnTo>
                  <a:lnTo>
                    <a:pt x="2944" y="76"/>
                  </a:lnTo>
                  <a:lnTo>
                    <a:pt x="2860" y="76"/>
                  </a:lnTo>
                  <a:lnTo>
                    <a:pt x="2798" y="76"/>
                  </a:lnTo>
                  <a:lnTo>
                    <a:pt x="2714" y="76"/>
                  </a:lnTo>
                  <a:lnTo>
                    <a:pt x="2651" y="84"/>
                  </a:lnTo>
                  <a:lnTo>
                    <a:pt x="2589" y="84"/>
                  </a:lnTo>
                  <a:lnTo>
                    <a:pt x="2505" y="84"/>
                  </a:lnTo>
                  <a:lnTo>
                    <a:pt x="2474" y="76"/>
                  </a:lnTo>
                  <a:lnTo>
                    <a:pt x="2432" y="76"/>
                  </a:lnTo>
                  <a:lnTo>
                    <a:pt x="2360" y="76"/>
                  </a:lnTo>
                  <a:lnTo>
                    <a:pt x="2318" y="76"/>
                  </a:lnTo>
                  <a:lnTo>
                    <a:pt x="2254" y="76"/>
                  </a:lnTo>
                  <a:lnTo>
                    <a:pt x="2192" y="76"/>
                  </a:lnTo>
                  <a:lnTo>
                    <a:pt x="2150" y="76"/>
                  </a:lnTo>
                  <a:lnTo>
                    <a:pt x="2088" y="76"/>
                  </a:lnTo>
                  <a:lnTo>
                    <a:pt x="2056" y="67"/>
                  </a:lnTo>
                  <a:lnTo>
                    <a:pt x="2014" y="59"/>
                  </a:lnTo>
                  <a:lnTo>
                    <a:pt x="1973" y="59"/>
                  </a:lnTo>
                  <a:lnTo>
                    <a:pt x="1889" y="59"/>
                  </a:lnTo>
                  <a:lnTo>
                    <a:pt x="1859" y="59"/>
                  </a:lnTo>
                  <a:lnTo>
                    <a:pt x="1837" y="67"/>
                  </a:lnTo>
                  <a:lnTo>
                    <a:pt x="1774" y="76"/>
                  </a:lnTo>
                  <a:lnTo>
                    <a:pt x="1743" y="84"/>
                  </a:lnTo>
                  <a:lnTo>
                    <a:pt x="1660" y="76"/>
                  </a:lnTo>
                  <a:lnTo>
                    <a:pt x="1628" y="76"/>
                  </a:lnTo>
                  <a:lnTo>
                    <a:pt x="1545" y="84"/>
                  </a:lnTo>
                  <a:lnTo>
                    <a:pt x="1513" y="84"/>
                  </a:lnTo>
                  <a:lnTo>
                    <a:pt x="1483" y="84"/>
                  </a:lnTo>
                  <a:lnTo>
                    <a:pt x="1451" y="59"/>
                  </a:lnTo>
                  <a:lnTo>
                    <a:pt x="1409" y="50"/>
                  </a:lnTo>
                  <a:lnTo>
                    <a:pt x="1336" y="50"/>
                  </a:lnTo>
                  <a:lnTo>
                    <a:pt x="1294" y="59"/>
                  </a:lnTo>
                  <a:lnTo>
                    <a:pt x="1211" y="59"/>
                  </a:lnTo>
                  <a:lnTo>
                    <a:pt x="1127" y="67"/>
                  </a:lnTo>
                  <a:lnTo>
                    <a:pt x="1023" y="67"/>
                  </a:lnTo>
                  <a:lnTo>
                    <a:pt x="960" y="67"/>
                  </a:lnTo>
                  <a:lnTo>
                    <a:pt x="876" y="67"/>
                  </a:lnTo>
                  <a:lnTo>
                    <a:pt x="846" y="67"/>
                  </a:lnTo>
                  <a:lnTo>
                    <a:pt x="762" y="76"/>
                  </a:lnTo>
                  <a:lnTo>
                    <a:pt x="699" y="76"/>
                  </a:lnTo>
                  <a:lnTo>
                    <a:pt x="668" y="59"/>
                  </a:lnTo>
                  <a:lnTo>
                    <a:pt x="636" y="42"/>
                  </a:lnTo>
                  <a:lnTo>
                    <a:pt x="606" y="42"/>
                  </a:lnTo>
                  <a:lnTo>
                    <a:pt x="543" y="42"/>
                  </a:lnTo>
                  <a:lnTo>
                    <a:pt x="521" y="42"/>
                  </a:lnTo>
                  <a:lnTo>
                    <a:pt x="491" y="50"/>
                  </a:lnTo>
                  <a:lnTo>
                    <a:pt x="459" y="50"/>
                  </a:lnTo>
                  <a:lnTo>
                    <a:pt x="428" y="50"/>
                  </a:lnTo>
                  <a:lnTo>
                    <a:pt x="324" y="50"/>
                  </a:lnTo>
                  <a:lnTo>
                    <a:pt x="292" y="50"/>
                  </a:lnTo>
                  <a:lnTo>
                    <a:pt x="250" y="50"/>
                  </a:lnTo>
                  <a:lnTo>
                    <a:pt x="219" y="50"/>
                  </a:lnTo>
                  <a:lnTo>
                    <a:pt x="135" y="50"/>
                  </a:lnTo>
                  <a:lnTo>
                    <a:pt x="52" y="50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solidFill>
              <a:srgbClr val="3939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6188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900160" y="6232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329160" y="6232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4DE9-B0C8-434E-966F-421B9C56CD7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Times New Roman"/>
              </a:rPr>
              <a:t>УСТРОЙСТВО РИМСКОЙ РЕСПУБЛИКИ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65160" y="1571760"/>
            <a:ext cx="432612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Трижды в месяц войско совершало мар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брос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ки на 30 к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оины шли в быстром темпе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: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со скоростью 6,5 и даже 8 км в час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Легионеры учились строить и разбирать военный лагер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547560" y="76320"/>
            <a:ext cx="7772400" cy="5508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3.РИМСКОЕ ВОЙСКО.</a:t>
            </a:r>
            <a:endParaRPr b="0" lang="en-US" sz="36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154" name="Picture 8" descr="6"/>
          <p:cNvPicPr/>
          <p:nvPr/>
        </p:nvPicPr>
        <p:blipFill>
          <a:blip r:embed="rId2"/>
          <a:stretch/>
        </p:blipFill>
        <p:spPr>
          <a:xfrm>
            <a:off x="239760" y="1106640"/>
            <a:ext cx="4325760" cy="519408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8" dur="1" fill="hold"/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412880" y="1114200"/>
            <a:ext cx="4349880" cy="5067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ровинившихся солдат подвергали телесным наказания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Легиону, оказавшему не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овиновение, умень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шали рацион пит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Если же возникали бун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ты,то проводилась де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цимация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казнь по жребию каждого 10-го воин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547560" y="76320"/>
            <a:ext cx="7772400" cy="5508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3.РИМСКОЕ ВОЙСКО.</a:t>
            </a:r>
            <a:endParaRPr b="0" lang="en-US" sz="36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157" name="Picture 8" descr="5"/>
          <p:cNvPicPr/>
          <p:nvPr/>
        </p:nvPicPr>
        <p:blipFill>
          <a:blip r:embed="rId2"/>
          <a:stretch/>
        </p:blipFill>
        <p:spPr>
          <a:xfrm>
            <a:off x="181080" y="1162080"/>
            <a:ext cx="4152960" cy="500220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7" dur="1" fill="hold"/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84240" y="1271160"/>
            <a:ext cx="4375080" cy="465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Там где не было дорог,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оинам приходилось внести весь свой скарб на себ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Ноша воина состояла из оружия, запасов пищи, личных вещей, строи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тельного инструмента и 2 тяжелых колов для строительства лагер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547560" y="76320"/>
            <a:ext cx="7772400" cy="5508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3.РИМСКОЕ ВОЙСКО.</a:t>
            </a:r>
            <a:endParaRPr b="0" lang="en-US" sz="36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160" name="Picture 8" descr="4"/>
          <p:cNvPicPr/>
          <p:nvPr/>
        </p:nvPicPr>
        <p:blipFill>
          <a:blip r:embed="rId2"/>
          <a:stretch/>
        </p:blipFill>
        <p:spPr>
          <a:xfrm>
            <a:off x="169920" y="1987560"/>
            <a:ext cx="4316400" cy="332568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1" dur="1" fill="hold"/>
                                  <p:tgtEl>
                                    <p:spTgt spid="1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27720" y="1641240"/>
            <a:ext cx="4402080" cy="3933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омимо обучения воен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ному искусству, вои-ны изучали ремесло землемера, строителя или каменщика, а так-же учились строить до-роги, сооружать кана-лы и различные зда-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547560" y="76320"/>
            <a:ext cx="7772400" cy="5508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3.РИМСКОЕ ВОЙСКО.</a:t>
            </a:r>
            <a:endParaRPr b="0" lang="en-US" sz="36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163" name="Picture 9" descr="3"/>
          <p:cNvPicPr/>
          <p:nvPr/>
        </p:nvPicPr>
        <p:blipFill>
          <a:blip r:embed="rId2"/>
          <a:stretch/>
        </p:blipFill>
        <p:spPr>
          <a:xfrm>
            <a:off x="165240" y="1305000"/>
            <a:ext cx="4325760" cy="461160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99080" y="1117440"/>
            <a:ext cx="4324320" cy="4956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оины получали жало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вание ок.250 денарие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Треть денег уходила на пищу, которую легио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неры приобретали за свой сч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Еда была простой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: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сыр, бобы, хлеб. Питьем для солдат была вода, или поска -дешевый сорт вин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547560" y="76320"/>
            <a:ext cx="7772400" cy="5508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3.РИМСКОЕ ВОЙСКО.</a:t>
            </a:r>
            <a:endParaRPr b="0" lang="en-US" sz="36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166" name="Picture 9" descr="2"/>
          <p:cNvPicPr/>
          <p:nvPr/>
        </p:nvPicPr>
        <p:blipFill>
          <a:blip r:embed="rId2"/>
          <a:stretch/>
        </p:blipFill>
        <p:spPr>
          <a:xfrm>
            <a:off x="152280" y="1362240"/>
            <a:ext cx="4408560" cy="451800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0" dur="1" fill="hold"/>
                                  <p:tgtEl>
                                    <p:spTgt spid="1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59040" y="939600"/>
            <a:ext cx="4375080" cy="5575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оступая на службу но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обранец получал фор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м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На тело надевалась кольчуга без рукавов, или металлический доспех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На голове кожаный или металлический шле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ооружение состояла из копья, 2-х дротиков, меча и щи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547560" y="76320"/>
            <a:ext cx="7772400" cy="5508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3.РИМСКОЕ ВОЙСКО.</a:t>
            </a:r>
            <a:endParaRPr b="0" lang="en-US" sz="36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169" name="Picture 9" descr="Рисунок11"/>
          <p:cNvPicPr/>
          <p:nvPr/>
        </p:nvPicPr>
        <p:blipFill>
          <a:blip r:embed="rId2"/>
          <a:stretch/>
        </p:blipFill>
        <p:spPr>
          <a:xfrm>
            <a:off x="181080" y="1060560"/>
            <a:ext cx="429552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4" dur="1" fill="hold"/>
                                  <p:tgtEl>
                                    <p:spTgt spid="1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46080" y="1069920"/>
            <a:ext cx="4273560" cy="5114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о время походов леги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ны на ночевки соо-ружали лагер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округ лагеря соору-жался огромный р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алатки устанавлива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лись так,чтобы до них не долетели стрелы противни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Лагерь делился на улицы и кварта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547560" y="76320"/>
            <a:ext cx="7772400" cy="5508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3.РИМСКОЕ ВОЙСКО.</a:t>
            </a:r>
            <a:endParaRPr b="0" lang="en-US" sz="36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172" name="Picture 10" descr="Рисунок12"/>
          <p:cNvPicPr/>
          <p:nvPr/>
        </p:nvPicPr>
        <p:blipFill>
          <a:blip r:embed="rId2"/>
          <a:stretch/>
        </p:blipFill>
        <p:spPr>
          <a:xfrm>
            <a:off x="274680" y="1015920"/>
            <a:ext cx="4024440" cy="52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8" dur="1" fill="hold"/>
                                  <p:tgtEl>
                                    <p:spTgt spid="17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ПЛАН УРОКА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0720" y="2066400"/>
            <a:ext cx="7772400" cy="34959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1.УРАВНЕНИЕ ПЛЕБЕЕВ И ПАТРИ-ЦИЕВ В ПРАВА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2.СЕНАТ И ЕГО РОЛЬ В РИМ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3.РИМСКОЕ ВОЙСК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1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5"/>
          <p:cNvSpPr/>
          <p:nvPr/>
        </p:nvSpPr>
        <p:spPr>
          <a:xfrm>
            <a:off x="363600" y="57240"/>
            <a:ext cx="8570880" cy="458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</a:rPr>
              <a:t>1</a:t>
            </a:r>
            <a:r>
              <a:rPr b="1" lang="ru-RU" sz="3200" spc="-1" strike="noStrike" u="sng">
                <a:solidFill>
                  <a:srgbClr val="cc0000"/>
                </a:solidFill>
                <a:uFillTx/>
                <a:latin typeface="Times New Roman"/>
              </a:rPr>
              <a:t>.Уравнение плебеев и патрициев в правах.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108" name="Picture 8" descr="9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333440" y="555480"/>
            <a:ext cx="6723000" cy="476748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5400" y="5395680"/>
            <a:ext cx="8991360" cy="13856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 результате 200-летней борьбы плебеи стали полно-правными гражданами и принимали участие в вы- борах сенаторов, консулов и выработке закон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363600" y="57240"/>
            <a:ext cx="8570880" cy="458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</a:rPr>
              <a:t>1</a:t>
            </a:r>
            <a:r>
              <a:rPr b="1" lang="ru-RU" sz="3200" spc="-1" strike="noStrike" u="sng">
                <a:solidFill>
                  <a:srgbClr val="cc0000"/>
                </a:solidFill>
                <a:uFillTx/>
                <a:latin typeface="Times New Roman"/>
              </a:rPr>
              <a:t>.Уравнение плебеев и патрициев в правах.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111" name="Picture 3" descr="Рисунок13"/>
          <p:cNvPicPr/>
          <p:nvPr/>
        </p:nvPicPr>
        <p:blipFill>
          <a:blip r:embed="rId1"/>
          <a:stretch/>
        </p:blipFill>
        <p:spPr>
          <a:xfrm>
            <a:off x="1322280" y="581040"/>
            <a:ext cx="6723000" cy="482436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5400" y="5414760"/>
            <a:ext cx="8991360" cy="13856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ыборы проводились на Марсовом поле.Избиратели на табличках писали имя избранника.Законы принимались Форуме-главной площади город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231920" y="471600"/>
            <a:ext cx="190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Monotype Corsiva"/>
              </a:rPr>
              <a:t>Форум</a:t>
            </a:r>
            <a:endParaRPr b="0" lang="en-US" sz="4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3" descr="Рисунок1"/>
          <p:cNvPicPr/>
          <p:nvPr/>
        </p:nvPicPr>
        <p:blipFill>
          <a:blip r:embed="rId1"/>
          <a:stretch/>
        </p:blipFill>
        <p:spPr>
          <a:xfrm>
            <a:off x="0" y="1857240"/>
            <a:ext cx="9144000" cy="50007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812520"/>
            <a:ext cx="9144000" cy="990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имом управлял СЕНАТ из 300 человек. Это звание было пожизненны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0" y="812880"/>
            <a:ext cx="9144000" cy="990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аждый год граждане выбирали из сенаторов государственные должностные лица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573120" y="76320"/>
            <a:ext cx="7772400" cy="731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0000"/>
                </a:solidFill>
                <a:uFillTx/>
                <a:latin typeface="Times New Roman"/>
              </a:rPr>
              <a:t>2.СЕНАТ И ЕГО РОЛЬ В РИМЕ.</a:t>
            </a:r>
            <a:endParaRPr b="0" lang="en-US" sz="36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371680" y="1797120"/>
            <a:ext cx="3976560" cy="825480"/>
          </a:xfrm>
          <a:prstGeom prst="rect">
            <a:avLst/>
          </a:prstGeom>
          <a:solidFill>
            <a:srgbClr val="ffffff"/>
          </a:solidFill>
          <a:ln w="7632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8 </a:t>
            </a:r>
            <a:r>
              <a:rPr b="1" lang="ru-RU" sz="2400" spc="-1" strike="noStrike" u="sng">
                <a:solidFill>
                  <a:srgbClr val="393939"/>
                </a:solidFill>
                <a:uFillTx/>
                <a:latin typeface="Times New Roman Cyr"/>
              </a:rPr>
              <a:t>преторов</a:t>
            </a: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 избирались для того, чтобы стать судьями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367920" y="2413080"/>
            <a:ext cx="1960920" cy="1557000"/>
          </a:xfrm>
          <a:prstGeom prst="rect">
            <a:avLst/>
          </a:prstGeom>
          <a:solidFill>
            <a:srgbClr val="ffffff"/>
          </a:solidFill>
          <a:ln w="7632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Управляли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 </a:t>
            </a: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всеми дела-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ми в Сена-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те 2 </a:t>
            </a:r>
            <a:r>
              <a:rPr b="1" lang="ru-RU" sz="2400" spc="-1" strike="noStrike" u="sng">
                <a:solidFill>
                  <a:srgbClr val="393939"/>
                </a:solidFill>
                <a:uFillTx/>
                <a:latin typeface="Times New Roman Cyr"/>
              </a:rPr>
              <a:t>консула</a:t>
            </a: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6377040" y="1822320"/>
            <a:ext cx="2809800" cy="1922760"/>
          </a:xfrm>
          <a:prstGeom prst="rect">
            <a:avLst/>
          </a:prstGeom>
          <a:solidFill>
            <a:srgbClr val="ffffff"/>
          </a:solidFill>
          <a:ln w="7632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4 </a:t>
            </a:r>
            <a:r>
              <a:rPr b="1" lang="ru-RU" sz="2400" spc="-1" strike="noStrike" u="sng">
                <a:solidFill>
                  <a:srgbClr val="393939"/>
                </a:solidFill>
                <a:uFillTx/>
                <a:latin typeface="Times New Roman Cyr"/>
              </a:rPr>
              <a:t>эдила</a:t>
            </a: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 наблю-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дали за поряд-ком на улицах, рынках и устра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ивали зрелища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5135400" y="4294080"/>
            <a:ext cx="3978360" cy="825480"/>
          </a:xfrm>
          <a:prstGeom prst="rect">
            <a:avLst/>
          </a:prstGeom>
          <a:solidFill>
            <a:srgbClr val="ffffff"/>
          </a:solidFill>
          <a:ln w="7632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20 </a:t>
            </a:r>
            <a:r>
              <a:rPr b="1" lang="ru-RU" sz="2400" spc="-1" strike="noStrike" u="sng">
                <a:solidFill>
                  <a:srgbClr val="393939"/>
                </a:solidFill>
                <a:uFillTx/>
                <a:latin typeface="Times New Roman Cyr"/>
              </a:rPr>
              <a:t>квесторов</a:t>
            </a: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 следили 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за состоянием казны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127080" y="4113360"/>
            <a:ext cx="2968560" cy="2654280"/>
          </a:xfrm>
          <a:prstGeom prst="rect">
            <a:avLst/>
          </a:prstGeom>
          <a:solidFill>
            <a:srgbClr val="ffffff"/>
          </a:solidFill>
          <a:ln w="7632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93939"/>
                </a:solidFill>
                <a:uFillTx/>
                <a:latin typeface="Times New Roman Cyr"/>
              </a:rPr>
              <a:t>Цензоры</a:t>
            </a: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-руково-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дили обществен-ными работами, сбором налогов,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заключали госу-дарственные до-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говоры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3748680" y="5584680"/>
            <a:ext cx="4819680" cy="1191240"/>
          </a:xfrm>
          <a:prstGeom prst="rect">
            <a:avLst/>
          </a:prstGeom>
          <a:solidFill>
            <a:srgbClr val="ffffff"/>
          </a:solidFill>
          <a:ln w="7632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При черезвычайных обстоятель- 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ствах назначался диктатор,сро-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ком на 6 месяцев.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846000" y="2955960"/>
            <a:ext cx="178128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2 консула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2674800" y="2106720"/>
            <a:ext cx="210816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8 преторов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095960" y="2879640"/>
            <a:ext cx="156060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4 эдила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719280" y="5634000"/>
            <a:ext cx="167148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2цензора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5713560" y="4475160"/>
            <a:ext cx="227484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20 квесторов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30" name="Text Box 19"/>
          <p:cNvSpPr/>
          <p:nvPr/>
        </p:nvSpPr>
        <p:spPr>
          <a:xfrm>
            <a:off x="4082400" y="5994360"/>
            <a:ext cx="151416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93939"/>
                </a:solidFill>
                <a:latin typeface="Times New Roman Cyr"/>
              </a:rPr>
              <a:t>Диктатор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31" name="Rectangle 20"/>
          <p:cNvSpPr/>
          <p:nvPr/>
        </p:nvSpPr>
        <p:spPr>
          <a:xfrm>
            <a:off x="0" y="812880"/>
            <a:ext cx="9144000" cy="990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енат не перед кем ни отчитывался и не отвечал,       за свои решения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32" name="Rectangle 21"/>
          <p:cNvSpPr/>
          <p:nvPr/>
        </p:nvSpPr>
        <p:spPr>
          <a:xfrm>
            <a:off x="0" y="812880"/>
            <a:ext cx="9144000" cy="990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939"/>
                </a:solidFill>
                <a:latin typeface="Times New Roman"/>
              </a:rPr>
              <a:t>?  Как вы думаете, почему сенаторам были предоставлены такие права</a:t>
            </a:r>
            <a:r>
              <a:rPr b="1" lang="en-US" sz="2800" spc="-1" strike="noStrike">
                <a:solidFill>
                  <a:srgbClr val="393939"/>
                </a:solidFill>
                <a:latin typeface="Times New Roman"/>
              </a:rPr>
              <a:t> ?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1" descr="Рисунок2"/>
          <p:cNvPicPr/>
          <p:nvPr/>
        </p:nvPicPr>
        <p:blipFill>
          <a:blip r:embed="rId1"/>
          <a:stretch/>
        </p:blipFill>
        <p:spPr>
          <a:xfrm>
            <a:off x="171360" y="919080"/>
            <a:ext cx="4313160" cy="57117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13040" y="831600"/>
            <a:ext cx="4530600" cy="60260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Главной боевой единицей была центурия состояв-шая из 80 воин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 контурберний входило 8 воинов - римляне счи-тали, что таким коли-чеством легко управ-ля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Чтобы в подразделение не мог проникнуть враг каждая центурия имела свой пароль менявший- ся каждый день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419040" y="76320"/>
            <a:ext cx="7772400" cy="6807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3.РИМСКОЕ ВОЙСКО.</a:t>
            </a:r>
            <a:endParaRPr b="0" lang="en-US" sz="36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443480" y="25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cc"/>
                </a:solidFill>
                <a:uFillTx/>
                <a:latin typeface="Times New Roman"/>
                <a:hlinkClick r:id="rId3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37" name="Text Box 7"/>
          <p:cNvSpPr/>
          <p:nvPr/>
        </p:nvSpPr>
        <p:spPr>
          <a:xfrm rot="3001800">
            <a:off x="-186120" y="5263560"/>
            <a:ext cx="260676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 Cyr"/>
              </a:rPr>
              <a:t>КОНТУБЕРНИЙ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38" name="Text Box 8"/>
          <p:cNvSpPr/>
          <p:nvPr/>
        </p:nvSpPr>
        <p:spPr>
          <a:xfrm rot="18717000">
            <a:off x="-129600" y="1569600"/>
            <a:ext cx="192888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 Cyr"/>
              </a:rPr>
              <a:t>ЦЕНТУРИЯ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1091160" y="2390760"/>
            <a:ext cx="2346480" cy="1557000"/>
          </a:xfrm>
          <a:prstGeom prst="rect">
            <a:avLst/>
          </a:prstGeom>
          <a:solidFill>
            <a:srgbClr val="ffffff"/>
          </a:solidFill>
          <a:ln w="7632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 Cyr"/>
              </a:rPr>
              <a:t>ЦЕНТУРИЯ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 Cyr"/>
              </a:rPr>
              <a:t>СОСТОЯЛА 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 Cyr"/>
              </a:rPr>
              <a:t>ИЗ 10 КОНТУР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 Cyr"/>
              </a:rPr>
              <a:t>БЕРНИЕВ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6" dur="1" fill="hold"/>
                                  <p:tgtEl>
                                    <p:spTgt spid="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2" descr="Рисунок3"/>
          <p:cNvPicPr/>
          <p:nvPr/>
        </p:nvPicPr>
        <p:blipFill>
          <a:blip r:embed="rId1"/>
          <a:stretch/>
        </p:blipFill>
        <p:spPr>
          <a:xfrm>
            <a:off x="144360" y="1384200"/>
            <a:ext cx="4865760" cy="40672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024520" y="782280"/>
            <a:ext cx="4068720" cy="5948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Центурии объединя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лись в когорт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10 когорт  составляли легион.Его числен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ность не превыша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ла 5000 челове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я когорта  в каждом легионе имела боль-шую численность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чем остальные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~800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оинов.Среди них были гонцы,писари, повар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547560" y="76320"/>
            <a:ext cx="7772400" cy="5508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3.РИМСКОЕ ВОЙСКО.</a:t>
            </a:r>
            <a:endParaRPr b="0" lang="en-US" sz="36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43" name="Text Box 7"/>
          <p:cNvSpPr/>
          <p:nvPr/>
        </p:nvSpPr>
        <p:spPr>
          <a:xfrm rot="3543600">
            <a:off x="3267720" y="1168200"/>
            <a:ext cx="154152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горта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44" name="Text Box 9"/>
          <p:cNvSpPr/>
          <p:nvPr/>
        </p:nvSpPr>
        <p:spPr>
          <a:xfrm rot="19952400">
            <a:off x="1184400" y="1878840"/>
            <a:ext cx="151740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 Cyr"/>
              </a:rPr>
              <a:t>ЛЕГИОН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1207800" y="5170320"/>
            <a:ext cx="222912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Times New Roman Cyr"/>
              </a:rPr>
              <a:t>1-Я КОГОРТА</a:t>
            </a: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5" dur="1" fill="hold"/>
                                  <p:tgtEl>
                                    <p:spTgt spid="1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03680" y="1855800"/>
            <a:ext cx="4402080" cy="3674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оступая на службу в ар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мию, новобранец давал клятву вер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режде это было обеща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ние исполнять прика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зы своих команди-ов, затем-клятва верности император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47560" y="76320"/>
            <a:ext cx="7772400" cy="5508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3.РИМСКОЕ ВОЙСКО</a:t>
            </a:r>
            <a:endParaRPr b="0" lang="en-US" sz="36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148" name="Picture 11" descr="8"/>
          <p:cNvPicPr/>
          <p:nvPr/>
        </p:nvPicPr>
        <p:blipFill>
          <a:blip r:embed="rId2"/>
          <a:stretch/>
        </p:blipFill>
        <p:spPr>
          <a:xfrm>
            <a:off x="225360" y="1251000"/>
            <a:ext cx="4284720" cy="488772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9" dur="1" fill="hold"/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9393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22400" y="2017800"/>
            <a:ext cx="4375080" cy="32875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оенная подготовка была очень тяжелой. Каждый день все вои-ны легиона трениро-вались в плавании, бе-ге, прыжках, метании дротика и фехтован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547560" y="76320"/>
            <a:ext cx="7772400" cy="5508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3.РИМСКОЕ ВОЙСКО.</a:t>
            </a:r>
            <a:endParaRPr b="0" lang="en-US" sz="36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151" name="Picture 9" descr="7"/>
          <p:cNvPicPr/>
          <p:nvPr/>
        </p:nvPicPr>
        <p:blipFill>
          <a:blip r:embed="rId2"/>
          <a:stretch/>
        </p:blipFill>
        <p:spPr>
          <a:xfrm>
            <a:off x="289080" y="1049400"/>
            <a:ext cx="4267080" cy="526716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2T13:01:16Z</dcterms:created>
  <dc:creator>ЧЕРНОВ АЛЕКСЕЙ</dc:creator>
  <dc:description/>
  <dc:language>en-US</dc:language>
  <cp:lastModifiedBy>1</cp:lastModifiedBy>
  <dcterms:modified xsi:type="dcterms:W3CDTF">2012-10-15T08:56:32Z</dcterms:modified>
  <cp:revision>33</cp:revision>
  <dc:subject/>
  <dc:title>Заголовок слайда отсутствует</dc:title>
</cp:coreProperties>
</file>