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4BE-9FAB-4354-94B9-D9DC1CE9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DFA-46D3-443C-9F18-D563866F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012-5482-465B-A6A0-88FA133F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CA2-C85D-445D-A371-1102664E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725E-4FC8-435C-99BA-9B518097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31C8-CCED-4C14-ACE0-D40577CA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7752-3C98-4827-8DE5-8968FFF1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2303-1E57-4B9D-BCE4-C0586DA0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31CB-62FA-493E-8EC6-CE813AE1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78B0-F3F1-4424-81CF-5D811CD3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7E87-E485-4B8D-98F5-79A49B10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B91-928E-4553-AD3E-C5E2795B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DF44-B7D3-4333-9C2B-EB9521B3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6A0F-A087-4D24-B176-911373D5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1E2B-AE68-4A4B-A6BE-D9B389B6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95EC-818A-4A8E-BD7D-1C881F00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842D-5A00-4A5F-9906-89E02F0D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18E9-1895-4DD7-9AD3-E9AEEAFD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B7B-EF91-47E9-8512-FA392B47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058-657B-47A7-AEED-0587FD6D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278-B607-40E3-81C4-C1E14865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303D-6C68-4550-893D-6665750F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7D8-20E9-4CCC-8A18-24947731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1A0-BE04-42D7-9193-341A54E2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5D24-6ACB-4686-B76D-8C357BA8FB4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F816-CC55-4FC3-BBCC-5FD08BF0830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ochi2014.com/games/places/objects/sea/hockey_big/#hockey_big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416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Times New Roman"/>
              </a:rPr>
              <a:t>Викторина</a:t>
            </a:r>
            <a:br>
              <a:rPr sz="4800"/>
            </a:br>
            <a:r>
              <a:rPr b="1" lang="en-US" sz="4800" spc="-1" strike="noStrike">
                <a:solidFill>
                  <a:srgbClr val="b9efee"/>
                </a:solidFill>
                <a:latin typeface="Times New Roman"/>
              </a:rPr>
              <a:t>«Олимпиада в Сочи- обратный отсчет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18920" y="386028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готовлен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наховой Мариной Александровн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ителем английского языка МОБУ СОШ № 1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.Соч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Какие виды спорта не входят в состав зимних олимпийских игр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скелет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шорт-тр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хоккей с мяч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Times New Roman"/>
              </a:rPr>
              <a:t>29 октября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Times New Roman"/>
              </a:rPr>
              <a:t>в олимпийском календаре это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: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100 дней до начал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ралимпийских игр в Соч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0 дней до нача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лимпийских игр в Соч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100 дне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 конца све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Times New Roman"/>
              </a:rPr>
              <a:t>Олимпийские часы в Сочи и других городах Росси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774520"/>
            <a:ext cx="822960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производят прямой отсчет до начала игр 20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установлены для красо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роизводят обратный отсчет до начала игр 20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91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 7 февраля 2014 года в 00 часов 00 мин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 февраля 2014 года в 12 часов 00 мин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 февраля 2014 года в 20 часов 14 мин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20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Зимние Олимпийские игры в Сочи стартуют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158760"/>
            <a:ext cx="764388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4400" y="3066840"/>
            <a:ext cx="75024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)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.  Winter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You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)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Hot. Cool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)   Warm . Winter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You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476280"/>
            <a:ext cx="75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Times New Roman"/>
              </a:rPr>
              <a:t>Слоган предстоящих соревнований: </a:t>
            </a:r>
            <a:br>
              <a:rPr sz="3200"/>
            </a:br>
            <a:r>
              <a:rPr b="0" i="1" lang="ru-RU" sz="3200" spc="-1" strike="noStrike">
                <a:solidFill>
                  <a:srgbClr val="b9efee"/>
                </a:solidFill>
                <a:latin typeface="Times New Roman"/>
              </a:rPr>
              <a:t>«Жаркие. Зимние. Твои»</a:t>
            </a:r>
            <a:r>
              <a:rPr b="0" lang="ru-RU" sz="3200" spc="-1" strike="noStrike">
                <a:solidFill>
                  <a:srgbClr val="b9efee"/>
                </a:solidFill>
                <a:latin typeface="Times New Roman"/>
              </a:rPr>
              <a:t> на </a:t>
            </a:r>
            <a:r>
              <a:rPr b="0" lang="ru-RU" sz="3200" spc="-1" strike="noStrike" u="sng">
                <a:solidFill>
                  <a:srgbClr val="00ff99"/>
                </a:solidFill>
                <a:uFillTx/>
                <a:latin typeface="Times New Roman"/>
                <a:hlinkClick r:id="rId2"/>
              </a:rPr>
              <a:t>английском языке</a:t>
            </a:r>
            <a:r>
              <a:rPr b="0" lang="ru-RU" sz="3200" spc="-1" strike="noStrike">
                <a:solidFill>
                  <a:srgbClr val="b9efee"/>
                </a:solidFill>
                <a:latin typeface="Times New Roman"/>
              </a:rPr>
              <a:t> звучит следующим образ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Какие спортивные объекты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не входят в состав Прибрежного кластер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Комплекс для прыжков с трамплинов «Русские Горк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ru-RU" sz="3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Большой ледовый дворец «Большой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Адлер-Арен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Какие спортивные объекты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не входят в состав 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Горного кластера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Комплекс для соревнований по лыжным гонкам и биатлону «Лау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кстрим-парк «Роза Хутор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ерлинговый центр «Ледяной куб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Эстафета Олимпийского огня началась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а) 7 феврал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7 март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7 октябр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Где не побывал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«Олимпийский огонь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а) под вод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)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д земле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)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в космос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14:35:32Z</dcterms:created>
  <dc:creator>www.PHILka.RU</dc:creator>
  <dc:description/>
  <dc:language>en-US</dc:language>
  <cp:lastModifiedBy>www.PHILka.RU</cp:lastModifiedBy>
  <dcterms:modified xsi:type="dcterms:W3CDTF">2013-10-29T16:39:09Z</dcterms:modified>
  <cp:revision>3</cp:revision>
  <dc:subject/>
  <dc:title>Викторина обратный отсчет</dc:title>
</cp:coreProperties>
</file>