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BD4-0425-4BBC-87E4-15493A41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6E8-D0D3-41C1-A6D8-EC03D11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913-6B67-4751-A8C3-E001F9D2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640-7051-4FD5-B335-4C75C992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1058-F7C2-4411-8378-BFF43A2A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007B-AB51-4F73-B1F3-893360F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46C-735C-450C-8868-7E8FF0E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CE4-1F18-48BC-87C9-26E033D1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8798-BEB6-4083-AFE4-BF5B23DD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6AF-CB9D-408C-868E-FA37D15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60EE-2389-4E4F-AB04-0AA2F45E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77F-3857-49BE-85EE-918F5F3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62A-A8CA-4CFD-B8E1-F5F64DD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726-310F-4960-B24E-765B10A1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C218-89A0-4EA8-B579-A4E9966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7C9-BAB3-47D5-9579-85FB369F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1632-08D5-4706-9B2F-5DBF27A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610-503D-4E83-8B9B-8AACE01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286-E9F0-466F-B82E-CD82946F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DC2-AC49-422A-8813-7443943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A77-9829-4FB0-93D3-11E82DAA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7E3-FDDD-4DA7-B891-98EF9679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90F-CFE4-4094-B0CA-67E1FFF7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64A-EC31-4E48-8039-0EB62115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DE7F-AAAA-490D-8500-E61F68FE63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8FE-BC85-4103-A58E-A2E5EB2C08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chi2014.com/games/places/objects/sea/hockey_big/#hockey_big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41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Times New Roman"/>
              </a:rPr>
              <a:t>Викторина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Times New Roman"/>
              </a:rPr>
              <a:t>«Олимпиада в Сочи- обратный отсчет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189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ле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наховой Мариной Александров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ем английского языка МОБУ СОШ № 1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Со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акие виды спорта не входят в состав зимних олимпийских игр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келет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шорт-тр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хоккей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29 октября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в олимпийском календаре это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100 дней до нача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алимпийских игр в Соч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0 дней до нач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лимпийских игр в Соч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00 дн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конца св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Олимпийские часы в Сочи и других городах Росс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7452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роизводят прямой отсчет до начала игр 20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установлены для крас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оизводят обратный отсчет до начала игр 20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7 февраля 2014 года в 00 часов 00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февраля 2014 года в 12 часов 00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февраля 2014 года в 20 часов 14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0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имние Олимпийские игры в Сочи стартуют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158760"/>
            <a:ext cx="7643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4400" y="3066840"/>
            <a:ext cx="750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.  Winter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ot. Cool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 Warm . Winter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476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Слоган предстоящих соревнований: </a:t>
            </a:r>
            <a:br>
              <a:rPr sz="3200"/>
            </a:br>
            <a:r>
              <a:rPr b="0" i="1" lang="ru-RU" sz="3200" spc="-1" strike="noStrike">
                <a:solidFill>
                  <a:srgbClr val="b9efee"/>
                </a:solidFill>
                <a:latin typeface="Times New Roman"/>
              </a:rPr>
              <a:t>«Жаркие. Зимние. Твои»</a:t>
            </a: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 на </a:t>
            </a:r>
            <a:r>
              <a:rPr b="0" lang="ru-RU" sz="3200" spc="-1" strike="noStrike" u="sng">
                <a:solidFill>
                  <a:srgbClr val="00ff99"/>
                </a:solidFill>
                <a:uFillTx/>
                <a:latin typeface="Times New Roman"/>
                <a:hlinkClick r:id="rId2"/>
              </a:rPr>
              <a:t>английском языке</a:t>
            </a: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 звучит следующим образ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ие спортивные объекты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е входят в состав Прибрежного кластер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омплекс для прыжков с трамплинов «Русские Гор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Большой ледовый дворец «Большой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Адлер-Арен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ие спортивные объекты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е входят в состав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Горного кластера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омплекс для соревнований по лыжным гонкам и биатлону «Ла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трим-парк «Роза Хутор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рлинговый центр «Ледяной куб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стафета Олимпийского огня началась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) 7 феврал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7 мар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7 октябр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де не побывал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Олимпийский огонь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) под вод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земле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в космо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4:35:32Z</dcterms:created>
  <dc:creator>www.PHILka.RU</dc:creator>
  <dc:description/>
  <dc:language>en-US</dc:language>
  <cp:lastModifiedBy>www.PHILka.RU</cp:lastModifiedBy>
  <dcterms:modified xsi:type="dcterms:W3CDTF">2013-10-29T16:39:09Z</dcterms:modified>
  <cp:revision>3</cp:revision>
  <dc:subject/>
  <dc:title>Викторина обратный отсчет</dc:title>
</cp:coreProperties>
</file>