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08D-6C47-43C5-BA0F-F19FF94D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BE2-9FB3-422E-9D97-D03CAAF8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B8E-8192-465F-A037-381CF444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2BB-DDDA-4662-A204-2660FD39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02B2-88B1-4C55-B69D-02ACBD01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77CC-9745-4E5D-8F07-16AB4766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5A8C-AB38-465F-8B27-3DC6B2D4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EA6D-43CC-46EE-B933-95316B25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5DD6-8F6A-4957-AD1F-B5A36C50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56DF-8312-447E-A4F9-188176DC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8365-C5B6-4885-B754-72C76B8C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BBF-75A3-4CA7-9D16-37297E60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D631-47F2-4FA7-95AC-4EDA8B71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43B2-7DE6-4F73-8F70-2186CE4C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A177-8D5A-4FAE-BF6D-FE1BD7E3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0D40-48EE-4356-8846-BA2E5099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CD65-4F7A-4597-A38B-CF2DD156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1F3-E736-4B90-8DBF-B720768C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33C-2C76-4F95-892D-5EFBB32A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D72-50BF-474A-9F96-011FDD55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8FC-468F-4F89-8B5C-6CA3442A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20E-93E6-49D2-AB36-CD1A722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CD2-4955-45FD-8347-299D798C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D7F-E899-4D18-BEA7-3A248757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189320" y="1971720"/>
            <a:ext cx="5897520" cy="5573160"/>
            <a:chOff x="4189320" y="1971720"/>
            <a:chExt cx="5897520" cy="5573160"/>
          </a:xfrm>
        </p:grpSpPr>
        <p:sp>
          <p:nvSpPr>
            <p:cNvPr id="1" name="Rectangle 3"/>
            <p:cNvSpPr/>
            <p:nvPr/>
          </p:nvSpPr>
          <p:spPr>
            <a:xfrm>
              <a:off x="7402680" y="2387880"/>
              <a:ext cx="344880" cy="180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7523280" y="2073240"/>
              <a:ext cx="82440" cy="820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9109080" y="2615400"/>
              <a:ext cx="10080" cy="3627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524800" y="6138000"/>
              <a:ext cx="115200" cy="1681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9603000" y="2685240"/>
              <a:ext cx="10440" cy="34963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9870840" y="2660400"/>
              <a:ext cx="10080" cy="15465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6026760" y="3176640"/>
              <a:ext cx="8640" cy="3557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824360" y="3186000"/>
              <a:ext cx="10080" cy="3707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5311080" y="3271680"/>
              <a:ext cx="8640" cy="3335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7012440" y="5285880"/>
              <a:ext cx="1090080" cy="272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334000" y="6283080"/>
              <a:ext cx="1743120" cy="2203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376120" y="6377400"/>
              <a:ext cx="1701000" cy="428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407440" y="6283080"/>
              <a:ext cx="1669680" cy="1573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352840" y="2695680"/>
              <a:ext cx="178560" cy="2710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352840" y="2956320"/>
              <a:ext cx="157320" cy="1630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352840" y="3093120"/>
              <a:ext cx="157320" cy="189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9573120" y="2108160"/>
              <a:ext cx="178560" cy="272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9583920" y="2360160"/>
              <a:ext cx="146520" cy="167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573120" y="2507040"/>
              <a:ext cx="162720" cy="188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9499680" y="6167520"/>
              <a:ext cx="115200" cy="1681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279400" y="1971720"/>
              <a:ext cx="4556160" cy="776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5134320" y="6601680"/>
              <a:ext cx="147240" cy="1659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6613200" y="6774840"/>
              <a:ext cx="157320" cy="189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4199400" y="6774840"/>
              <a:ext cx="126000" cy="1573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4276440" y="6715800"/>
              <a:ext cx="2415600" cy="680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4189320" y="6708600"/>
              <a:ext cx="2628720" cy="503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4271400" y="6754320"/>
              <a:ext cx="2494080" cy="3848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6550560" y="6627960"/>
              <a:ext cx="162720" cy="167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9489240" y="6303960"/>
              <a:ext cx="125640" cy="188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7416720" y="3101760"/>
              <a:ext cx="302760" cy="4443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7504200" y="2702880"/>
              <a:ext cx="132840" cy="417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7385400" y="3049200"/>
              <a:ext cx="358560" cy="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7535520" y="2674800"/>
              <a:ext cx="441360" cy="27579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296120" y="2485800"/>
              <a:ext cx="554760" cy="2415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504360" y="692136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444840" y="692136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7224480" y="692136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719A05-D5BD-410E-8DA2-81CD7EC2349F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4189320" y="1971720"/>
            <a:ext cx="5897520" cy="5573160"/>
            <a:chOff x="4189320" y="1971720"/>
            <a:chExt cx="5897520" cy="5573160"/>
          </a:xfrm>
        </p:grpSpPr>
        <p:sp>
          <p:nvSpPr>
            <p:cNvPr id="77" name="Rectangle 3"/>
            <p:cNvSpPr/>
            <p:nvPr/>
          </p:nvSpPr>
          <p:spPr>
            <a:xfrm>
              <a:off x="7402680" y="2387880"/>
              <a:ext cx="344880" cy="180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7523280" y="2073240"/>
              <a:ext cx="82440" cy="820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9109080" y="2615400"/>
              <a:ext cx="10080" cy="3627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8524800" y="6138000"/>
              <a:ext cx="115200" cy="1681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9603000" y="2685240"/>
              <a:ext cx="10440" cy="34963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9870840" y="2660400"/>
              <a:ext cx="10080" cy="15465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6026760" y="3176640"/>
              <a:ext cx="8640" cy="3557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824360" y="3186000"/>
              <a:ext cx="10080" cy="3707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5311080" y="3271680"/>
              <a:ext cx="8640" cy="3335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7012440" y="5285880"/>
              <a:ext cx="1090080" cy="272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8334000" y="6283080"/>
              <a:ext cx="1743120" cy="2203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8376120" y="6377400"/>
              <a:ext cx="1701000" cy="428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8407440" y="6283080"/>
              <a:ext cx="1669680" cy="1573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5352840" y="2695680"/>
              <a:ext cx="178560" cy="2710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5352840" y="2956320"/>
              <a:ext cx="157320" cy="1630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5352840" y="3093120"/>
              <a:ext cx="157320" cy="189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9573120" y="2108160"/>
              <a:ext cx="178560" cy="272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9583920" y="2360160"/>
              <a:ext cx="146520" cy="167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9573120" y="2507040"/>
              <a:ext cx="162720" cy="188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9499680" y="6167520"/>
              <a:ext cx="115200" cy="1681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5279400" y="1971720"/>
              <a:ext cx="4556160" cy="776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5134320" y="6601680"/>
              <a:ext cx="147240" cy="1659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6613200" y="6774840"/>
              <a:ext cx="157320" cy="189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4199400" y="6774840"/>
              <a:ext cx="126000" cy="1573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4276440" y="6715800"/>
              <a:ext cx="2415600" cy="680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4189320" y="6708600"/>
              <a:ext cx="2628720" cy="503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4271400" y="6754320"/>
              <a:ext cx="2494080" cy="3848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6550560" y="6627960"/>
              <a:ext cx="162720" cy="167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9489240" y="6303960"/>
              <a:ext cx="125640" cy="188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416720" y="3101760"/>
              <a:ext cx="302760" cy="4443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7504200" y="2702880"/>
              <a:ext cx="132840" cy="417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7385400" y="3049200"/>
              <a:ext cx="358560" cy="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7535520" y="2674800"/>
              <a:ext cx="441360" cy="27579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7296120" y="2485800"/>
              <a:ext cx="554760" cy="2415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504360" y="692136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444840" y="692136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7224480" y="692136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A8E733-B00F-4B71-8F6A-BFB452B3B26D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bota-na-domu.r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949400"/>
            <a:ext cx="856944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6900" spc="-1" strike="noStrike">
                <a:solidFill>
                  <a:srgbClr val="dbbd71"/>
                </a:solidFill>
                <a:latin typeface="Times New Roman"/>
              </a:rPr>
              <a:t>Вред и польза компьютерных игр</a:t>
            </a:r>
            <a:endParaRPr b="0" lang="en-US" sz="6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111640" y="4282560"/>
            <a:ext cx="41385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тельникова Наст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680000" y="6804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13 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Почему это происходит?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пециалисты пришли к выводу, что нервная система в детском организме может быть затронута эмоциональным напряжением, которое испытывает ребенок при наблюдении за кровавыми виртуальными баталиями, что приводит к возникновению ряда физиологических реакций, в том числе и к изменению сердечной деятельности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0440" indent="-37044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Этот процесс является бессознательным, но способен причинить значительный вред подростковому сердцу, учащая сердечные сокращения и дестабилизируя пульс, считают кардиологи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1949400"/>
            <a:ext cx="8569440" cy="191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Несколько слов о пользе компьютерных игр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О пользе компьютерных игр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4720" y="1403280"/>
            <a:ext cx="9072720" cy="5354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Китайские ученые нашли пользу в компьютерных игруш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стралийские медики лечат боль компьютерными игр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ьютерная игра улучшает мыслительные способности пожилых люд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Играя на компьютере в захватывающие игрушки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ребенок сжигает намного больше калорий, вроде бы не особенно двигая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500" spc="-1" strike="noStrike">
                <a:solidFill>
                  <a:srgbClr val="dbbd71"/>
                </a:solidFill>
                <a:latin typeface="Arial"/>
              </a:rPr>
              <a:t>Выписки с игровых форумов в пользу компьютерных игр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мпьютерные игры во многом помогают в развитии. У меня знакомая специально сделала подборочку развивающих игр для своей дочери. И ей интересно, и память развивается, и английский учит ,играя. Я очень благодарна, что в наше время есть такая возможност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6" descr="new_5"/>
          <p:cNvPicPr/>
          <p:nvPr/>
        </p:nvPicPr>
        <p:blipFill>
          <a:blip r:embed="rId1"/>
          <a:stretch/>
        </p:blipFill>
        <p:spPr>
          <a:xfrm>
            <a:off x="4608360" y="5148360"/>
            <a:ext cx="2374920" cy="1780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3c61aaecf54910967c4310050d9a"/>
          <p:cNvPicPr/>
          <p:nvPr/>
        </p:nvPicPr>
        <p:blipFill>
          <a:blip r:embed="rId2"/>
          <a:stretch/>
        </p:blipFill>
        <p:spPr>
          <a:xfrm>
            <a:off x="2448000" y="3851280"/>
            <a:ext cx="2201760" cy="2190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11"/>
          <p:cNvPicPr/>
          <p:nvPr/>
        </p:nvPicPr>
        <p:blipFill>
          <a:blip r:embed="rId3"/>
          <a:stretch/>
        </p:blipFill>
        <p:spPr>
          <a:xfrm>
            <a:off x="6912000" y="4211640"/>
            <a:ext cx="2736720" cy="1946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razviv_igry_a"/>
          <p:cNvPicPr/>
          <p:nvPr/>
        </p:nvPicPr>
        <p:blipFill>
          <a:blip r:embed="rId4"/>
          <a:stretch/>
        </p:blipFill>
        <p:spPr>
          <a:xfrm>
            <a:off x="431640" y="4859280"/>
            <a:ext cx="180036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500" spc="-1" strike="noStrike">
                <a:solidFill>
                  <a:srgbClr val="dbbd71"/>
                </a:solidFill>
                <a:latin typeface="Arial"/>
              </a:rPr>
              <a:t>Выписки с игровых форумов в пользу компьютерных игр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2920" y="1907640"/>
            <a:ext cx="9072360" cy="2737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5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«Научно доказано, что играющие в шутеры, могут одновременно контролировать 6-8 объектов. В то время, когда обычный человек может контролировать 2-4 объекта. Так же реакция лучше у игроков на 20-30%. Правильные решения в стрессовых ситуациях принимаются чаще, чем у обычных людей. Так что игрок за рулем намного безопаснее и внимательнее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9" descr="mchs_game_final"/>
          <p:cNvPicPr/>
          <p:nvPr/>
        </p:nvPicPr>
        <p:blipFill>
          <a:blip r:embed="rId1"/>
          <a:stretch/>
        </p:blipFill>
        <p:spPr>
          <a:xfrm>
            <a:off x="792000" y="4788000"/>
            <a:ext cx="2592720" cy="1944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259-image_1_big"/>
          <p:cNvPicPr/>
          <p:nvPr/>
        </p:nvPicPr>
        <p:blipFill>
          <a:blip r:embed="rId2"/>
          <a:stretch/>
        </p:blipFill>
        <p:spPr>
          <a:xfrm>
            <a:off x="7056360" y="478800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1midmad2_b"/>
          <p:cNvPicPr/>
          <p:nvPr/>
        </p:nvPicPr>
        <p:blipFill>
          <a:blip r:embed="rId3"/>
          <a:stretch/>
        </p:blipFill>
        <p:spPr>
          <a:xfrm>
            <a:off x="4032360" y="5292720"/>
            <a:ext cx="24476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заключение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гипотеза</a:t>
            </a:r>
            <a:r>
              <a:rPr b="1" i="1" lang="ru-RU" sz="3500" spc="-1" strike="noStrike">
                <a:solidFill>
                  <a:srgbClr val="ffffff"/>
                </a:solidFill>
                <a:latin typeface="Tahoma"/>
              </a:rPr>
              <a:t>: Если научиться рационально использовать компьютер, то это не только обеспечит  учащимся разнообразие досуговой деятельности, но и сохранит психическое здоровье, </a:t>
            </a:r>
            <a:r>
              <a:rPr b="1" i="1" lang="ru-RU" sz="4800" spc="-1" strike="noStrike">
                <a:solidFill>
                  <a:srgbClr val="ff0000"/>
                </a:solidFill>
                <a:latin typeface="Tahoma"/>
              </a:rPr>
              <a:t>подтвердилась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1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Практическая помощь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блюдение правил работы с компьютер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вильно выбирать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рядка для глаз и сп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ремя работы за компьютер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869760" y="149400"/>
            <a:ext cx="862704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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вление влияния компьют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 психику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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и обобщение информационн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урс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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результатов теста и опро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хся школ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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е предпочтений пр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ранных компьютерных  игр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911160" y="4255920"/>
            <a:ext cx="204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047600" y="4197240"/>
            <a:ext cx="204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binar_repetitor"/>
          <p:cNvPicPr/>
          <p:nvPr/>
        </p:nvPicPr>
        <p:blipFill>
          <a:blip r:embed="rId1"/>
          <a:stretch/>
        </p:blipFill>
        <p:spPr>
          <a:xfrm>
            <a:off x="7194600" y="1474920"/>
            <a:ext cx="230328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гипотеза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сли научиться рационально использовать компьютер, то это не только сохранит психическое здоровье ребенка, 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принесет польз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is?0Wx0XX77hJ_wXt8pDuYcK21fr3Y0Ms1G_Ikk-qex6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4360" y="3708360"/>
            <a:ext cx="3504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720" y="579240"/>
            <a:ext cx="9072720" cy="679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Проведя анкетирование среди учащихся , имеющих домашний компьютер, выяснилось следующее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6" name="Объект 3" descr=""/>
          <p:cNvPicPr/>
          <p:nvPr/>
        </p:nvPicPr>
        <p:blipFill>
          <a:blip r:embed="rId1"/>
          <a:stretch/>
        </p:blipFill>
        <p:spPr>
          <a:xfrm>
            <a:off x="93600" y="3008160"/>
            <a:ext cx="6005520" cy="4278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4906800" y="1474920"/>
            <a:ext cx="498168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КЛАССИФИКАЦИЯ ИГР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4593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Аркадн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Логически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Аркадно – логически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Активн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Делов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Единоборств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Имитато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Квес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олев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портивн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тратегически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Традиционн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game1"/>
          <p:cNvPicPr/>
          <p:nvPr/>
        </p:nvPicPr>
        <p:blipFill>
          <a:blip r:embed="rId1"/>
          <a:stretch/>
        </p:blipFill>
        <p:spPr>
          <a:xfrm>
            <a:off x="5040360" y="1874880"/>
            <a:ext cx="47037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1949400"/>
            <a:ext cx="8569440" cy="191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екоторые компьютерные игры отрицательно влияют на психик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9072720" cy="118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923760"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br>
              <a:rPr sz="3500"/>
            </a:br>
            <a:r>
              <a:rPr b="0" lang="ru-RU" sz="3500" spc="-1" strike="noStrike">
                <a:solidFill>
                  <a:srgbClr val="dbbd71"/>
                </a:solidFill>
                <a:latin typeface="Arial"/>
              </a:rPr>
              <a:t>Результаты теста на выявление агрессивности: </a:t>
            </a:r>
            <a:br>
              <a:rPr sz="3500"/>
            </a:br>
            <a:endParaRPr b="0" lang="en-US" sz="3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4593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777080" y="1847520"/>
            <a:ext cx="2051280" cy="554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5" descr=""/>
          <p:cNvPicPr/>
          <p:nvPr/>
        </p:nvPicPr>
        <p:blipFill>
          <a:blip r:embed="rId1"/>
          <a:stretch/>
        </p:blipFill>
        <p:spPr>
          <a:xfrm>
            <a:off x="3452760" y="3708360"/>
            <a:ext cx="6351480" cy="38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287280" y="1187280"/>
          <a:ext cx="5832360" cy="2438640"/>
        </p:xfrm>
        <a:graphic>
          <a:graphicData uri="http://schemas.openxmlformats.org/drawingml/2006/table">
            <a:tbl>
              <a:tblPr/>
              <a:tblGrid>
                <a:gridCol w="4749840"/>
                <a:gridCol w="1082520"/>
              </a:tblGrid>
              <a:tr h="58896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ормальн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67176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нутренняя агр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нешняя агр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ыраженная агр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dbbd71"/>
                </a:solidFill>
                <a:latin typeface="Times New Roman"/>
              </a:rPr>
              <a:t>О</a:t>
            </a:r>
            <a:r>
              <a:rPr b="1" lang="en-GB" sz="3500" spc="-1" strike="noStrike">
                <a:solidFill>
                  <a:srgbClr val="dbbd71"/>
                </a:solidFill>
                <a:latin typeface="Times New Roman"/>
              </a:rPr>
              <a:t>пасные происшествия,</a:t>
            </a:r>
            <a:br>
              <a:rPr sz="3500"/>
            </a:br>
            <a:r>
              <a:rPr b="1" lang="en-GB" sz="3500" spc="-1" strike="noStrike">
                <a:solidFill>
                  <a:srgbClr val="dbbd71"/>
                </a:solidFill>
                <a:latin typeface="Times New Roman"/>
              </a:rPr>
              <a:t>связанные с компьютерными играми</a:t>
            </a:r>
            <a:endParaRPr b="0" lang="en-US" sz="3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0000" y="1908000"/>
            <a:ext cx="5327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густ 2001 г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22-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летний житель Таиланда умер во время игры в Counter-Strik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Причиной смерти стала сердечная недостаточность –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геймер просто п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олновался во вр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Два подростка расстрелял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одноклассников, учителя и ранили еще несколько человек, разбрасывая самодельные гранаты. После чего покончили жизнь самоубийств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6d50ceea3f66ffcd58f603a1fcd22f6f"/>
          <p:cNvPicPr/>
          <p:nvPr/>
        </p:nvPicPr>
        <p:blipFill>
          <a:blip r:embed="rId1"/>
          <a:stretch/>
        </p:blipFill>
        <p:spPr>
          <a:xfrm>
            <a:off x="5904000" y="1814400"/>
            <a:ext cx="4032000" cy="5278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300" spc="-1" strike="noStrike">
                <a:solidFill>
                  <a:srgbClr val="dbbd71"/>
                </a:solidFill>
                <a:latin typeface="Arial"/>
              </a:rPr>
              <a:t>Компьютерные игры со сценами насилия вызывают у детей нестабильный сердечный ритм во время сна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" y="1907640"/>
            <a:ext cx="48229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ченые Университета Упсалы и Каролинского университета (Швеция) провели эксперимент, в ходе которого школьникам в возрасте от 9 до 14 лет необходимо было регулярно вечерами играть в компьютерные игры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результате, если игра содержала сцены жестоких драк, убийств, погони с перестрелками, то в течение ночного отдыха у  было зафиксировано неравномерное сердцебиени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ем не мене сами ребята не считали, что спали плохо после такого досуг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9" descr="Игры со сценами насилия наносят вред сердцу подростков"/>
          <p:cNvPicPr/>
          <p:nvPr/>
        </p:nvPicPr>
        <p:blipFill>
          <a:blip r:embed="rId1"/>
          <a:stretch/>
        </p:blipFill>
        <p:spPr>
          <a:xfrm>
            <a:off x="5688000" y="2195640"/>
            <a:ext cx="4176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чальная_школа</cp:lastModifiedBy>
  <dcterms:modified xsi:type="dcterms:W3CDTF">2013-03-27T08:36:59Z</dcterms:modified>
  <cp:revision>43</cp:revision>
  <dc:subject/>
  <dc:title>Вред и польза компьютерных игр</dc:title>
</cp:coreProperties>
</file>