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6.wmf" ContentType="image/x-wmf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7E2-B60E-4B3A-B8EC-52CD2ABB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5E3-CC46-4192-BE9A-95DB20D7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2D1-7D00-4C1D-A2F0-69476E9E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3C51-C9F7-4340-A826-486CE575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482D-69B8-46D4-933B-CCD6AACF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A0A1-D7B0-4712-9E14-EEAAE984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71DE-4E26-43B2-9D94-298EB54D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449C-8575-4D7A-BA19-AE1A3225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4643-1FE1-4D18-8D23-BE6AFDBE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04720" y="306000"/>
            <a:ext cx="9072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2D39-1BCC-40D3-9CBE-261FD20C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ECF0-1D16-499D-8499-B58A6C78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F1F-C05D-46DE-B67D-833EEA82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2CA6-8F4B-4EB6-A092-BF7B13E1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008F-334A-4A41-B034-BFFD254A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DC41-420C-4EB3-BF4D-F7B464F8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D104-A5A4-4D70-9F49-A95A1E92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D671-304F-471C-9718-B566A927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29B2-04A5-4996-A518-FFD4511E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ECE-FC35-49DD-9B67-9405D526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AAE-3CD6-47FB-9C3D-3D9E206D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04720" y="306000"/>
            <a:ext cx="9072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EA5F-FC3A-49C5-B67B-4A4FCBD2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589-71D8-4F3B-8A9A-5722F599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31D-E6E5-4AD6-A6AF-11B21EEE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44D-95E2-41A6-8CB4-29DAD01C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189320" y="1971720"/>
            <a:ext cx="5897520" cy="5573160"/>
            <a:chOff x="4189320" y="1971720"/>
            <a:chExt cx="5897520" cy="5573160"/>
          </a:xfrm>
        </p:grpSpPr>
        <p:sp>
          <p:nvSpPr>
            <p:cNvPr id="1" name="Rectangle 3"/>
            <p:cNvSpPr/>
            <p:nvPr/>
          </p:nvSpPr>
          <p:spPr>
            <a:xfrm>
              <a:off x="7402680" y="2387880"/>
              <a:ext cx="344880" cy="180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7523280" y="2073240"/>
              <a:ext cx="82440" cy="8208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9109080" y="2615400"/>
              <a:ext cx="10080" cy="36273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524800" y="6138000"/>
              <a:ext cx="115200" cy="1681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9603000" y="2685240"/>
              <a:ext cx="10440" cy="34963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9870840" y="2660400"/>
              <a:ext cx="10080" cy="15465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6026760" y="3176640"/>
              <a:ext cx="8640" cy="3557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824360" y="3186000"/>
              <a:ext cx="10080" cy="3707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5311080" y="3271680"/>
              <a:ext cx="8640" cy="33350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7012440" y="5285880"/>
              <a:ext cx="1090080" cy="272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334000" y="6283080"/>
              <a:ext cx="1743120" cy="2203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8376120" y="6377400"/>
              <a:ext cx="1701000" cy="4287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407440" y="6283080"/>
              <a:ext cx="1669680" cy="1573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352840" y="2695680"/>
              <a:ext cx="178560" cy="2710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352840" y="2956320"/>
              <a:ext cx="157320" cy="1630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352840" y="3093120"/>
              <a:ext cx="157320" cy="189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9573120" y="2108160"/>
              <a:ext cx="178560" cy="272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9583920" y="2360160"/>
              <a:ext cx="146520" cy="1677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573120" y="2507040"/>
              <a:ext cx="162720" cy="188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9499680" y="6167520"/>
              <a:ext cx="115200" cy="1681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279400" y="1971720"/>
              <a:ext cx="4556160" cy="776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5134320" y="6601680"/>
              <a:ext cx="147240" cy="1659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6613200" y="6774840"/>
              <a:ext cx="157320" cy="189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4199400" y="6774840"/>
              <a:ext cx="126000" cy="1573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4276440" y="6715800"/>
              <a:ext cx="2415600" cy="680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4189320" y="6708600"/>
              <a:ext cx="2628720" cy="5036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4271400" y="6754320"/>
              <a:ext cx="2494080" cy="3848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6550560" y="6627960"/>
              <a:ext cx="162720" cy="1677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9489240" y="6303960"/>
              <a:ext cx="125640" cy="188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7416720" y="3101760"/>
              <a:ext cx="302760" cy="44431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7504200" y="2702880"/>
              <a:ext cx="132840" cy="417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7385400" y="3049200"/>
              <a:ext cx="358560" cy="9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7535520" y="2674800"/>
              <a:ext cx="441360" cy="27579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296120" y="2485800"/>
              <a:ext cx="554760" cy="2415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504360" y="692136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444840" y="692136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7224480" y="692136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AB2B3B-84CD-48A3-8CC7-B5F9D994C6F2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4189320" y="1971720"/>
            <a:ext cx="5897520" cy="5573160"/>
            <a:chOff x="4189320" y="1971720"/>
            <a:chExt cx="5897520" cy="5573160"/>
          </a:xfrm>
        </p:grpSpPr>
        <p:sp>
          <p:nvSpPr>
            <p:cNvPr id="77" name="Rectangle 3"/>
            <p:cNvSpPr/>
            <p:nvPr/>
          </p:nvSpPr>
          <p:spPr>
            <a:xfrm>
              <a:off x="7402680" y="2387880"/>
              <a:ext cx="344880" cy="180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7523280" y="2073240"/>
              <a:ext cx="82440" cy="8208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9109080" y="2615400"/>
              <a:ext cx="10080" cy="36273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8524800" y="6138000"/>
              <a:ext cx="115200" cy="1681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9603000" y="2685240"/>
              <a:ext cx="10440" cy="34963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9870840" y="2660400"/>
              <a:ext cx="10080" cy="15465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6026760" y="3176640"/>
              <a:ext cx="8640" cy="3557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824360" y="3186000"/>
              <a:ext cx="10080" cy="3707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5311080" y="3271680"/>
              <a:ext cx="8640" cy="33350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7012440" y="5285880"/>
              <a:ext cx="1090080" cy="272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8334000" y="6283080"/>
              <a:ext cx="1743120" cy="2203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8376120" y="6377400"/>
              <a:ext cx="1701000" cy="4287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8407440" y="6283080"/>
              <a:ext cx="1669680" cy="1573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5352840" y="2695680"/>
              <a:ext cx="178560" cy="2710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5352840" y="2956320"/>
              <a:ext cx="157320" cy="1630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5352840" y="3093120"/>
              <a:ext cx="157320" cy="189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9573120" y="2108160"/>
              <a:ext cx="178560" cy="272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9583920" y="2360160"/>
              <a:ext cx="146520" cy="1677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9573120" y="2507040"/>
              <a:ext cx="162720" cy="188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9499680" y="6167520"/>
              <a:ext cx="115200" cy="1681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5279400" y="1971720"/>
              <a:ext cx="4556160" cy="776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5134320" y="6601680"/>
              <a:ext cx="147240" cy="1659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6613200" y="6774840"/>
              <a:ext cx="157320" cy="189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4199400" y="6774840"/>
              <a:ext cx="126000" cy="1573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4276440" y="6715800"/>
              <a:ext cx="2415600" cy="680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4189320" y="6708600"/>
              <a:ext cx="2628720" cy="5036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4271400" y="6754320"/>
              <a:ext cx="2494080" cy="3848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6550560" y="6627960"/>
              <a:ext cx="162720" cy="1677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9489240" y="6303960"/>
              <a:ext cx="125640" cy="188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416720" y="3101760"/>
              <a:ext cx="302760" cy="44431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7504200" y="2702880"/>
              <a:ext cx="132840" cy="417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7385400" y="3049200"/>
              <a:ext cx="358560" cy="9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7535520" y="2674800"/>
              <a:ext cx="441360" cy="27579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7296120" y="2485800"/>
              <a:ext cx="554760" cy="2415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504360" y="692136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444840" y="692136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7224480" y="692136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234E7A-F875-44F2-93A9-D30B3AF31552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bota-na-domu.ru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1949400"/>
            <a:ext cx="856944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6900" spc="-1" strike="noStrike">
                <a:solidFill>
                  <a:srgbClr val="dbbd71"/>
                </a:solidFill>
                <a:latin typeface="Times New Roman"/>
              </a:rPr>
              <a:t>Вред и польза компьютерных игр</a:t>
            </a:r>
            <a:endParaRPr b="0" lang="en-US" sz="6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5111640" y="4282560"/>
            <a:ext cx="41385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тельникова Наст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680000" y="6804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13 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dbbd71"/>
                </a:solidFill>
                <a:latin typeface="Arial"/>
              </a:rPr>
              <a:t>Почему это происходит?</a:t>
            </a: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Специалисты пришли к выводу, что нервная система в детском организме может быть затронута эмоциональным напряжением, которое испытывает ребенок при наблюдении за кровавыми виртуальными баталиями, что приводит к возникновению ряда физиологических реакций, в том числе и к изменению сердечной деятельности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0440" indent="-37044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Этот процесс является бессознательным, но способен причинить значительный вред подростковому сердцу, учащая сердечные сокращения и дестабилизируя пульс, считают кардиологи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1949400"/>
            <a:ext cx="8569440" cy="191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Несколько слов о пользе компьютерных игр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dbbd71"/>
                </a:solidFill>
                <a:latin typeface="Arial"/>
              </a:rPr>
              <a:t>О пользе компьютерных игр</a:t>
            </a: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4720" y="1403280"/>
            <a:ext cx="9072720" cy="5354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Китайские ученые нашли пользу в компьютерных игрушк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5320" indent="-3553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стралийские медики лечат боль компьютерными игра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5320" indent="-3553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пьютерная игра улучшает мыслительные способности пожилых люд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5320" indent="-3553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Играя на компьютере в захватывающие игрушки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ребенок сжигает намного больше калорий, вроде бы не особенно двигая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500" spc="-1" strike="noStrike">
                <a:solidFill>
                  <a:srgbClr val="dbbd71"/>
                </a:solidFill>
                <a:latin typeface="Arial"/>
              </a:rPr>
              <a:t>Выписки с игровых форумов в пользу компьютерных игр</a:t>
            </a:r>
            <a:endParaRPr b="0" lang="en-US" sz="4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Компьютерные игры во многом помогают в развитии. У меня знакомая специально сделала подборочку развивающих игр для своей дочери. И ей интересно, и память развивается, и английский учит ,играя. Я очень благодарна, что в наше время есть такая возможность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6" descr="new_5"/>
          <p:cNvPicPr/>
          <p:nvPr/>
        </p:nvPicPr>
        <p:blipFill>
          <a:blip r:embed="rId1"/>
          <a:stretch/>
        </p:blipFill>
        <p:spPr>
          <a:xfrm>
            <a:off x="4608360" y="5148360"/>
            <a:ext cx="2374920" cy="1780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3c61aaecf54910967c4310050d9a"/>
          <p:cNvPicPr/>
          <p:nvPr/>
        </p:nvPicPr>
        <p:blipFill>
          <a:blip r:embed="rId2"/>
          <a:stretch/>
        </p:blipFill>
        <p:spPr>
          <a:xfrm>
            <a:off x="2448000" y="3851280"/>
            <a:ext cx="2201760" cy="2190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11"/>
          <p:cNvPicPr/>
          <p:nvPr/>
        </p:nvPicPr>
        <p:blipFill>
          <a:blip r:embed="rId3"/>
          <a:stretch/>
        </p:blipFill>
        <p:spPr>
          <a:xfrm>
            <a:off x="6912000" y="4211640"/>
            <a:ext cx="2736720" cy="1946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razviv_igry_a"/>
          <p:cNvPicPr/>
          <p:nvPr/>
        </p:nvPicPr>
        <p:blipFill>
          <a:blip r:embed="rId4"/>
          <a:stretch/>
        </p:blipFill>
        <p:spPr>
          <a:xfrm>
            <a:off x="431640" y="4859280"/>
            <a:ext cx="180036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500" spc="-1" strike="noStrike">
                <a:solidFill>
                  <a:srgbClr val="dbbd71"/>
                </a:solidFill>
                <a:latin typeface="Arial"/>
              </a:rPr>
              <a:t>Выписки с игровых форумов в пользу компьютерных игр</a:t>
            </a:r>
            <a:endParaRPr b="0" lang="en-US" sz="4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02920" y="1907640"/>
            <a:ext cx="9072360" cy="2737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5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«Научно доказано, что играющие в шутеры, могут одновременно контролировать 6-8 объектов. В то время, когда обычный человек может контролировать 2-4 объекта. Так же реакция лучше у игроков на 20-30%. Правильные решения в стрессовых ситуациях принимаются чаще, чем у обычных людей. Так что игрок за рулем намного безопаснее и внимательнее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9" descr="mchs_game_final"/>
          <p:cNvPicPr/>
          <p:nvPr/>
        </p:nvPicPr>
        <p:blipFill>
          <a:blip r:embed="rId1"/>
          <a:stretch/>
        </p:blipFill>
        <p:spPr>
          <a:xfrm>
            <a:off x="792000" y="4788000"/>
            <a:ext cx="2592720" cy="1944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259-image_1_big"/>
          <p:cNvPicPr/>
          <p:nvPr/>
        </p:nvPicPr>
        <p:blipFill>
          <a:blip r:embed="rId2"/>
          <a:stretch/>
        </p:blipFill>
        <p:spPr>
          <a:xfrm>
            <a:off x="7056360" y="478800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1midmad2_b"/>
          <p:cNvPicPr/>
          <p:nvPr/>
        </p:nvPicPr>
        <p:blipFill>
          <a:blip r:embed="rId3"/>
          <a:stretch/>
        </p:blipFill>
        <p:spPr>
          <a:xfrm>
            <a:off x="4032360" y="5292720"/>
            <a:ext cx="244764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dbbd71"/>
                </a:solidFill>
                <a:latin typeface="Arial"/>
              </a:rPr>
              <a:t>заключение</a:t>
            </a: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гипотеза</a:t>
            </a:r>
            <a:r>
              <a:rPr b="1" i="1" lang="ru-RU" sz="3500" spc="-1" strike="noStrike">
                <a:solidFill>
                  <a:srgbClr val="ffffff"/>
                </a:solidFill>
                <a:latin typeface="Tahoma"/>
              </a:rPr>
              <a:t>: Если научиться рационально использовать компьютер, то это не только обеспечит  учащимся разнообразие досуговой деятельности, но и сохранит психическое здоровье, </a:t>
            </a:r>
            <a:r>
              <a:rPr b="1" i="1" lang="ru-RU" sz="4800" spc="-1" strike="noStrike">
                <a:solidFill>
                  <a:srgbClr val="ff0000"/>
                </a:solidFill>
                <a:latin typeface="Tahoma"/>
              </a:rPr>
              <a:t>подтвердилась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119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dbbd71"/>
                </a:solidFill>
                <a:latin typeface="Arial"/>
              </a:rPr>
              <a:t>Практическая помощь</a:t>
            </a: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блюдение правил работы с компьютер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авильно выбирать иг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рядка для глаз и спи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ремя работы за компьютер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869760" y="149400"/>
            <a:ext cx="862704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ЕЛЬ РАБОТ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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вление влияния компьют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 психику ребен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И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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и обобщение информационны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сурс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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результатов теста и опрос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ихся школ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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ение предпочтений пр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бранных компьютерных  игр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911160" y="4255920"/>
            <a:ext cx="204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047600" y="4197240"/>
            <a:ext cx="2048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7" descr="binar_repetitor"/>
          <p:cNvPicPr/>
          <p:nvPr/>
        </p:nvPicPr>
        <p:blipFill>
          <a:blip r:embed="rId1"/>
          <a:stretch/>
        </p:blipFill>
        <p:spPr>
          <a:xfrm>
            <a:off x="7194600" y="1474920"/>
            <a:ext cx="230328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dbbd71"/>
                </a:solidFill>
                <a:latin typeface="Arial"/>
              </a:rPr>
              <a:t>гипотеза</a:t>
            </a: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сли научиться рационально использовать компьютер, то это не только сохранит психическое здоровье ребенка, н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1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 принесет польз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7" descr="is?0Wx0XX77hJ_wXt8pDuYcK21fr3Y0Ms1G_Ikk-qex6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4360" y="3708360"/>
            <a:ext cx="3504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4720" y="579240"/>
            <a:ext cx="9072720" cy="679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Проведя анкетирование среди учащихся , имеющих домашний компьютер, выяснилось следующее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6" name="Объект 3" descr=""/>
          <p:cNvPicPr/>
          <p:nvPr/>
        </p:nvPicPr>
        <p:blipFill>
          <a:blip r:embed="rId1"/>
          <a:stretch/>
        </p:blipFill>
        <p:spPr>
          <a:xfrm>
            <a:off x="93600" y="3008160"/>
            <a:ext cx="6005520" cy="4278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4906800" y="1474920"/>
            <a:ext cx="4981680" cy="41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900" spc="-1" strike="noStrike">
                <a:solidFill>
                  <a:srgbClr val="dbbd71"/>
                </a:solidFill>
                <a:latin typeface="Arial"/>
              </a:rPr>
              <a:t>КЛАССИФИКАЦИЯ ИГР</a:t>
            </a:r>
            <a:endParaRPr b="0" lang="en-US" sz="49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44593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Аркадные игр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Логические игр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Аркадно – логические игр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Активные игр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Деловые игр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Единоборств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Имитатор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Квест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Ролевые игр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портивные игр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тратегические игр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6480" indent="-366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Традиционные игр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5" descr="game1"/>
          <p:cNvPicPr/>
          <p:nvPr/>
        </p:nvPicPr>
        <p:blipFill>
          <a:blip r:embed="rId1"/>
          <a:stretch/>
        </p:blipFill>
        <p:spPr>
          <a:xfrm>
            <a:off x="5040360" y="1874880"/>
            <a:ext cx="470376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1949400"/>
            <a:ext cx="8569440" cy="191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екоторые компьютерные игры отрицательно влияют на психик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9072720" cy="1187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marL="923760"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br>
              <a:rPr sz="3500"/>
            </a:br>
            <a:r>
              <a:rPr b="0" lang="ru-RU" sz="3500" spc="-1" strike="noStrike">
                <a:solidFill>
                  <a:srgbClr val="dbbd71"/>
                </a:solidFill>
                <a:latin typeface="Arial"/>
              </a:rPr>
              <a:t>Результаты теста на выявление агрессивности: </a:t>
            </a:r>
            <a:br>
              <a:rPr sz="3500"/>
            </a:br>
            <a:endParaRPr b="0" lang="en-US" sz="3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44593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7777080" y="1847520"/>
            <a:ext cx="2051280" cy="5543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5" descr=""/>
          <p:cNvPicPr/>
          <p:nvPr/>
        </p:nvPicPr>
        <p:blipFill>
          <a:blip r:embed="rId1"/>
          <a:stretch/>
        </p:blipFill>
        <p:spPr>
          <a:xfrm>
            <a:off x="3452760" y="3708360"/>
            <a:ext cx="6351480" cy="385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287280" y="1187280"/>
          <a:ext cx="5832360" cy="2438640"/>
        </p:xfrm>
        <a:graphic>
          <a:graphicData uri="http://schemas.openxmlformats.org/drawingml/2006/table">
            <a:tbl>
              <a:tblPr/>
              <a:tblGrid>
                <a:gridCol w="4749840"/>
                <a:gridCol w="1082520"/>
              </a:tblGrid>
              <a:tr h="58896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ормальн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67176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нутренняя агре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нешняя агре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ыраженная агре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ru-RU" sz="3500" spc="-1" strike="noStrike">
                <a:solidFill>
                  <a:srgbClr val="dbbd71"/>
                </a:solidFill>
                <a:latin typeface="Times New Roman"/>
              </a:rPr>
              <a:t>О</a:t>
            </a:r>
            <a:r>
              <a:rPr b="1" lang="en-GB" sz="3500" spc="-1" strike="noStrike">
                <a:solidFill>
                  <a:srgbClr val="dbbd71"/>
                </a:solidFill>
                <a:latin typeface="Times New Roman"/>
              </a:rPr>
              <a:t>пасные происшествия,</a:t>
            </a:r>
            <a:br>
              <a:rPr sz="3500"/>
            </a:br>
            <a:r>
              <a:rPr b="1" lang="en-GB" sz="3500" spc="-1" strike="noStrike">
                <a:solidFill>
                  <a:srgbClr val="dbbd71"/>
                </a:solidFill>
                <a:latin typeface="Times New Roman"/>
              </a:rPr>
              <a:t>связанные с компьютерными играми</a:t>
            </a:r>
            <a:endParaRPr b="0" lang="en-US" sz="3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60000" y="1908000"/>
            <a:ext cx="53276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9000"/>
          </a:bodyPr>
          <a:p>
            <a:pPr indent="0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вгуст 2001 год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22-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летний житель Таиланда умер во время игры в Counter-Strik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Причиной смерти стала сердечная недостаточность –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геймер просто пе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волновался во вр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Два подростка расстрелял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одноклассников, учителя и ранили еще несколько человек, разбрасывая самодельные гранаты. После чего покончили жизнь самоубийств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5" descr="6d50ceea3f66ffcd58f603a1fcd22f6f"/>
          <p:cNvPicPr/>
          <p:nvPr/>
        </p:nvPicPr>
        <p:blipFill>
          <a:blip r:embed="rId1"/>
          <a:stretch/>
        </p:blipFill>
        <p:spPr>
          <a:xfrm>
            <a:off x="5904000" y="1814400"/>
            <a:ext cx="4032000" cy="52786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300" spc="-1" strike="noStrike">
                <a:solidFill>
                  <a:srgbClr val="dbbd71"/>
                </a:solidFill>
                <a:latin typeface="Arial"/>
              </a:rPr>
              <a:t>Компьютерные игры со сценами насилия вызывают у детей нестабильный сердечный ритм во время сна</a:t>
            </a:r>
            <a:endParaRPr b="0" lang="en-US" sz="33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2920" y="1907640"/>
            <a:ext cx="48229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36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Ученые Университета Упсалы и Каролинского университета (Швеция) провели эксперимент, в ходе которого школьникам в возрасте от 9 до 14 лет необходимо было регулярно вечерами играть в компьютерные игры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результате, если игра содержала сцены жестоких драк, убийств, погони с перестрелками, то в течение ночного отдыха у  было зафиксировано неравномерное сердцебиение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ем не мене сами ребята не считали, что спали плохо после такого досуг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9" descr="Игры со сценами насилия наносят вред сердцу подростков"/>
          <p:cNvPicPr/>
          <p:nvPr/>
        </p:nvPicPr>
        <p:blipFill>
          <a:blip r:embed="rId1"/>
          <a:stretch/>
        </p:blipFill>
        <p:spPr>
          <a:xfrm>
            <a:off x="5688000" y="2195640"/>
            <a:ext cx="4176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чальная_школа</cp:lastModifiedBy>
  <dcterms:modified xsi:type="dcterms:W3CDTF">2013-03-27T08:36:59Z</dcterms:modified>
  <cp:revision>43</cp:revision>
  <dc:subject/>
  <dc:title>Вред и польза компьютерных игр</dc:title>
</cp:coreProperties>
</file>