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E:\Photoshop\GoldenAutumn\0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E:\Photoshop\GoldenAutumn\0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E:\Photoshop\GoldenAutumn\GoldenAutumnW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Photoshop\GoldenAutumn\GoldenAut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E:\Photoshop\GoldenAutumn\GoldenAutumnM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E:\Photoshop\GoldenAutumn\0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allforchildren.ru/pictures/showimg/sleep/sleep027gif.htm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llforchildren.ru/pictures/showimg/school25/school2511jpg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allforchildren.ru/pictures/showimg/reading/reading45gif.htm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llforchildren.ru/pictures/school18.php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Завтра в школ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deada"/>
                </a:solidFill>
                <a:latin typeface="Calibri"/>
              </a:rPr>
              <a:t>Презентация  для проведения родительского собр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deada"/>
                </a:solidFill>
                <a:latin typeface="Calibri"/>
              </a:rPr>
              <a:t>Подготовила учитель начальных классов Герасимова Наталья Анатольев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E:\Photoshop\GoldenAutumn\GoldenAu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лезные сове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85920" y="142884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Наблюдайте, в каком настроении ребёнок приходит из школы. Постарайтесь узнать причины беспокой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Не требуйте от ребёнка идеальной дисциплины и успеваемости. Дайте ему привыкнуть, к новым услов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Рисунок 4" descr="http://allforchildren.ru/pictures/school25_s/school2520.jpg"/>
          <p:cNvPicPr/>
          <p:nvPr/>
        </p:nvPicPr>
        <p:blipFill>
          <a:blip r:embed="rId2"/>
          <a:stretch/>
        </p:blipFill>
        <p:spPr>
          <a:xfrm>
            <a:off x="7000920" y="5000760"/>
            <a:ext cx="1928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E:\Photoshop\GoldenAutumn\GoldenAutumn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наших силах сделать так, чтобы наши дети с желанием и интересом посещали школу и тогда у них всё получить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E:\фото\Pictures\untitled.png"/>
          <p:cNvPicPr/>
          <p:nvPr/>
        </p:nvPicPr>
        <p:blipFill>
          <a:blip r:embed="rId2"/>
          <a:stretch/>
        </p:blipFill>
        <p:spPr>
          <a:xfrm>
            <a:off x="5929200" y="4071960"/>
            <a:ext cx="2657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E:\Photoshop\GoldenAutumn\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 началом учебного года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орогие родител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E:\фото\Pictures\1--10_~1.JPG"/>
          <p:cNvPicPr/>
          <p:nvPr/>
        </p:nvPicPr>
        <p:blipFill>
          <a:blip r:embed="rId2"/>
          <a:stretch/>
        </p:blipFill>
        <p:spPr>
          <a:xfrm>
            <a:off x="2286000" y="2500200"/>
            <a:ext cx="5072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спользованные 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льга Крылова «Скоро в школ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llforchildre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k.c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 начале учебного года каждый школьник проходит период адапт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У первоклассников он может продолжаться не менее месяца, а иногда и бол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Это непростое время для ребёнка, которое может вызвать даже проблемы со здоровь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Задача родителей - подготовить ребёнка к школьным будням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E:\Photoshop\GoldenAutumn\GoldenAutumnW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Регулируем распорядок д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15968"/>
                </a:solidFill>
                <a:latin typeface="Calibri"/>
              </a:rPr>
              <a:t>Необходимо за две недели до 1 сентября восстановить режим дня учебного сез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215968"/>
                </a:solidFill>
                <a:latin typeface="Calibri"/>
              </a:rPr>
              <a:t>Будущий первоклассник ( и не только) должен привыкнуть вставать пораньше, а вечером ложиться в одно и тож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215968"/>
                </a:solidFill>
                <a:latin typeface="Calibri"/>
              </a:rPr>
              <a:t>Помните, школьнику на полноценный сон требуется 9-10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Рисунок 6" descr="http://allforchildren.ru/pictures/sleep_s/sleep027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00" y="5286240"/>
            <a:ext cx="421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:\Photoshop\GoldenAutumn\GoldenAu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85920" y="1714680"/>
            <a:ext cx="7400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Сократите время, которое ребёнок проводит за компьютером и телевизо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Старайтесь, чтобы больше времени ребёнок проводил на свежем возду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Рисунок 4" descr="http://allforchildren.ru/pictures/school25_s/school251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6160" y="4572000"/>
            <a:ext cx="4357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E:\Photoshop\GoldenAutumn\GoldenAutumn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держите учебную активн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1428840"/>
            <a:ext cx="785988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Если на каникулы были даны задания, договоритесь когда вы будете выполнять их. Тратьте на них не более 20 минут в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кунуться в школьную атмосферу можно проводя небольшие диктанты, повторяя таблицу умножения, стихи, которые учили наизусть в прошлом учебном год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Рисунок 4" descr="http://allforchildren.ru/pictures/reading_s/reading45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286240"/>
            <a:ext cx="21430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E:\Photoshop\GoldenAutumn\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верьте вместе с ребёнком, всё ли готово к началу нового учебного года, подпишите тетради, оберните в обложку тетради и учеб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Рисунок 5" descr="Канцтовар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85920" y="4071960"/>
            <a:ext cx="1857240" cy="13572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6" descr="Кисти"/>
          <p:cNvPicPr/>
          <p:nvPr/>
        </p:nvPicPr>
        <p:blipFill>
          <a:blip r:embed="rId4"/>
          <a:stretch/>
        </p:blipFill>
        <p:spPr>
          <a:xfrm>
            <a:off x="4000680" y="4857840"/>
            <a:ext cx="1571400" cy="17143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7" descr="Школьный клипарт"/>
          <p:cNvPicPr/>
          <p:nvPr/>
        </p:nvPicPr>
        <p:blipFill>
          <a:blip r:embed="rId5"/>
          <a:stretch/>
        </p:blipFill>
        <p:spPr>
          <a:xfrm>
            <a:off x="6500880" y="3714840"/>
            <a:ext cx="19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следний вечер канику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н должен пройти в спокойной обстанов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омогите  подготовить ребёнку одеж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оконтролируйте, чтобы он собрал портф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Рисунок 4" descr="http://allforchildren.ru/pictures/parents_s/parents080.gif"/>
          <p:cNvPicPr/>
          <p:nvPr/>
        </p:nvPicPr>
        <p:blipFill>
          <a:blip r:embed="rId1"/>
          <a:stretch/>
        </p:blipFill>
        <p:spPr>
          <a:xfrm>
            <a:off x="5643720" y="4000680"/>
            <a:ext cx="2857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E:\Photoshop\GoldenAutumn\GoldenAutumnW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День знаний</a:t>
            </a:r>
            <a:r>
              <a:rPr b="0" lang="ru-RU" sz="4400" spc="-1" strike="noStrike">
                <a:solidFill>
                  <a:srgbClr val="403152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йте праздничную атмосферу, можно устроить семейный ужин, сделать небольшой пода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оворите о важности учёбы для приобретения проф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жите, что каждый день учёбы принесёт что-то но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Рисунок 7" descr="http://allforchildren.ru/pictures/reading_s/reading23.jpg"/>
          <p:cNvPicPr/>
          <p:nvPr/>
        </p:nvPicPr>
        <p:blipFill>
          <a:blip r:embed="rId2"/>
          <a:stretch/>
        </p:blipFill>
        <p:spPr>
          <a:xfrm>
            <a:off x="2428920" y="5214960"/>
            <a:ext cx="2452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E:\Photoshop\GoldenAutumn\GoldenAu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28920" y="21384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лезные сове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28440" y="1214280"/>
            <a:ext cx="80722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 Не стоит требовать от ребёнка хороших отметок., ругать за «3» и «2». Это может отбить интерес к обуч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 Постарайтесь замечать даже небольшие успехи и хвалить своего школьника. Он будет чувствовать, что его усилия не напрасны и это поможет восстановить утраченную мотивацию к учёбе.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5:49:03Z</dcterms:created>
  <dc:creator>Dasha</dc:creator>
  <dc:description>Презентации по культуре и искусству, шаблоны PowerPoint http://freeppt.ru/</dc:description>
  <dc:language>en-US</dc:language>
  <cp:lastModifiedBy>Dasha</cp:lastModifiedBy>
  <dcterms:modified xsi:type="dcterms:W3CDTF">2014-01-27T17:30:03Z</dcterms:modified>
  <cp:revision>11</cp:revision>
  <dc:subject>Шаблон для презентаций PowerPoint</dc:subject>
  <dc:title>Завтра в школу!</dc:title>
</cp:coreProperties>
</file>