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A02-0685-4F75-AF1F-530851F7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4EA-28BB-4C30-9D45-FC9767F4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8FB-C767-4367-A0E0-AAA20EDD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DD3-344A-455F-B20F-D8F8D746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1E59-64DC-44FD-8B0F-EB233647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8424-5368-4D17-9C66-BFDD095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9FE1-CB84-47D7-924A-CEEAEF05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E830-8B2E-46F3-8EC2-B502496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2AA6-A6BA-4CB6-B4C8-C726CFAF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AC4-2A00-4F3E-96F7-6CD5D7B5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35EB-F65B-48E7-BBEC-B04B073A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357-9408-40B2-A1E1-8010FCA7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A838-1ADE-4A83-BA46-A65A912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DF22-CE9C-46FC-BF26-D45149AE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3560-5FC8-4551-BFF1-8F78EBDC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A8F9-8E54-4CF8-9D25-F8E16793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78C3-3FC5-42B9-BE0B-25A5222D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18F-DA27-4A0D-8F4F-04294D08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302-BE03-4731-8560-E7171D60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836-0384-4488-9591-80A92339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D82-0B14-4555-91DC-FDD33DF4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121-D213-4278-AD59-5198E3F8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C67-9357-483F-AE93-965B3B9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C0D-E829-4CD6-9411-AE8F3B8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2C8C-E18B-4E73-90C7-0B1CDC253C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D463-96AD-4EFC-87CD-EE6D895265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2F31-B33F-4D19-B245-B1B700F1B1E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Знаток православной культур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92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гра для учащих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зучающих кур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Основы православной культуры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4132-7D95-4AB7-818C-B7C38B6EB03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Во время великого поста, христиане всего мира читают покаянную молитву этого святого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Ефрем Сири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324000" y="443700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авел Фивей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485928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тоний Вели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478800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дрей Крит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5066-99A2-426C-A4C8-F34F38A1E68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достный звон одновременно во все колокол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25092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лаговес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25092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зво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ба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4643280" y="2565360"/>
            <a:ext cx="410400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езво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B33E-2382-4F81-869F-6A1F3C63546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Год крещения Ру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324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99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89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478800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98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E77F-0624-44C6-9BF9-03077C40DC8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Этот апостол был одним из первых учеников, призванных Христом к служени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ако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25092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илипп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ндре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471636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оан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16E9-1DA9-47ED-9B27-2FAF6D0A611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амять этой великомученицы христиане празднуют 7 декабр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атиа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324000" y="443700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катери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71636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кили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78800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оф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465-95FE-4433-A2CD-376DD525D93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ак называют праздничное песнопение, посвящённое Богоматер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00000" y="2852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25092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кафис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25092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салтир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ис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478800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мофо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A1F6-13C5-4323-BF58-751677AD82E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азовите имя святого, написавшего «Символ вер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асилий Вели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324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Иоанн Златоус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4788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иколай Угодни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471636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ригорий Богосл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ACB2-4B9F-45B4-B7EA-3DA07941BEB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К этому святому пришёл Дмитрий Донской за благословением на Куликовскую битв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Oval 5"/>
          <p:cNvSpPr/>
          <p:nvPr/>
        </p:nvSpPr>
        <p:spPr>
          <a:xfrm>
            <a:off x="250920" y="249228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ерафим Саров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4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ергий Радонеж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Oval 7"/>
          <p:cNvSpPr/>
          <p:nvPr/>
        </p:nvSpPr>
        <p:spPr>
          <a:xfrm>
            <a:off x="4643280" y="4365720"/>
            <a:ext cx="410400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митрий Ростовск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478800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оанн Кронштадт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9D5B-C3C8-41FA-B1A1-C2282CFEB9A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 этом соборе Московского Кремля венчались на царство русские государ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0" y="2492280"/>
            <a:ext cx="46432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лаговещ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есвятой Богородиц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324000" y="4365720"/>
            <a:ext cx="424800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Двенадца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постол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Oval 7"/>
          <p:cNvSpPr/>
          <p:nvPr/>
        </p:nvSpPr>
        <p:spPr>
          <a:xfrm>
            <a:off x="4643280" y="4365720"/>
            <a:ext cx="424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спения Пресвят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огородиц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Oval 8"/>
          <p:cNvSpPr/>
          <p:nvPr/>
        </p:nvSpPr>
        <p:spPr>
          <a:xfrm>
            <a:off x="4716360" y="2421000"/>
            <a:ext cx="417528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рхистратиг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ихаи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4A4-6DBE-4132-B4FC-448C1A0B496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акое из таинств не установлено Иисусом Христ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0920" y="2565360"/>
            <a:ext cx="410364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вхарис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17928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ещ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4572000" y="4365720"/>
            <a:ext cx="410364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иропомаз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4643280" y="2565360"/>
            <a:ext cx="4104000" cy="115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кая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11:38Z</dcterms:created>
  <dc:creator>Иван</dc:creator>
  <dc:description/>
  <dc:language>en-US</dc:language>
  <cp:lastModifiedBy>1</cp:lastModifiedBy>
  <dcterms:modified xsi:type="dcterms:W3CDTF">2014-01-27T08:22:42Z</dcterms:modified>
  <cp:revision>14</cp:revision>
  <dc:subject/>
  <dc:title>Знаток православной культуры</dc:title>
</cp:coreProperties>
</file>