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8E06-79D4-450B-AB84-AC93A2CD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EFC9-7E1D-4B6B-BCCB-1C48426B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45D9-26E8-4EB3-BD77-02D0C516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8A11-DBE0-4435-9CDB-C9560C92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6E33-37D6-46D2-84A2-1B272C36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961A-7A0D-43AC-8B26-5D41D234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0A32-BF1A-499C-90EE-AAD9F3ED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7FCB-F1FF-4D3E-88A9-A0596945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524D-7A36-4A98-AC1C-413F39EE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BA39-814E-4C27-90B9-3EF85066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B279-0F30-40B9-B984-CE04B043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D23F-841A-417B-9E3F-364307B2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3274-1FC6-4629-A015-19595DB7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7734-7705-4D12-BAF6-4736048C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7F43-9DF5-476E-A68E-2BAE9A5D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8A03-496E-4F39-B9FC-3A68AD92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5ED2-39C5-4557-BB6A-A400C469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B330-A456-4765-8773-BE1D0DFA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735E-F7F5-4B28-8526-A4968A0F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D4EF-0919-4ADB-9D70-161B2F98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2C9E-EFD5-4408-B8E4-FE718CA2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5AFE-F02A-414C-AD5A-EF79571A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1D1F-01FF-4BEF-9ED3-ADA0965F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B92B-DD9F-4377-9E50-BF9E2790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B934-2A14-4409-B557-576737CCEC1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C526-49C7-4178-963D-9D839A3E1F1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F693-2C72-4383-9CAC-94404B4C36B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Знаток православной культуры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11280" y="3886200"/>
            <a:ext cx="7921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Игра для учащихс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изучающих кур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«Основы православной культуры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8712-A4DE-4BFA-A518-59AE57A9867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Во время великого поста, христиане всего мира читают покаянную молитву этого святого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50920" y="249228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Ефрем Сири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Oval 6"/>
          <p:cNvSpPr/>
          <p:nvPr/>
        </p:nvSpPr>
        <p:spPr>
          <a:xfrm>
            <a:off x="324000" y="443700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авел Фивейск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Oval 7"/>
          <p:cNvSpPr/>
          <p:nvPr/>
        </p:nvSpPr>
        <p:spPr>
          <a:xfrm>
            <a:off x="4859280" y="4365720"/>
            <a:ext cx="410364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тоний Велик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Oval 8"/>
          <p:cNvSpPr/>
          <p:nvPr/>
        </p:nvSpPr>
        <p:spPr>
          <a:xfrm>
            <a:off x="4788000" y="256536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дрей Критск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7F17-E921-4880-B968-829BD9B938B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Радостный звон одновременно во все колокол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250920" y="256536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Благовест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Oval 8"/>
          <p:cNvSpPr/>
          <p:nvPr/>
        </p:nvSpPr>
        <p:spPr>
          <a:xfrm>
            <a:off x="250920" y="4365720"/>
            <a:ext cx="410364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резво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4788000" y="4365720"/>
            <a:ext cx="410364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Набат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4643280" y="2565360"/>
            <a:ext cx="410400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ерезво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4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D6F4-5175-41C3-94EC-0CC4C733DB9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Год крещения Рус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250920" y="249228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Oval 6"/>
          <p:cNvSpPr/>
          <p:nvPr/>
        </p:nvSpPr>
        <p:spPr>
          <a:xfrm>
            <a:off x="324000" y="4365720"/>
            <a:ext cx="410364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99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Oval 7"/>
          <p:cNvSpPr/>
          <p:nvPr/>
        </p:nvSpPr>
        <p:spPr>
          <a:xfrm>
            <a:off x="4788000" y="4365720"/>
            <a:ext cx="410364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89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Oval 8"/>
          <p:cNvSpPr/>
          <p:nvPr/>
        </p:nvSpPr>
        <p:spPr>
          <a:xfrm>
            <a:off x="4788000" y="249228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98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A1C2-1289-42A7-B3A3-1A2F89616A0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Этот апостол был одним из первых учеников, призванных Христом к служению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250920" y="249228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ако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250920" y="4365720"/>
            <a:ext cx="410364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Филипп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4788000" y="4365720"/>
            <a:ext cx="410364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Андре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Oval 8"/>
          <p:cNvSpPr/>
          <p:nvPr/>
        </p:nvSpPr>
        <p:spPr>
          <a:xfrm>
            <a:off x="4716360" y="256536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оан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2F96-2BAC-453D-8038-7BA7DB055B1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амять этой великомученицы христиане празднуют 7 декабр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Oval 5"/>
          <p:cNvSpPr/>
          <p:nvPr/>
        </p:nvSpPr>
        <p:spPr>
          <a:xfrm>
            <a:off x="250920" y="249228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атиан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324000" y="443700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Екатерин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Oval 7"/>
          <p:cNvSpPr/>
          <p:nvPr/>
        </p:nvSpPr>
        <p:spPr>
          <a:xfrm>
            <a:off x="4716360" y="4365720"/>
            <a:ext cx="410364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Акилин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4788000" y="256536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оф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B7AF-C0DA-4E46-BD2D-522386AACE4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964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Как называют праздничное песнопение, посвящённое Богоматери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900000" y="285264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Oval 6"/>
          <p:cNvSpPr/>
          <p:nvPr/>
        </p:nvSpPr>
        <p:spPr>
          <a:xfrm>
            <a:off x="250920" y="256536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Акафис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250920" y="4365720"/>
            <a:ext cx="410364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салтир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4788000" y="4365720"/>
            <a:ext cx="410364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ис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4788000" y="256536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мофо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03D0-72CD-4C8E-BB05-2E8FA17D5D2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Назовите имя святого, написавшего «Символ веры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250920" y="249228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асилий Велик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324000" y="4365720"/>
            <a:ext cx="410364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Иоанн Златоус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Oval 7"/>
          <p:cNvSpPr/>
          <p:nvPr/>
        </p:nvSpPr>
        <p:spPr>
          <a:xfrm>
            <a:off x="4788000" y="4365720"/>
            <a:ext cx="410364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Николай Угодни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Oval 8"/>
          <p:cNvSpPr/>
          <p:nvPr/>
        </p:nvSpPr>
        <p:spPr>
          <a:xfrm>
            <a:off x="4716360" y="249228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Григорий Богосл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19ED-B585-4FF6-B133-F662B772E27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К этому святому пришёл Дмитрий Донской за благословением на Куликовскую битву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Oval 5"/>
          <p:cNvSpPr/>
          <p:nvPr/>
        </p:nvSpPr>
        <p:spPr>
          <a:xfrm>
            <a:off x="250920" y="249228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Серафим Саровск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Oval 6"/>
          <p:cNvSpPr/>
          <p:nvPr/>
        </p:nvSpPr>
        <p:spPr>
          <a:xfrm>
            <a:off x="324000" y="4365720"/>
            <a:ext cx="410364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Сергий Радонежск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Oval 7"/>
          <p:cNvSpPr/>
          <p:nvPr/>
        </p:nvSpPr>
        <p:spPr>
          <a:xfrm>
            <a:off x="4643280" y="4365720"/>
            <a:ext cx="410400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Дмитрий Ростовски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Oval 8"/>
          <p:cNvSpPr/>
          <p:nvPr/>
        </p:nvSpPr>
        <p:spPr>
          <a:xfrm>
            <a:off x="4788000" y="256536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оанн Кронштадтск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135C-2C8E-42FC-AAAB-A79E475451F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В этом соборе Московского Кремля венчались на царство русские государ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Oval 5"/>
          <p:cNvSpPr/>
          <p:nvPr/>
        </p:nvSpPr>
        <p:spPr>
          <a:xfrm>
            <a:off x="0" y="2492280"/>
            <a:ext cx="4643280" cy="1368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Благовещ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есвятой Богородиц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Oval 6"/>
          <p:cNvSpPr/>
          <p:nvPr/>
        </p:nvSpPr>
        <p:spPr>
          <a:xfrm>
            <a:off x="324000" y="4365720"/>
            <a:ext cx="424800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Двенадца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апостол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Oval 7"/>
          <p:cNvSpPr/>
          <p:nvPr/>
        </p:nvSpPr>
        <p:spPr>
          <a:xfrm>
            <a:off x="4643280" y="4365720"/>
            <a:ext cx="4248360" cy="1224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Успения Пресвято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Богородиц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Oval 8"/>
          <p:cNvSpPr/>
          <p:nvPr/>
        </p:nvSpPr>
        <p:spPr>
          <a:xfrm>
            <a:off x="4716360" y="2421000"/>
            <a:ext cx="4175280" cy="1368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Архистратиг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ихаил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DA3A-36BF-49C5-A080-D23122B49E0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Какое из таинств не установлено Иисусом Христо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0920" y="256536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Евхарист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Oval 11"/>
          <p:cNvSpPr/>
          <p:nvPr/>
        </p:nvSpPr>
        <p:spPr>
          <a:xfrm>
            <a:off x="179280" y="4365720"/>
            <a:ext cx="410364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рещ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Oval 12"/>
          <p:cNvSpPr/>
          <p:nvPr/>
        </p:nvSpPr>
        <p:spPr>
          <a:xfrm>
            <a:off x="4572000" y="4365720"/>
            <a:ext cx="410364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иропомаз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Oval 13"/>
          <p:cNvSpPr/>
          <p:nvPr/>
        </p:nvSpPr>
        <p:spPr>
          <a:xfrm>
            <a:off x="4643280" y="2565360"/>
            <a:ext cx="410400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кая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2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6:11:38Z</dcterms:created>
  <dc:creator>Иван</dc:creator>
  <dc:description/>
  <dc:language>en-US</dc:language>
  <cp:lastModifiedBy>1</cp:lastModifiedBy>
  <dcterms:modified xsi:type="dcterms:W3CDTF">2014-01-27T08:22:42Z</dcterms:modified>
  <cp:revision>14</cp:revision>
  <dc:subject/>
  <dc:title>Знаток православной культуры</dc:title>
</cp:coreProperties>
</file>