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88E-5D04-4677-B423-D921868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753-1492-4EE8-A383-42259F77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7B8-8A16-48E3-BE11-4BCDB29D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AE1-6678-445A-96F1-44F5EC5C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C1B6-37A7-4A67-8AE5-4320957F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1F9E-F723-4BAF-82A3-C2FB459E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6FD2-6F01-43A2-A244-CDE3C968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393E-3679-47D7-9211-35F22532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4BDD-16FF-4671-9AA7-ECB2916C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87F2-F7A0-4B7A-A41D-66168447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C97B-F6AF-4577-8847-598CABE2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E38-B033-4E45-A8EB-3444A77F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0EEA-872D-4B9A-81A4-A3BD5626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B1CD-7FB4-4639-ACF3-9024B73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E060-E8AA-4896-BEBC-225C5D01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7BD9-E798-4610-B716-0C477E3B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B1A7-6837-4D96-8875-B85A78A6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3057-CC72-4B42-9C5D-8D36CF13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F562-78C6-4ED5-9176-D15F1498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1184-39E0-44E5-8845-4FACF1CF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5EEB-B185-40F8-ACE2-C1E7A7D0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B26C0-DA7F-485D-855F-D0BCA6A3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F1C-1181-4011-BE74-8C8225D8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77FE-F799-4D91-8622-5D3BFB3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A841-8573-469C-AAC0-882A2E2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1E1A-4CA3-4E6F-BF6E-E2C8851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F6B19-F7B0-49DB-A945-60BC5A8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83DF-246F-4DF5-ACAB-07B23BD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045A-3216-42B5-B3B2-5D62D925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6FA8-C057-4847-9F65-F591117C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A812-18A0-4950-AA2E-5F856ACD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093E-9672-423D-AA7E-14F049B1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5BA0-3F92-484A-8D65-7397E895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F06-9CC1-4DF5-B2FF-3C76DFE2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0F88-8824-4FBA-ADB3-F0D6B79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489C-0FE7-4315-BC85-29533FBB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E197D-5DE8-4935-A432-E0FDAE36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A0FD-6A02-4B20-AFD9-23CBC48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FCED-912F-4E09-9456-B4B362F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E220-B05B-4B95-A629-FC1D754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0C1F-92E1-44E0-A137-C1C7DC6E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60C4-EED2-4BCD-B561-F5850541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5380-CA4B-4EA1-B9F1-26D1CC0D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C5EB-EEDE-4161-9149-675614EA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CAB-7C61-4F55-9BCB-A20CF47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7174-3460-43C3-959B-8E338B38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3730-F3C7-4303-B5F4-1C2BE43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F4F19-4BBB-4D80-A80B-1725E8C9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D57A1-E0F1-4D52-8DEE-FE177BC4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FAE40-F332-432C-A5EE-0AFCE496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D190-9C9F-473C-9952-D103B203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ABDA-52BC-4EB0-BE04-E0148EB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3F3F0-E0C9-49E2-A2E5-2E4769F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5D010-3FDB-48A2-AEE9-6BC5BBC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74C7-1569-4191-9791-2A59F315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D06-64BD-4FDC-ACFF-CED41B8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2D5D-3BDA-4023-8FE3-2E7DEA91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5611E-B49F-4317-A3DB-E1169AB7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DC74A-DE94-42E0-83AC-2B6F7FF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191C0-F74B-4719-BEEB-112FC400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4DAFC-06D7-4C97-8741-F7884B0B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1FA0B-5F31-4113-A3A5-051D0CC2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549BC-7572-487D-8292-AE372DD6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EF5D3-7632-4313-9F2A-870CE43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6DDA4-837A-4DCB-872B-BE9FE9D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BC20A-9290-4686-ABC7-14577E87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D8D-5A45-41CB-9076-7A1F055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0DF67-CC99-43F1-91F0-6E11EE6B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2B252-C161-4D7B-A74A-A7DE1F22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C6AE1-852C-4603-A276-B48F26C9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B61-D70F-4348-A1FA-69E7905A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3A4-2ACA-4FB6-B2A0-CC18334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F739-94D4-4C7A-927D-8E409D6C4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FEFE-D409-405F-99B4-EAF4C6F14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A0C6-9358-4E90-B42D-289D0DC8DBD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B259-18C7-43F0-89F2-7CAC33387AF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0F0-47C0-47AF-A0DC-35C3453EF4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06A-4553-46CC-98BA-D73814670E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185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99"/>
                </a:solidFill>
                <a:latin typeface="Times New Roman"/>
              </a:rPr>
              <a:t>Тема:</a:t>
            </a:r>
            <a:br>
              <a:rPr sz="7200"/>
            </a:b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ffff99"/>
                </a:solidFill>
                <a:latin typeface="Times New Roman"/>
              </a:rPr>
              <a:t>Нашествие с Востока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6048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Times New Roman"/>
              </a:rPr>
              <a:t>Цели: - </a:t>
            </a: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рассказать о завоевании Руси монголами, причинах и последствиях этих событий;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             - уяснить характер монгольских завоеваний и героическую борьбу народных масс против монгольских завоевателей;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             - дать оценку, выразить свою точку зрения по последствиям монгольских завоеван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569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Times New Roman"/>
              </a:rPr>
              <a:t>План:</a:t>
            </a: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1. Создание Монгольской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    империи.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2. Битва на реке Калке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3. Первый поход Батыя на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    Русь, 1237г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4. Второй поход Батыя,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                 1239 – 1240 гг.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b7"/>
                </a:solidFill>
                <a:latin typeface="Times New Roman"/>
              </a:rPr>
              <a:t>Новые слова:</a:t>
            </a:r>
            <a:r>
              <a:rPr b="1" i="1" lang="ru-RU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1. Курултай – собрание монгольской знати.</a:t>
            </a:r>
            <a:br>
              <a:rPr sz="4400"/>
            </a:b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2. Фураж – корм для лошадей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Times New Roman"/>
              </a:rPr>
              <a:t>Итоги сражения: </a:t>
            </a:r>
            <a:br>
              <a:rPr sz="5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1. Несмотря на героическое сопротивление Русь была разорена монголами.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Times New Roman"/>
              </a:rPr>
              <a:t>2. Монголы не смогли выполнить задачу покорения всего Ми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3e3ff"/>
                </a:solidFill>
                <a:latin typeface="Times New Roman"/>
              </a:rPr>
              <a:t>Домашнее задание: </a:t>
            </a:r>
            <a:br>
              <a:rPr sz="4800"/>
            </a:br>
            <a:br>
              <a:rPr sz="4800"/>
            </a:br>
            <a:r>
              <a:rPr b="1" i="1" lang="ru-RU" sz="4000" spc="-1" strike="noStrike">
                <a:solidFill>
                  <a:srgbClr val="e3e3ff"/>
                </a:solidFill>
                <a:latin typeface="Times New Roman"/>
              </a:rPr>
              <a:t>1) ответить на вопрос №5.</a:t>
            </a:r>
            <a:br>
              <a:rPr sz="4000"/>
            </a:br>
            <a:r>
              <a:rPr b="1" i="1" lang="ru-RU" sz="4000" spc="-1" strike="noStrike">
                <a:solidFill>
                  <a:srgbClr val="e3e3ff"/>
                </a:solidFill>
                <a:latin typeface="Times New Roman"/>
              </a:rPr>
              <a:t>2) используя карту стр. 101 выписать названия городов разрушенные монголам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07-10-30T04:13:11Z</dcterms:modified>
  <cp:revision>5</cp:revision>
  <dc:subject/>
  <dc:title>PowerPoint Presentation</dc:title>
</cp:coreProperties>
</file>