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048-C5AD-4F97-974B-2C42B1BE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F53-F704-4DA8-9253-4FAD629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AA8-E78A-4EB4-915C-1279C4A6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F36-1F82-46CF-8C25-37F57C12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77C-E757-4192-B785-1932BEBF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FE33-E561-44F0-B4B1-A054D26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3B78-62A1-4239-A549-904FD6A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BC2-3A63-42A6-9BAF-8136C7D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FB52-802A-4563-8E52-1943BC7F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5896-3CF4-4112-B689-15D4CF70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2B06-3779-495D-A173-1A0D4C3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D70-893D-48DE-8D95-C8DE54FB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FFA-9149-42FA-A666-639B47A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9EF4-5989-4093-80EF-420935A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ADDB-2D7B-4D06-A4DF-D448523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6003-498F-4C4F-8011-3D05F30B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42D7-B013-4634-8DDB-B07F8570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34ED-8137-4B04-AD06-9D7E25EF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93F5-0EEB-496C-90AF-C2980A1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F3C2-F964-46E0-86B3-F00C288B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AD3C-39CE-461F-A2FE-5377FB01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0330-82BE-44AD-BE22-BC22D2D7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3F0-7BEF-447C-AC1F-D5B9E174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6CE6-DBA8-47E9-904F-7A785F74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12EF-85C8-4D7A-A239-B520BD1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A582-DED3-43CF-BB52-EBAAE32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DE5C-36C6-4737-8F48-8604EA5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3470-3358-4605-87EA-99A74A5A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8CC5-74DB-4F86-AAF2-65D7882B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D7E1-E6A8-4D8C-9C8A-203384B1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8070-822B-4400-937D-C046526D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2F54-164E-4560-94AC-136DD28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5AA1-447E-4434-912C-9CE8968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7A4-E7DC-4488-8490-BCAF0D44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DAA9-A324-4481-94B4-34894D2B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4343-0BF5-402A-8146-E711D232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1FB7-D693-4126-A771-6DCB17B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A7D6-A069-41A8-82DA-C78084E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7EC4-C94C-45F8-982B-31E2681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EF7A-7F24-4112-959C-89F2E5D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1386-24E9-4BD5-888D-B9A8DEC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6B22-2ADF-4AD2-8BD2-09518F98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7E4A-FD15-4353-8788-BABC7565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4BED-5C9C-4405-809A-D12BBAED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5CE-A41C-4C8F-BF17-4CF8B186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76EC-521C-43DD-88AE-E43C3F34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5E66-ADDF-4572-9A84-9D1A08BE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6E23-58A1-4468-A5FB-0FF93E3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8CFC-23EC-4376-989B-7C4A1563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0CF2-5311-4E8B-872A-235DE9A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3E990-34A3-45AB-AD00-6CE9DEB1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B64A-7C3E-4180-A7B9-41A276A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DABD-CE1C-4EF0-AB73-B7B8143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51B3-B5C9-4136-A59A-1D95AB7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3098-1990-4842-927F-8091AAAB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11B-B8D1-4F63-A7B5-374E0DF3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0695-6A4A-4830-8188-3DD6541E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C36E8-AB84-465E-B551-7D32051F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0A287-203D-4A65-BA4E-A6DCCB94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C7CAC-90A4-4047-8339-19EDA41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78B1F-8B5E-427B-B6D1-FE62F50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E248E-4B4E-495D-80FD-F8167B5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20430-F0EE-42CD-A4C9-59AFA7C3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BA9D7-75DF-4502-BBFF-9BE3239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56547-ABA0-4479-A0E2-600D7F0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065B9-DB02-4719-A211-EFA1579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3A3-FB6B-4ECD-967E-D13F923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E251E-1E6D-4605-B509-559FE9F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E1D40-7B28-4C1D-8CEA-7D9EF036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5C1A1-AE81-4AEB-B682-372E8404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A1A-403B-4E5C-A43E-C2C45A2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D9E-23B7-4D0F-ABC6-371F2E5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CBAC-0DA5-4B3B-88A6-5C5DD268D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90A9-B2E2-4DBA-B023-40E355234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7EC9-383F-46AA-81B3-9EB2EDA6BDD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088-D142-4172-8C7D-4A4526E4DF8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2C70-F842-4204-A033-053C90948F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879A-E501-483E-872B-58D3B79A9F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185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99"/>
                </a:solidFill>
                <a:latin typeface="Times New Roman"/>
              </a:rPr>
              <a:t>Тема:</a:t>
            </a:r>
            <a:br>
              <a:rPr sz="7200"/>
            </a:b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ff99"/>
                </a:solidFill>
                <a:latin typeface="Times New Roman"/>
              </a:rPr>
              <a:t>Нашествие с Востока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048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Цели: - </a:t>
            </a: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рассказать о завоевании Руси монголами, причинах и последствиях этих событий;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             - уяснить характер монгольских завоеваний и героическую борьбу народных масс против монгольских завоевателей;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             - дать оценку, выразить свою точку зрения по последствиям монгольских завоеван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569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План: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1. Создание Монгольской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    империи.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2. Битва на реке Калке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3. Первый поход Батыя на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    Русь, 1237г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4. Второй поход Батыя,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    1239 – 1240 гг.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b7"/>
                </a:solidFill>
                <a:latin typeface="Times New Roman"/>
              </a:rPr>
              <a:t>Новые слова:</a:t>
            </a: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1. Курултай – собрание монгольской знати.</a:t>
            </a:r>
            <a:br>
              <a:rPr sz="4400"/>
            </a:b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2. Фураж – корм для лошадей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Times New Roman"/>
              </a:rPr>
              <a:t>Итоги сражения: </a:t>
            </a:r>
            <a:br>
              <a:rPr sz="5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1. Несмотря на героическое сопротивление Русь была разорена монголами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2. Монголы не смогли выполнить задачу покорения всего Ми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3e3ff"/>
                </a:solidFill>
                <a:latin typeface="Times New Roman"/>
              </a:rPr>
              <a:t>Домашнее задание: </a:t>
            </a:r>
            <a:br>
              <a:rPr sz="4800"/>
            </a:br>
            <a:br>
              <a:rPr sz="4800"/>
            </a:br>
            <a:r>
              <a:rPr b="1" i="1" lang="ru-RU" sz="4000" spc="-1" strike="noStrike">
                <a:solidFill>
                  <a:srgbClr val="e3e3ff"/>
                </a:solidFill>
                <a:latin typeface="Times New Roman"/>
              </a:rPr>
              <a:t>1) ответить на вопрос №5.</a:t>
            </a:r>
            <a:br>
              <a:rPr sz="4000"/>
            </a:br>
            <a:r>
              <a:rPr b="1" i="1" lang="ru-RU" sz="4000" spc="-1" strike="noStrike">
                <a:solidFill>
                  <a:srgbClr val="e3e3ff"/>
                </a:solidFill>
                <a:latin typeface="Times New Roman"/>
              </a:rPr>
              <a:t>2) используя карту стр. 101 выписать названия городов разрушенные монголам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7-10-30T04:13:11Z</dcterms:modified>
  <cp:revision>5</cp:revision>
  <dc:subject/>
  <dc:title>PowerPoint Presentation</dc:title>
</cp:coreProperties>
</file>