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37950-E302-4A85-885A-31DCDCD3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F540-5267-4065-9CE4-3A662243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CA05-8672-4EC5-9B55-C93722B7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677FC-9297-48BA-AF5E-E445C4F5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0FD0-8CE4-47BD-A8D6-40C86B78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E4E3-C5B9-4633-AD38-FA1DBA35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2235-442D-4BC5-BE39-64FDEF24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E605-21B0-41FE-BB00-F6B78345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F0F4-19F8-4565-A8E1-48784028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F4F4-575A-4446-9BC6-53C27140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9A3F-5022-411B-A7B3-6C88066B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4571-060B-4432-B6C9-24E11FF1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6940-C35A-4BC7-A702-AA94A0ED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C87A-CF2F-4C99-8189-8180BF8D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CC3D-9FD8-44E4-A0BD-1D2B4816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CD5E-66FF-4A3A-A392-BA0D04F8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C6E0-8E3B-4CA9-B0E9-FE33FD6A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5C5F-F6E3-4ED8-ADDE-61025965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4E221-56E0-483A-B75E-F95B0C27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6936-6434-4996-846D-D619B64C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83D55-B221-471A-970B-CACD906F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4BBC-5284-491D-A497-2E2E3516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EC802-3EE6-4B7B-B397-0094029F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25B2-99EF-4176-B93E-D52B0286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170B-A93F-489C-993A-36B4F88E09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4B7B-05F9-4370-A4B1-EFF65BC732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cc"/>
                </a:solidFill>
                <a:latin typeface="Garamond"/>
              </a:rPr>
              <a:t>«</a:t>
            </a:r>
            <a:r>
              <a:rPr b="1" lang="en-US" sz="6000" spc="-1" strike="noStrike">
                <a:solidFill>
                  <a:srgbClr val="0099cc"/>
                </a:solidFill>
                <a:latin typeface="Comic Sans MS"/>
              </a:rPr>
              <a:t>Звездный час»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3789360"/>
            <a:ext cx="1368360" cy="134604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Comic Sans MS"/>
              </a:rPr>
              <a:t>Условия игры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.Игра состоит из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V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у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2.Ответ дают  лишь 1 раз и сразу после контрольного времени (15 сек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. участники игры разбиваются на 3 групп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4. команда,  быстро давшая правильный ответ получает бал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5. победитель определяется по числу бал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5962320"/>
            <a:ext cx="2268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у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. Древнеславянское племя дряговичи, происходит от слова «дрягва». Что означает это слово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)  дерев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2) боло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)  гора            4) зем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2. Большую роль в жизни восточных славян играло бортничество. Что это за деятельность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. собирание меда   2) кораблестро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) шитьё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 4) собирание яго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0"/>
                <a:ext cx="142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0" y="0"/>
                <a:ext cx="142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6756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 участки земли использовались в течении нескольких дет до полного истощения, затем переходили на новые участки. Как называется такая система земледелия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) подсечно-огневая  2) перелож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) подсека                 4) страда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 Что называли славяне словом «жито», что означает «жить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) картофель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) капуст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) репу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4) зерно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0" y="0"/>
                <a:ext cx="142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0" y="3233880"/>
                <a:ext cx="142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II</a:t>
            </a: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 «Грамотейка»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Р А Л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О Б Т 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Н В И 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С П Г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III </a:t>
            </a: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 тур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. Кого называли норманнами, что означает «северные люди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) булгар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2) тюрков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) варяг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4) печенег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2.  Как звали первого варяжского  князя восточных славян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) Аскольд                 2) Ди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) Рюрик                   4) Оле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686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. город, построенный Рюрик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) Новгород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  2) Ладог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) Киев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         4) Любе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4. Объезд киевским князем с дружиной своих земель для сбора да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) погост             2) ур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) вече                4) полюдь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IV</a:t>
            </a:r>
            <a:r>
              <a:rPr b="1" lang="ru-RU" sz="4400" spc="-1" strike="noStrike">
                <a:solidFill>
                  <a:srgbClr val="e5e5ff"/>
                </a:solidFill>
                <a:latin typeface="Comic Sans MS"/>
              </a:rPr>
              <a:t> тур.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Составить как можно больше слов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Константинополь 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СПАСИБО ЗА ВНИМАНИЕ !!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4:43:51Z</dcterms:created>
  <dc:creator>ученик</dc:creator>
  <dc:description/>
  <dc:language>en-US</dc:language>
  <cp:lastModifiedBy>пользователь</cp:lastModifiedBy>
  <dcterms:modified xsi:type="dcterms:W3CDTF">2007-11-21T13:31:27Z</dcterms:modified>
  <cp:revision>14</cp:revision>
  <dc:subject/>
  <dc:title>«Звездный час»</dc:title>
</cp:coreProperties>
</file>