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359EE-EE92-4BF5-AFFC-ABB75337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E899A-B348-4E50-8598-172CF1C9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1E92E-174A-4373-A5DE-0EF4F167C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83680-6079-47D1-B3CB-D788AA98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1DC9-8A9F-40C1-AAD0-63108F45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1CBC-751E-4E9E-8B47-0C3740A1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EFBF-174E-4E8D-9050-471E2E40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8474-FA02-42B3-8519-A7DD2A91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369E-BD6A-4521-81A8-95F4DC74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58C4-CCB7-4356-B8A8-D96924F0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98EB-B113-4CAA-A890-EA8808BA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72F7E-1F0B-47F2-AC16-9D27AEEF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D79A-45E4-41F6-8CEA-FFD53C2D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ED8E-22F8-4050-9AB9-A659DFE4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9281-779B-46B9-AF1E-071ECFD3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3949-A8BC-40F9-A01B-5CC268A9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110B-7FB4-4717-88A9-E5B8ACD3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7766C-F94A-4A93-925F-04628F98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C53C2-FF27-4A5C-B74D-FA54B450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88487-BC12-4429-A9CD-E2A6DEDA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B7553-CF7D-4F06-BFA4-47207C27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42C44-456E-459C-9112-EEC1D252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F1434-F58F-4889-B81D-261A4A6B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F1BB8-D758-4C66-A2C9-0E44B4DF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7E71-D636-4286-A7A2-B9CFF73552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5BE7-1B47-4D14-BB5C-7A46E940B7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cc"/>
                </a:solidFill>
                <a:latin typeface="Garamond"/>
              </a:rPr>
              <a:t>«</a:t>
            </a:r>
            <a:r>
              <a:rPr b="1" lang="en-US" sz="6000" spc="-1" strike="noStrike">
                <a:solidFill>
                  <a:srgbClr val="0099cc"/>
                </a:solidFill>
                <a:latin typeface="Comic Sans MS"/>
              </a:rPr>
              <a:t>Звездный час»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3780000" y="3789360"/>
            <a:ext cx="1368360" cy="134604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Comic Sans MS"/>
              </a:rPr>
              <a:t>Условия игры: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1.Игра состоит из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V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ур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2.Ответ дают  лишь 1 раз и сразу после контрольного времени (15 сек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3. участники игры разбиваются на 3 групп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4. команда,  быстро давшая правильный ответ получает бал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5. победитель определяется по числу балл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-5962320"/>
            <a:ext cx="2268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у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1. Древнеславянское племя дряговичи, происходит от слова «дрягва». Что означает это слово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1)  дерево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2) боло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3)  гора            4) земл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2. Большую роль в жизни восточных славян играло бортничество. Что это за деятельность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1. собирание меда   2) кораблестро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3) шитьё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     4) собирание ягод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0" y="0"/>
                <a:ext cx="142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0" y="0"/>
                <a:ext cx="142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86756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. участки земли использовались в течении нескольких дет до полного истощения, затем переходили на новые участки. Как называется такая система земледелия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) подсечно-огневая  2) переложн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) подсека                 4) страда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. Что называли славяне словом «жито», что означает «жить»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) картофель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) капуст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) репу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            4) зерно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0" y="0"/>
                <a:ext cx="142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0" y="3233880"/>
                <a:ext cx="1429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II</a:t>
            </a: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 «Грамотейка»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Р А Л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О Б Т  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Н В И  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С П Г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III </a:t>
            </a: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 тур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1. Кого называли норманнами, что означает «северные люди»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1) булгар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2) тюрков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3) варяг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4) печенег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2.  Как звали первого варяжского  князя восточных славян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1) Аскольд                 2) Ди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3) Рюрик                   4) Олег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86868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3. город, построенный Рюрик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1) Новгород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      2) Ладог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3) Киев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             4) Любе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4. Объезд киевским князем с дружиной своих земель для сбора да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1) погост             2) ур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3) вече                4) полюдь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IV</a:t>
            </a: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 тур.</a:t>
            </a: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Составить как можно больше слов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Константинополь 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СПАСИБО ЗА ВНИМАНИЕ !!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04:43:51Z</dcterms:created>
  <dc:creator>ученик</dc:creator>
  <dc:description/>
  <dc:language>en-US</dc:language>
  <cp:lastModifiedBy>пользователь</cp:lastModifiedBy>
  <dcterms:modified xsi:type="dcterms:W3CDTF">2007-11-21T13:31:27Z</dcterms:modified>
  <cp:revision>14</cp:revision>
  <dc:subject/>
  <dc:title>«Звездный час»</dc:title>
</cp:coreProperties>
</file>