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D843-219B-474D-92BA-F102BA400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6DC8-8EFE-4F1C-9666-721FA185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BD8A-44EF-4C9B-9E73-E9B9614B8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3D62-E588-4355-9E21-848621E6A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5DE3-FC7B-4950-A4C1-9CECC066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C0CD-2CB5-4423-8D76-B52DEFBA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7680-173E-4F83-9B71-E63C8194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7EB8-EE28-4C15-9C7C-A1D61874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1F7C-95FB-47AB-A516-C2E33A04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6CBB-83E8-4E75-B557-B123C9A6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7CE1-83E3-4A90-92A3-B7B5AB0C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7204-5A72-43D9-92D7-45CA93D0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0747-6650-4187-8D0F-0DB6A6149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_dnem_bibliotek"/>
          <p:cNvPicPr/>
          <p:nvPr/>
        </p:nvPicPr>
        <p:blipFill>
          <a:blip r:embed="rId1"/>
          <a:stretch/>
        </p:blipFill>
        <p:spPr>
          <a:xfrm>
            <a:off x="0" y="0"/>
            <a:ext cx="9372600" cy="69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telsirka_2_jpg_13180219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71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87796_927e02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20090507PHOWWW002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19367_html_m1c3c0093"/>
          <p:cNvPicPr/>
          <p:nvPr/>
        </p:nvPicPr>
        <p:blipFill>
          <a:blip r:embed="rId1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19367_html_m1c3c0093"/>
          <p:cNvPicPr/>
          <p:nvPr/>
        </p:nvPicPr>
        <p:blipFill>
          <a:blip r:embed="rId2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bibliotek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D:\Documents and Settings\библиотека\Мои документы\Мои рисунки\Мои сканированные изображения\сканирование0118.jpg"/>
          <p:cNvPicPr/>
          <p:nvPr/>
        </p:nvPicPr>
        <p:blipFill>
          <a:blip r:embed="rId1"/>
          <a:stretch/>
        </p:blipFill>
        <p:spPr>
          <a:xfrm>
            <a:off x="3606840" y="3429000"/>
            <a:ext cx="5537160" cy="3621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В библиотеке с.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Бужанино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D:\Documents and Settings\библиотека\Мои документы\Мои рисунки\Мои сканированные изображения\сканирование0055.jpg"/>
          <p:cNvPicPr/>
          <p:nvPr/>
        </p:nvPicPr>
        <p:blipFill>
          <a:blip r:embed="rId2"/>
          <a:stretch/>
        </p:blipFill>
        <p:spPr>
          <a:xfrm>
            <a:off x="0" y="1523880"/>
            <a:ext cx="480060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9367_html_m5b5854a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69425596_img44623cc4da4f05003f4824326df597f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Наша школьная библиот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6" descr="D:\Documents and Settings\библиотека\Мои документы\Мои рисунки\Изображение\Изображение 051.jpg"/>
          <p:cNvPicPr/>
          <p:nvPr/>
        </p:nvPicPr>
        <p:blipFill>
          <a:blip r:embed="rId1"/>
          <a:stretch/>
        </p:blipFill>
        <p:spPr>
          <a:xfrm>
            <a:off x="0" y="1523880"/>
            <a:ext cx="3048120" cy="2286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53" name="Рисунок 7" descr="D:\Documents and Settings\библиотека\Мои документы\Мои рисунки\15.02. 026.jpg"/>
          <p:cNvPicPr/>
          <p:nvPr/>
        </p:nvPicPr>
        <p:blipFill>
          <a:blip r:embed="rId2"/>
          <a:stretch/>
        </p:blipFill>
        <p:spPr>
          <a:xfrm>
            <a:off x="0" y="3886200"/>
            <a:ext cx="3124080" cy="261144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pic>
        <p:nvPicPr>
          <p:cNvPr id="54" name="Рисунок 8" descr="D:\Documents and Settings\библиотека\Мои документы\Мои рисунки\15.02. 021.jpg"/>
          <p:cNvPicPr/>
          <p:nvPr/>
        </p:nvPicPr>
        <p:blipFill>
          <a:blip r:embed="rId3"/>
          <a:stretch/>
        </p:blipFill>
        <p:spPr>
          <a:xfrm>
            <a:off x="3124080" y="1523880"/>
            <a:ext cx="2971800" cy="2210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55" name="Picture 5" descr="D:\Documents and Settings\библиотека\Мои документы\Мои рисунки\Изображение\Изображение 047.jpg"/>
          <p:cNvPicPr/>
          <p:nvPr/>
        </p:nvPicPr>
        <p:blipFill>
          <a:blip r:embed="rId4"/>
          <a:stretch/>
        </p:blipFill>
        <p:spPr>
          <a:xfrm>
            <a:off x="3048120" y="3886200"/>
            <a:ext cx="3149640" cy="2514600"/>
          </a:xfrm>
          <a:prstGeom prst="rect">
            <a:avLst/>
          </a:prstGeom>
          <a:ln w="9360">
            <a:solidFill>
              <a:srgbClr val="ccdfdf"/>
            </a:solidFill>
            <a:miter/>
          </a:ln>
        </p:spPr>
      </p:pic>
      <p:pic>
        <p:nvPicPr>
          <p:cNvPr id="56" name="Picture 6" descr="D:\Documents and Settings\библиотека\Мои документы\Мои рисунки\Мои сканированные изображения\сканирование0098.jpg"/>
          <p:cNvPicPr/>
          <p:nvPr/>
        </p:nvPicPr>
        <p:blipFill>
          <a:blip r:embed="rId5"/>
          <a:stretch/>
        </p:blipFill>
        <p:spPr>
          <a:xfrm>
            <a:off x="6012000" y="1447920"/>
            <a:ext cx="3132000" cy="2361960"/>
          </a:xfrm>
          <a:prstGeom prst="rect">
            <a:avLst/>
          </a:prstGeom>
          <a:ln w="9360">
            <a:solidFill>
              <a:srgbClr val="9cbedf"/>
            </a:solidFill>
            <a:miter/>
          </a:ln>
        </p:spPr>
      </p:pic>
      <p:pic>
        <p:nvPicPr>
          <p:cNvPr id="57" name="Picture 8" descr="D:\Documents and Settings\библиотека\Мои документы\Мои рисунки\15.02. 086.jpg"/>
          <p:cNvPicPr/>
          <p:nvPr/>
        </p:nvPicPr>
        <p:blipFill>
          <a:blip r:embed="rId6"/>
          <a:stretch/>
        </p:blipFill>
        <p:spPr>
          <a:xfrm>
            <a:off x="6324480" y="3886200"/>
            <a:ext cx="28195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alex-shelves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8T17:33:27Z</dcterms:created>
  <dc:creator>Светлана</dc:creator>
  <dc:description/>
  <dc:language>en-US</dc:language>
  <cp:lastModifiedBy>Светлана</cp:lastModifiedBy>
  <dcterms:modified xsi:type="dcterms:W3CDTF">2014-01-28T17:37:5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