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DC9-39B8-4BFF-902F-8B0E5310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393-43CA-457E-87B3-A476D528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BB6-7DED-47F7-9218-87D45767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4AB-3B62-460D-A87B-19D49DB9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A27-77FE-45EE-B932-AA09A9F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B7C-51F4-44B3-996D-FBDEE6E2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A57-B596-4D3B-8AF9-6AE14B2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4F5-E314-4C8D-888B-4A76829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332-EF9D-464D-88ED-234B6ABF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CC4-FAF6-449B-9C93-09A500D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219-FF23-440F-8655-E7328C3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E5B-64FE-4B67-911F-950E36B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E8C8-4BC5-4622-B1FA-0BF3B69C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_dnem_bibliotek"/>
          <p:cNvPicPr/>
          <p:nvPr/>
        </p:nvPicPr>
        <p:blipFill>
          <a:blip r:embed="rId1"/>
          <a:stretch/>
        </p:blipFill>
        <p:spPr>
          <a:xfrm>
            <a:off x="0" y="0"/>
            <a:ext cx="93726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elsirka_2_jpg_1318021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1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87796_927e0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90507PHOWWW00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19367_html_m1c3c0093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19367_html_m1c3c0093"/>
          <p:cNvPicPr/>
          <p:nvPr/>
        </p:nvPicPr>
        <p:blipFill>
          <a:blip r:embed="rId2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ibliote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:\Documents and Settings\библиотека\Мои документы\Мои рисунки\Мои сканированные изображения\сканирование0118.jpg"/>
          <p:cNvPicPr/>
          <p:nvPr/>
        </p:nvPicPr>
        <p:blipFill>
          <a:blip r:embed="rId1"/>
          <a:stretch/>
        </p:blipFill>
        <p:spPr>
          <a:xfrm>
            <a:off x="3606840" y="3429000"/>
            <a:ext cx="5537160" cy="362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В библиотеке с.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Бужани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D:\Documents and Settings\библиотека\Мои документы\Мои рисунки\Мои сканированные изображения\сканирование0055.jpg"/>
          <p:cNvPicPr/>
          <p:nvPr/>
        </p:nvPicPr>
        <p:blipFill>
          <a:blip r:embed="rId2"/>
          <a:stretch/>
        </p:blipFill>
        <p:spPr>
          <a:xfrm>
            <a:off x="0" y="152388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367_html_m5b5854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69425596_img44623cc4da4f05003f4824326df597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Наша школьная 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D:\Documents and Settings\библиотека\Мои документы\Мои рисунки\Изображение\Изображение 051.jpg"/>
          <p:cNvPicPr/>
          <p:nvPr/>
        </p:nvPicPr>
        <p:blipFill>
          <a:blip r:embed="rId1"/>
          <a:stretch/>
        </p:blipFill>
        <p:spPr>
          <a:xfrm>
            <a:off x="0" y="1523880"/>
            <a:ext cx="30481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3" name="Рисунок 7" descr="D:\Documents and Settings\библиотека\Мои документы\Мои рисунки\15.02. 026.jpg"/>
          <p:cNvPicPr/>
          <p:nvPr/>
        </p:nvPicPr>
        <p:blipFill>
          <a:blip r:embed="rId2"/>
          <a:stretch/>
        </p:blipFill>
        <p:spPr>
          <a:xfrm>
            <a:off x="0" y="3886200"/>
            <a:ext cx="3124080" cy="2611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54" name="Рисунок 8" descr="D:\Documents and Settings\библиотека\Мои документы\Мои рисунки\15.02. 021.jpg"/>
          <p:cNvPicPr/>
          <p:nvPr/>
        </p:nvPicPr>
        <p:blipFill>
          <a:blip r:embed="rId3"/>
          <a:stretch/>
        </p:blipFill>
        <p:spPr>
          <a:xfrm>
            <a:off x="3124080" y="1523880"/>
            <a:ext cx="2971800" cy="2210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5" descr="D:\Documents and Settings\библиотека\Мои документы\Мои рисунки\Изображение\Изображение 047.jpg"/>
          <p:cNvPicPr/>
          <p:nvPr/>
        </p:nvPicPr>
        <p:blipFill>
          <a:blip r:embed="rId4"/>
          <a:stretch/>
        </p:blipFill>
        <p:spPr>
          <a:xfrm>
            <a:off x="3048120" y="3886200"/>
            <a:ext cx="3149640" cy="2514600"/>
          </a:xfrm>
          <a:prstGeom prst="rect">
            <a:avLst/>
          </a:prstGeom>
          <a:ln w="9360">
            <a:solidFill>
              <a:srgbClr val="ccdfdf"/>
            </a:solidFill>
            <a:miter/>
          </a:ln>
        </p:spPr>
      </p:pic>
      <p:pic>
        <p:nvPicPr>
          <p:cNvPr id="56" name="Picture 6" descr="D:\Documents and Settings\библиотека\Мои документы\Мои рисунки\Мои сканированные изображения\сканирование0098.jpg"/>
          <p:cNvPicPr/>
          <p:nvPr/>
        </p:nvPicPr>
        <p:blipFill>
          <a:blip r:embed="rId5"/>
          <a:stretch/>
        </p:blipFill>
        <p:spPr>
          <a:xfrm>
            <a:off x="6012000" y="1447920"/>
            <a:ext cx="3132000" cy="2361960"/>
          </a:xfrm>
          <a:prstGeom prst="rect">
            <a:avLst/>
          </a:prstGeom>
          <a:ln w="9360">
            <a:solidFill>
              <a:srgbClr val="9cbedf"/>
            </a:solidFill>
            <a:miter/>
          </a:ln>
        </p:spPr>
      </p:pic>
      <p:pic>
        <p:nvPicPr>
          <p:cNvPr id="57" name="Picture 8" descr="D:\Documents and Settings\библиотека\Мои документы\Мои рисунки\15.02. 086.jpg"/>
          <p:cNvPicPr/>
          <p:nvPr/>
        </p:nvPicPr>
        <p:blipFill>
          <a:blip r:embed="rId6"/>
          <a:stretch/>
        </p:blipFill>
        <p:spPr>
          <a:xfrm>
            <a:off x="6324480" y="388620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alex-shelv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7:33:27Z</dcterms:created>
  <dc:creator>Светлана</dc:creator>
  <dc:description/>
  <dc:language>en-US</dc:language>
  <cp:lastModifiedBy>Светлана</cp:lastModifiedBy>
  <dcterms:modified xsi:type="dcterms:W3CDTF">2014-01-28T17:3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