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FB4-B0E5-4DF8-BC0C-10771248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3FE-0912-4074-A39E-5D7AB84B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834-8A6A-46A9-B39E-7D754A9F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DBC-8169-4ECB-B6D8-3886EB5F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E6FE-531B-432F-836B-43AB8403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D37C-7F76-4289-9FB1-C46331E3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391E-8DB7-43B9-839A-0584EFF4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72DE-F444-4345-AC4E-0624DB01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A4FA-C655-4564-A5AA-28AEB998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DB8C-50D0-4635-841B-0311DB80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FEE1-424F-48CF-BACF-0EEED6BB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A0C-B648-424F-8C0D-DF424E89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8ADB-5DFD-4DF2-A641-60B9333B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0ADE-6EAC-4180-9B95-9E16410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C58-EA88-46D1-930B-778FD0AA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0622-1F81-4937-A930-9D535FE1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E945-FF0A-4445-92B5-0718A490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475-8A34-4E00-B094-824F30E4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887-5B95-48FD-A801-0F25B057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373-094E-42F2-920D-7B33A233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0EF-BF7A-4742-AD07-748BB7F5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BE9-1979-4E41-866A-105B7368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8B2-90FC-42C0-8C95-BF1E466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EC0-49F6-4CAA-885F-D00C222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C9D9-8680-4C11-B2AA-43459C4C4A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9671-F8C2-4AB9-A2D7-1726100CF0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Конкурс знатоков пословиц и поговорок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6" descr="134"/>
          <p:cNvPicPr/>
          <p:nvPr/>
        </p:nvPicPr>
        <p:blipFill>
          <a:blip r:embed="rId2"/>
          <a:stretch/>
        </p:blipFill>
        <p:spPr>
          <a:xfrm>
            <a:off x="762120" y="17524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Конкурс знатоков пословиц и поговорок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то много чит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нига - наш др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ы без кни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чел новую кни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на пользу чи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птица без крыль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от много зн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ез неё как без р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ли только вершки хва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третился с друг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онкурс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Четвертая лишняя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6" descr="den_bibliotek"/>
          <p:cNvPicPr/>
          <p:nvPr/>
        </p:nvPicPr>
        <p:blipFill>
          <a:blip r:embed="rId2"/>
          <a:stretch/>
        </p:blipFill>
        <p:spPr>
          <a:xfrm>
            <a:off x="685800" y="160020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етвертая лишняя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дна книга тысячи людей учи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е много читай, да много зна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елу - время, потехе - ча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е всякий, кто читает, в чтении силу знае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етвертая лишня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нига подобна воде - дорогу пробьет вез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Терпение и труд все перетру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нига поможет в труде, выручит в бе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е красна книга письмом, а красна умо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етвертая лишня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Есть и читать вместе - память потеря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оспешишь - людей насмешиш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е на пользу читать, коли только вершки хват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Хорошая книга ярче звездочки свети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-stihi-pozdravleniy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9160dc5fd196058a43ea8b37684d6f5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4:55:35Z</dcterms:created>
  <dc:creator>Светлана</dc:creator>
  <dc:description/>
  <dc:language>en-US</dc:language>
  <cp:lastModifiedBy>Светлана</cp:lastModifiedBy>
  <dcterms:modified xsi:type="dcterms:W3CDTF">2013-10-23T14:5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