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F80-0CFD-4790-B04B-1DFE7C18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E39-D0C5-485B-8047-DB41E804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775-36A3-4561-B3AA-C8FC45B0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F9B-52B5-40F2-9988-97D73530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D3D3-2062-4394-A6CE-828EBF64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9457-B865-4F73-AC1B-8A44AB5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49C-B934-4F9A-8ECF-3EFA45E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A5E2-AB23-4AC3-B42F-E709B54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A7DB-33D1-4B21-8C35-8BD69B9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677A-EC80-43C6-ACD3-9F0B7644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350-3AF0-46D1-8C66-4FC26E5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203-34FE-4A94-A421-0C2C0E3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CA5-4444-45A7-8881-0503CCE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9E8-5802-4C23-B36A-8F0002D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B45-1FE1-4C66-9104-CA202C4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2071-B7A1-40DE-B16E-386B3FBD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36E3-4DAF-4974-BBB3-D85A0EF4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9EA-E66A-4EA1-B917-C17D153F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337-DCDE-4084-A801-B6D6B5DB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AC3-FAD2-4BB5-AD6C-D681D33D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EB5-BCDA-4064-93F6-58697600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50E-DA96-413A-82D5-6700820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A2F-74A9-4A8B-B356-287935B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15E-FBC9-4D84-8B0F-F0BE27F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3D41-244C-4B1B-818B-8F3A44B2C2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22C-EF64-4A4B-9DA4-3234FD5052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знатоков пословиц и поговор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134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знатоков пословиц и поговорок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много чит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а - наш д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ы без кни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чел новую кни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на пользу чи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птица без крыль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т много зн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з неё как без р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ли только вершки хва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стретился с друг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Четвертая лишняя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6" descr="den_bibliotek"/>
          <p:cNvPicPr/>
          <p:nvPr/>
        </p:nvPicPr>
        <p:blipFill>
          <a:blip r:embed="rId2"/>
          <a:stretch/>
        </p:blipFill>
        <p:spPr>
          <a:xfrm>
            <a:off x="685800" y="16002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дна книга тысячи людей учи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много читай, да много зна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елу - время, потехе - час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всякий, кто читает, в чтении силу зна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нига подобна воде - дорогу пробьет вез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ерпение и труд все перетру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Книга поможет в труде, выручит в б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красна книга письмом, а красна ум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Четвертая лишня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Есть и читать вместе - память потеря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спешишь - людей насмешиш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 на пользу читать, коли только вершки хват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Хорошая книга ярче звездочки свети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-stihi-pozdravleniy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9160dc5fd196058a43ea8b37684d6f5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4:55:35Z</dcterms:created>
  <dc:creator>Светлана</dc:creator>
  <dc:description/>
  <dc:language>en-US</dc:language>
  <cp:lastModifiedBy>Светлана</cp:lastModifiedBy>
  <dcterms:modified xsi:type="dcterms:W3CDTF">2013-10-23T14:5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