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A9C-14F8-408F-814C-DD973B69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434-2F76-4008-BBDA-6CC01500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47E-ECE2-4D63-8C95-A2AC457D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224-180F-44E8-9E34-C5115B64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4C9-5D74-4BD3-94A1-565D9039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619-692D-438B-ACC9-7189658B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130-8D30-42B1-8B1B-D3F41A9C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628-50E6-4D9F-B248-1840314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8B2-E457-4A09-970F-C4D5D46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ECD-4B42-46AF-8F29-B7F78A0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6F8-FD5A-43AB-B67E-8153613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4C2-B2A3-4EE9-8C0A-11DCF1D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036-9C84-480D-BFB7-687C8B591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92240"/>
            <a:ext cx="86421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1" descr="мама и дев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9" descr="DSCN4950"/>
          <p:cNvPicPr/>
          <p:nvPr/>
        </p:nvPicPr>
        <p:blipFill>
          <a:blip r:embed="rId2"/>
          <a:stretch/>
        </p:blipFill>
        <p:spPr>
          <a:xfrm>
            <a:off x="5105520" y="440208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0" descr="DSCN4953"/>
          <p:cNvPicPr/>
          <p:nvPr/>
        </p:nvPicPr>
        <p:blipFill>
          <a:blip r:embed="rId3"/>
          <a:stretch/>
        </p:blipFill>
        <p:spPr>
          <a:xfrm>
            <a:off x="304920" y="16192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Каким должно быть воспитание в современной школе?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28" descr="P1011929"/>
          <p:cNvPicPr/>
          <p:nvPr/>
        </p:nvPicPr>
        <p:blipFill>
          <a:blip r:embed="rId4"/>
          <a:stretch/>
        </p:blipFill>
        <p:spPr>
          <a:xfrm>
            <a:off x="457200" y="377028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684360" y="1484280"/>
            <a:ext cx="45352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2771640" y="260280"/>
            <a:ext cx="46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УЖАСт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724360" y="1989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867280" y="1916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8328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- у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2781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86728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867280" y="450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877080" y="2924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- жизнерад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87708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 а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804000" y="45799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- смелые, сильные,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290760" y="5938920"/>
            <a:ext cx="459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0" y="5396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С чего начать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DSCN4167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404640"/>
            <a:ext cx="8496360" cy="23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Мой подход к управлению воспитания </a:t>
            </a:r>
            <a:r>
              <a:rPr b="1" i="1" lang="ru-RU" sz="2000" spc="-1" strike="noStrike">
                <a:solidFill>
                  <a:srgbClr val="ff3300"/>
                </a:solidFill>
                <a:latin typeface="Book Antiqua"/>
              </a:rPr>
              <a:t>АНТРОПОЛОГИЧЕСКИЙ -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речь идет о синтезе знаний о человеке с целью использования их в интересах обучения и воспитания. Высшей целью и ценностью воспитания для меня является мой ученик и его бытие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Book Antiqua"/>
              </a:rPr>
              <a:t>Все остальное располагается на более низких этажах ценностной иерархии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4149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Воспитательная система была определена к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ГУМАНИСТИЧЕ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DSCN0707"/>
          <p:cNvPicPr/>
          <p:nvPr/>
        </p:nvPicPr>
        <p:blipFill>
          <a:blip r:embed="rId1"/>
          <a:stretch/>
        </p:blipFill>
        <p:spPr>
          <a:xfrm>
            <a:off x="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SCN3893"/>
          <p:cNvPicPr/>
          <p:nvPr/>
        </p:nvPicPr>
        <p:blipFill>
          <a:blip r:embed="rId2"/>
          <a:stretch/>
        </p:blipFill>
        <p:spPr>
          <a:xfrm>
            <a:off x="0" y="486720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DSCN4141"/>
          <p:cNvPicPr/>
          <p:nvPr/>
        </p:nvPicPr>
        <p:blipFill>
          <a:blip r:embed="rId3"/>
          <a:stretch/>
        </p:blipFill>
        <p:spPr>
          <a:xfrm>
            <a:off x="6012000" y="-243000"/>
            <a:ext cx="330012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N0732"/>
          <p:cNvPicPr/>
          <p:nvPr/>
        </p:nvPicPr>
        <p:blipFill>
          <a:blip r:embed="rId4"/>
          <a:stretch/>
        </p:blipFill>
        <p:spPr>
          <a:xfrm>
            <a:off x="5867280" y="4437000"/>
            <a:ext cx="3013200" cy="2259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01480" y="1197000"/>
            <a:ext cx="864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lackadder ITC"/>
              </a:rPr>
              <a:t>Главной задачей становится педагогическое сопровождение и поддержка ребенка, максимальное развитие каждого ребенка, сохранение его неповторимости, раскрытие талантов и создание условий для его нормального духовного и интеллектуального и физического самосовершенствования.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419640" y="7389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7:14:52Z</dcterms:created>
  <dc:creator>Людмила</dc:creator>
  <dc:description/>
  <dc:language>en-US</dc:language>
  <cp:lastModifiedBy>Людмила</cp:lastModifiedBy>
  <dcterms:modified xsi:type="dcterms:W3CDTF">2014-01-28T17:25:27Z</dcterms:modified>
  <cp:revision>5</cp:revision>
  <dc:subject/>
  <dc:title>Слайд 1</dc:title>
</cp:coreProperties>
</file>