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71D-16DA-49AB-BA48-DF51A0DF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86A-113F-48C0-B7AE-251D59A1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702-59B0-426F-A442-727AB7ED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396-50D5-44C5-9826-D9D19FD0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FDA-0736-4E48-866A-0F6FB4B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E6A-030F-4145-827F-C324D7F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26D-8403-46A8-87DB-BF81990A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2C5-FEE7-4DDD-B740-10046FA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D84-12CC-423F-8A49-C2E113A3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492-3932-4E6B-864C-8FBBB8E2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F50-16F5-416F-81A2-28DE719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0B1-DFFE-4BFD-8048-BEE3FBC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1C9-3DBD-4B21-90EC-5ECD04786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0920" y="192240"/>
            <a:ext cx="86421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1" descr="мама и дев"/>
          <p:cNvPicPr/>
          <p:nvPr/>
        </p:nvPicPr>
        <p:blipFill>
          <a:blip r:embed="rId1"/>
          <a:stretch/>
        </p:blipFill>
        <p:spPr>
          <a:xfrm>
            <a:off x="5105520" y="1600200"/>
            <a:ext cx="4038480" cy="283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29" descr="DSCN4950"/>
          <p:cNvPicPr/>
          <p:nvPr/>
        </p:nvPicPr>
        <p:blipFill>
          <a:blip r:embed="rId2"/>
          <a:stretch/>
        </p:blipFill>
        <p:spPr>
          <a:xfrm>
            <a:off x="5105520" y="440208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0" descr="DSCN4953"/>
          <p:cNvPicPr/>
          <p:nvPr/>
        </p:nvPicPr>
        <p:blipFill>
          <a:blip r:embed="rId3"/>
          <a:stretch/>
        </p:blipFill>
        <p:spPr>
          <a:xfrm>
            <a:off x="304920" y="16192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Каким должно быть воспитание в современной школе?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28" descr="P1011929"/>
          <p:cNvPicPr/>
          <p:nvPr/>
        </p:nvPicPr>
        <p:blipFill>
          <a:blip r:embed="rId4"/>
          <a:stretch/>
        </p:blipFill>
        <p:spPr>
          <a:xfrm>
            <a:off x="457200" y="377028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684360" y="1484280"/>
            <a:ext cx="45352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2771640" y="260280"/>
            <a:ext cx="4681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УЖАСт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724360" y="1989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867280" y="1916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83280" y="2060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- у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867280" y="27813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86728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867280" y="450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877080" y="2924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- жизнерад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87708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- а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804000" y="45799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- смелые, сильные, 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290760" y="5938920"/>
            <a:ext cx="459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0" y="53967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С чего начать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DSCN4167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404640"/>
            <a:ext cx="8496360" cy="23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Мой подход к управлению воспитания </a:t>
            </a:r>
            <a:r>
              <a:rPr b="1" i="1" lang="ru-RU" sz="2000" spc="-1" strike="noStrike">
                <a:solidFill>
                  <a:srgbClr val="ff3300"/>
                </a:solidFill>
                <a:latin typeface="Book Antiqua"/>
              </a:rPr>
              <a:t>АНТРОПОЛОГИЧЕСКИЙ -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речь идет о синтезе знаний о человеке с целью использования их в интересах обучения и воспитания. Высшей целью и ценностью воспитания для меня является мой ученик и его бытие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Book Antiqua"/>
              </a:rPr>
              <a:t>Все остальное располагается на более низких этажах ценностной иерархии</a:t>
            </a:r>
            <a:r>
              <a:rPr b="1" i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4149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Georgia"/>
              </a:rPr>
              <a:t>Воспитательная система была определена к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ГУМАНИСТИЧЕС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DSCN0707"/>
          <p:cNvPicPr/>
          <p:nvPr/>
        </p:nvPicPr>
        <p:blipFill>
          <a:blip r:embed="rId1"/>
          <a:stretch/>
        </p:blipFill>
        <p:spPr>
          <a:xfrm>
            <a:off x="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SCN3893"/>
          <p:cNvPicPr/>
          <p:nvPr/>
        </p:nvPicPr>
        <p:blipFill>
          <a:blip r:embed="rId2"/>
          <a:stretch/>
        </p:blipFill>
        <p:spPr>
          <a:xfrm>
            <a:off x="0" y="4867200"/>
            <a:ext cx="265428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DSCN4141"/>
          <p:cNvPicPr/>
          <p:nvPr/>
        </p:nvPicPr>
        <p:blipFill>
          <a:blip r:embed="rId3"/>
          <a:stretch/>
        </p:blipFill>
        <p:spPr>
          <a:xfrm>
            <a:off x="6012000" y="-243000"/>
            <a:ext cx="330012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SCN0732"/>
          <p:cNvPicPr/>
          <p:nvPr/>
        </p:nvPicPr>
        <p:blipFill>
          <a:blip r:embed="rId4"/>
          <a:stretch/>
        </p:blipFill>
        <p:spPr>
          <a:xfrm>
            <a:off x="5867280" y="4437000"/>
            <a:ext cx="3013200" cy="2259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01480" y="1197000"/>
            <a:ext cx="864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Blackadder ITC"/>
              </a:rPr>
              <a:t>Главной задачей становится педагогическое сопровождение и поддержка ребенка, максимальное развитие каждого ребенка, сохранение его неповторимости, раскрытие талантов и создание условий для его нормального духовного и интеллектуального и физического самосовершенствования.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419640" y="7389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7:14:52Z</dcterms:created>
  <dc:creator>Людмила</dc:creator>
  <dc:description/>
  <dc:language>en-US</dc:language>
  <cp:lastModifiedBy>Людмила</cp:lastModifiedBy>
  <dcterms:modified xsi:type="dcterms:W3CDTF">2014-01-28T17:25:27Z</dcterms:modified>
  <cp:revision>5</cp:revision>
  <dc:subject/>
  <dc:title>Слайд 1</dc:title>
</cp:coreProperties>
</file>