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7B3-7FE3-4600-898D-57E46755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6AC-E221-47B3-A291-EC4FAA4F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D0F-134A-450D-8CD5-5E100FA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D86-BD13-4D5E-BADF-0B7ADBA6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887C-95E8-4FF4-92FF-52D10CEC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AC0-E5BE-4B71-9ADA-038E5D7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272D-220D-44DF-B29B-9B79676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E88-40B5-4DA5-BD14-D2AC99D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CFB-E459-4D6F-931A-25F6785A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ACE-233D-4279-9A7A-9A40372C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06A9-7813-4959-B255-19173A8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465-2DBD-4E1C-AC32-9B28C5C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03B-909F-4178-9C05-FB0AB82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A76E-D514-4629-B888-4E7677A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5D4E-FF63-4E18-A6A0-2DF5EA32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B31-4852-459B-80E2-8E1F25EF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8B8-6A71-47FF-9C37-6879C387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9FA-2932-4A2C-8812-D0FCFA9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6CB-7CD2-41FE-9B16-030B643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F6B-AAE3-45A6-A552-2AC9D481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278-33FF-4F14-AC1B-B611005E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8D5-B809-47AD-BCEB-8669AFE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13E-8E5B-4C04-A369-37EFED9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B46-EF79-4DF0-B72E-53A3632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EED2-948D-4F7C-8C8B-8EAE4ADEC05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34D-5B69-42B8-8A36-1F8346343E3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file:///&#1090;&#1072;&#1073;&#1083;&#1080;&#1094;&#1072;%20&#1091;&#1084;&#1085;&#1086;&#1078;&#1077;&#1085;&#1080;&#1103;.xls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Monotype Corsiva"/>
              </a:rPr>
              <a:t>Абсолютная и смешанные ссыл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0000"/>
                </a:solidFill>
                <a:uFillTx/>
                <a:latin typeface="Courier New"/>
              </a:rPr>
              <a:t>Смешанная ссылка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508640" cy="3543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15606" t="20979" r="53977" b="74537"/>
          <a:stretch/>
        </p:blipFill>
        <p:spPr>
          <a:xfrm>
            <a:off x="755640" y="3141720"/>
            <a:ext cx="3384720" cy="42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13782" t="21580" r="79570" b="53027"/>
          <a:stretch/>
        </p:blipFill>
        <p:spPr>
          <a:xfrm>
            <a:off x="611280" y="3500280"/>
            <a:ext cx="718920" cy="266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221000"/>
            <a:ext cx="144360" cy="1729080"/>
          </a:xfrm>
          <a:prstGeom prst="downArrow">
            <a:avLst>
              <a:gd name="adj1" fmla="val 50000"/>
              <a:gd name="adj2" fmla="val 299439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299736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rcRect l="-1240" t="12500" r="49747" b="51722"/>
          <a:stretch/>
        </p:blipFill>
        <p:spPr>
          <a:xfrm>
            <a:off x="4427640" y="2565360"/>
            <a:ext cx="504036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940360" y="3716280"/>
            <a:ext cx="5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588000" y="3429000"/>
            <a:ext cx="3240360" cy="28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20000" y="3716280"/>
            <a:ext cx="1800000" cy="144360"/>
          </a:xfrm>
          <a:prstGeom prst="rightArrow">
            <a:avLst>
              <a:gd name="adj1" fmla="val 50000"/>
              <a:gd name="adj2" fmla="val 31172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14972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2360" y="836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3529080" cy="1081080"/>
          </a:xfrm>
          <a:prstGeom prst="downArrowCallout">
            <a:avLst>
              <a:gd name="adj1" fmla="val 81618"/>
              <a:gd name="adj2" fmla="val 81610"/>
              <a:gd name="adj3" fmla="val 16667"/>
              <a:gd name="adj4" fmla="val 66667"/>
            </a:avLst>
          </a:prstGeom>
          <a:solidFill>
            <a:srgbClr val="ff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Записывается с символом</a:t>
            </a:r>
            <a:r>
              <a:rPr b="1" i="1" lang="en-US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$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перед буквенной частью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1341360"/>
            <a:ext cx="3529080" cy="1224000"/>
          </a:xfrm>
          <a:prstGeom prst="downArrowCallout">
            <a:avLst>
              <a:gd name="adj1" fmla="val 72087"/>
              <a:gd name="adj2" fmla="val 72081"/>
              <a:gd name="adj3" fmla="val 16667"/>
              <a:gd name="adj4" fmla="val 66667"/>
            </a:avLst>
          </a:prstGeom>
          <a:solidFill>
            <a:srgbClr val="ff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Записывается с символом</a:t>
            </a:r>
            <a:r>
              <a:rPr b="1" i="1" lang="en-US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$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перед числовой частью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75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Georgia"/>
              </a:rPr>
              <a:t>Задача 1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1520" y="836280"/>
            <a:ext cx="8142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Дан фрагмент электронной таблицы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357720"/>
            <a:ext cx="89647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Чему станет равным значение ячейки С2, если в нее скопировать формулу из ячейки С1? </a:t>
            </a:r>
            <a:br>
              <a:rPr sz="34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нак $ обозначает абсолютную адресацию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) 4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2) 5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)6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4) 70 </a:t>
            </a:r>
            <a:endParaRPr b="0" lang="en-US" sz="3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03280" y="1484280"/>
          <a:ext cx="6985080" cy="1733760"/>
        </p:xfrm>
        <a:graphic>
          <a:graphicData uri="http://schemas.openxmlformats.org/drawingml/2006/table">
            <a:tbl>
              <a:tblPr/>
              <a:tblGrid>
                <a:gridCol w="930240"/>
                <a:gridCol w="1982880"/>
                <a:gridCol w="1839960"/>
                <a:gridCol w="22320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1+$B$1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45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9280" y="836640"/>
            <a:ext cx="8604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фрагмент электронной таблицы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станет равным значение ячейки С1, если в нее скопировать формулу из ячейки С2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6920" y="2924280"/>
          <a:ext cx="7201080" cy="1366560"/>
        </p:xfrm>
        <a:graphic>
          <a:graphicData uri="http://schemas.openxmlformats.org/drawingml/2006/table">
            <a:tbl>
              <a:tblPr/>
              <a:tblGrid>
                <a:gridCol w="1602000"/>
                <a:gridCol w="1866960"/>
                <a:gridCol w="1865160"/>
                <a:gridCol w="186696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А2+2*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27080" y="189000"/>
            <a:ext cx="9016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Times New Roman"/>
              </a:rPr>
              <a:t>Задача 4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8066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33cc"/>
                </a:solidFill>
                <a:latin typeface="Courier New"/>
              </a:rPr>
              <a:t>Создайте таблицу умножения:</a:t>
            </a:r>
            <a:r>
              <a:rPr b="1" i="1" lang="en-US" sz="38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cccc"/>
                </a:solidFill>
                <a:latin typeface="Courier New"/>
              </a:rPr>
              <a:t>Создайте таблицу умножения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280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04000" y="5516640"/>
            <a:ext cx="2089080" cy="433440"/>
          </a:xfrm>
          <a:custGeom>
            <a:avLst/>
            <a:gdLst>
              <a:gd name="textAreaLeft" fmla="*/ 28080 w 2089080"/>
              <a:gd name="textAreaRight" fmla="*/ 2061000 w 2089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4039" h="21600">
                <a:moveTo>
                  <a:pt x="0" y="0"/>
                </a:moveTo>
                <a:lnTo>
                  <a:pt x="104039" y="0"/>
                </a:lnTo>
                <a:lnTo>
                  <a:pt x="104039" y="21600"/>
                </a:lnTo>
                <a:lnTo>
                  <a:pt x="0" y="21600"/>
                </a:lnTo>
                <a:close/>
              </a:path>
              <a:path fill="lightenLess" w="104039" h="21600">
                <a:moveTo>
                  <a:pt x="0" y="0"/>
                </a:moveTo>
                <a:lnTo>
                  <a:pt x="104039" y="0"/>
                </a:lnTo>
                <a:lnTo>
                  <a:pt x="102639" y="1400"/>
                </a:lnTo>
                <a:lnTo>
                  <a:pt x="1400" y="1400"/>
                </a:lnTo>
                <a:close/>
              </a:path>
              <a:path fill="darken" w="104039" h="21600">
                <a:moveTo>
                  <a:pt x="104039" y="0"/>
                </a:moveTo>
                <a:lnTo>
                  <a:pt x="104039" y="21600"/>
                </a:lnTo>
                <a:lnTo>
                  <a:pt x="102639" y="20200"/>
                </a:lnTo>
                <a:lnTo>
                  <a:pt x="102639" y="1400"/>
                </a:lnTo>
                <a:close/>
              </a:path>
              <a:path fill="darkenLess" w="104039" h="21600">
                <a:moveTo>
                  <a:pt x="104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39" y="20200"/>
                </a:lnTo>
                <a:close/>
              </a:path>
              <a:path fill="lighten" w="104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Courier New"/>
                <a:hlinkClick r:id="rId3"/>
              </a:rPr>
              <a:t>выполни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Courier New"/>
              </a:rPr>
              <a:t>Если вычислений много, а времени мало, то доверьтесь электронным таблица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3240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cc"/>
                </a:solidFill>
                <a:latin typeface="Courier New"/>
              </a:rPr>
              <a:t>Исключи лишнее слово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34401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720" y="2923920"/>
            <a:ext cx="4535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urier New"/>
              </a:rPr>
              <a:t>Основные информационные объе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276640"/>
            <a:ext cx="3024360" cy="3097080"/>
          </a:xfrm>
          <a:prstGeom prst="rightArrowCallout">
            <a:avLst>
              <a:gd name="adj1" fmla="val 25603"/>
              <a:gd name="adj2" fmla="val 25601"/>
              <a:gd name="adj3" fmla="val 16667"/>
              <a:gd name="adj4" fmla="val 66667"/>
            </a:avLst>
          </a:prstGeom>
          <a:solidFill>
            <a:srgbClr val="ffff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56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текс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321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рисуно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8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число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437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формул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240" y="364680"/>
            <a:ext cx="70009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Courier New"/>
              </a:rPr>
              <a:t>Какой вид будет иметь в ячейке </a:t>
            </a:r>
            <a:r>
              <a:rPr b="1" i="1" lang="en-US" sz="3400" spc="-1" strike="noStrike">
                <a:solidFill>
                  <a:srgbClr val="ff3300"/>
                </a:solidFill>
                <a:latin typeface="Courier New"/>
              </a:rPr>
              <a:t>С2</a:t>
            </a:r>
            <a:r>
              <a:rPr b="1" i="1" lang="en-US" sz="3400" spc="-1" strike="noStrike">
                <a:solidFill>
                  <a:srgbClr val="0033cc"/>
                </a:solidFill>
                <a:latin typeface="Courier New"/>
              </a:rPr>
              <a:t> формула для нахождения расстоя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833800" cy="2474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38600" y="2518920"/>
            <a:ext cx="209556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V*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A2*B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60*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2*B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Arial"/>
              </a:rPr>
              <a:t>=A2*B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7200" y="2602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В ячейке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2</a:t>
            </a:r>
            <a:r>
              <a:rPr b="1" i="1" lang="en-US" sz="29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записана формула: =</a:t>
            </a:r>
            <a:r>
              <a:rPr b="1" i="1" lang="en-US" sz="2900" spc="-1" strike="noStrike">
                <a:solidFill>
                  <a:srgbClr val="0033cc"/>
                </a:solidFill>
                <a:latin typeface="Courier New"/>
              </a:rPr>
              <a:t>A2*(B2+C2)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. Ее скопировали в ячейку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3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. Какое значение будет выведено в ячейке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3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7129440" cy="3240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00" y="3357720"/>
            <a:ext cx="1161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5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5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3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1875 0.14074 E">
                                      <p:cBhvr>
                                        <p:cTn id="13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Courier New"/>
              </a:rPr>
              <a:t>Относительная ссыл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904760"/>
            <a:ext cx="7010640" cy="1987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558972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i="1" lang="en-US" sz="2600" spc="-1" strike="noStrike">
                <a:solidFill>
                  <a:srgbClr val="0033cc"/>
                </a:solidFill>
                <a:latin typeface="Courier New"/>
              </a:rPr>
              <a:t>адрес ячейки,</a:t>
            </a:r>
            <a:r>
              <a:rPr b="1" i="1" lang="en-US" sz="2600" spc="-1" strike="noStrike">
                <a:solidFill>
                  <a:srgbClr val="cccccc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urier New"/>
              </a:rPr>
              <a:t>автоматически изменяющийся</a:t>
            </a:r>
            <a:r>
              <a:rPr b="1" i="1" lang="en-US" sz="2600" spc="-1" strike="noStrike">
                <a:solidFill>
                  <a:srgbClr val="cccccc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0033cc"/>
                </a:solidFill>
                <a:latin typeface="Courier New"/>
              </a:rPr>
              <a:t>при копировании форму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-133" t="14188" r="49585" b="47692"/>
          <a:stretch/>
        </p:blipFill>
        <p:spPr>
          <a:xfrm>
            <a:off x="755640" y="162864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2421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7280" y="2133720"/>
            <a:ext cx="1011240" cy="273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205000"/>
            <a:ext cx="4895640" cy="463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59280" y="2421000"/>
            <a:ext cx="1800000" cy="144360"/>
          </a:xfrm>
          <a:prstGeom prst="rightArrow">
            <a:avLst>
              <a:gd name="adj1" fmla="val 50000"/>
              <a:gd name="adj2" fmla="val 31172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8425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На демонстрационном экране представлена таблица для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расчетов стоимости туристических путевок в рублях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по цене, указанной в долларах, и по курсу доллара.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Выполните эти рас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14716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33cc"/>
                </a:solidFill>
                <a:latin typeface="Courier New"/>
              </a:rPr>
              <a:t>Результат</a:t>
            </a:r>
            <a:r>
              <a:rPr b="1" i="1" lang="en-US" sz="42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42999" b="56406"/>
          <a:stretch/>
        </p:blipFill>
        <p:spPr>
          <a:xfrm>
            <a:off x="179280" y="1773360"/>
            <a:ext cx="86868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033cc"/>
                </a:solidFill>
                <a:uFillTx/>
                <a:latin typeface="Courier New"/>
              </a:rPr>
              <a:t>Тема урок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619280" y="1484280"/>
            <a:ext cx="6337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Абсолютная 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и смешанные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ссылки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ff0000"/>
                </a:solidFill>
                <a:uFillTx/>
                <a:latin typeface="Courier New"/>
              </a:rPr>
              <a:t>Абсолютная ссылка</a:t>
            </a:r>
            <a:br>
              <a:rPr sz="3800"/>
            </a:b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Записывается с символом</a:t>
            </a:r>
            <a:r>
              <a:rPr b="1" i="1" lang="en-US" sz="25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$</a:t>
            </a:r>
            <a:r>
              <a:rPr b="1" i="1" lang="en-US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перед </a:t>
            </a:r>
            <a:br>
              <a:rPr sz="2500"/>
            </a:b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буквенной и числовой ча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33600" y="1930320"/>
            <a:ext cx="668664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2435" t="20153" r="52973" b="74454"/>
          <a:stretch/>
        </p:blipFill>
        <p:spPr>
          <a:xfrm>
            <a:off x="2340000" y="2349360"/>
            <a:ext cx="532908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3782" t="21580" r="79139" b="53086"/>
          <a:stretch/>
        </p:blipFill>
        <p:spPr>
          <a:xfrm>
            <a:off x="2556000" y="2492280"/>
            <a:ext cx="107928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00360" y="220500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2637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9119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Адрес ячейки при копировании формулы</a:t>
            </a: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 не изменяетс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0:57Z</dcterms:created>
  <dc:creator>МО</dc:creator>
  <dc:description/>
  <dc:language>en-US</dc:language>
  <cp:lastModifiedBy>BEST</cp:lastModifiedBy>
  <dcterms:modified xsi:type="dcterms:W3CDTF">2014-01-05T15:58:39Z</dcterms:modified>
  <cp:revision>10</cp:revision>
  <dc:subject/>
  <dc:title>Слайд 1</dc:title>
</cp:coreProperties>
</file>