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597-AAC8-4CBD-B8A6-A21250B2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C54-FC47-4AB1-9A17-BAE1080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40E-9637-4BC3-9770-D49A9DF5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81D-EED6-4D49-AB73-94B35CE6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90C-AD49-4A15-9845-0E65E8DD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081-6238-41C4-AE2A-CAA7658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CF1-7F0B-4D67-8064-076F86C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D7C-E9F2-43C3-968B-CD38851C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240-2FF8-4B4C-ACD8-B6B4B0C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F1D-D550-445F-AF2F-10BFB8E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BA-6282-40C4-8210-4B56855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CA0-DFC3-406B-9D14-71C6A33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62E8-E0CB-440B-99B3-7327AA5B2611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ван Андреевич Крылов 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В течение 29 лет работал в Публичной библиотеке Петербурга с 1812 по 1841 год. 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44" name="Picture 8" descr="772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ые наши школьны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4" name="Picture 2" descr="D:\Documents and Settings\библиотека\Мои документы\Мои рисунки\15.02. 064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Российски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6" name="Picture 2" descr="D:\Documents and Settings\библиотека\Мои документы\Мои рисунки\15.02. 071.jpg"/>
          <p:cNvPicPr/>
          <p:nvPr/>
        </p:nvPicPr>
        <p:blipFill>
          <a:blip r:embed="rId2"/>
          <a:stretch/>
        </p:blipFill>
        <p:spPr>
          <a:xfrm>
            <a:off x="0" y="10666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Documents and Settings\библиотека\Мои документы\Мои рисунки\15.02. 072.jpg"/>
          <p:cNvPicPr/>
          <p:nvPr/>
        </p:nvPicPr>
        <p:blipFill>
          <a:blip r:embed="rId3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справочны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9" name="Picture 2" descr="D:\Documents and Settings\библиотека\Мои документы\Мои рисунки\15.02. 075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военны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1" name="Picture 2" descr="D:\Documents and Settings\библиотека\Мои документы\Мои рисунки\15.02. 078.jpg"/>
          <p:cNvPicPr/>
          <p:nvPr/>
        </p:nvPicPr>
        <p:blipFill>
          <a:blip r:embed="rId2"/>
          <a:stretch/>
        </p:blipFill>
        <p:spPr>
          <a:xfrm>
            <a:off x="0" y="1143000"/>
            <a:ext cx="53085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Documents and Settings\библиотека\Мои документы\Мои рисунки\15.02. 090.jpg"/>
          <p:cNvPicPr/>
          <p:nvPr/>
        </p:nvPicPr>
        <p:blipFill>
          <a:blip r:embed="rId3"/>
          <a:stretch/>
        </p:blipFill>
        <p:spPr>
          <a:xfrm>
            <a:off x="3962520" y="3475080"/>
            <a:ext cx="51814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детски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4" name="Picture 2" descr="D:\Documents and Settings\библиотека\Мои документы\Мои рисунки\15.02. 069.jpg"/>
          <p:cNvPicPr/>
          <p:nvPr/>
        </p:nvPicPr>
        <p:blipFill>
          <a:blip r:embed="rId2"/>
          <a:stretch/>
        </p:blipFill>
        <p:spPr>
          <a:xfrm>
            <a:off x="0" y="80820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Documents and Settings\библиотека\Мои документы\Мои рисунки\15.02. 077.jpg"/>
          <p:cNvPicPr/>
          <p:nvPr/>
        </p:nvPicPr>
        <p:blipFill>
          <a:blip r:embed="rId2"/>
          <a:stretch/>
        </p:blipFill>
        <p:spPr>
          <a:xfrm>
            <a:off x="-762120" y="1143000"/>
            <a:ext cx="562788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сказочны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7" name="Picture 2" descr="D:\Documents and Settings\библиотека\Мои документы\Мои рисунки\15.02. 076.jpg"/>
          <p:cNvPicPr/>
          <p:nvPr/>
        </p:nvPicPr>
        <p:blipFill>
          <a:blip r:embed="rId3"/>
          <a:stretch/>
        </p:blipFill>
        <p:spPr>
          <a:xfrm>
            <a:off x="3352680" y="1295280"/>
            <a:ext cx="5791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Самые краеведческие книг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89" name="Picture 2" descr="D:\Documents and Settings\библиотека\Мои документы\Мои рисунки\15.02. 074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амая рекордная книга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1" name="Picture 2" descr="D:\Documents and Settings\библиотека\Мои документы\Мои рисунки\15.02. 070.jpg"/>
          <p:cNvPicPr/>
          <p:nvPr/>
        </p:nvPicPr>
        <p:blipFill>
          <a:blip r:embed="rId2"/>
          <a:stretch/>
        </p:blipFill>
        <p:spPr>
          <a:xfrm>
            <a:off x="0" y="10159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Самые географические книги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3" name="Picture 2" descr="D:\Documents and Settings\библиотека\Мои документы\Мои рисунки\15.02. 073.jpg"/>
          <p:cNvPicPr/>
          <p:nvPr/>
        </p:nvPicPr>
        <p:blipFill>
          <a:blip r:embed="rId2"/>
          <a:stretch/>
        </p:blipFill>
        <p:spPr>
          <a:xfrm>
            <a:off x="0" y="1143000"/>
            <a:ext cx="674532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Documents and Settings\библиотека\Мои документы\Мои рисунки\15.02. 097.jpg"/>
          <p:cNvPicPr/>
          <p:nvPr/>
        </p:nvPicPr>
        <p:blipFill>
          <a:blip r:embed="rId3"/>
          <a:stretch/>
        </p:blipFill>
        <p:spPr>
          <a:xfrm>
            <a:off x="2895480" y="1143000"/>
            <a:ext cx="6248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:\Documents and Settings\библиотека\Мои документы\Мои рисунки\15.02. 092.jpg"/>
          <p:cNvPicPr/>
          <p:nvPr/>
        </p:nvPicPr>
        <p:blipFill>
          <a:blip r:embed="rId2"/>
          <a:stretch/>
        </p:blipFill>
        <p:spPr>
          <a:xfrm>
            <a:off x="5562720" y="1143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Книги, подаренные читателями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97" name="Picture 5" descr="D:\Documents and Settings\библиотека\Мои документы\Мои рисунки\15.02. 093.jpg"/>
          <p:cNvPicPr/>
          <p:nvPr/>
        </p:nvPicPr>
        <p:blipFill>
          <a:blip r:embed="rId3"/>
          <a:stretch/>
        </p:blipFill>
        <p:spPr>
          <a:xfrm>
            <a:off x="5105520" y="38098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Documents and Settings\библиотека\Мои документы\Мои рисунки\15.02. 083.jpg"/>
          <p:cNvPicPr/>
          <p:nvPr/>
        </p:nvPicPr>
        <p:blipFill>
          <a:blip r:embed="rId4"/>
          <a:stretch/>
        </p:blipFill>
        <p:spPr>
          <a:xfrm>
            <a:off x="0" y="11430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Александр Иванович Герцен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«Публичная библиотека - это открытый стол идей, за который приглашен каждый, за которым каждый найдёт себе пищу, которую он ищет:"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48" name="Picture 10" descr="TASS_54316_opt"/>
          <p:cNvPicPr/>
          <p:nvPr/>
        </p:nvPicPr>
        <p:blipFill>
          <a:blip r:embed="rId2"/>
          <a:stretch/>
        </p:blipFill>
        <p:spPr>
          <a:xfrm>
            <a:off x="457200" y="198108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100" name="Picture 5" descr="D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Николай Иванович Лобачевский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Великий русский математик, профессор работал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библиотекарем Казанского университета в течение 12 лет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52" name="Picture 10" descr="36593_html_m4bcbceee"/>
          <p:cNvPicPr/>
          <p:nvPr/>
        </p:nvPicPr>
        <p:blipFill>
          <a:blip r:embed="rId2"/>
          <a:stretch/>
        </p:blipFill>
        <p:spPr>
          <a:xfrm>
            <a:off x="547560" y="1752480"/>
            <a:ext cx="381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b5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Сегодня у нас в гостях библиотекарь поселковой библиотеки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,,,,,,,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4" name="Picture 3" descr="D:\Documents and Settings\библиотека\Мои документы\Мои рисунки\Мои сканированные изображения\сканирование0055.jpg"/>
          <p:cNvPicPr/>
          <p:nvPr/>
        </p:nvPicPr>
        <p:blipFill>
          <a:blip r:embed="rId2"/>
          <a:stretch/>
        </p:blipFill>
        <p:spPr>
          <a:xfrm>
            <a:off x="0" y="1752480"/>
            <a:ext cx="5362560" cy="352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4f87317e41e5"/>
          <p:cNvPicPr/>
          <p:nvPr/>
        </p:nvPicPr>
        <p:blipFill>
          <a:blip r:embed="rId3"/>
          <a:stretch/>
        </p:blipFill>
        <p:spPr>
          <a:xfrm>
            <a:off x="4724280" y="3184560"/>
            <a:ext cx="4419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305548174_flowers%283%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205740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Долгое время в нашей школьной библиотеке работали: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ОТМЕНИНА Юлия Михайловна,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Шведова Наталья Николаевна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solidFill>
            <a:srgbClr val="b8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ейчас в школьной библиотеке работает Болдырева Маргарита Михайловна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9" name="Picture 7" descr="s_dnem_bibliotek"/>
          <p:cNvPicPr/>
          <p:nvPr/>
        </p:nvPicPr>
        <p:blipFill>
          <a:blip r:embed="rId2"/>
          <a:stretch/>
        </p:blipFill>
        <p:spPr>
          <a:xfrm>
            <a:off x="2057400" y="1600200"/>
            <a:ext cx="708660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D:\Documents and Settings\библиотека\Рабочий стол\рита 005.jpg"/>
          <p:cNvPicPr/>
          <p:nvPr/>
        </p:nvPicPr>
        <p:blipFill>
          <a:blip r:embed="rId3"/>
          <a:stretch/>
        </p:blipFill>
        <p:spPr>
          <a:xfrm>
            <a:off x="0" y="1600200"/>
            <a:ext cx="48769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3"/>
          <p:cNvSpPr/>
          <p:nvPr/>
        </p:nvSpPr>
        <p:spPr>
          <a:xfrm>
            <a:off x="5257800" y="3733920"/>
            <a:ext cx="312408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УЧЕБНАЯ ЛИТЕРАТУРА -  2237 экз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Овал 2"/>
          <p:cNvSpPr/>
          <p:nvPr/>
        </p:nvSpPr>
        <p:spPr>
          <a:xfrm>
            <a:off x="914400" y="3733920"/>
            <a:ext cx="3200400" cy="2133360"/>
          </a:xfrm>
          <a:prstGeom prst="ellipse">
            <a:avLst/>
          </a:prstGeom>
          <a:solidFill>
            <a:srgbClr val="b5ff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ХУДОЖЕСТ-ВЕННАЯ ЛИТЕРАТУРА - 3798 эк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НИЖНЫЙ ФОНД ШКОЛЬНОЙ БИБЛИОТЕКИ составляет – 6035 экз.</a:t>
            </a:r>
            <a:br>
              <a:rPr sz="3600"/>
            </a:b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cxnSp>
        <p:nvCxnSpPr>
          <p:cNvPr id="64" name="Прямая со стрелкой 5"/>
          <p:cNvCxnSpPr>
            <a:stCxn id="63" idx="2"/>
          </p:cNvCxnSpPr>
          <p:nvPr/>
        </p:nvCxnSpPr>
        <p:spPr>
          <a:xfrm flipH="1">
            <a:off x="2894760" y="1752480"/>
            <a:ext cx="1677240" cy="19058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>
            <a:stCxn id="63" idx="2"/>
          </p:cNvCxnSpPr>
          <p:nvPr/>
        </p:nvCxnSpPr>
        <p:spPr>
          <a:xfrm>
            <a:off x="4570920" y="1752480"/>
            <a:ext cx="2134440" cy="1905840"/>
          </a:xfrm>
          <a:prstGeom prst="straightConnector1">
            <a:avLst/>
          </a:prstGeom>
          <a:ln w="9360">
            <a:solidFill>
              <a:srgbClr val="009999"/>
            </a:solidFill>
            <a:miter/>
            <a:tailEnd len="med" type="arrow" w="med"/>
          </a:ln>
        </p:spPr>
      </p:cxn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7620120" y="236232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2"/>
          <p:cNvPicPr/>
          <p:nvPr/>
        </p:nvPicPr>
        <p:blipFill>
          <a:blip r:embed="rId3"/>
          <a:stretch/>
        </p:blipFill>
        <p:spPr>
          <a:xfrm>
            <a:off x="762120" y="1676520"/>
            <a:ext cx="2320920" cy="167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:\Documents and Settings\библиотека\Мои документы\Мои рисунки\15.02. 094.jpg"/>
          <p:cNvPicPr/>
          <p:nvPr/>
        </p:nvPicPr>
        <p:blipFill>
          <a:blip r:embed="rId4"/>
          <a:stretch/>
        </p:blipFill>
        <p:spPr>
          <a:xfrm>
            <a:off x="3886200" y="2666880"/>
            <a:ext cx="18684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АЯ новая и самая большая книга в библиотеке - 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0" name="Picture 3" descr="D:\Documents and Settings\библиотека\Мои документы\Мои рисунки\15.02. 098.jpg"/>
          <p:cNvPicPr/>
          <p:nvPr/>
        </p:nvPicPr>
        <p:blipFill>
          <a:blip r:embed="rId2"/>
          <a:stretch/>
        </p:blipFill>
        <p:spPr>
          <a:xfrm>
            <a:off x="1371600" y="175248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Самая красивая и самая просматриваемая книга: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72" name="Picture 3" descr="D:\Documents and Settings\библиотека\Мои документы\Мои рисунки\15.02. 091.jpg"/>
          <p:cNvPicPr/>
          <p:nvPr/>
        </p:nvPicPr>
        <p:blipFill>
          <a:blip r:embed="rId2"/>
          <a:stretch/>
        </p:blipFill>
        <p:spPr>
          <a:xfrm>
            <a:off x="1117440" y="1924200"/>
            <a:ext cx="65786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3:06:24Z</dcterms:created>
  <dc:creator>Светлана</dc:creator>
  <dc:description/>
  <dc:language>en-US</dc:language>
  <cp:lastModifiedBy>Светлана</cp:lastModifiedBy>
  <dcterms:modified xsi:type="dcterms:W3CDTF">2014-01-28T17:37:5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