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3396-885D-4A27-8547-D7FC26ED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8037-5C3C-49A7-85DC-A6E1AB69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2465-459F-40C3-8824-B36F3C5C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976-6ADB-46A2-9BEB-95D08BF3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896-19C5-4F8F-8CBD-BDBC4803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6D0-EB61-41A6-9DE7-7FE8751E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00C-99EE-4227-BF45-233ACB23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884B-5C66-4BD0-B1C8-0480842A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8E90-E912-41C0-A811-E08393B9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663-08DF-4A1A-BDBA-104975FB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4D6-B7F4-4086-98ED-87CD1FD1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A3D1-4038-4239-9EF3-D03EA652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DEB3-8D79-42A1-8000-67408AC1DEC2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Иван Андреевич Крылов 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В течение 29 лет работал в Публичной библиотеке Петербурга с 1812 по 1841 год. 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44" name="Picture 8" descr="772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Самые наши школьные книги: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74" name="Picture 2" descr="D:\Documents and Settings\библиотека\Мои документы\Мои рисунки\15.02. 064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Самые Российские книги: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76" name="Picture 2" descr="D:\Documents and Settings\библиотека\Мои документы\Мои рисунки\15.02. 071.jpg"/>
          <p:cNvPicPr/>
          <p:nvPr/>
        </p:nvPicPr>
        <p:blipFill>
          <a:blip r:embed="rId2"/>
          <a:stretch/>
        </p:blipFill>
        <p:spPr>
          <a:xfrm>
            <a:off x="0" y="1066680"/>
            <a:ext cx="5105520" cy="3829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D:\Documents and Settings\библиотека\Мои документы\Мои рисунки\15.02. 072.jpg"/>
          <p:cNvPicPr/>
          <p:nvPr/>
        </p:nvPicPr>
        <p:blipFill>
          <a:blip r:embed="rId3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Самые справочные книги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79" name="Picture 2" descr="D:\Documents and Settings\библиотека\Мои документы\Мои рисунки\15.02. 075.jpg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Самые военные книги: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81" name="Picture 2" descr="D:\Documents and Settings\библиотека\Мои документы\Мои рисунки\15.02. 078.jpg"/>
          <p:cNvPicPr/>
          <p:nvPr/>
        </p:nvPicPr>
        <p:blipFill>
          <a:blip r:embed="rId2"/>
          <a:stretch/>
        </p:blipFill>
        <p:spPr>
          <a:xfrm>
            <a:off x="0" y="1143000"/>
            <a:ext cx="5308560" cy="398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D:\Documents and Settings\библиотека\Мои документы\Мои рисунки\15.02. 090.jpg"/>
          <p:cNvPicPr/>
          <p:nvPr/>
        </p:nvPicPr>
        <p:blipFill>
          <a:blip r:embed="rId3"/>
          <a:stretch/>
        </p:blipFill>
        <p:spPr>
          <a:xfrm>
            <a:off x="3962520" y="3475080"/>
            <a:ext cx="51814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Самые детские книги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84" name="Picture 2" descr="D:\Documents and Settings\библиотека\Мои документы\Мои рисунки\15.02. 069.jpg"/>
          <p:cNvPicPr/>
          <p:nvPr/>
        </p:nvPicPr>
        <p:blipFill>
          <a:blip r:embed="rId2"/>
          <a:stretch/>
        </p:blipFill>
        <p:spPr>
          <a:xfrm>
            <a:off x="0" y="808200"/>
            <a:ext cx="91440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D:\Documents and Settings\библиотека\Мои документы\Мои рисунки\15.02. 077.jpg"/>
          <p:cNvPicPr/>
          <p:nvPr/>
        </p:nvPicPr>
        <p:blipFill>
          <a:blip r:embed="rId2"/>
          <a:stretch/>
        </p:blipFill>
        <p:spPr>
          <a:xfrm>
            <a:off x="-762120" y="1143000"/>
            <a:ext cx="562788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Самые сказочные книги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87" name="Picture 2" descr="D:\Documents and Settings\библиотека\Мои документы\Мои рисунки\15.02. 076.jpg"/>
          <p:cNvPicPr/>
          <p:nvPr/>
        </p:nvPicPr>
        <p:blipFill>
          <a:blip r:embed="rId3"/>
          <a:stretch/>
        </p:blipFill>
        <p:spPr>
          <a:xfrm>
            <a:off x="3352680" y="1295280"/>
            <a:ext cx="5791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Самые краеведческие книги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89" name="Picture 2" descr="D:\Documents and Settings\библиотека\Мои документы\Мои рисунки\15.02. 074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Самая рекордная книга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91" name="Picture 2" descr="D:\Documents and Settings\библиотека\Мои документы\Мои рисунки\15.02. 070.jpg"/>
          <p:cNvPicPr/>
          <p:nvPr/>
        </p:nvPicPr>
        <p:blipFill>
          <a:blip r:embed="rId2"/>
          <a:stretch/>
        </p:blipFill>
        <p:spPr>
          <a:xfrm>
            <a:off x="0" y="1015920"/>
            <a:ext cx="91440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Самые географические книги: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93" name="Picture 2" descr="D:\Documents and Settings\библиотека\Мои документы\Мои рисунки\15.02. 073.jpg"/>
          <p:cNvPicPr/>
          <p:nvPr/>
        </p:nvPicPr>
        <p:blipFill>
          <a:blip r:embed="rId2"/>
          <a:stretch/>
        </p:blipFill>
        <p:spPr>
          <a:xfrm>
            <a:off x="0" y="1143000"/>
            <a:ext cx="6745320" cy="5715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D:\Documents and Settings\библиотека\Мои документы\Мои рисунки\15.02. 097.jpg"/>
          <p:cNvPicPr/>
          <p:nvPr/>
        </p:nvPicPr>
        <p:blipFill>
          <a:blip r:embed="rId3"/>
          <a:stretch/>
        </p:blipFill>
        <p:spPr>
          <a:xfrm>
            <a:off x="2895480" y="1143000"/>
            <a:ext cx="6248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D:\Documents and Settings\библиотека\Мои документы\Мои рисунки\15.02. 092.jpg"/>
          <p:cNvPicPr/>
          <p:nvPr/>
        </p:nvPicPr>
        <p:blipFill>
          <a:blip r:embed="rId2"/>
          <a:stretch/>
        </p:blipFill>
        <p:spPr>
          <a:xfrm>
            <a:off x="5562720" y="114300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Книги, подаренные читателями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97" name="Picture 5" descr="D:\Documents and Settings\библиотека\Мои документы\Мои рисунки\15.02. 093.jpg"/>
          <p:cNvPicPr/>
          <p:nvPr/>
        </p:nvPicPr>
        <p:blipFill>
          <a:blip r:embed="rId3"/>
          <a:stretch/>
        </p:blipFill>
        <p:spPr>
          <a:xfrm>
            <a:off x="5105520" y="3809880"/>
            <a:ext cx="4038480" cy="302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D:\Documents and Settings\библиотека\Мои документы\Мои рисунки\15.02. 083.jpg"/>
          <p:cNvPicPr/>
          <p:nvPr/>
        </p:nvPicPr>
        <p:blipFill>
          <a:blip r:embed="rId4"/>
          <a:stretch/>
        </p:blipFill>
        <p:spPr>
          <a:xfrm>
            <a:off x="0" y="1143000"/>
            <a:ext cx="6477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Александр Иванович Герцен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«Публичная библиотека - это открытый стол идей, за который приглашен каждый, за которым каждый найдёт себе пищу, которую он ищет:"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48" name="Picture 10" descr="TASS_54316_opt"/>
          <p:cNvPicPr/>
          <p:nvPr/>
        </p:nvPicPr>
        <p:blipFill>
          <a:blip r:embed="rId2"/>
          <a:stretch/>
        </p:blipFill>
        <p:spPr>
          <a:xfrm>
            <a:off x="457200" y="1981080"/>
            <a:ext cx="358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100" name="Picture 5" descr="D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Николай Иванович Лобачевский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Великий русский математик, профессор работал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библиотекарем Казанского университета в течение 12 лет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52" name="Picture 10" descr="36593_html_m4bcbceee"/>
          <p:cNvPicPr/>
          <p:nvPr/>
        </p:nvPicPr>
        <p:blipFill>
          <a:blip r:embed="rId2"/>
          <a:stretch/>
        </p:blipFill>
        <p:spPr>
          <a:xfrm>
            <a:off x="547560" y="1752480"/>
            <a:ext cx="3814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solidFill>
            <a:srgbClr val="b5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Сегодня у нас в гостях библиотекарь поселковой библиотеки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,,,,,,,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54" name="Picture 3" descr="D:\Documents and Settings\библиотека\Мои документы\Мои рисунки\Мои сканированные изображения\сканирование0055.jpg"/>
          <p:cNvPicPr/>
          <p:nvPr/>
        </p:nvPicPr>
        <p:blipFill>
          <a:blip r:embed="rId2"/>
          <a:stretch/>
        </p:blipFill>
        <p:spPr>
          <a:xfrm>
            <a:off x="0" y="1752480"/>
            <a:ext cx="5362560" cy="3521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4f87317e41e5"/>
          <p:cNvPicPr/>
          <p:nvPr/>
        </p:nvPicPr>
        <p:blipFill>
          <a:blip r:embed="rId3"/>
          <a:stretch/>
        </p:blipFill>
        <p:spPr>
          <a:xfrm>
            <a:off x="4724280" y="3184560"/>
            <a:ext cx="4419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305548174_flowers%283%2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15000" cy="205740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Долгое время в нашей школьной библиотеке работали: </a:t>
            </a:r>
            <a:br>
              <a:rPr sz="2800"/>
            </a:b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ОТМЕНИНА Юлия Михайловна,</a:t>
            </a:r>
            <a:br>
              <a:rPr sz="2800"/>
            </a:b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Шведова Наталья Николаевна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Сейчас в школьной библиотеке работает Болдырева Маргарита Михайловна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59" name="Picture 7" descr="s_dnem_bibliotek"/>
          <p:cNvPicPr/>
          <p:nvPr/>
        </p:nvPicPr>
        <p:blipFill>
          <a:blip r:embed="rId2"/>
          <a:stretch/>
        </p:blipFill>
        <p:spPr>
          <a:xfrm>
            <a:off x="2057400" y="1600200"/>
            <a:ext cx="7086600" cy="52578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D:\Documents and Settings\библиотека\Рабочий стол\рита 005.jpg"/>
          <p:cNvPicPr/>
          <p:nvPr/>
        </p:nvPicPr>
        <p:blipFill>
          <a:blip r:embed="rId3"/>
          <a:stretch/>
        </p:blipFill>
        <p:spPr>
          <a:xfrm>
            <a:off x="0" y="1600200"/>
            <a:ext cx="487692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Овал 3"/>
          <p:cNvSpPr/>
          <p:nvPr/>
        </p:nvSpPr>
        <p:spPr>
          <a:xfrm>
            <a:off x="5257800" y="3733920"/>
            <a:ext cx="3124080" cy="2133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ahoma"/>
              </a:rPr>
              <a:t>УЧЕБНАЯ ЛИТЕРАТУРА -  2237 экз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Овал 2"/>
          <p:cNvSpPr/>
          <p:nvPr/>
        </p:nvSpPr>
        <p:spPr>
          <a:xfrm>
            <a:off x="914400" y="3733920"/>
            <a:ext cx="3200400" cy="2133360"/>
          </a:xfrm>
          <a:prstGeom prst="ellipse">
            <a:avLst/>
          </a:prstGeom>
          <a:solidFill>
            <a:srgbClr val="b5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ХУДОЖЕСТ-ВЕННАЯ ЛИТЕРАТУРА - 3798 экз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КНИЖНЫЙ ФОНД ШКОЛЬНОЙ БИБЛИОТЕКИ составляет – 6035 экз.</a:t>
            </a:r>
            <a:br>
              <a:rPr sz="3600"/>
            </a:b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cxnSp>
        <p:nvCxnSpPr>
          <p:cNvPr id="64" name="Прямая со стрелкой 5"/>
          <p:cNvCxnSpPr>
            <a:stCxn id="63" idx="2"/>
          </p:cNvCxnSpPr>
          <p:nvPr/>
        </p:nvCxnSpPr>
        <p:spPr>
          <a:xfrm flipH="1">
            <a:off x="2894760" y="1752480"/>
            <a:ext cx="1677240" cy="1905840"/>
          </a:xfrm>
          <a:prstGeom prst="straightConnector1">
            <a:avLst/>
          </a:prstGeom>
          <a:ln w="9360">
            <a:solidFill>
              <a:srgbClr val="009999"/>
            </a:solidFill>
            <a:miter/>
            <a:tailEnd len="med" type="arrow" w="med"/>
          </a:ln>
        </p:spPr>
      </p:cxnSp>
      <p:cxnSp>
        <p:nvCxnSpPr>
          <p:cNvPr id="65" name="Прямая со стрелкой 7"/>
          <p:cNvCxnSpPr>
            <a:stCxn id="63" idx="2"/>
          </p:cNvCxnSpPr>
          <p:nvPr/>
        </p:nvCxnSpPr>
        <p:spPr>
          <a:xfrm>
            <a:off x="4570920" y="1752480"/>
            <a:ext cx="2134440" cy="1905840"/>
          </a:xfrm>
          <a:prstGeom prst="straightConnector1">
            <a:avLst/>
          </a:prstGeom>
          <a:ln w="9360">
            <a:solidFill>
              <a:srgbClr val="009999"/>
            </a:solidFill>
            <a:miter/>
            <a:tailEnd len="med" type="arrow" w="med"/>
          </a:ln>
        </p:spPr>
      </p:cxnSp>
      <p:pic>
        <p:nvPicPr>
          <p:cNvPr id="66" name="Рисунок 11" descr=""/>
          <p:cNvPicPr/>
          <p:nvPr/>
        </p:nvPicPr>
        <p:blipFill>
          <a:blip r:embed="rId2"/>
          <a:stretch/>
        </p:blipFill>
        <p:spPr>
          <a:xfrm>
            <a:off x="7620120" y="2362320"/>
            <a:ext cx="981000" cy="981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2" descr="2"/>
          <p:cNvPicPr/>
          <p:nvPr/>
        </p:nvPicPr>
        <p:blipFill>
          <a:blip r:embed="rId3"/>
          <a:stretch/>
        </p:blipFill>
        <p:spPr>
          <a:xfrm>
            <a:off x="762120" y="1676520"/>
            <a:ext cx="2320920" cy="1679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D:\Documents and Settings\библиотека\Мои документы\Мои рисунки\15.02. 094.jpg"/>
          <p:cNvPicPr/>
          <p:nvPr/>
        </p:nvPicPr>
        <p:blipFill>
          <a:blip r:embed="rId4"/>
          <a:stretch/>
        </p:blipFill>
        <p:spPr>
          <a:xfrm>
            <a:off x="3886200" y="2666880"/>
            <a:ext cx="18684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САМАЯ новая и самая большая книга в библиотеке - 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70" name="Picture 3" descr="D:\Documents and Settings\библиотека\Мои документы\Мои рисунки\15.02. 098.jpg"/>
          <p:cNvPicPr/>
          <p:nvPr/>
        </p:nvPicPr>
        <p:blipFill>
          <a:blip r:embed="rId2"/>
          <a:stretch/>
        </p:blipFill>
        <p:spPr>
          <a:xfrm>
            <a:off x="1371600" y="1752480"/>
            <a:ext cx="6237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Самая красивая и самая просматриваемая книга: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72" name="Picture 3" descr="D:\Documents and Settings\библиотека\Мои документы\Мои рисунки\15.02. 091.jpg"/>
          <p:cNvPicPr/>
          <p:nvPr/>
        </p:nvPicPr>
        <p:blipFill>
          <a:blip r:embed="rId2"/>
          <a:stretch/>
        </p:blipFill>
        <p:spPr>
          <a:xfrm>
            <a:off x="1117440" y="1924200"/>
            <a:ext cx="65786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3:06:24Z</dcterms:created>
  <dc:creator>Светлана</dc:creator>
  <dc:description/>
  <dc:language>en-US</dc:language>
  <cp:lastModifiedBy>Светлана</cp:lastModifiedBy>
  <dcterms:modified xsi:type="dcterms:W3CDTF">2014-01-28T17:37:57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