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D4F-439E-464E-BDA0-E7EA37E2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A63-9DDA-4AB3-8887-AB83F260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0F3-ECC5-4E6B-871F-125028C7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F650-5789-4598-A456-80132678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17DD-E4DD-4813-AB8B-659A4C52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E937-5FE2-4743-9D87-DEF09CFD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4AAC-9E93-43EC-9BE7-1ACBD15F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325D-9EAE-4B5A-9660-51074376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2612-BF30-4666-81C0-E44FDF37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007C-E462-437A-B2A5-CB2E0F37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6051-27E0-42E6-A43E-D59A7A34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B2E-F85D-410F-B20D-F8C3926C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C7F2-9395-4D84-8449-ABAE4EAF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EBDF-EB52-4B9A-8879-6DA55923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B8E7-ADB9-41C4-9011-0389A7DE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1DCB-F928-4F09-8671-4FB4A81C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E89A-9432-4839-9A9C-1B5EC39E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D31-BA12-491A-9701-9A7FEE81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B92-4081-4179-975B-93FBA886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35E-F615-4E33-B748-3458D674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F1E-B9BF-4EF2-B838-39AC639F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B9B-7559-4DD9-9E7F-2480BE12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1F0-A803-4428-B5C7-7E2AB101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6DD-425E-4626-B5BD-87321B1F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4B3C-6408-4AC5-86AB-1E03977768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497E-CEA6-4339-8C3A-113C58CAC80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278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Часть речи, причастная к глаголу, в образе прилагательного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В.И. Даль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169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ричастие – это часть речи, признак предмета по действию.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какой, -ая, -ое, -ие?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прил.изм. по Р., Ч.,П.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гл. вид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упр.сл., - 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19280" y="3429000"/>
            <a:ext cx="2951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кошенный, скосивший, скоше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летящий, летевш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гравший, играющ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76360" y="3429000"/>
            <a:ext cx="3240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ареющий, постаревш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храняющий, охранявш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троенный, построивший, построе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2492280"/>
            <a:ext cx="22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И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32720" y="2205000"/>
            <a:ext cx="504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0" r="0" b="3557"/>
          <a:stretch/>
        </p:blipFill>
        <p:spPr>
          <a:xfrm>
            <a:off x="0" y="1700280"/>
            <a:ext cx="4657680" cy="3903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Правописание 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суффиксов причаст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32360" y="1268280"/>
            <a:ext cx="3772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ариант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борющий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леящ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ненавидящ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ависевш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остроен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ессилевший (человек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ариант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бормочущ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ющий (снег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ерпящ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идевш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риклеен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ессиливший (врага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НН-Н в причастиях от глагольных прилагательны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1341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пределить вид гла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916000" y="1700280"/>
            <a:ext cx="43164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1773360"/>
            <a:ext cx="36036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213372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совершенный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отгл.прила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95640" y="213372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вершенный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причаст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28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2852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3213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! Прове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3716280"/>
            <a:ext cx="40323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3284640"/>
            <a:ext cx="144360" cy="180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88000" y="32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335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3357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кроме 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3716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Х      завис. 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3716280"/>
            <a:ext cx="863640" cy="73080"/>
          </a:xfrm>
          <a:custGeom>
            <a:avLst/>
            <a:gdLst>
              <a:gd name="textAreaLeft" fmla="*/ 189000 w 863640"/>
              <a:gd name="textAreaRight" fmla="*/ 572400 w 863640"/>
              <a:gd name="textAreaTop" fmla="*/ 9720 h 73080"/>
              <a:gd name="textAreaBottom" fmla="*/ 63360 h 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60" hR="21600" stAng="10800000" swAng="5400000"/>
                <a:lnTo>
                  <a:pt x="9588" y="0"/>
                </a:lnTo>
                <a:arcTo wR="9460" hR="21600" stAng="-5400000" swAng="5400000"/>
                <a:lnTo>
                  <a:pt x="21600" y="21600"/>
                </a:lnTo>
                <a:lnTo>
                  <a:pt x="18984" y="21600"/>
                </a:lnTo>
                <a:lnTo>
                  <a:pt x="16368" y="21600"/>
                </a:lnTo>
                <a:lnTo>
                  <a:pt x="18920" y="21600"/>
                </a:lnTo>
                <a:arcTo wR="9460" hR="21600" stAng="0" swAng="-5389814"/>
                <a:lnTo>
                  <a:pt x="9524" y="0"/>
                </a:lnTo>
                <a:arcTo wR="946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460" hR="21600" stAng="10800000" swAng="5400000"/>
                <a:lnTo>
                  <a:pt x="9460" y="0"/>
                </a:lnTo>
                <a:arcTo wR="9460" hR="21600" stAng="-5400000" swAng="10186"/>
                <a:lnTo>
                  <a:pt x="9524" y="0"/>
                </a:lnTo>
                <a:arcTo wR="9460" hR="21600" stAng="-5410186" swAng="-5389814"/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3741840"/>
            <a:ext cx="38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4076640"/>
            <a:ext cx="216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) – ова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ева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72360" y="414972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искл.: кованый,         клеваный, жева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5300640"/>
            <a:ext cx="208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раткие 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484360" y="5516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4000" y="5516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5516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19280" y="6237360"/>
            <a:ext cx="215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19280" y="607860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лаг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-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607860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и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72360" y="6078600"/>
            <a:ext cx="208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-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409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ариант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зеро скова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 льд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етопле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я печ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вороже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ый ле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яза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я крючком шал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блака рассея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ы по неб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ехоже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ые мес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00720" y="2924280"/>
            <a:ext cx="424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ариант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утепле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ый костю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ропки занесе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ы снег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ороже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ые овощ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колдова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е царст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опле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е в печи молок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бята сегодня рассея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54705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 с причастиям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280656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ариант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;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ариант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;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4619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2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5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1:27:14Z</dcterms:created>
  <dc:creator>User</dc:creator>
  <dc:description/>
  <dc:language>en-US</dc:language>
  <cp:lastModifiedBy>User</cp:lastModifiedBy>
  <dcterms:modified xsi:type="dcterms:W3CDTF">2010-02-12T12:45:54Z</dcterms:modified>
  <cp:revision>3</cp:revision>
  <dc:subject/>
  <dc:title>Часть речи, причастная к глаголу, в образе прилагательного</dc:title>
</cp:coreProperties>
</file>