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F661-C4F9-47A9-8433-B08A99876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8B4D-6709-444C-A55D-447883904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A3AA-57F9-4359-8DEC-CDB06EB63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DD86-DD86-4F65-847F-542979E08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07E40-2B5A-4CBF-9363-7D1AD9F5C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DA1B3-39B2-436D-B735-929F15010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7FFF5-5FE9-4529-8AD5-E4C3F9D74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A08DD-39D4-4B50-B289-20177A2C9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2B39D-276B-4208-9474-7A22E837E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4CAD0-60D0-4DF6-8F42-6C4932234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E2404-2DFA-477C-8C5F-5000C3F9B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81FF-88F1-4CDB-87ED-7AAF93D41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3BB89-7EB4-4BE3-9FEE-104237CD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2A154-F61B-43ED-B665-693CB9E2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7F4C0-355A-411D-9EE8-742293A49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F9AD7-DE2A-48C6-8F53-C85CF071C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5B3D3-33CE-47CD-83A6-A783C7117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7B69-203C-4E98-A2FE-E8E934EBC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8886-2AEC-4FAD-86CA-E355D0DC2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E00D-C05A-45B1-8209-8896C74AA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8461-EB42-49D0-B509-C126FB08A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E7E4-4634-46FB-8882-3B064713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0A71-1B4B-4311-B1B8-9D28FD65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456C-3D0C-43A6-946A-0B6BED06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E0938-213F-483C-8113-FF60C2BB502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6C6B0-3788-4B93-A6AD-8DE493BD0C7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76360" y="278100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Часть речи, причастная к глаголу, в образе прилагательного.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В.И. Даль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71280" y="1699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Причастие – это часть речи, признак предмета по действию.</a:t>
            </a:r>
            <a:br>
              <a:rPr sz="3200"/>
            </a:b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какой, -ая, -ое, -ие?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прил.изм. по Р., Ч.,П. 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гл. вид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, упр.сл., - с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619280" y="3429000"/>
            <a:ext cx="2951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Вариант 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кошенный, скосивший, скошен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летящий, летевши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игравший, играющи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76360" y="3429000"/>
            <a:ext cx="3240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Вариант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тареющий, постаревши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храняющий, охранявши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остроенный, построивший, построен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179280" y="2492280"/>
            <a:ext cx="22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ПРИЗНА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32720" y="2205000"/>
            <a:ext cx="50472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2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2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rcRect l="0" t="0" r="0" b="3557"/>
          <a:stretch/>
        </p:blipFill>
        <p:spPr>
          <a:xfrm>
            <a:off x="0" y="1700280"/>
            <a:ext cx="4657680" cy="390348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Comic Sans MS"/>
              </a:rPr>
              <a:t>Правописание </a:t>
            </a:r>
            <a:br>
              <a:rPr sz="4000"/>
            </a:br>
            <a:r>
              <a:rPr b="1" lang="en-US" sz="4000" spc="-1" strike="noStrike">
                <a:solidFill>
                  <a:srgbClr val="cc3300"/>
                </a:solidFill>
                <a:latin typeface="Comic Sans MS"/>
              </a:rPr>
              <a:t>суффиксов причасти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932360" y="1268280"/>
            <a:ext cx="37720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Вариант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22720" indent="-522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борющийс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22720" indent="-522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клеящи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22720" indent="-522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ненавидящи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22720" indent="-522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зависевши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22720" indent="-522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построенны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22720" indent="-522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обессилевший (человек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2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2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Вариант 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22720" indent="-522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бормочущи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22720" indent="-522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тающий (снег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22720" indent="-522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терпящи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22720" indent="-522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обидевши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22720" indent="-522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приклеенны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22720" indent="-522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обессиливший (врага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2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НН-Н в причастиях от глагольных прилагательных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2124000" y="1341360"/>
            <a:ext cx="46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Определить вид глаг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2916000" y="1700280"/>
            <a:ext cx="43164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11640" y="1773360"/>
            <a:ext cx="36036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71640" y="2133720"/>
            <a:ext cx="259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есовершенный ви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(отгл.прила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95640" y="2133720"/>
            <a:ext cx="2160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совершенный ви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причаст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08000" y="2852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788000" y="285264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Н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4000" y="321300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Comic Sans MS"/>
              </a:rPr>
              <a:t>! Провер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95280" y="3716280"/>
            <a:ext cx="403236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3284640"/>
            <a:ext cx="144360" cy="1800000"/>
          </a:xfrm>
          <a:custGeom>
            <a:avLst/>
            <a:gdLst>
              <a:gd name="textAreaLeft" fmla="*/ 92160 w 144360"/>
              <a:gd name="textAreaRight" fmla="*/ 144360 w 144360"/>
              <a:gd name="textAreaTop" fmla="*/ 46800 h 1800000"/>
              <a:gd name="textAreaBottom" fmla="*/ 1753200 h 18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88000" y="328464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3357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96000" y="3357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012000" y="33577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кроме н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788000" y="37162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) Х      завис. с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64000" y="3716280"/>
            <a:ext cx="863640" cy="73080"/>
          </a:xfrm>
          <a:custGeom>
            <a:avLst/>
            <a:gdLst>
              <a:gd name="textAreaLeft" fmla="*/ 189000 w 863640"/>
              <a:gd name="textAreaRight" fmla="*/ 572400 w 863640"/>
              <a:gd name="textAreaTop" fmla="*/ 9720 h 73080"/>
              <a:gd name="textAreaBottom" fmla="*/ 63360 h 73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460" hR="21600" stAng="10800000" swAng="5400000"/>
                <a:lnTo>
                  <a:pt x="9588" y="0"/>
                </a:lnTo>
                <a:arcTo wR="9460" hR="21600" stAng="-5400000" swAng="5400000"/>
                <a:lnTo>
                  <a:pt x="21600" y="21600"/>
                </a:lnTo>
                <a:lnTo>
                  <a:pt x="18984" y="21600"/>
                </a:lnTo>
                <a:lnTo>
                  <a:pt x="16368" y="21600"/>
                </a:lnTo>
                <a:lnTo>
                  <a:pt x="18920" y="21600"/>
                </a:lnTo>
                <a:arcTo wR="9460" hR="21600" stAng="0" swAng="-5389814"/>
                <a:lnTo>
                  <a:pt x="9524" y="0"/>
                </a:lnTo>
                <a:arcTo wR="9460" hR="21600" stAng="-5410186" swAng="-5389814"/>
                <a:close/>
              </a:path>
              <a:path fill="darkenLess" w="21600" h="21600">
                <a:moveTo>
                  <a:pt x="0" y="21600"/>
                </a:moveTo>
                <a:arcTo wR="9460" hR="21600" stAng="10800000" swAng="5400000"/>
                <a:lnTo>
                  <a:pt x="9460" y="0"/>
                </a:lnTo>
                <a:arcTo wR="9460" hR="21600" stAng="-5400000" swAng="10186"/>
                <a:lnTo>
                  <a:pt x="9524" y="0"/>
                </a:lnTo>
                <a:arcTo wR="9460" hR="21600" stAng="-5410186" swAng="-5389814"/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88000" y="3741840"/>
            <a:ext cx="380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859280" y="4076640"/>
            <a:ext cx="2160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) – ован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 еван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372360" y="4149720"/>
            <a:ext cx="208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(искл.: кованый,         клеваный, жеваны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16360" y="5300640"/>
            <a:ext cx="2087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краткие фор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2484360" y="5516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64000" y="551664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484360" y="551664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003640" y="5516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619280" y="6237360"/>
            <a:ext cx="2158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619280" y="6078600"/>
            <a:ext cx="2087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илагатель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-н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500720" y="6078600"/>
            <a:ext cx="1439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причас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72360" y="6078600"/>
            <a:ext cx="2087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ареч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-н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68000" y="260280"/>
            <a:ext cx="409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ариант 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озеро скова</a:t>
            </a:r>
            <a:r>
              <a:rPr b="1" lang="ru-RU" sz="2800" spc="-1" strike="noStrike">
                <a:solidFill>
                  <a:srgbClr val="cc3300"/>
                </a:solidFill>
                <a:latin typeface="Arial Narrow"/>
              </a:rPr>
              <a:t>Н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о льдо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нетопле</a:t>
            </a:r>
            <a:r>
              <a:rPr b="1" lang="ru-RU" sz="2800" spc="-1" strike="noStrike">
                <a:solidFill>
                  <a:srgbClr val="cc3300"/>
                </a:solidFill>
                <a:latin typeface="Arial Narrow"/>
              </a:rPr>
              <a:t>Н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ая печ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завороже</a:t>
            </a:r>
            <a:r>
              <a:rPr b="1" lang="ru-RU" sz="2800" spc="-1" strike="noStrike">
                <a:solidFill>
                  <a:srgbClr val="cc3300"/>
                </a:solidFill>
                <a:latin typeface="Arial Narrow"/>
              </a:rPr>
              <a:t>НН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ый ле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вяза</a:t>
            </a:r>
            <a:r>
              <a:rPr b="1" lang="ru-RU" sz="2800" spc="-1" strike="noStrike">
                <a:solidFill>
                  <a:srgbClr val="cc3300"/>
                </a:solidFill>
                <a:latin typeface="Arial Narrow"/>
              </a:rPr>
              <a:t>НН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ая крючком шал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облака рассея</a:t>
            </a:r>
            <a:r>
              <a:rPr b="1" lang="ru-RU" sz="2800" spc="-1" strike="noStrike">
                <a:solidFill>
                  <a:srgbClr val="cc3300"/>
                </a:solidFill>
                <a:latin typeface="Arial Narrow"/>
              </a:rPr>
              <a:t>Н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ы по небу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нехоже</a:t>
            </a:r>
            <a:r>
              <a:rPr b="1" lang="ru-RU" sz="2800" spc="-1" strike="noStrike">
                <a:solidFill>
                  <a:srgbClr val="cc3300"/>
                </a:solidFill>
                <a:latin typeface="Arial Narrow"/>
              </a:rPr>
              <a:t>Н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ые мест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00720" y="2924280"/>
            <a:ext cx="4248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ариант 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утепле</a:t>
            </a:r>
            <a:r>
              <a:rPr b="1" lang="ru-RU" sz="2800" spc="-1" strike="noStrike">
                <a:solidFill>
                  <a:srgbClr val="cc3300"/>
                </a:solidFill>
                <a:latin typeface="Arial Narrow"/>
              </a:rPr>
              <a:t>НН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ый костю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тропки занесе</a:t>
            </a:r>
            <a:r>
              <a:rPr b="1" lang="ru-RU" sz="2800" spc="-1" strike="noStrike">
                <a:solidFill>
                  <a:srgbClr val="cc3300"/>
                </a:solidFill>
                <a:latin typeface="Arial Narrow"/>
              </a:rPr>
              <a:t>Н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ы снего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мороже</a:t>
            </a:r>
            <a:r>
              <a:rPr b="1" lang="ru-RU" sz="2800" spc="-1" strike="noStrike">
                <a:solidFill>
                  <a:srgbClr val="cc3300"/>
                </a:solidFill>
                <a:latin typeface="Arial Narrow"/>
              </a:rPr>
              <a:t>Н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ые овощ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заколдова</a:t>
            </a:r>
            <a:r>
              <a:rPr b="1" lang="ru-RU" sz="2800" spc="-1" strike="noStrike">
                <a:solidFill>
                  <a:srgbClr val="cc3300"/>
                </a:solidFill>
                <a:latin typeface="Arial Narrow"/>
              </a:rPr>
              <a:t>НН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ое царств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топле</a:t>
            </a:r>
            <a:r>
              <a:rPr b="1" lang="ru-RU" sz="2800" spc="-1" strike="noStrike">
                <a:solidFill>
                  <a:srgbClr val="cc3300"/>
                </a:solidFill>
                <a:latin typeface="Arial Narrow"/>
              </a:rPr>
              <a:t>НН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ое в печи молок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ребята сегодня рассея</a:t>
            </a:r>
            <a:r>
              <a:rPr b="1" lang="ru-RU" sz="2800" spc="-1" strike="noStrike">
                <a:solidFill>
                  <a:srgbClr val="cc3300"/>
                </a:solidFill>
                <a:latin typeface="Arial Narrow"/>
              </a:rPr>
              <a:t>НН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54705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НЕ с причастиям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280656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Вариант 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; 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Вариант 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; 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419640" y="1484280"/>
            <a:ext cx="461952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2" dur="2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5" dur="2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8" dur="20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1" dur="20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11:27:14Z</dcterms:created>
  <dc:creator>User</dc:creator>
  <dc:description/>
  <dc:language>en-US</dc:language>
  <cp:lastModifiedBy>User</cp:lastModifiedBy>
  <dcterms:modified xsi:type="dcterms:W3CDTF">2010-02-12T12:45:54Z</dcterms:modified>
  <cp:revision>3</cp:revision>
  <dc:subject/>
  <dc:title>Часть речи, причастная к глаголу, в образе прилагательного</dc:title>
</cp:coreProperties>
</file>