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n%D1%81%D0%BF%D0%BE%D0%BA%D0%BE%D0%B9%D1%81%D1%82%D0%B2%D0%B8%D0%B5%20%D1%82%D0%BE%D0%BB%D1%8C%D0%BA%D0%BE....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0E3-98A4-4773-9E63-F64C4FEA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4C6-0CBC-4AEF-9B91-D059497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D6B-7C3F-4A3F-9C66-5AED8AE7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B2C-67CD-41B7-992A-701CA750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DAB-9CA1-4A5B-AC55-861C471E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F23-5027-41F4-A283-6C647660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88C-8E7C-4B69-8D76-E5B3079D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8DA-ECFB-4310-8141-54FDC20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EF8-7F47-42A1-A7A8-465EEA54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342-E241-4096-A39E-F9D684A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890-759F-4B3D-B6EF-201534C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F5D-C4FD-4497-A2AD-57741589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99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EFA7-975B-4052-AA84-5048083FA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hyperlink" Target="file:///tmp/home/.config/libreoffice/4/user/gallery/&#1063;&#1091;&#1076;&#1086;.wav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n&#1089;&#1087;&#1086;&#1082;&#1086;&#1081;&#1089;&#1090;&#1074;&#1080;&#1077;%20&#1090;&#1086;&#1083;&#1100;&#1082;&#1086;....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>
            <a:hlinkClick r:id="rId1" action="ppaction://hlinksldjump"/>
          </p:cNvPr>
          <p:cNvSpPr/>
          <p:nvPr/>
        </p:nvSpPr>
        <p:spPr>
          <a:xfrm>
            <a:off x="8101080" y="6165720"/>
            <a:ext cx="682560" cy="395280"/>
          </a:xfrm>
          <a:custGeom>
            <a:avLst/>
            <a:gdLst>
              <a:gd name="textAreaLeft" fmla="*/ 25560 w 682560"/>
              <a:gd name="textAreaRight" fmla="*/ 657000 w 6825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7284" h="21600">
                <a:moveTo>
                  <a:pt x="0" y="0"/>
                </a:moveTo>
                <a:lnTo>
                  <a:pt x="37284" y="0"/>
                </a:lnTo>
                <a:lnTo>
                  <a:pt x="37284" y="21600"/>
                </a:lnTo>
                <a:lnTo>
                  <a:pt x="0" y="21600"/>
                </a:lnTo>
                <a:close/>
              </a:path>
              <a:path fill="lightenLess" w="37284" h="21600">
                <a:moveTo>
                  <a:pt x="0" y="0"/>
                </a:moveTo>
                <a:lnTo>
                  <a:pt x="37284" y="0"/>
                </a:lnTo>
                <a:lnTo>
                  <a:pt x="35884" y="1400"/>
                </a:lnTo>
                <a:lnTo>
                  <a:pt x="1400" y="1400"/>
                </a:lnTo>
                <a:close/>
              </a:path>
              <a:path fill="darken" w="37284" h="21600">
                <a:moveTo>
                  <a:pt x="37284" y="0"/>
                </a:moveTo>
                <a:lnTo>
                  <a:pt x="37284" y="21600"/>
                </a:lnTo>
                <a:lnTo>
                  <a:pt x="35884" y="20200"/>
                </a:lnTo>
                <a:lnTo>
                  <a:pt x="35884" y="1400"/>
                </a:lnTo>
                <a:close/>
              </a:path>
              <a:path fill="darkenLess" w="37284" h="21600">
                <a:moveTo>
                  <a:pt x="37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84" y="20200"/>
                </a:lnTo>
                <a:close/>
              </a:path>
              <a:path fill="lighten" w="37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84" h="21600">
                <a:moveTo>
                  <a:pt x="11636" y="3794"/>
                </a:moveTo>
                <a:lnTo>
                  <a:pt x="25649" y="10800"/>
                </a:lnTo>
                <a:lnTo>
                  <a:pt x="11636" y="17806"/>
                </a:lnTo>
                <a:close/>
              </a:path>
            </a:pathLst>
          </a:custGeom>
          <a:solidFill>
            <a:srgbClr val="ff00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554200" y="76500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Матема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885960" y="2205000"/>
            <a:ext cx="67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Тренажер для первоклассни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4356000" y="4149720"/>
            <a:ext cx="418140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Выполнила презентаци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учитель начальных класс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МОУ «СОШ п.Сергиевски»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Коско Е.В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9" descr="акарл"/>
          <p:cNvPicPr/>
          <p:nvPr/>
        </p:nvPicPr>
        <p:blipFill>
          <a:blip r:embed="rId14"/>
          <a:stretch/>
        </p:blipFill>
        <p:spPr>
          <a:xfrm flipH="1" rot="20400600">
            <a:off x="611280" y="3284280"/>
            <a:ext cx="262080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2">
            <a:hlinkClick r:id="rId4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>
            <a:hlinkClick r:id="rId5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>
            <a:hlinkClick r:id="rId6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9">
            <a:hlinkClick r:id="rId7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>
            <a:hlinkClick r:id="rId8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>
            <a:hlinkClick r:id="rId9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3">
            <a:hlinkClick r:id="rId10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>
            <a:hlinkClick r:id="" action="ppaction://hlinkshowjump?jump=nextslide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>
            <a:hlinkClick r:id="rId11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4841280" y="11736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2">
            <a:hlinkClick r:id="rId4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>
            <a:hlinkClick r:id="rId5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>
            <a:hlinkClick r:id="rId6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>
            <a:hlinkClick r:id="" action="ppaction://hlinkshowjump?jump=nextslide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>
            <a:hlinkClick r:id="rId7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>
            <a:hlinkClick r:id="rId8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>
            <a:hlinkClick r:id="rId9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5">
            <a:hlinkClick r:id="rId10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5004720" y="18900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cc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>
            <a:hlinkClick r:id="rId4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>
            <a:hlinkClick r:id="rId5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>
            <a:hlinkClick r:id="rId6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>
            <a:hlinkClick r:id="" action="ppaction://hlinkshowjump?jump=nextslide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>
            <a:hlinkClick r:id="rId7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7">
            <a:hlinkClick r:id="rId8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>
            <a:hlinkClick r:id="rId9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503352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99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2">
            <a:hlinkClick r:id="" action="ppaction://hlinkshowjump?jump=nextslide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6">
            <a:hlinkClick r:id="rId4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7">
            <a:hlinkClick r:id="rId5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>
            <a:hlinkClick r:id="rId6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>
            <a:hlinkClick r:id="rId7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>
            <a:hlinkClick r:id="rId8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7"/>
          <p:cNvSpPr/>
          <p:nvPr/>
        </p:nvSpPr>
        <p:spPr>
          <a:xfrm>
            <a:off x="496044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cc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6">
            <a:hlinkClick r:id="rId4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>
            <a:hlinkClick r:id="rId5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2">
            <a:hlinkClick r:id="" action="ppaction://hlinkshowjump?jump=nextslide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>
            <a:hlinkClick r:id="rId6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5">
            <a:hlinkClick r:id="rId7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7"/>
          <p:cNvSpPr/>
          <p:nvPr/>
        </p:nvSpPr>
        <p:spPr>
          <a:xfrm>
            <a:off x="500472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6">
            <a:hlinkClick r:id="rId4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3">
            <a:hlinkClick r:id="" action="ppaction://hlinkshowjump?jump=nextslide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503352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ff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6"/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">
            <a:hlinkClick r:id="" action="ppaction://hlinkshowjump?jump=nextslide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4960440" y="26208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6">
            <a:hlinkClick r:id="" action="ppaction://hlinkshowjump?jump=nextslide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7"/>
          <p:cNvSpPr/>
          <p:nvPr/>
        </p:nvSpPr>
        <p:spPr>
          <a:xfrm>
            <a:off x="503352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7">
            <a:hlinkClick r:id="" action="ppaction://hlinkshowjump?jump=nextslide"/>
            <a:hlinkClick r:id="rId4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5033520" y="26208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7" descr="глаза"/>
          <p:cNvPicPr/>
          <p:nvPr/>
        </p:nvPicPr>
        <p:blipFill>
          <a:blip r:embed="rId4"/>
          <a:stretch/>
        </p:blipFill>
        <p:spPr>
          <a:xfrm>
            <a:off x="3059280" y="2060640"/>
            <a:ext cx="504720" cy="252360"/>
          </a:xfrm>
          <a:prstGeom prst="rect">
            <a:avLst/>
          </a:prstGeom>
          <a:ln w="0">
            <a:noFill/>
          </a:ln>
        </p:spPr>
      </p:pic>
      <p:sp>
        <p:nvSpPr>
          <p:cNvPr id="255" name="WordArt 38"/>
          <p:cNvSpPr txBox="1"/>
          <p:nvPr/>
        </p:nvSpPr>
        <p:spPr>
          <a:xfrm>
            <a:off x="4067280" y="476280"/>
            <a:ext cx="237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Молодц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акарл"/>
          <p:cNvPicPr/>
          <p:nvPr/>
        </p:nvPicPr>
        <p:blipFill>
          <a:blip r:embed="rId1"/>
          <a:stretch/>
        </p:blipFill>
        <p:spPr>
          <a:xfrm rot="1199400">
            <a:off x="4911480" y="1700280"/>
            <a:ext cx="3836880" cy="47037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/>
          <p:cNvSpPr/>
          <p:nvPr/>
        </p:nvSpPr>
        <p:spPr>
          <a:xfrm flipH="1">
            <a:off x="395280" y="476280"/>
            <a:ext cx="4681440" cy="2592360"/>
          </a:xfrm>
          <a:prstGeom prst="cloudCallout">
            <a:avLst>
              <a:gd name="adj1" fmla="val -60953"/>
              <a:gd name="adj2" fmla="val 5740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755640" y="981000"/>
            <a:ext cx="388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покойств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Только спокойств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466560" cy="395280"/>
          </a:xfrm>
          <a:custGeom>
            <a:avLst/>
            <a:gdLst>
              <a:gd name="textAreaLeft" fmla="*/ 25560 w 466560"/>
              <a:gd name="textAreaRight" fmla="*/ 441000 w 4665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492" h="21600">
                <a:moveTo>
                  <a:pt x="0" y="0"/>
                </a:moveTo>
                <a:lnTo>
                  <a:pt x="25492" y="0"/>
                </a:lnTo>
                <a:lnTo>
                  <a:pt x="25492" y="21600"/>
                </a:lnTo>
                <a:lnTo>
                  <a:pt x="0" y="21600"/>
                </a:lnTo>
                <a:close/>
              </a:path>
              <a:path fill="lightenLess" w="25492" h="21600">
                <a:moveTo>
                  <a:pt x="0" y="0"/>
                </a:moveTo>
                <a:lnTo>
                  <a:pt x="25492" y="0"/>
                </a:lnTo>
                <a:lnTo>
                  <a:pt x="24092" y="1400"/>
                </a:lnTo>
                <a:lnTo>
                  <a:pt x="1400" y="1400"/>
                </a:lnTo>
                <a:close/>
              </a:path>
              <a:path fill="darken" w="25492" h="21600">
                <a:moveTo>
                  <a:pt x="25492" y="0"/>
                </a:moveTo>
                <a:lnTo>
                  <a:pt x="25492" y="21600"/>
                </a:lnTo>
                <a:lnTo>
                  <a:pt x="24092" y="20200"/>
                </a:lnTo>
                <a:lnTo>
                  <a:pt x="24092" y="1400"/>
                </a:lnTo>
                <a:close/>
              </a:path>
              <a:path fill="darkenLess" w="25492" h="21600">
                <a:moveTo>
                  <a:pt x="25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2" y="20200"/>
                </a:lnTo>
                <a:close/>
              </a:path>
              <a:path fill="lighten" w="25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2" h="21600">
                <a:moveTo>
                  <a:pt x="5739" y="10800"/>
                </a:moveTo>
                <a:lnTo>
                  <a:pt x="19752" y="3794"/>
                </a:lnTo>
                <a:lnTo>
                  <a:pt x="19752" y="17806"/>
                </a:lnTo>
                <a:close/>
              </a:path>
            </a:pathLst>
          </a:custGeom>
          <a:solidFill>
            <a:srgbClr val="ff8585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а18"/>
          <p:cNvPicPr/>
          <p:nvPr/>
        </p:nvPicPr>
        <p:blipFill>
          <a:blip r:embed="rId2"/>
          <a:srcRect l="71250" t="25183" r="16146" b="37007"/>
          <a:stretch/>
        </p:blipFill>
        <p:spPr>
          <a:xfrm>
            <a:off x="1187280" y="3789360"/>
            <a:ext cx="15354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979920" y="692280"/>
            <a:ext cx="77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я теста взята из обучающей игры «Обучение с приключ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йка для первоклашек». Детям  5 – 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rcRect l="18997" t="19491" r="18997" b="19466"/>
          <a:stretch/>
        </p:blipFill>
        <p:spPr>
          <a:xfrm>
            <a:off x="2700360" y="1341360"/>
            <a:ext cx="38163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>
            <a:hlinkClick r:id="rId7" action="ppaction://hlinksldjump"/>
          </p:cNvPr>
          <p:cNvSpPr/>
          <p:nvPr/>
        </p:nvSpPr>
        <p:spPr>
          <a:xfrm>
            <a:off x="5580000" y="306864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>
            <a:hlinkClick r:id="rId8" action="ppaction://hlinksldjump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>
            <a:hlinkClick r:id="rId9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>
            <a:hlinkClick r:id="rId10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>
            <a:hlinkClick r:id="" action="ppaction://hlinkshowjump?jump=nextslide"/>
          </p:cNvPr>
          <p:cNvSpPr/>
          <p:nvPr/>
        </p:nvSpPr>
        <p:spPr>
          <a:xfrm>
            <a:off x="5580000" y="386064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>
            <a:hlinkClick r:id="rId11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>
            <a:hlinkClick r:id="rId12" action="ppaction://hlinksldjump"/>
          </p:cNvPr>
          <p:cNvSpPr/>
          <p:nvPr/>
        </p:nvSpPr>
        <p:spPr>
          <a:xfrm>
            <a:off x="3492360" y="465300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2">
            <a:hlinkClick r:id="rId13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>
            <a:hlinkClick r:id="rId14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>
            <a:hlinkClick r:id="rId15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>
            <a:hlinkClick r:id="rId16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>
            <a:hlinkClick r:id="rId17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>
            <a:hlinkClick r:id="rId18" action="ppaction://hlinksldjump"/>
          </p:cNvPr>
          <p:cNvSpPr/>
          <p:nvPr/>
        </p:nvSpPr>
        <p:spPr>
          <a:xfrm>
            <a:off x="5580000" y="5445000"/>
            <a:ext cx="108108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5004720" y="15228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cc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>
            <a:hlinkClick r:id="rId7" action="ppaction://hlinksldjump"/>
          </p:cNvPr>
          <p:cNvSpPr/>
          <p:nvPr/>
        </p:nvSpPr>
        <p:spPr>
          <a:xfrm>
            <a:off x="5580000" y="306864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>
            <a:hlinkClick r:id="rId8" action="ppaction://hlinksldjump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>
            <a:hlinkClick r:id="rId9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>
            <a:hlinkClick r:id="rId10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9">
            <a:hlinkClick r:id="rId11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0">
            <a:hlinkClick r:id="" action="ppaction://hlinkshowjump?jump=nextslide"/>
          </p:cNvPr>
          <p:cNvSpPr/>
          <p:nvPr/>
        </p:nvSpPr>
        <p:spPr>
          <a:xfrm>
            <a:off x="3492360" y="465300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1">
            <a:hlinkClick r:id="rId12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2">
            <a:hlinkClick r:id="rId13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3">
            <a:hlinkClick r:id="rId14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4">
            <a:hlinkClick r:id="rId15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5">
            <a:hlinkClick r:id="rId16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6">
            <a:hlinkClick r:id="rId17" action="ppaction://hlinksldjump"/>
          </p:cNvPr>
          <p:cNvSpPr/>
          <p:nvPr/>
        </p:nvSpPr>
        <p:spPr>
          <a:xfrm>
            <a:off x="5580000" y="5445000"/>
            <a:ext cx="108108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7"/>
          <p:cNvSpPr/>
          <p:nvPr/>
        </p:nvSpPr>
        <p:spPr>
          <a:xfrm>
            <a:off x="493344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>
            <a:hlinkClick r:id="" action="ppaction://hlinkshowjump?jump=nextslide"/>
          </p:cNvPr>
          <p:cNvSpPr/>
          <p:nvPr/>
        </p:nvSpPr>
        <p:spPr>
          <a:xfrm>
            <a:off x="5580000" y="306864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>
            <a:hlinkClick r:id="rId7" action="ppaction://hlinksldjump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>
            <a:hlinkClick r:id="rId8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7">
            <a:hlinkClick r:id="rId9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>
            <a:hlinkClick r:id="rId10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>
            <a:hlinkClick r:id="rId11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>
            <a:hlinkClick r:id="rId12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>
            <a:hlinkClick r:id="rId13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>
            <a:hlinkClick r:id="rId14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>
            <a:hlinkClick r:id="rId15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6">
            <a:hlinkClick r:id="rId16" action="ppaction://hlinksldjump"/>
          </p:cNvPr>
          <p:cNvSpPr/>
          <p:nvPr/>
        </p:nvSpPr>
        <p:spPr>
          <a:xfrm>
            <a:off x="5580000" y="5445000"/>
            <a:ext cx="108108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7"/>
          <p:cNvSpPr/>
          <p:nvPr/>
        </p:nvSpPr>
        <p:spPr>
          <a:xfrm>
            <a:off x="4933440" y="19044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99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>
            <a:hlinkClick r:id="rId7" action="ppaction://hlinksldjump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6">
            <a:hlinkClick r:id="rId8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>
            <a:hlinkClick r:id="rId9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9">
            <a:hlinkClick r:id="rId10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1">
            <a:hlinkClick r:id="rId11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2">
            <a:hlinkClick r:id="rId12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>
            <a:hlinkClick r:id="rId13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>
            <a:hlinkClick r:id="rId14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5">
            <a:hlinkClick r:id="rId15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6">
            <a:hlinkClick r:id="" action="ppaction://hlinkshowjump?jump=nextslide"/>
          </p:cNvPr>
          <p:cNvSpPr/>
          <p:nvPr/>
        </p:nvSpPr>
        <p:spPr>
          <a:xfrm>
            <a:off x="5580000" y="5445000"/>
            <a:ext cx="108108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717080" y="260280"/>
            <a:ext cx="1198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3">
            <a:hlinkClick r:id="rId6" action="ppaction://hlinksldjump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>
            <a:hlinkClick r:id="" action="ppaction://hlinkshowjump?jump=nextslide"/>
          </p:cNvPr>
          <p:cNvSpPr/>
          <p:nvPr/>
        </p:nvSpPr>
        <p:spPr>
          <a:xfrm>
            <a:off x="241128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>
            <a:hlinkClick r:id="rId7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>
            <a:hlinkClick r:id="rId8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9">
            <a:hlinkClick r:id="rId9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1">
            <a:hlinkClick r:id="rId10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2">
            <a:hlinkClick r:id="rId11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3">
            <a:hlinkClick r:id="rId12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4">
            <a:hlinkClick r:id="rId13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5">
            <a:hlinkClick r:id="rId14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4889160" y="22392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cc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1">
            <a:hlinkClick r:id="rId4" action="ppaction://hlinksldjump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>
            <a:hlinkClick r:id="rId5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3">
            <a:hlinkClick r:id="" action="ppaction://hlinkshowjump?jump=nextslide"/>
          </p:cNvPr>
          <p:cNvSpPr/>
          <p:nvPr/>
        </p:nvSpPr>
        <p:spPr>
          <a:xfrm>
            <a:off x="4572000" y="3068640"/>
            <a:ext cx="108108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6">
            <a:hlinkClick r:id="rId6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>
            <a:hlinkClick r:id="rId7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9">
            <a:hlinkClick r:id="rId8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1">
            <a:hlinkClick r:id="rId9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2">
            <a:hlinkClick r:id="rId10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3">
            <a:hlinkClick r:id="rId11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4">
            <a:hlinkClick r:id="rId12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5">
            <a:hlinkClick r:id="rId13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4986000" y="19044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ffff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309080" cy="688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акар"/>
          <p:cNvPicPr/>
          <p:nvPr/>
        </p:nvPicPr>
        <p:blipFill>
          <a:blip r:embed="rId2"/>
          <a:stretch/>
        </p:blipFill>
        <p:spPr>
          <a:xfrm>
            <a:off x="0" y="0"/>
            <a:ext cx="2133720" cy="215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пьеро"/>
          <p:cNvPicPr/>
          <p:nvPr/>
        </p:nvPicPr>
        <p:blipFill>
          <a:blip r:embed="rId3"/>
          <a:stretch/>
        </p:blipFill>
        <p:spPr>
          <a:xfrm>
            <a:off x="2411280" y="29973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1">
            <a:hlinkClick r:id="" action="ppaction://hlinkshowjump?jump=nextslide"/>
          </p:cNvPr>
          <p:cNvSpPr/>
          <p:nvPr/>
        </p:nvSpPr>
        <p:spPr>
          <a:xfrm>
            <a:off x="2411280" y="3068640"/>
            <a:ext cx="10810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>
            <a:hlinkClick r:id="rId4" action="ppaction://hlinksldjump"/>
          </p:cNvPr>
          <p:cNvSpPr/>
          <p:nvPr/>
        </p:nvSpPr>
        <p:spPr>
          <a:xfrm>
            <a:off x="3492360" y="306864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6">
            <a:hlinkClick r:id="rId5" action="ppaction://hlinksldjump"/>
          </p:cNvPr>
          <p:cNvSpPr/>
          <p:nvPr/>
        </p:nvSpPr>
        <p:spPr>
          <a:xfrm>
            <a:off x="3492360" y="3860640"/>
            <a:ext cx="1081080" cy="7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7">
            <a:hlinkClick r:id="rId6" action="ppaction://hlinksldjump"/>
          </p:cNvPr>
          <p:cNvSpPr/>
          <p:nvPr/>
        </p:nvSpPr>
        <p:spPr>
          <a:xfrm>
            <a:off x="4572000" y="386064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9">
            <a:hlinkClick r:id="rId7" action="ppaction://hlinksldjump"/>
          </p:cNvPr>
          <p:cNvSpPr/>
          <p:nvPr/>
        </p:nvSpPr>
        <p:spPr>
          <a:xfrm>
            <a:off x="2411280" y="4653000"/>
            <a:ext cx="1081080" cy="7920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>
            <a:hlinkClick r:id="rId8" action="ppaction://hlinksldjump"/>
          </p:cNvPr>
          <p:cNvSpPr/>
          <p:nvPr/>
        </p:nvSpPr>
        <p:spPr>
          <a:xfrm>
            <a:off x="4572000" y="4653000"/>
            <a:ext cx="1081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2">
            <a:hlinkClick r:id="rId9" action="ppaction://hlinksldjump"/>
          </p:cNvPr>
          <p:cNvSpPr/>
          <p:nvPr/>
        </p:nvSpPr>
        <p:spPr>
          <a:xfrm>
            <a:off x="5580000" y="4653000"/>
            <a:ext cx="1081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3">
            <a:hlinkClick r:id="rId10" action="ppaction://hlinksldjump"/>
          </p:cNvPr>
          <p:cNvSpPr/>
          <p:nvPr/>
        </p:nvSpPr>
        <p:spPr>
          <a:xfrm>
            <a:off x="2411280" y="5445000"/>
            <a:ext cx="1081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>
            <a:hlinkClick r:id="rId11" action="ppaction://hlinksldjump"/>
          </p:cNvPr>
          <p:cNvSpPr/>
          <p:nvPr/>
        </p:nvSpPr>
        <p:spPr>
          <a:xfrm>
            <a:off x="3492360" y="5445000"/>
            <a:ext cx="1081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>
            <a:hlinkClick r:id="rId12" action="ppaction://hlinksldjump"/>
          </p:cNvPr>
          <p:cNvSpPr/>
          <p:nvPr/>
        </p:nvSpPr>
        <p:spPr>
          <a:xfrm>
            <a:off x="4572000" y="5445000"/>
            <a:ext cx="1081080" cy="79236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4912920" y="190440"/>
            <a:ext cx="689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4:01:29Z</dcterms:created>
  <dc:creator>Люсенька</dc:creator>
  <dc:description/>
  <dc:language>en-US</dc:language>
  <cp:lastModifiedBy>Admin</cp:lastModifiedBy>
  <dcterms:modified xsi:type="dcterms:W3CDTF">2007-09-12T20:40:35Z</dcterms:modified>
  <cp:revision>5</cp:revision>
  <dc:subject/>
  <dc:title>Слайд 1</dc:title>
</cp:coreProperties>
</file>