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29C9-8E0B-4C47-AEBF-E0653FA0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E8AD-E867-4E4F-8147-42057595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4C41-C4CC-48BC-8C9A-E3371447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05A5-0295-4D43-AC84-CA112CAC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6822-17A8-48E5-9731-D7929419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1486-25D3-485F-BA06-5F03B5E0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1C09-384F-491D-846F-B283C8E9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50D4-3A46-4685-AF34-CE27E7A9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16B7-3DB3-4CFD-85B1-446D045F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415B-9862-4EB7-A8E5-2EA47300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B373-7208-428B-879A-7CE6A1C7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4064-1BA8-4D92-812F-CD95604C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EB09-4C55-48A6-9151-0D3E06BCE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0" y="1676520"/>
            <a:ext cx="87631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r Computer im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eben des Menschen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 Computer kann nie mehr als der Mensch, aber er macht alles schneller und ist nie 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ü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Rectangle 3" descr=""/>
          <p:cNvPicPr/>
          <p:nvPr/>
        </p:nvPicPr>
        <p:blipFill>
          <a:blip r:embed="rId1"/>
          <a:stretch/>
        </p:blipFill>
        <p:spPr>
          <a:xfrm>
            <a:off x="2133720" y="2509920"/>
            <a:ext cx="495288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Arbeit haben sich die Studenten der Gruppe 431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odumow Anton und Sokownin Aleksej vorbereit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0880" y="2590920"/>
            <a:ext cx="80773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Danke für die Aufmerksamkeit!!!</a:t>
            </a:r>
            <a:endParaRPr b="0" lang="en-US" sz="1800" spc="1" strike="noStrike">
              <a:ln w="414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Ziele unserer P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äsentation sind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- die Information zu finden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- die ins Deutsche zu übersetzen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- euch zu erzählen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u unserem Leben ge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n heute Computer, di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rall eingesetzt werden. Man sieht sie überall:</a:t>
            </a: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Banken und Bibliotheken, in den Schulen und in den Super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ä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kten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Rectangle 3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2819520" cy="225108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2"/>
          <a:stretch/>
        </p:blipFill>
        <p:spPr>
          <a:xfrm>
            <a:off x="3124080" y="2971800"/>
            <a:ext cx="2971800" cy="222084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3" descr=""/>
          <p:cNvPicPr/>
          <p:nvPr/>
        </p:nvPicPr>
        <p:blipFill>
          <a:blip r:embed="rId3"/>
          <a:stretch/>
        </p:blipFill>
        <p:spPr>
          <a:xfrm>
            <a:off x="6324480" y="2819520"/>
            <a:ext cx="2819520" cy="2222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371600" y="57913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Computer machen al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57600" y="274320"/>
            <a:ext cx="50292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ersten Compute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ute der deutsche Ingenieur Conrad Zuse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3886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SC760"/>
          <p:cNvPicPr/>
          <p:nvPr/>
        </p:nvPicPr>
        <p:blipFill>
          <a:blip r:embed="rId2"/>
          <a:stretch/>
        </p:blipFill>
        <p:spPr>
          <a:xfrm>
            <a:off x="6337440" y="2895480"/>
            <a:ext cx="2806560" cy="3962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5032440"/>
            <a:ext cx="95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ersten Computer wa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hr gro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32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ber die Mikroelektronik entwickelte sich sehr schnell und ermöglichte den Bau von Mikrocomputer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eute gibt es verschiedene Computer: Spiel-, Personal- und Multimedia-Compu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3" descr=""/>
          <p:cNvPicPr/>
          <p:nvPr/>
        </p:nvPicPr>
        <p:blipFill>
          <a:blip r:embed="rId1"/>
          <a:stretch/>
        </p:blipFill>
        <p:spPr>
          <a:xfrm>
            <a:off x="2438280" y="3689280"/>
            <a:ext cx="3733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mer mehr Menschen arbeiten mit Computern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er die meisten beginnen mit den Computerspielen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e sind das Erste, was an einem Computer ausprobiert wird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Rectangle 3" descr=""/>
          <p:cNvPicPr/>
          <p:nvPr/>
        </p:nvPicPr>
        <p:blipFill>
          <a:blip r:embed="rId1"/>
          <a:stretch/>
        </p:blipFill>
        <p:spPr>
          <a:xfrm>
            <a:off x="304920" y="4286160"/>
            <a:ext cx="3124080" cy="23479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838080" y="1447560"/>
            <a:ext cx="99820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Rectangle 3" descr=""/>
          <p:cNvPicPr/>
          <p:nvPr/>
        </p:nvPicPr>
        <p:blipFill>
          <a:blip r:embed="rId2"/>
          <a:stretch/>
        </p:blipFill>
        <p:spPr>
          <a:xfrm>
            <a:off x="5638680" y="4359240"/>
            <a:ext cx="328932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Rectangle 3" descr=""/>
          <p:cNvPicPr/>
          <p:nvPr/>
        </p:nvPicPr>
        <p:blipFill>
          <a:blip r:embed="rId1"/>
          <a:stretch/>
        </p:blipFill>
        <p:spPr>
          <a:xfrm>
            <a:off x="4495680" y="3467160"/>
            <a:ext cx="4191120" cy="31608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4952880" y="380880"/>
            <a:ext cx="35053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1066680" y="457200"/>
            <a:ext cx="7391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457200"/>
            <a:ext cx="8153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in Computer hilft leichter lernen. Es gibt heute viele Lernprogramme, die das beweis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s Lernen ist dabei nicht so langweilig wi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t ein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hrbuch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t Hilfe des Computers kann man wirklich alles machen. Die Jungendlichen interessieren sich 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ür Computer, weil sie in vielen Berufen notwendig si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Rectangle 3" descr=""/>
          <p:cNvPicPr/>
          <p:nvPr/>
        </p:nvPicPr>
        <p:blipFill>
          <a:blip r:embed="rId1"/>
          <a:stretch/>
        </p:blipFill>
        <p:spPr>
          <a:xfrm>
            <a:off x="533520" y="3144960"/>
            <a:ext cx="3809880" cy="241776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3" descr=""/>
          <p:cNvPicPr/>
          <p:nvPr/>
        </p:nvPicPr>
        <p:blipFill>
          <a:blip r:embed="rId2"/>
          <a:stretch/>
        </p:blipFill>
        <p:spPr>
          <a:xfrm>
            <a:off x="4876920" y="3200400"/>
            <a:ext cx="29430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in sehr wichtiges Kommunikationsmittel ist da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et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nk dem Internet kann man jetzt elektronische Briefe und Informationen in wenigen Sekunden send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Zahl der Menschen, die das Intern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nutzen, nimmt z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Rectangle 3" descr=""/>
          <p:cNvPicPr/>
          <p:nvPr/>
        </p:nvPicPr>
        <p:blipFill>
          <a:blip r:embed="rId1"/>
          <a:stretch/>
        </p:blipFill>
        <p:spPr>
          <a:xfrm>
            <a:off x="5334120" y="4002120"/>
            <a:ext cx="33526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it</cp:lastModifiedBy>
  <dcterms:modified xsi:type="dcterms:W3CDTF">2008-03-26T16:52:1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