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9.wmf" ContentType="image/x-wmf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18.wmf" ContentType="image/x-wm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1380-960C-4F4A-AC83-2E9CA16BA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5429-4727-4C43-8229-0EAB3805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CDA1-062F-42D9-B76A-3D061B2A6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40D0-F921-49B3-94B2-8F80BDFD6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9513-DB9C-420A-B3C4-8C3A24C0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5CEE-60FB-488F-A32B-03B478BB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3027-9518-4774-B247-862DFF82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9AAD-FF42-4B2A-B25B-D141455C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CDC8-0539-4FDD-9DBC-118FEF6E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4720-BC1D-4BB5-BF39-B5CCF5BD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1422-E6F8-440B-9645-369649D0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A294-37E4-4A3F-84CE-E7BCBB25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1C78-00CB-4FBA-9922-B7EA0FF930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ru.wikipedia.org/wiki/&#1060;&#1088;&#1072;&#1085;&#1094;&#1080;&#1103;" TargetMode="External"/><Relationship Id="rId3" Type="http://schemas.openxmlformats.org/officeDocument/2006/relationships/hyperlink" Target="http://ru.wikipedia.org/wiki/XVIII_&#1074;&#1077;&#1082;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mult-37"/>
          <p:cNvPicPr/>
          <p:nvPr/>
        </p:nvPicPr>
        <p:blipFill>
          <a:blip r:embed="rId1"/>
          <a:stretch/>
        </p:blipFill>
        <p:spPr>
          <a:xfrm>
            <a:off x="2124000" y="2852640"/>
            <a:ext cx="5183280" cy="31165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9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68436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Monotype Corsiva"/>
              </a:rPr>
              <a:t>              </a:t>
            </a:r>
            <a:r>
              <a:rPr b="0" lang="ru-RU" sz="3200" spc="-1" strike="noStrike">
                <a:solidFill>
                  <a:srgbClr val="0033cc"/>
                </a:solidFill>
                <a:latin typeface="Monotype Corsiva"/>
              </a:rPr>
              <a:t>27 .11        Классная  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user\Desktop\Konstruktion метр.bmp"/>
          <p:cNvPicPr/>
          <p:nvPr/>
        </p:nvPicPr>
        <p:blipFill>
          <a:blip r:embed="rId1"/>
          <a:srcRect l="-59" t="7" r="25483" b="17753"/>
          <a:stretch/>
        </p:blipFill>
        <p:spPr>
          <a:xfrm rot="429000">
            <a:off x="2757600" y="1806480"/>
            <a:ext cx="4270320" cy="42624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1"/>
          <p:cNvSpPr/>
          <p:nvPr/>
        </p:nvSpPr>
        <p:spPr>
          <a:xfrm>
            <a:off x="2260440" y="476280"/>
            <a:ext cx="526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р был впервые введён во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Фран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XVIII ве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2"/>
          <p:cNvSpPr/>
          <p:nvPr/>
        </p:nvSpPr>
        <p:spPr>
          <a:xfrm>
            <a:off x="2340000" y="3573360"/>
            <a:ext cx="460836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1"/>
          <p:cNvGrpSpPr/>
          <p:nvPr/>
        </p:nvGrpSpPr>
        <p:grpSpPr>
          <a:xfrm>
            <a:off x="1908000" y="4005360"/>
            <a:ext cx="5943600" cy="778320"/>
            <a:chOff x="1908000" y="4005360"/>
            <a:chExt cx="5943600" cy="778320"/>
          </a:xfrm>
        </p:grpSpPr>
        <p:grpSp>
          <p:nvGrpSpPr>
            <p:cNvPr id="68" name="Group 22"/>
            <p:cNvGrpSpPr/>
            <p:nvPr/>
          </p:nvGrpSpPr>
          <p:grpSpPr>
            <a:xfrm>
              <a:off x="1908000" y="4005360"/>
              <a:ext cx="5943600" cy="778320"/>
              <a:chOff x="1908000" y="4005360"/>
              <a:chExt cx="5943600" cy="778320"/>
            </a:xfrm>
          </p:grpSpPr>
          <p:sp>
            <p:nvSpPr>
              <p:cNvPr id="69" name="Rectangle 23"/>
              <p:cNvSpPr/>
              <p:nvPr/>
            </p:nvSpPr>
            <p:spPr>
              <a:xfrm>
                <a:off x="1908000" y="4005360"/>
                <a:ext cx="5943600" cy="761760"/>
              </a:xfrm>
              <a:prstGeom prst="rect">
                <a:avLst/>
              </a:prstGeom>
              <a:solidFill>
                <a:srgbClr val="66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Text Box 24"/>
              <p:cNvSpPr/>
              <p:nvPr/>
            </p:nvSpPr>
            <p:spPr>
              <a:xfrm>
                <a:off x="2138040" y="408024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Text Box 25"/>
              <p:cNvSpPr/>
              <p:nvPr/>
            </p:nvSpPr>
            <p:spPr>
              <a:xfrm>
                <a:off x="26719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Text Box 26"/>
              <p:cNvSpPr/>
              <p:nvPr/>
            </p:nvSpPr>
            <p:spPr>
              <a:xfrm>
                <a:off x="31291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Text Box 27"/>
              <p:cNvSpPr/>
              <p:nvPr/>
            </p:nvSpPr>
            <p:spPr>
              <a:xfrm>
                <a:off x="35863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Text Box 28"/>
              <p:cNvSpPr/>
              <p:nvPr/>
            </p:nvSpPr>
            <p:spPr>
              <a:xfrm>
                <a:off x="40435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 Box 29"/>
              <p:cNvSpPr/>
              <p:nvPr/>
            </p:nvSpPr>
            <p:spPr>
              <a:xfrm>
                <a:off x="45007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Text Box 30"/>
              <p:cNvSpPr/>
              <p:nvPr/>
            </p:nvSpPr>
            <p:spPr>
              <a:xfrm>
                <a:off x="49579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Text Box 31"/>
              <p:cNvSpPr/>
              <p:nvPr/>
            </p:nvSpPr>
            <p:spPr>
              <a:xfrm>
                <a:off x="54151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 Box 32"/>
              <p:cNvSpPr/>
              <p:nvPr/>
            </p:nvSpPr>
            <p:spPr>
              <a:xfrm>
                <a:off x="58723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33"/>
              <p:cNvSpPr/>
              <p:nvPr/>
            </p:nvSpPr>
            <p:spPr>
              <a:xfrm>
                <a:off x="63295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34"/>
              <p:cNvSpPr/>
              <p:nvPr/>
            </p:nvSpPr>
            <p:spPr>
              <a:xfrm>
                <a:off x="6710040" y="42321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35"/>
              <p:cNvSpPr/>
              <p:nvPr/>
            </p:nvSpPr>
            <p:spPr>
              <a:xfrm>
                <a:off x="7167240" y="42321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36"/>
            <p:cNvGrpSpPr/>
            <p:nvPr/>
          </p:nvGrpSpPr>
          <p:grpSpPr>
            <a:xfrm>
              <a:off x="2365200" y="4005360"/>
              <a:ext cx="2286000" cy="151920"/>
              <a:chOff x="2365200" y="4005360"/>
              <a:chExt cx="2286000" cy="151920"/>
            </a:xfrm>
          </p:grpSpPr>
          <p:sp>
            <p:nvSpPr>
              <p:cNvPr id="83" name="Line 37"/>
              <p:cNvSpPr/>
              <p:nvPr/>
            </p:nvSpPr>
            <p:spPr>
              <a:xfrm>
                <a:off x="23652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38"/>
              <p:cNvSpPr/>
              <p:nvPr/>
            </p:nvSpPr>
            <p:spPr>
              <a:xfrm>
                <a:off x="28224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39"/>
              <p:cNvSpPr/>
              <p:nvPr/>
            </p:nvSpPr>
            <p:spPr>
              <a:xfrm>
                <a:off x="32796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40"/>
              <p:cNvSpPr/>
              <p:nvPr/>
            </p:nvSpPr>
            <p:spPr>
              <a:xfrm>
                <a:off x="37368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41"/>
              <p:cNvSpPr/>
              <p:nvPr/>
            </p:nvSpPr>
            <p:spPr>
              <a:xfrm>
                <a:off x="41940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42"/>
              <p:cNvSpPr/>
              <p:nvPr/>
            </p:nvSpPr>
            <p:spPr>
              <a:xfrm>
                <a:off x="46512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Group 43"/>
            <p:cNvGrpSpPr/>
            <p:nvPr/>
          </p:nvGrpSpPr>
          <p:grpSpPr>
            <a:xfrm>
              <a:off x="5108400" y="4005360"/>
              <a:ext cx="2286000" cy="151920"/>
              <a:chOff x="5108400" y="4005360"/>
              <a:chExt cx="2286000" cy="151920"/>
            </a:xfrm>
          </p:grpSpPr>
          <p:sp>
            <p:nvSpPr>
              <p:cNvPr id="90" name="Line 44"/>
              <p:cNvSpPr/>
              <p:nvPr/>
            </p:nvSpPr>
            <p:spPr>
              <a:xfrm>
                <a:off x="51084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45"/>
              <p:cNvSpPr/>
              <p:nvPr/>
            </p:nvSpPr>
            <p:spPr>
              <a:xfrm>
                <a:off x="55656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46"/>
              <p:cNvSpPr/>
              <p:nvPr/>
            </p:nvSpPr>
            <p:spPr>
              <a:xfrm>
                <a:off x="60228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47"/>
              <p:cNvSpPr/>
              <p:nvPr/>
            </p:nvSpPr>
            <p:spPr>
              <a:xfrm>
                <a:off x="64800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48"/>
              <p:cNvSpPr/>
              <p:nvPr/>
            </p:nvSpPr>
            <p:spPr>
              <a:xfrm>
                <a:off x="69372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49"/>
              <p:cNvSpPr/>
              <p:nvPr/>
            </p:nvSpPr>
            <p:spPr>
              <a:xfrm>
                <a:off x="73944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" name="Line 50"/>
          <p:cNvSpPr/>
          <p:nvPr/>
        </p:nvSpPr>
        <p:spPr>
          <a:xfrm>
            <a:off x="2340000" y="3573360"/>
            <a:ext cx="7920" cy="38124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1"/>
          <p:cNvSpPr/>
          <p:nvPr/>
        </p:nvSpPr>
        <p:spPr>
          <a:xfrm>
            <a:off x="6948360" y="3573360"/>
            <a:ext cx="7920" cy="38124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52"/>
          <p:cNvSpPr txBox="1"/>
          <p:nvPr/>
        </p:nvSpPr>
        <p:spPr>
          <a:xfrm>
            <a:off x="6732720" y="4292640"/>
            <a:ext cx="419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WordArt 53"/>
          <p:cNvSpPr txBox="1"/>
          <p:nvPr/>
        </p:nvSpPr>
        <p:spPr>
          <a:xfrm>
            <a:off x="2195640" y="4221000"/>
            <a:ext cx="247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0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00" name="Group 54"/>
          <p:cNvGrpSpPr/>
          <p:nvPr/>
        </p:nvGrpSpPr>
        <p:grpSpPr>
          <a:xfrm>
            <a:off x="2193480" y="1050840"/>
            <a:ext cx="2790720" cy="2790720"/>
            <a:chOff x="2193480" y="1050840"/>
            <a:chExt cx="2790720" cy="2790720"/>
          </a:xfrm>
        </p:grpSpPr>
        <p:sp>
          <p:nvSpPr>
            <p:cNvPr id="101" name="AutoShape 55"/>
            <p:cNvSpPr/>
            <p:nvPr/>
          </p:nvSpPr>
          <p:spPr>
            <a:xfrm rot="1095000">
              <a:off x="2484000" y="1341000"/>
              <a:ext cx="2209680" cy="2210040"/>
            </a:xfrm>
            <a:prstGeom prst="irregularSeal1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WordArt 56"/>
            <p:cNvSpPr txBox="1"/>
            <p:nvPr/>
          </p:nvSpPr>
          <p:spPr>
            <a:xfrm rot="21496800">
              <a:off x="3110400" y="2113560"/>
              <a:ext cx="103824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0 см</a:t>
              </a:r>
              <a:endPara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03" name="Group 57"/>
          <p:cNvGrpSpPr/>
          <p:nvPr/>
        </p:nvGrpSpPr>
        <p:grpSpPr>
          <a:xfrm>
            <a:off x="4505400" y="985680"/>
            <a:ext cx="2775240" cy="2775600"/>
            <a:chOff x="4505400" y="985680"/>
            <a:chExt cx="2775240" cy="2775600"/>
          </a:xfrm>
        </p:grpSpPr>
        <p:sp>
          <p:nvSpPr>
            <p:cNvPr id="104" name="AutoShape 58"/>
            <p:cNvSpPr/>
            <p:nvPr/>
          </p:nvSpPr>
          <p:spPr>
            <a:xfrm rot="1057800">
              <a:off x="4788000" y="1268280"/>
              <a:ext cx="2209680" cy="2210040"/>
            </a:xfrm>
            <a:prstGeom prst="irregularSeal1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WordArt 59"/>
            <p:cNvSpPr txBox="1"/>
            <p:nvPr/>
          </p:nvSpPr>
          <p:spPr>
            <a:xfrm rot="21459600">
              <a:off x="5413680" y="2040120"/>
              <a:ext cx="103824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 дм</a:t>
              </a:r>
              <a:endPara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3059280" y="2133720"/>
            <a:ext cx="3735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дм = 10 с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WordArt 3"/>
          <p:cNvSpPr txBox="1"/>
          <p:nvPr/>
        </p:nvSpPr>
        <p:spPr>
          <a:xfrm>
            <a:off x="3348000" y="3573360"/>
            <a:ext cx="302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66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ylfaen"/>
              </a:rPr>
              <a:t>М Е Т Р</a:t>
            </a:r>
            <a:endParaRPr b="0" lang="en-US" sz="1800" spc="1" strike="noStrike">
              <a:ln w="19080">
                <a:solidFill>
                  <a:srgbClr val="cc66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108" name="WordArt 4"/>
          <p:cNvSpPr txBox="1"/>
          <p:nvPr/>
        </p:nvSpPr>
        <p:spPr>
          <a:xfrm>
            <a:off x="1619280" y="4724280"/>
            <a:ext cx="374472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м = 10 д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WordArt 5"/>
          <p:cNvSpPr txBox="1"/>
          <p:nvPr/>
        </p:nvSpPr>
        <p:spPr>
          <a:xfrm>
            <a:off x="5580000" y="4724280"/>
            <a:ext cx="259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= 100 с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WordArt 6"/>
          <p:cNvSpPr txBox="1"/>
          <p:nvPr/>
        </p:nvSpPr>
        <p:spPr>
          <a:xfrm>
            <a:off x="2195640" y="692280"/>
            <a:ext cx="5676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диницы измерения длин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их соотношения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1979640" y="1413000"/>
            <a:ext cx="626436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66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рядка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cc66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66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ля глаз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cc66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C:\Users\user\Documents\АВ-20012\День учителя-2012\20121007\P103088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Oval 2"/>
          <p:cNvSpPr/>
          <p:nvPr/>
        </p:nvSpPr>
        <p:spPr>
          <a:xfrm>
            <a:off x="1763640" y="328464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65896E-006 C -3.05556E-006 0.17248 0.07761 0.31445 0.17205 0.31445 C 0.28351 0.31445 0.32379 0.15699 0.3408 0.06243 L 0.35834 -0.06312 C 0.37552 -0.15769 0.41841 -0.31468 0.54427 -0.31468 C 0.625 -0.31468 0.71667 -0.17318 0.71667 2.65896E-006 C 0.71667 0.17248 0.625 0.31445 0.54427 0.31445 C 0.41841 0.31445 0.37552 0.15699 0.35834 0.06243 L 0.3408 -0.06312 C 0.32379 -0.15769 0.28351 -0.31468 0.17205 -0.31468 C 0.07761 -0.31468 -3.05556E-006 -0.17318 -3.05556E-006 2.65896E-006 Z">
                                      <p:cBhvr>
                                        <p:cTn id="130" dur="5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45663E-006 L 0.71459 -2.45663E-006 E">
                                      <p:cBhvr>
                                        <p:cTn id="133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458 -2.45663E-006 L 0.0059 -2.45663E-006 E">
                                      <p:cBhvr>
                                        <p:cTn id="136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8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21536E-006 L 0.35243 -0.43025 E">
                                      <p:cBhvr>
                                        <p:cTn id="139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243 -0.43025 L 0.35243 0.37497 E">
                                      <p:cBhvr>
                                        <p:cTn id="142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243 0.37497 L 0.35052 -0.42262 E">
                                      <p:cBhvr>
                                        <p:cTn id="145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243 -0.43025 L 0.35833 0.37474 E">
                                      <p:cBhvr>
                                        <p:cTn id="148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0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243 0.37497 L 0.71268 0.00763 E">
                                      <p:cBhvr>
                                        <p:cTn id="151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459 3.96253E-006 C 0.71442 -0.01712 0.71459 -0.03609 0.71338 -0.05159 C 0.71216 -0.06755 0.71095 -0.07726 0.70747 -0.09392 C 0.704 -0.11057 0.69879 -0.13347 0.6922 -0.15198 C 0.6856 -0.17048 0.67883 -0.18529 0.66754 -0.20518 C 0.65626 -0.22508 0.64046 -0.2533 0.62397 -0.27111 C 0.60747 -0.28892 0.58438 -0.30419 0.56876 -0.31182 C 0.55313 -0.31946 0.54463 -0.31807 0.52987 -0.31645 C 0.51511 -0.31483 0.49775 -0.31321 0.48039 -0.30257 C 0.46303 -0.29193 0.44185 -0.27666 0.42518 -0.25237 C 0.40851 -0.22808 0.39272 -0.19315 0.38039 -0.15661 C 0.36806 -0.12006 0.36077 -0.08374 0.35105 -0.03285 C 0.34133 0.01804 0.33803 0.09692 0.32171 0.14897 C 0.30539 0.20102 0.27917 0.25144 0.25348 0.2792 C 0.22779 0.30696 0.19706 0.31668 0.16754 0.31483 C 0.13803 0.31344 0.10244 0.29979 0.07692 0.26972 C 0.0514 0.23965 0.02779 0.17881 0.01459 0.13486 C 0.0014 0.09091 -0.0007 0.04395 -0.0019 0.00624 C -0.00312 -0.03146 -0.00017 -0.05367 0.00747 -0.09091 C 0.01511 -0.12815 0.02397 -0.18228 0.04393 -0.21791 C 0.0639 -0.25353 0.10296 -0.288 0.12761 -0.30396 C 0.15226 -0.31992 0.1698 -0.31946 0.1922 -0.31344 C 0.21459 -0.30743 0.23994 -0.2947 0.26164 -0.26787 C 0.28334 -0.24104 0.30799 -0.20009 0.32275 -0.15198 C 0.33751 -0.10386 0.34046 -0.03169 0.34983 0.02035 C 0.35921 0.0724 0.36424 0.11843 0.37935 0.15984 C 0.39445 0.20148 0.41546 0.24381 0.44046 0.26972 C 0.46529 0.29563 0.50313 0.31043 0.52987 0.31483 C 0.5566 0.31922 0.57987 0.30974 0.60053 0.29609 C 0.62119 0.28244 0.63733 0.26047 0.65348 0.2334 C 0.66963 0.2068 0.68664 0.16516 0.69688 0.13486 C 0.70713 0.10456 0.71112 0.07472 0.71459 0.05181 C 0.71806 0.02891 0.71476 0.01712 0.71459 3.96253E-006 Z">
                                      <p:cBhvr>
                                        <p:cTn id="154" dur="5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C:\Users\user\Documents\АВ-20012\День учителя-2012\20121007\P103088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Oval 2"/>
          <p:cNvSpPr/>
          <p:nvPr/>
        </p:nvSpPr>
        <p:spPr>
          <a:xfrm>
            <a:off x="8388360" y="3645000"/>
            <a:ext cx="431640" cy="43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4104E-006 C 0.01493 -0.26543 -0.16528 -0.49479 -0.40625 -0.51075 C -0.63646 -0.53017 -0.85104 -0.35237 -0.86511 -0.09479 C -0.88281 0.14243 -0.73264 0.36463 -0.51684 0.38012 C -0.31997 0.3926 -0.13281 0.24532 -0.1184 0.02405 C -0.10434 -0.17803 -0.23021 -0.36832 -0.41285 -0.38381 C -0.58195 -0.39583 -0.73993 -0.27283 -0.75052 -0.0874 C -0.76111 0.07908 -0.66094 0.24162 -0.5099 0.24995 C -0.37327 0.26128 -0.24479 0.16648 -0.23299 0.01619 C -0.22604 -0.11861 -0.30156 -0.24948 -0.42014 -0.25711 C -0.52413 -0.26543 -0.62813 -0.19375 -0.63646 -0.07907 C -0.64288 0.02012 -0.58959 0.11492 -0.50261 0.12324 C -0.43073 0.13064 -0.35556 0.0874 -0.35191 0.00833 C -0.34497 -0.05572 -0.37327 -0.123 -0.42709 -0.13063 C -0.47066 -0.13063 -0.51354 -0.11468 -0.52049 -0.07144 C -0.52413 -0.04323 -0.51684 -0.01572 -0.49584 -0.00393 C -0.48507 -3.41039999999983E-006 -0.47761 -3.41039999999983E-006 -0.46684 -0.00393 E">
                                      <p:cBhvr>
                                        <p:cTn id="166" dur="5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к удавуi"/>
          <p:cNvPicPr/>
          <p:nvPr/>
        </p:nvPicPr>
        <p:blipFill>
          <a:blip r:embed="rId1"/>
          <a:stretch/>
        </p:blipFill>
        <p:spPr>
          <a:xfrm>
            <a:off x="1619280" y="1700280"/>
            <a:ext cx="2682720" cy="2016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Мерка попугайi"/>
          <p:cNvPicPr/>
          <p:nvPr/>
        </p:nvPicPr>
        <p:blipFill>
          <a:blip r:embed="rId2"/>
          <a:stretch/>
        </p:blipFill>
        <p:spPr>
          <a:xfrm>
            <a:off x="5148360" y="4508640"/>
            <a:ext cx="2232000" cy="1670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Линейка3526"/>
          <p:cNvPicPr/>
          <p:nvPr/>
        </p:nvPicPr>
        <p:blipFill>
          <a:blip r:embed="rId3"/>
          <a:stretch/>
        </p:blipFill>
        <p:spPr>
          <a:xfrm>
            <a:off x="4572000" y="1413000"/>
            <a:ext cx="3994200" cy="1258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Метр070198_01"/>
          <p:cNvPicPr/>
          <p:nvPr/>
        </p:nvPicPr>
        <p:blipFill>
          <a:blip r:embed="rId4"/>
          <a:stretch/>
        </p:blipFill>
        <p:spPr>
          <a:xfrm>
            <a:off x="5076720" y="2708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рулетка 2"/>
          <p:cNvPicPr/>
          <p:nvPr/>
        </p:nvPicPr>
        <p:blipFill>
          <a:blip r:embed="rId5"/>
          <a:stretch/>
        </p:blipFill>
        <p:spPr>
          <a:xfrm>
            <a:off x="3708360" y="4653000"/>
            <a:ext cx="1357200" cy="1406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Складной"/>
          <p:cNvPicPr/>
          <p:nvPr/>
        </p:nvPicPr>
        <p:blipFill>
          <a:blip r:embed="rId6"/>
          <a:stretch/>
        </p:blipFill>
        <p:spPr>
          <a:xfrm>
            <a:off x="1619280" y="4005360"/>
            <a:ext cx="2044800" cy="1211040"/>
          </a:xfrm>
          <a:prstGeom prst="rect">
            <a:avLst/>
          </a:prstGeom>
          <a:ln w="0">
            <a:noFill/>
          </a:ln>
        </p:spPr>
      </p:pic>
      <p:sp>
        <p:nvSpPr>
          <p:cNvPr id="122" name="WordArt 17"/>
          <p:cNvSpPr txBox="1"/>
          <p:nvPr/>
        </p:nvSpPr>
        <p:spPr>
          <a:xfrm>
            <a:off x="2195640" y="620640"/>
            <a:ext cx="5692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мерительные инструмен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читайте за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68000" y="1341000"/>
            <a:ext cx="504036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 м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5 м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 м 8 дм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 м 8 дм 9 с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619280" y="160020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та дерева 2  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ртсмены пробежали     дистанцию 100 ⁪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ина спички 4 ⁪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ьники приняли участие в заплыве на 50 ⁪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нн"/>
          <p:cNvPicPr/>
          <p:nvPr/>
        </p:nvPicPr>
        <p:blipFill>
          <a:blip r:embed="rId1"/>
          <a:stretch/>
        </p:blipFill>
        <p:spPr>
          <a:xfrm>
            <a:off x="2340000" y="1916280"/>
            <a:ext cx="4751280" cy="4224240"/>
          </a:xfrm>
          <a:prstGeom prst="rect">
            <a:avLst/>
          </a:prstGeom>
          <a:ln w="0">
            <a:noFill/>
          </a:ln>
        </p:spPr>
      </p:pic>
      <p:sp>
        <p:nvSpPr>
          <p:cNvPr id="128" name="WordArt 5"/>
          <p:cNvSpPr txBox="1"/>
          <p:nvPr/>
        </p:nvSpPr>
        <p:spPr>
          <a:xfrm>
            <a:off x="2050920" y="765000"/>
            <a:ext cx="5761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тог урока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1720800" y="1125360"/>
            <a:ext cx="6192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читайте велич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) 5 см, 7 дм, 9 см, 4 см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) 6 см, 3 см, 2 метра, 8 с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3"/>
          <p:cNvSpPr/>
          <p:nvPr/>
        </p:nvSpPr>
        <p:spPr>
          <a:xfrm>
            <a:off x="3708360" y="2997360"/>
            <a:ext cx="1108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5"/>
          <p:cNvSpPr/>
          <p:nvPr/>
        </p:nvSpPr>
        <p:spPr>
          <a:xfrm>
            <a:off x="4859280" y="4149720"/>
            <a:ext cx="2016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8"/>
          <p:cNvSpPr txBox="1"/>
          <p:nvPr/>
        </p:nvSpPr>
        <p:spPr>
          <a:xfrm>
            <a:off x="1619280" y="549360"/>
            <a:ext cx="62388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. С какой величиной работали?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0" name="WordArt 9"/>
          <p:cNvSpPr txBox="1"/>
          <p:nvPr/>
        </p:nvSpPr>
        <p:spPr>
          <a:xfrm>
            <a:off x="2916360" y="1125360"/>
            <a:ext cx="434340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сса    длина    время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1" name="WordArt 10"/>
          <p:cNvSpPr txBox="1"/>
          <p:nvPr/>
        </p:nvSpPr>
        <p:spPr>
          <a:xfrm>
            <a:off x="1547640" y="1557360"/>
            <a:ext cx="72010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. Что не является единицей измерения длины?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2" name="WordArt 11"/>
          <p:cNvSpPr txBox="1"/>
          <p:nvPr/>
        </p:nvSpPr>
        <p:spPr>
          <a:xfrm>
            <a:off x="1547640" y="2205000"/>
            <a:ext cx="73821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нтиметр   метр   диаметр   дециметр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3" name="WordArt 12"/>
          <p:cNvSpPr txBox="1"/>
          <p:nvPr/>
        </p:nvSpPr>
        <p:spPr>
          <a:xfrm>
            <a:off x="1547640" y="2708280"/>
            <a:ext cx="70678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. В какой единице удобнее измерять путь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4" name="WordArt 13"/>
          <p:cNvSpPr txBox="1"/>
          <p:nvPr/>
        </p:nvSpPr>
        <p:spPr>
          <a:xfrm>
            <a:off x="1979640" y="3141720"/>
            <a:ext cx="64944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 дома до школы ?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5" name="WordArt 14"/>
          <p:cNvSpPr txBox="1"/>
          <p:nvPr/>
        </p:nvSpPr>
        <p:spPr>
          <a:xfrm>
            <a:off x="1835280" y="3789360"/>
            <a:ext cx="6804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дециметрах    в сантиметрах    в метрах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6" name="WordArt 15"/>
          <p:cNvSpPr txBox="1"/>
          <p:nvPr/>
        </p:nvSpPr>
        <p:spPr>
          <a:xfrm>
            <a:off x="1476360" y="4365720"/>
            <a:ext cx="72770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. В какой единице удобнее измерить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WordArt 16"/>
          <p:cNvSpPr txBox="1"/>
          <p:nvPr/>
        </p:nvSpPr>
        <p:spPr>
          <a:xfrm>
            <a:off x="2771640" y="4797360"/>
            <a:ext cx="42008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лину крышки стола?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8" name="WordArt 17"/>
          <p:cNvSpPr txBox="1"/>
          <p:nvPr/>
        </p:nvSpPr>
        <p:spPr>
          <a:xfrm>
            <a:off x="1763640" y="5445000"/>
            <a:ext cx="680400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дециметрах    в сантиметрах    в метрах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9" name="Line 18"/>
          <p:cNvSpPr/>
          <p:nvPr/>
        </p:nvSpPr>
        <p:spPr>
          <a:xfrm>
            <a:off x="4356000" y="1484280"/>
            <a:ext cx="1440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5148360" y="2565360"/>
            <a:ext cx="143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0"/>
          <p:cNvSpPr/>
          <p:nvPr/>
        </p:nvSpPr>
        <p:spPr>
          <a:xfrm>
            <a:off x="7236000" y="4149720"/>
            <a:ext cx="143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1"/>
          <p:cNvSpPr/>
          <p:nvPr/>
        </p:nvSpPr>
        <p:spPr>
          <a:xfrm>
            <a:off x="1763640" y="5805360"/>
            <a:ext cx="223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77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" dur="770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7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770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77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9" dur="770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1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3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77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3" dur="770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5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7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54900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547280" y="2133720"/>
            <a:ext cx="71391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. стр. 86, №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Изготовить складной метр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. № 1, стр. 38, № 2,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2" descr="MCj04244660000[1]"/>
          <p:cNvPicPr/>
          <p:nvPr/>
        </p:nvPicPr>
        <p:blipFill>
          <a:blip r:embed="rId1"/>
          <a:stretch/>
        </p:blipFill>
        <p:spPr>
          <a:xfrm>
            <a:off x="1908000" y="1484280"/>
            <a:ext cx="5400720" cy="4646520"/>
          </a:xfrm>
          <a:prstGeom prst="rect">
            <a:avLst/>
          </a:prstGeom>
          <a:ln w="0">
            <a:noFill/>
          </a:ln>
        </p:spPr>
      </p:pic>
      <p:sp>
        <p:nvSpPr>
          <p:cNvPr id="146" name="WordArt 14"/>
          <p:cNvSpPr txBox="1"/>
          <p:nvPr/>
        </p:nvSpPr>
        <p:spPr>
          <a:xfrm rot="537000">
            <a:off x="2771640" y="404280"/>
            <a:ext cx="5112000" cy="123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29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работу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Прямоугольник 1" descr=""/>
          <p:cNvPicPr/>
          <p:nvPr/>
        </p:nvPicPr>
        <p:blipFill>
          <a:blip r:embed="rId1"/>
          <a:stretch/>
        </p:blipFill>
        <p:spPr>
          <a:xfrm>
            <a:off x="1401840" y="1835280"/>
            <a:ext cx="727236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знать, что такое мет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его использо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он связан с другими единицами измер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user\Desktop\1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user\Desktop\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user\Desktop\12.jpg"/>
          <p:cNvPicPr/>
          <p:nvPr/>
        </p:nvPicPr>
        <p:blipFill>
          <a:blip r:embed="rId2"/>
          <a:stretch/>
        </p:blipFill>
        <p:spPr>
          <a:xfrm>
            <a:off x="0" y="0"/>
            <a:ext cx="910908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user\Desktop\1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следовательска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Users\user\Desktop\0012-010-Matematicheskoe-vospitanie-i-razvitie.jpg"/>
          <p:cNvPicPr/>
          <p:nvPr/>
        </p:nvPicPr>
        <p:blipFill>
          <a:blip r:embed="rId1"/>
          <a:stretch/>
        </p:blipFill>
        <p:spPr>
          <a:xfrm>
            <a:off x="2484360" y="2060640"/>
            <a:ext cx="46134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5:43:39Z</dcterms:created>
  <dc:creator>user</dc:creator>
  <dc:description/>
  <dc:language>en-US</dc:language>
  <cp:lastModifiedBy>user</cp:lastModifiedBy>
  <dcterms:modified xsi:type="dcterms:W3CDTF">2012-11-27T03:49:40Z</dcterms:modified>
  <cp:revision>41</cp:revision>
  <dc:subject/>
  <dc:title>Слайд 1</dc:title>
</cp:coreProperties>
</file>