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C80E-315D-4C57-B326-72B969345B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DED5-F0D7-483C-A913-1037ECC5F2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4F6-BEFD-41FB-A10B-677E7148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8A8-59DA-4245-B862-C897DFF0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135-A014-4B2C-AFC1-205E2E03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B04-A992-4C38-8C67-7E90F33B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8773-E379-45AD-93FB-231C1880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F87-CBE6-464E-A08F-DA9F942A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2A41-F06E-46A8-BEDF-38EF486D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B3D5-945F-4F0C-9402-D1837661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D509-8B27-4F7B-95DD-25394077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47C9-D075-45A8-9C7C-DDA620AE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C6B5-1A62-4B50-8E74-2AB52CCF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5B2-6D61-45D8-ADB3-E18A8EEE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283F-C923-438D-B44C-33D45905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97E2-2AD3-4DE0-9D40-DD88703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7C3B-EB95-43AE-92F2-F8C1A0D1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9F29-B0C9-4F64-B23C-895A0DF7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B2DA-0B87-4B3E-9743-7E54AA02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EAA9E-9C21-413F-B5DE-9B77D883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D08AC-7B84-4DA6-A3FB-62939424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37550-DF44-40DD-8118-0C965754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A35D3-526D-407D-BC49-4282A49B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086D8-C6AC-4638-9FE7-3405E173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7EC-619B-4332-86F0-87F22295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E397B-7F68-4A2C-877E-329EA71B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75270-02B6-4E54-8D5D-7DEF133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27DB9-61BE-4E69-A982-1610E53B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B601A-BD69-409F-AB1E-4CCB24BD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35050-54F8-4DC3-9FF1-E46BE42D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B534D-21D7-4600-84D0-FD296CF8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0D02C-60F9-44B2-A72B-E3BB621D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9883C-EE20-47DC-ADF9-42562842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68D6-0442-4707-A4A7-FC541BCF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0A34-F528-4DD4-AD88-89ADFDEA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FB8-1F3F-41F3-B745-96F59AE6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9FE2-3D0A-41E7-9AD0-F8EBF5A8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21CB-7ECE-401F-A413-45F51BBD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A619-CD3A-4BFC-908E-61C520BC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CE31B-AC57-4328-A1EC-4BBFE297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8922-CD9A-401B-9F1F-72119A9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BCD05-B3F9-4252-98EA-ADD66958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AD581-04B3-4B45-BD4B-EB1FC12A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35B2-2A06-45A9-95AD-E3368483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2AB9-E4B1-4667-83E3-9CC35EEB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072E2-8D11-43D3-B8AD-05CF6353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014-B0CA-4087-B608-203328D9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29D74-D870-4B5B-8F51-DD6277DC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69CE8-FD00-4906-AF26-2BF486A8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A81E7-E4CF-44A0-845B-A0085507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4F2B2-4A63-476D-9A73-0AEC8ABF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F883C-0191-4BD3-98EC-5CE666D6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5F6B6-6821-42CF-955A-BCBF5F7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538AED-30DB-4318-877F-2B6EBC00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929F0-EE2F-4867-968F-B347A296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BB6C1-28ED-4A51-B207-DF310E85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C5AC1-589C-4307-B405-A6B2D02B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8B9-43D2-4A75-84AA-A9870C8D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D0868-AAA3-4443-84CD-AA02F1DD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F0218-B4F3-480D-874C-3A9B1850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97734-837C-4665-88BF-7F90E5E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C9DE3-4E47-4AAE-9574-FA7E2208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EF526-651A-4887-A7A6-C5A1FF91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7B9F9-F58A-46FC-9AC6-13BE46FF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8CBA3-A199-481C-AA7E-0FF4B06A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229B4-F7CE-4E23-98F4-F84A45C1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F2495-F53D-485A-9104-9A405E68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E945E-6EEC-4CFF-B58C-AFB57382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8FA-AF20-403B-A3AF-DAC97E5E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E57B2-D047-44B7-BA18-30F70EFB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CEDDA-ABCB-4B0A-9BE3-FE0C3B31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3F865-BD6E-4402-AB43-C4B592A3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09080-53BB-425F-9CBD-AD177B45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0B06B-62A6-4276-9675-1966B712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E7B5F-0CC9-4F11-B169-ECD35806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300AE-17BE-477F-ABB5-F7ADF7E9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CE34B-B033-421D-9871-F4FCEDBC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693C26-05FD-4B4C-8FA0-26CEE225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6F3A1-EE39-4867-9B5B-12B0B3A2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2E3-2661-45AA-9AB2-B511C1A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3CE00-C7CC-454B-9366-623BC6E6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329FE-0DC0-4D08-A76E-9316CEA7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2F9AE-5710-4427-926B-81185EA7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D77AB-D8E1-46F0-9EFE-3317229D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6C633-076B-425B-86EF-C9DF4877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61C-412B-4459-B755-3769319F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7589-27DE-469B-AFF7-940B1D2ADF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E39C-4046-493B-90B3-B0C1F404B0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5E7E-726E-40C8-86B9-FA42B5FF37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BD96-8DCC-4EEB-A09A-3022D57CFD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4D36-71C6-4340-930D-4E90B012CB3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569B-BBC4-4FCD-A320-D0619811EC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1759-504E-4279-9161-CBA44D22CB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642960"/>
            <a:ext cx="61722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ССЛЕДОВАТЕЛЬСКАЯ РАБОТА НА УРОКАХ И ВО ВНЕКЛАССНОЙ РАБОТЕ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едагогическая система учителя МОУ Новопетровской СОШ Мещеряковой Н.Г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5640" y="428400"/>
            <a:ext cx="6172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ИССЛЕДОВАНИЯ ВО ВНЕУРОЧНОЕ ВРЕМ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деля географ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День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ыступление агитбрига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Классные ча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сследования в школьном дендрар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ыступления на конференци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Кружковая рабо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14200" y="285840"/>
          <a:ext cx="8501040" cy="6286320"/>
        </p:xfrm>
        <a:graphic>
          <a:graphicData uri="http://schemas.openxmlformats.org/drawingml/2006/table">
            <a:tbl>
              <a:tblPr/>
              <a:tblGrid>
                <a:gridCol w="1760760"/>
                <a:gridCol w="2489040"/>
                <a:gridCol w="2125800"/>
                <a:gridCol w="212544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шк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1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лияние размеров корневой системы на рост и развитие папоротника-орля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Исследование видового состава микроскопических обитателей и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Исследование видового состава бегоний Новопетровском школ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8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ыгонка гиацинтов к новогодним праздника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Особенности выращивания тюльпанов в зимний перио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ыгонка луковичных к праздника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8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Аптека на подоконни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Топонимы моего се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Лекарственные растения окрестностей села Новопетр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АВТОРСКИЕ ПРОГРАММЫ: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1. ФАКУЛЬТАТИВНЫЙ КУРС «СТРАНОВЕДЕНИЕ» 11 КЛАСС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2. ФАКУЛЬТАТИВНЫЙ КУРС «ЗДОРОВЬЕ И ОКРУЖАЮЩАЯ СРЕДА»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3. ПРОГРАММА ЭКОЛОГИЧЕСКОГО КРУЖКА «ЗЕЛЕНЫЙ МИР»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4. КОМПЛЕКТ ГРУППОВЫХ ПРАКТИЧЕСКИХ РАБОТ ПО ГЕОГРАФИ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643040" y="7920"/>
            <a:ext cx="564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ческий анализ качества знаний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еограф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7" name="Object 1"/>
          <p:cNvGraphicFramePr/>
          <p:nvPr/>
        </p:nvGraphicFramePr>
        <p:xfrm>
          <a:off x="923760" y="1071720"/>
          <a:ext cx="7086600" cy="47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071720"/>
                    <a:ext cx="708660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0" name="Object 1"/>
          <p:cNvGraphicFramePr/>
          <p:nvPr/>
        </p:nvGraphicFramePr>
        <p:xfrm>
          <a:off x="685800" y="785880"/>
          <a:ext cx="73864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85880"/>
                    <a:ext cx="73864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1928880" y="972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ческий анализ качества знаний учащихс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Эколог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3" name="Object 1"/>
          <p:cNvGraphicFramePr/>
          <p:nvPr/>
        </p:nvGraphicFramePr>
        <p:xfrm>
          <a:off x="1214280" y="1857240"/>
          <a:ext cx="639468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857240"/>
                    <a:ext cx="639468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6" name="Object 1"/>
          <p:cNvGraphicFramePr/>
          <p:nvPr/>
        </p:nvGraphicFramePr>
        <p:xfrm>
          <a:off x="576360" y="857160"/>
          <a:ext cx="7495920" cy="501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857160"/>
                    <a:ext cx="7495920" cy="50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2000160" y="7920"/>
            <a:ext cx="55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ы государственной аттестац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1 класс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28760" y="1428840"/>
          <a:ext cx="8215200" cy="4000320"/>
        </p:xfrm>
        <a:graphic>
          <a:graphicData uri="http://schemas.openxmlformats.org/drawingml/2006/table">
            <a:tbl>
              <a:tblPr/>
              <a:tblGrid>
                <a:gridCol w="1172880"/>
                <a:gridCol w="1175040"/>
                <a:gridCol w="1172880"/>
                <a:gridCol w="1173240"/>
                <a:gridCol w="1173240"/>
                <a:gridCol w="1174680"/>
                <a:gridCol w="11732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да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еогра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ач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500120" y="37800"/>
            <a:ext cx="57866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ы государственной аттестац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9 класс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00040" y="1397160"/>
          <a:ext cx="8072640" cy="4103640"/>
        </p:xfrm>
        <a:graphic>
          <a:graphicData uri="http://schemas.openxmlformats.org/drawingml/2006/table">
            <a:tbl>
              <a:tblPr/>
              <a:tblGrid>
                <a:gridCol w="1152720"/>
                <a:gridCol w="1153800"/>
                <a:gridCol w="1152720"/>
                <a:gridCol w="1154160"/>
                <a:gridCol w="1152360"/>
                <a:gridCol w="1154160"/>
                <a:gridCol w="115272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да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еограф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ачеств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КАЖДЫЙ ИЗ ВИДОВ ИД ЯВЛЯЕТСЯ ЛИЧНОСТНО – ОРИЕНТИРОВАННЫМ И ДАЕТ ВОЗМОЖНОСТЬ ВООРУЖИТЬ УЧАЩИХСЯ НЕОБХОДИМЫМ ИНСТРУМЕНТАРИЕМ ДЛЯ ОСВОЕНИЯ СТРЕМИТЕЛЬНО НАРАСТАЮЩЕГО СЕГОДНЯ ПОТОКА НАУЧНОЙ ИНФОРМАЦИИ, ОРИЕНТАЦИИ В НЕМ  И СИСТЕМАТИЗАЦИИ ВНЕПРОГРАММНОГО МАТЕРИАЛА ПО ОДНОМУ ИЗ НАПРАВЛЕНИЙ НАУКИ В ВИДЕ НАУЧНО-ИССЛЕДОВАТЕЛЬСКОЙ РАБОТЫ.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«КОГДА ЛЮДЕЙ СТАНУТ УЧИТЬ НЕ ТОМУ, ЧТО ОНИ ДОЛЖНЫ ДУМАТЬ, А ТОМУ, КАК ОНИ ДОЛЖНЫ ДУМАТЬ, ТО ТОГДА ИСЧЕЗНУТ ВСЯКИЕ НЕДОРАЗУМЕНИЯ»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Г. ЛИХТЕНБЕРГ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5640" y="285480"/>
            <a:ext cx="61722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ЦЕЛЬ: СФОРМИРОВАТЬ ТВОРЧЕСКУЮ, СОЦИАЛЬНО АКТИВНУЮ ЛИЧНОСТЬ НОВОГО ТИПА В ПРОЦЕССЕ ИССЛЕДОВАТЕЛЬСКОЙ РАБОТЫ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5640" y="25002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формировать навыки работы с научной литературой и интернет-ресурс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своить методы научного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Формировать креативные способности, интеллектуальные умения и навы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ИННОВАЦИОННЫЕ ТЕХНОЛОГИИ: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1. РАЗВИТИЕ ТВОРЧЕСКИХ КАЧЕСТВ РЕБЕНКА (ИВАНОВ И.П.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2. ИССЛЕДОВАТЕЛЬСКОЕ ОБУЧЕНИЕ (САВЕНКОВ А.И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3. ТЕХНОЛОГИЯ КСО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ДЬЯЧЕНКО А.И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4. ТЕХНОЛОГИЯ АДАПТИВНОГО ОБУЧЕНИЯ (ГРАНИЦКАЯ А.С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УСЛОВИЯ ДЛЯ СОЗДАНИЯ ИССЛЕДОВАТЕЛЬСКОЙ ДЕЯТЕЛЬНОСТИ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285640" y="2356920"/>
            <a:ext cx="61722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Творческая сред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Учет возрастных особенносте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Психологический комфорт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ОСНОВНЫЕ НАПРАВЛЕНИЯ ИССЛЕДОВАТЕЛЬСКОЙ РАБОТЫ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5640" y="2143080"/>
            <a:ext cx="61722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Проблемное, эстетическое, частично-поисковое обуче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Уроки-исслед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Групповые формы работ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ОРГАНИЗАЦИЯ ИССЛЕДОВАТЕЛЬСКОЙ     РАБОТЫ НА УРОКЕ.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1. ПУТЕШЕСТВИЕ ПО ЦЕНТРАЛЬНОМУ РАЙОНУ (9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2. ВРЕМЕНА ГОДА (8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3. ИЗУЧЕНИЕ ОКЕАНОВ (7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4. РЕКРЕАЦИОННЫЕ РЕСУРСЫ КАВКАЗ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ГРОВАЯ ДЕЯТЕЛЬНОСТЬ НА УРОКЕ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. «ВОПРОС – ОТВЕТ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. «САМОЕ ГЛАВНОЕ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. «КУДА ИДЕТ КОРАБЛЬ?»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285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ДОМАШНЕЕ ЗАДАНИЕ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285640" y="1428840"/>
            <a:ext cx="61722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браз моей Родин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Туристический маршрут по Япон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Экологические законы Барри Коммонер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остановка опыт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Тематика опытов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Влияние света на прорастание семя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пределение жароустойчивости семян некоторых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Аллелопатия в растительном мир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Настические движения у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ценка качества воды ближайшего водоем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Собрать гербарии лекарственных, пищевых, ядовитых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формить коллекцию семя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одготовить фотоальбом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1:44:12Z</dcterms:created>
  <dc:creator>МОУ НОВОПЕТРОВСКАЯ СОШ</dc:creator>
  <dc:description/>
  <dc:language>en-US</dc:language>
  <cp:lastModifiedBy>useriche</cp:lastModifiedBy>
  <dcterms:modified xsi:type="dcterms:W3CDTF">2014-01-28T02:51:27Z</dcterms:modified>
  <cp:revision>21</cp:revision>
  <dc:subject/>
  <dc:title>Исследовательская работа на уроках и во внеклассной работе.</dc:title>
</cp:coreProperties>
</file>