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045-CB65-486E-AC76-E7BF35D7FD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19F-3265-4FA0-AEAB-11A52805E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B4E-4541-4FAE-B73A-21842E29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81A-3280-490B-B827-A1F2771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1DA-753D-46F1-94C4-16E60AAE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A0F-9A05-4114-9730-7686C158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6CAA-D2B7-496C-B768-5ACC3961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6AB4-3DFE-4F04-A6B1-F2557E7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2604-66D3-4415-9D4A-896FE3D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CB4-7D3E-4622-ACA6-0D23D0E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039B-B35A-4AC5-9BDA-68F341F1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5557-44B3-4426-9ADC-29B2C92E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4F8-41A4-42B4-AA01-F68FE40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518-D828-46A4-AFF7-AEFE192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43A5-AFD3-47CF-8EF0-6138E78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83E5-64D6-46B3-89D2-AB858F3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4AD6-D3E7-46FC-B5E6-2EFC8989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CC6-A3A8-4F0C-9F5F-F9BCA8C9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0C0F-4A6D-4568-82D4-446E6FD6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ABD1A-F064-42EA-8FCF-D5F2A27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5E9A3-2EE6-4B40-A888-400EC133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791DA-B50D-4C0D-84B3-02E24F7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AB16C-F32E-4CD1-9A1F-77550681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6A335-D048-4CE8-8DEE-C3CED9E3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995-A68E-4188-8334-8D64348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5DD27-ED2D-4A15-A0F2-30FC95C2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5B8C2-DA20-494C-B616-16F0216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B92DA-E653-40BB-A4DC-DE4A35AC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83E06-AB54-44FD-8A81-3D613625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E0E6F-1868-40BB-901C-C5C4AED4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C52BE-54AD-448C-81E0-96D5667D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590C7-78F2-4712-B6FC-B9B3AD6B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B43BE-A171-4231-B5A7-FD5286B8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A77C-5570-472A-BF59-D94A9483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4838-11E6-4DD4-95CE-CCCEFE4B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980-D8BA-4555-B177-422D95DC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B4C1-3D61-4097-ABE4-0FA32962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E920-1943-4127-977C-282B12B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CB70-010B-4206-AABD-DA829F9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2FCF-825C-4C49-9F94-254DE74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69CF-68E2-44BA-B936-ACF6BE4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9A8B-0274-4F98-9426-A769261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FBB2-0B76-4341-83B7-9F22E5FE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1DBA-C401-4DF7-8367-AA5E46C4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B12EB-E2B1-4A16-8BB0-C0E41365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43874-D5B3-48CF-929D-B8294EE3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05-F5AA-44E4-A798-30201429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D0535-9F9C-474E-B276-F1593BD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60BD3-74E4-410A-A26A-746D174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018DF-8E75-42BC-BE1D-C735689F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5DF20-2C23-4085-8CF6-75ED72E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BD67A-5DAE-4EF8-84CE-4FBEF76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70325-6973-485E-AA59-F6F55FC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5BB75-DA5E-4521-90EA-1E08BEE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C4939-EFB9-4C8C-BB44-3BD4A18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219A2-7113-4A90-AAB0-F4E473AF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B8B7A-3C26-4175-A108-A434009B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966-B3EF-4C3D-AF5D-A6E96D3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4CEFA-66A4-4137-8E09-35EB6E60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8A67A-02F3-4946-BDFF-5BA95314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A4CDF-6294-46B3-BAAB-4587F4C0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2C5C4-B093-4CC2-A957-E3B3697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4E81C-CE01-43B9-B49D-3D2D073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51ABD-BA1C-4534-A67C-AD1F0A0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05597-5734-4E6A-8686-13B51BB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EC812-9D40-49BA-8FD9-A9C92DF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CBF80-A16A-4C2C-A2F6-A56D954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77E32-B088-4E7D-90E2-3005E5A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348-DF0A-40E6-9A00-CB94E7D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892C4-6F10-4A76-9780-696CEB3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B34D9-2E17-4C36-ABEF-3D393259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64420-B1F5-406B-B84B-E260A1AB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2CD61-6474-45C9-8A61-32DD5BE2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A85DA-060F-4FC5-B1AB-581E4A08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885ACB-DD59-4AF2-AFED-9A685BB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B41B9-3839-4B69-BF7A-C24DF57F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815A5-5E97-4DE8-B721-C80D3432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33E06-D42B-4A05-8485-C11A926F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49EF2-CE78-482D-9C36-2A35B0C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D6A-A024-46F3-87BF-4246C23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90CBD-15A8-4A6F-9F11-15490A5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CE7DC-BA7A-42E7-A36F-48FAA06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64F97-23FB-4F30-9245-A3CE1C53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58126-03CA-45CD-9BFA-E0E315BB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C030B-55CE-434A-846F-9EC0C25A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D85-5F04-4AC0-ABE6-213A6E9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9934-23E4-470B-8288-817AFB65CBB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089B-23AF-4E43-8D51-2815DA2676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6F2-0276-4A10-AF75-EC93014A5C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359-844A-4420-9412-6B1E2B9556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7ABC-FDF5-47B8-B4DA-E15D375328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4C6-650F-4074-92FB-BA964CEF60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4DEC-E159-4F84-869B-71A534CFF6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642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ССЛЕДОВАТЕЛЬСКАЯ РАБОТА НА УРОКАХ И ВО ВНЕКЛАССНОЙ РАБОТ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едагогическая система учителя МОУ Новопетровской СОШ Мещеряковой Н.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ССЛЕДОВАНИЯ ВО ВНЕУРОЧНОЕ ВРЕМ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деля географ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ень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е агитбрига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лассные ча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сследования в школьном дендра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я на конференц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ужковая раб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14200" y="285840"/>
          <a:ext cx="8501040" cy="6286320"/>
        </p:xfrm>
        <a:graphic>
          <a:graphicData uri="http://schemas.openxmlformats.org/drawingml/2006/table">
            <a:tbl>
              <a:tblPr/>
              <a:tblGrid>
                <a:gridCol w="1760760"/>
                <a:gridCol w="2489040"/>
                <a:gridCol w="2125800"/>
                <a:gridCol w="212544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шк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лияние размеров корневой системы на рост и развитие папоротника-орля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микроскопических обитателей 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бегоний Новопетровском школ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8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гиацинтов к новогодним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Особенности выращивания тюльпанов в зимний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луковичных к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Аптека на подоконни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Топонимы моего с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Лекарственные растения окрестностей села Новопет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АВТОРСКИЕ ПРОГРАММЫ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1. ФАКУЛЬТАТИВНЫЙ КУРС «СТРАНОВЕДЕНИЕ» 11 КЛАСС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2. ФАКУЛЬТАТИВНЫЙ КУРС «ЗДОРОВЬЕ И ОКРУЖАЮЩАЯ СРЕДА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3. ПРОГРАММА ЭКОЛОГИЧЕСКОГО КРУЖКА «ЗЕЛЕНЫЙ МИР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4. КОМПЛЕКТ ГРУППОВЫХ ПРАКТИЧЕСКИХ РАБОТ ПО ГЕОГРАФИ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643040" y="79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еограф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Object 1"/>
          <p:cNvGraphicFramePr/>
          <p:nvPr/>
        </p:nvGraphicFramePr>
        <p:xfrm>
          <a:off x="923760" y="1071720"/>
          <a:ext cx="708660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71720"/>
                    <a:ext cx="708660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0" name="Object 1"/>
          <p:cNvGraphicFramePr/>
          <p:nvPr/>
        </p:nvGraphicFramePr>
        <p:xfrm>
          <a:off x="685800" y="785880"/>
          <a:ext cx="73864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85880"/>
                    <a:ext cx="73864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928880" y="9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олог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Object 1"/>
          <p:cNvGraphicFramePr/>
          <p:nvPr/>
        </p:nvGraphicFramePr>
        <p:xfrm>
          <a:off x="1214280" y="1857240"/>
          <a:ext cx="639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57240"/>
                    <a:ext cx="639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1"/>
          <p:cNvGraphicFramePr/>
          <p:nvPr/>
        </p:nvGraphicFramePr>
        <p:xfrm>
          <a:off x="576360" y="857160"/>
          <a:ext cx="7495920" cy="50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857160"/>
                    <a:ext cx="7495920" cy="50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2000160" y="792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28760" y="1428840"/>
          <a:ext cx="8215200" cy="4000320"/>
        </p:xfrm>
        <a:graphic>
          <a:graphicData uri="http://schemas.openxmlformats.org/drawingml/2006/table">
            <a:tbl>
              <a:tblPr/>
              <a:tblGrid>
                <a:gridCol w="1172880"/>
                <a:gridCol w="1175040"/>
                <a:gridCol w="1172880"/>
                <a:gridCol w="1173240"/>
                <a:gridCol w="1173240"/>
                <a:gridCol w="1174680"/>
                <a:gridCol w="11732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500120" y="37800"/>
            <a:ext cx="57866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00040" y="1397160"/>
          <a:ext cx="807264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153800"/>
                <a:gridCol w="1152720"/>
                <a:gridCol w="1154160"/>
                <a:gridCol w="1152360"/>
                <a:gridCol w="1154160"/>
                <a:gridCol w="11527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АЖДЫЙ ИЗ ВИДОВ ИД ЯВЛЯЕТСЯ ЛИЧНОСТНО – ОРИЕНТИРОВАННЫМ И ДАЕТ ВОЗМОЖНОСТЬ ВООРУЖИТЬ УЧАЩИХСЯ НЕОБХОДИМЫМ ИНСТРУМЕНТАРИЕМ ДЛЯ ОСВОЕНИЯ СТРЕМИТЕЛЬНО НАРАСТАЮЩЕГО СЕГОДНЯ ПОТОКА НАУЧНОЙ ИНФОРМАЦИИ, ОРИЕНТАЦИИ В НЕМ  И СИСТЕМАТИЗАЦИИ ВНЕПРОГРАММНОГО МАТЕРИАЛА ПО ОДНОМУ ИЗ НАПРАВЛЕНИЙ НАУКИ В ВИДЕ НАУЧНО-ИССЛЕДОВАТЕЛЬСКОЙ РАБОТЫ.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«КОГДА ЛЮДЕЙ СТАНУТ УЧИТЬ НЕ ТОМУ, ЧТО ОНИ ДОЛЖНЫ ДУМАТЬ, А ТОМУ, КАК ОНИ ДОЛЖНЫ ДУМАТЬ, ТО ТОГДА ИСЧЕЗНУТ ВСЯКИЕ НЕДОРАЗУМЕНИЯ»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Г. ЛИХТЕНБЕРГ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ЦЕЛЬ: СФОРМИРОВАТЬ ТВОРЧЕСКУЮ, СОЦИАЛЬНО АКТИВНУЮ ЛИЧНОСТЬ НОВОГО ТИПА В ПРОЦЕССЕ ИССЛЕДОВАТЕЛЬСКОЙ РАБОТЫ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формировать навыки работы с научной литературой и интернет-ресурс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своить методы науч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ировать креативные способности, интеллектуальные умения и навы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ННОВАЦИОННЫЕ ТЕХНОЛОГИИ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1. РАЗВИТИЕ ТВОРЧЕСКИХ КАЧЕСТВ РЕБЕНКА (ИВАНОВ И.П.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2. ИССЛЕДОВАТЕЛЬСКОЕ ОБУЧЕНИЕ (САВЕНКОВ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3. ТЕХНОЛОГИЯ КСО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ДЬЯЧЕНКО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4. ТЕХНОЛОГИЯ АДАПТИВНОГО ОБУЧЕНИЯ (ГРАНИЦКАЯ А.С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СЛОВИЯ ДЛЯ СОЗДАНИЯ ИССЛЕДОВАТЕЛЬСКОЙ ДЕЯТЕЛЬНОС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2356920"/>
            <a:ext cx="61722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Творческая сред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чет возрастных особеннос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Психологический комфор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ИССЛЕДОВАТЕЛЬСКОЙ РАБОТЫ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2143080"/>
            <a:ext cx="61722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блемное, эстетическое, частично-поисковое обуче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роки-исслед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рупповые формы работ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РГАНИЗАЦИЯ ИССЛЕДОВАТЕЛЬСКОЙ     РАБОТЫ НА УРОКЕ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1. ПУТЕШЕСТВИЕ ПО ЦЕНТРАЛЬНОМУ РАЙОНУ (9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2. ВРЕМЕНА ГОДА (8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3. ИЗУЧЕНИЕ ОКЕАНОВ (7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4. РЕКРЕАЦИОННЫЕ РЕСУРСЫ КАВКА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ГРОВАЯ ДЕЯТЕЛЬНОСТЬ НА УРОК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. «ВОПРОС – ОТВЕТ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. «САМОЕ ГЛАВНОЕ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. «КУДА ИДЕТ КОРАБЛЬ?»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ДОМАШНЕЕ ЗАДА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браз моей Роди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уристический маршрут по Япо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Экологические законы Барри Коммоне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становка опы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ематика опытов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Влияние света на прорастание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пределение жароустойчивости семян некотор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Аллелопатия в растительном мир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Настические движения у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ценка качества воды ближайшего водое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Собрать гербарии лекарственных, пищевых, ядовит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формить коллекцию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дготовить фотоальбом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1:44:12Z</dcterms:created>
  <dc:creator>МОУ НОВОПЕТРОВСКАЯ СОШ</dc:creator>
  <dc:description/>
  <dc:language>en-US</dc:language>
  <cp:lastModifiedBy>useriche</cp:lastModifiedBy>
  <dcterms:modified xsi:type="dcterms:W3CDTF">2014-01-28T02:51:27Z</dcterms:modified>
  <cp:revision>21</cp:revision>
  <dc:subject/>
  <dc:title>Исследовательская работа на уроках и во внеклассной работе.</dc:title>
</cp:coreProperties>
</file>