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EAEF6-BB2B-4A22-A009-3EE4598E683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FAA37-EF3C-4BB9-9BE9-9DEA0BF4C54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9E5F-323B-4C38-8711-1A67C9FA3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8622-7BEF-4A00-9F82-259DDE6D7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B4CC-E3A6-4B3E-A891-601A76398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DFD3-5AAC-413F-B61D-B14F6044F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8E709-8558-49DC-B1CC-38C4A1196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36509-7037-49B1-98AE-AE0A78079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1704F-444F-44AB-A451-5BC9D2D17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4F9D5-717E-4140-9F50-53B3CB2E1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A1FE8-9583-45FF-BAF0-0A89E472A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25BEA-7887-48A5-A1EF-19E5BF47D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11D97-F397-42EF-A2D0-FBD2A7AF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202B-D18D-4BDF-BFAA-EBBDDC509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68AE8-81D6-4A18-ACDB-AD36D2FFF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DB098-4462-440F-AB25-D1CA75AB3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2F79C-86CF-4C9A-8AD0-AEBF0C5EA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F9356-7D0F-4FA7-82F9-1B08FF298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93E90-8A4B-4B89-B20E-55C15CB37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511D8C-AD0F-41B6-9DC5-0CF8DD4AE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DFE99F-5A08-434C-90D5-1D58D7B1A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FF9FF1-3A70-450F-B9B6-7CFC1D070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AE8FB0-104A-4186-925D-5D7BECE0E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16B714-F40A-40A2-BDE5-E5C9E705C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63C0-1131-4AB5-A811-2F673472C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478A38-4C13-45D2-A7AD-587AB3D5B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754458-48D8-4200-B998-7C75F8403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F63640-8F22-471B-A2F8-044CBDBA1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205E33-7EBC-4D51-BBFD-A8AD6F96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E4CF9E-DBFB-424A-B34D-2D7339FBC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2B18D3-E44B-4FD9-8906-9F73DFAEA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533903-F100-4F65-A93C-CFB5AB2BF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537AF-799E-41D1-A0A0-8C49172CF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90A3C-3F2A-4638-BA7B-9E6F1BC78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4568C-FA7D-4E34-A464-30D149E8F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5076-8C0E-4B3B-9E78-73AAA63EB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4CBE3-6C19-4295-A709-302C23566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0F4B9-8EB8-4CFD-83A9-2D472B2AE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4882B-F48B-4698-98AF-AF1BEB285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F85B9-1ED5-4CA3-8864-9597C3A9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41872-E56E-4554-9E1F-8E73DAAC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070E9-77FE-44BE-9259-E59B9B50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FB1E6-A56F-44E3-BB09-6754D72F6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B0531-418B-4B77-A69F-55BB2553F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B80A5-07BB-45ED-B762-90981A9E4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9CF1C2-CE1D-4A32-854C-7323C26CA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3146-08E1-41AA-A669-FDADC8E7D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ADAF6F-6952-43AF-9653-7BCD2201B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5551C2-A958-4C26-99D4-DF6177822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A88B1C-1994-439E-8A80-051CC5ED5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8B3912-C010-4707-A9FA-A5BA3A094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DF9BED-3671-456A-9D61-787DF01E0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1C0D23-44F7-44EF-B782-22363CBE1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BEA14A-C28B-4F4B-AE2C-72F8042F2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C49DF2-CF1B-4D60-81D9-0FE16C26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AE19B3-BDD7-4DAF-884D-139815C24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43D606-60FC-46AC-BE5D-22DC1406B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0A7A-3250-417D-88B4-50EC8C6DE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845154-1F55-47E7-8E2E-D0CC988CF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1A83A8-98F8-44FA-8FBE-78137D316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9F9DF9-3063-43E2-865C-C74294129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B8E54B-FB43-4748-BB6F-2BD9FF314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442661-A1E1-4BFC-A618-F5604550C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979879-78A2-47F2-B380-E56379C1D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6E9C11-B5DD-4EFA-9966-3D000F08C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6FAC96-65A9-4585-922E-8ED3F0194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041E15-8AF1-44D6-8274-25141C2E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251E94-DF6B-4E66-9E02-5DDF3F558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291D-A6BC-41D1-B0E5-EBA06577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CA941D-3104-4179-BA61-18B639264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F57B1F-1ADE-47CD-9F87-ADE892DFA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C3EB9C-B827-4105-9F86-E744C4BCD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4D9B87-2923-4466-AFAC-29F6F943E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BD6F0F-9DC2-4A4C-90F1-785308392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68830D-2AB9-4E7F-B028-D56509202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E9A379-2FC2-4AEB-8E59-2EC554245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60B58A-4DA3-4C77-95A4-BA9F9E059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EE652C-E9F9-431B-B99C-678251C68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A78686-5857-4BFD-95A7-DAD54A5D5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93AE-A77B-49C7-A1F8-84AD3E36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672EC2-7463-4D7A-9DFD-B7A304709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04CA72-D61F-4F4C-812F-9454AB4C2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941917-A740-4A18-8217-7DD8BD727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E692D0-9304-432E-B24D-F70B8DC63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D73BC1-B425-427D-BF5A-135DF03E0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70F7-F6EB-4987-AC51-B5B536304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C4139-BBD8-48EF-A866-8F9C51EE01B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1F2AF-6C3F-4697-8DB1-2C6A0FFC369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93F8E-2F34-4640-8966-3E1C16F3E19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2AD24-F2D9-406C-9D3A-38DB2BE1717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490A0-8BE6-4C34-8945-36BE7621F06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2B960-C764-4903-BA44-6A9D3E89C78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3EF39-9AA2-4FC0-AAEA-25201C852C4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5640" y="642960"/>
            <a:ext cx="6172200" cy="39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ИССЛЕДОВАТЕЛЬСКАЯ РАБОТА НА УРОКАХ И ВО ВНЕКЛАССНОЙ РАБОТЕ.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Schoolbook"/>
              </a:rPr>
              <a:t>Педагогическая система учителя МОУ Новопетровской СОШ Мещеряковой Н.Г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5640" y="428400"/>
            <a:ext cx="6172200" cy="15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entury Schoolbook"/>
              </a:rPr>
              <a:t>ИССЛЕДОВАНИЯ ВО ВНЕУРОЧНОЕ ВРЕМЯ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2285640" y="2285640"/>
            <a:ext cx="617220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Неделя географи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День Земл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Выступление агитбригад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Классные час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Исследования в школьном дендрари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Выступления на конференциях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Кружковая работ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4" name=""/>
          <p:cNvGraphicFramePr/>
          <p:nvPr/>
        </p:nvGraphicFramePr>
        <p:xfrm>
          <a:off x="214200" y="285840"/>
          <a:ext cx="8501040" cy="6286320"/>
        </p:xfrm>
        <a:graphic>
          <a:graphicData uri="http://schemas.openxmlformats.org/drawingml/2006/table">
            <a:tbl>
              <a:tblPr/>
              <a:tblGrid>
                <a:gridCol w="1760760"/>
                <a:gridCol w="2489040"/>
                <a:gridCol w="2125800"/>
                <a:gridCol w="2125440"/>
              </a:tblGrid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шко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рай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обл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21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006-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«Влияние размеров корневой системы на рост и развитие папоротника-орляк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«Исследование видового состава микроскопических обитателей ила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«Исследование видового состава бегоний Новопетровском школы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82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007-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«Выгонка гиацинтов к новогодним праздникам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«Особенности выращивания тюльпанов в зимний период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«Выгонка луковичных к праздникам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8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008-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«Аптека на подоконнике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«Топонимы моего села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«Лекарственные растения окрестностей села Новопетров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2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entury Schoolbook"/>
              </a:rPr>
              <a:t>АВТОРСКИЕ ПРОГРАММЫ:</a:t>
            </a:r>
            <a:br>
              <a:rPr sz="2700"/>
            </a:br>
            <a:br>
              <a:rPr sz="2700"/>
            </a:br>
            <a:br>
              <a:rPr sz="2700"/>
            </a:br>
            <a:r>
              <a:rPr b="0" lang="ru-RU" sz="2700" spc="-1" strike="noStrike">
                <a:solidFill>
                  <a:srgbClr val="ff0000"/>
                </a:solidFill>
                <a:latin typeface="Century Schoolbook"/>
              </a:rPr>
              <a:t>1. ФАКУЛЬТАТИВНЫЙ КУРС «СТРАНОВЕДЕНИЕ» 11 КЛАСС</a:t>
            </a:r>
            <a:br>
              <a:rPr sz="2700"/>
            </a:br>
            <a:r>
              <a:rPr b="0" lang="ru-RU" sz="2700" spc="-1" strike="noStrike">
                <a:solidFill>
                  <a:srgbClr val="ff0000"/>
                </a:solidFill>
                <a:latin typeface="Century Schoolbook"/>
              </a:rPr>
              <a:t>2. ФАКУЛЬТАТИВНЫЙ КУРС «ЗДОРОВЬЕ И ОКРУЖАЮЩАЯ СРЕДА»</a:t>
            </a:r>
            <a:br>
              <a:rPr sz="2700"/>
            </a:br>
            <a:r>
              <a:rPr b="0" lang="ru-RU" sz="2700" spc="-1" strike="noStrike">
                <a:solidFill>
                  <a:srgbClr val="ff0000"/>
                </a:solidFill>
                <a:latin typeface="Century Schoolbook"/>
              </a:rPr>
              <a:t>3. ПРОГРАММА ЭКОЛОГИЧЕСКОГО КРУЖКА «ЗЕЛЕНЫЙ МИР»</a:t>
            </a:r>
            <a:br>
              <a:rPr sz="2700"/>
            </a:br>
            <a:r>
              <a:rPr b="0" lang="ru-RU" sz="2700" spc="-1" strike="noStrike">
                <a:solidFill>
                  <a:srgbClr val="ff0000"/>
                </a:solidFill>
                <a:latin typeface="Century Schoolbook"/>
              </a:rPr>
              <a:t>4. КОМПЛЕКТ ГРУППОВЫХ ПРАКТИЧЕСКИХ РАБОТ ПО ГЕОГРАФИИ.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2"/>
          <p:cNvSpPr/>
          <p:nvPr/>
        </p:nvSpPr>
        <p:spPr>
          <a:xfrm>
            <a:off x="1643040" y="7920"/>
            <a:ext cx="5643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Графический анализ качества знаний учащихся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География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77" name="Object 1"/>
          <p:cNvGraphicFramePr/>
          <p:nvPr/>
        </p:nvGraphicFramePr>
        <p:xfrm>
          <a:off x="923760" y="1071720"/>
          <a:ext cx="7086600" cy="47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8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3760" y="1071720"/>
                    <a:ext cx="7086600" cy="47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80" name="Object 1"/>
          <p:cNvGraphicFramePr/>
          <p:nvPr/>
        </p:nvGraphicFramePr>
        <p:xfrm>
          <a:off x="685800" y="785880"/>
          <a:ext cx="7386480" cy="494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785880"/>
                    <a:ext cx="7386480" cy="49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2"/>
          <p:cNvSpPr/>
          <p:nvPr/>
        </p:nvSpPr>
        <p:spPr>
          <a:xfrm>
            <a:off x="1928880" y="9720"/>
            <a:ext cx="4286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Графический анализ качества знаний учащихся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Экология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83" name="Object 1"/>
          <p:cNvGraphicFramePr/>
          <p:nvPr/>
        </p:nvGraphicFramePr>
        <p:xfrm>
          <a:off x="1214280" y="1857240"/>
          <a:ext cx="6394680" cy="426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857240"/>
                    <a:ext cx="6394680" cy="42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86" name="Object 1"/>
          <p:cNvGraphicFramePr/>
          <p:nvPr/>
        </p:nvGraphicFramePr>
        <p:xfrm>
          <a:off x="576360" y="857160"/>
          <a:ext cx="7495920" cy="501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6360" y="857160"/>
                    <a:ext cx="7495920" cy="501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1"/>
          <p:cNvSpPr/>
          <p:nvPr/>
        </p:nvSpPr>
        <p:spPr>
          <a:xfrm>
            <a:off x="2000160" y="7920"/>
            <a:ext cx="5500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Результаты государственной аттестации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11 класс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428760" y="1428840"/>
          <a:ext cx="8215200" cy="4000320"/>
        </p:xfrm>
        <a:graphic>
          <a:graphicData uri="http://schemas.openxmlformats.org/drawingml/2006/table">
            <a:tbl>
              <a:tblPr/>
              <a:tblGrid>
                <a:gridCol w="1172880"/>
                <a:gridCol w="1175040"/>
                <a:gridCol w="1172880"/>
                <a:gridCol w="1173240"/>
                <a:gridCol w="1173240"/>
                <a:gridCol w="1174680"/>
                <a:gridCol w="1173240"/>
              </a:tblGrid>
              <a:tr h="100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Кол-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Уч-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Сдав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геогра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На  «5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На «4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На «3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Качест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зн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100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006-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00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007-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00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008-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1"/>
          <p:cNvSpPr/>
          <p:nvPr/>
        </p:nvSpPr>
        <p:spPr>
          <a:xfrm>
            <a:off x="1500120" y="37800"/>
            <a:ext cx="5786640" cy="77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Результаты государственной аттестации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9 класс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500040" y="1397160"/>
          <a:ext cx="8072640" cy="4103640"/>
        </p:xfrm>
        <a:graphic>
          <a:graphicData uri="http://schemas.openxmlformats.org/drawingml/2006/table">
            <a:tbl>
              <a:tblPr/>
              <a:tblGrid>
                <a:gridCol w="1152720"/>
                <a:gridCol w="1153800"/>
                <a:gridCol w="1152720"/>
                <a:gridCol w="1154160"/>
                <a:gridCol w="1152360"/>
                <a:gridCol w="1154160"/>
                <a:gridCol w="1152720"/>
              </a:tblGrid>
              <a:tr h="102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Кол-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Уч-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Сдав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географи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на «5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На «4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На «3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качествзн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006-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02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007-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02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008-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Century Schoolbook"/>
              </a:rPr>
              <a:t> </a:t>
            </a:r>
            <a:r>
              <a:rPr b="1" lang="ru-RU" sz="2700" spc="-1" strike="noStrike">
                <a:solidFill>
                  <a:srgbClr val="ff0000"/>
                </a:solidFill>
                <a:latin typeface="Century Schoolbook"/>
              </a:rPr>
              <a:t>КАЖДЫЙ ИЗ ВИДОВ ИД ЯВЛЯЕТСЯ ЛИЧНОСТНО – ОРИЕНТИРОВАННЫМ И ДАЕТ ВОЗМОЖНОСТЬ ВООРУЖИТЬ УЧАЩИХСЯ НЕОБХОДИМЫМ ИНСТРУМЕНТАРИЕМ ДЛЯ ОСВОЕНИЯ СТРЕМИТЕЛЬНО НАРАСТАЮЩЕГО СЕГОДНЯ ПОТОКА НАУЧНОЙ ИНФОРМАЦИИ, ОРИЕНТАЦИИ В НЕМ  И СИСТЕМАТИЗАЦИИ ВНЕПРОГРАММНОГО МАТЕРИАЛА ПО ОДНОМУ ИЗ НАПРАВЛЕНИЙ НАУКИ В ВИДЕ НАУЧНО-ИССЛЕДОВАТЕЛЬСКОЙ РАБОТЫ.</a:t>
            </a:r>
            <a:br>
              <a:rPr sz="2700"/>
            </a:b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55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«КОГДА ЛЮДЕЙ СТАНУТ УЧИТЬ НЕ ТОМУ, ЧТО ОНИ ДОЛЖНЫ ДУМАТЬ, А ТОМУ, КАК ОНИ ДОЛЖНЫ ДУМАТЬ, ТО ТОГДА ИСЧЕЗНУТ ВСЯКИЕ НЕДОРАЗУМЕНИЯ».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                            </a:t>
            </a:r>
            <a:r>
              <a:rPr b="0" lang="ru-RU" sz="3000" spc="-1" strike="noStrike">
                <a:solidFill>
                  <a:srgbClr val="ff0000"/>
                </a:solidFill>
                <a:latin typeface="Century Schoolbook"/>
              </a:rPr>
              <a:t>Г. ЛИХТЕНБЕРГ.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285640" y="285480"/>
            <a:ext cx="617220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Century Schoolbook"/>
              </a:rPr>
              <a:t>ЦЕЛЬ: СФОРМИРОВАТЬ ТВОРЧЕСКУЮ, СОЦИАЛЬНО АКТИВНУЮ ЛИЧНОСТЬ НОВОГО ТИПА В ПРОЦЕССЕ ИССЛЕДОВАТЕЛЬСКОЙ РАБОТЫ</a:t>
            </a:r>
            <a:r>
              <a:rPr b="1" lang="ru-RU" sz="2700" spc="-1" strike="noStrike">
                <a:solidFill>
                  <a:srgbClr val="575f6d"/>
                </a:solidFill>
                <a:latin typeface="Century Schoolbook"/>
              </a:rPr>
              <a:t>.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2285640" y="2500200"/>
            <a:ext cx="6172200" cy="38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Сформировать навыки работы с научной литературой и интернет-ресурсам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Освоить методы научного исследова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Формировать креативные способности, интеллектуальные умения и навык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entury Schoolbook"/>
              </a:rPr>
              <a:t>ИННОВАЦИОННЫЕ ТЕХНОЛОГИИ: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Century Schoolbook"/>
              </a:rPr>
              <a:t>1. РАЗВИТИЕ ТВОРЧЕСКИХ КАЧЕСТВ РЕБЕНКА (ИВАНОВ И.П.)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Century Schoolbook"/>
              </a:rPr>
              <a:t>2. ИССЛЕДОВАТЕЛЬСКОЕ ОБУЧЕНИЕ (САВЕНКОВ А.И)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Century Schoolbook"/>
              </a:rPr>
              <a:t>3. ТЕХНОЛОГИЯ КСО 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Century Schoolbook"/>
              </a:rPr>
              <a:t>(ДЬЯЧЕНКО А.И)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Century Schoolbook"/>
              </a:rPr>
              <a:t>4. ТЕХНОЛОГИЯ АДАПТИВНОГО ОБУЧЕНИЯ (ГРАНИЦКАЯ А.С)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285640" y="285840"/>
            <a:ext cx="6172200" cy="19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entury Schoolbook"/>
              </a:rPr>
              <a:t>УСЛОВИЯ ДЛЯ СОЗДАНИЯ ИССЛЕДОВАТЕЛЬСКОЙ ДЕЯТЕЛЬНОСТИ.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2285640" y="2356920"/>
            <a:ext cx="6172200" cy="40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entury Schoolbook"/>
              </a:rPr>
              <a:t>Творческая среда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entury Schoolbook"/>
              </a:rPr>
              <a:t>Учет возрастных особенностей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entury Schoolbook"/>
              </a:rPr>
              <a:t>Психологический комфорт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285640" y="285840"/>
            <a:ext cx="6172200" cy="19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entury Schoolbook"/>
              </a:rPr>
              <a:t>ОСНОВНЫЕ НАПРАВЛЕНИЯ ИССЛЕДОВАТЕЛЬСКОЙ РАБОТЫ: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2285640" y="2143080"/>
            <a:ext cx="6172200" cy="42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entury Schoolbook"/>
              </a:rPr>
              <a:t>Проблемное, эстетическое, частично-поисковое обучение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entury Schoolbook"/>
              </a:rPr>
              <a:t>Уроки-исследования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entury Schoolbook"/>
              </a:rPr>
              <a:t>Групповые формы работы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2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entury Schoolbook"/>
              </a:rPr>
              <a:t>ОРГАНИЗАЦИЯ ИССЛЕДОВАТЕЛЬСКОЙ     РАБОТЫ НА УРОКЕ.</a:t>
            </a:r>
            <a:br>
              <a:rPr sz="3000"/>
            </a:br>
            <a:br>
              <a:rPr sz="3000"/>
            </a:br>
            <a:r>
              <a:rPr b="1" lang="ru-RU" sz="3000" spc="-1" strike="noStrike">
                <a:solidFill>
                  <a:srgbClr val="ff0000"/>
                </a:solidFill>
                <a:latin typeface="Century Schoolbook"/>
              </a:rPr>
              <a:t>1. ПУТЕШЕСТВИЕ ПО ЦЕНТРАЛЬНОМУ РАЙОНУ (9 КЛАСС)</a:t>
            </a:r>
            <a:br>
              <a:rPr sz="3000"/>
            </a:br>
            <a:r>
              <a:rPr b="1" lang="ru-RU" sz="3000" spc="-1" strike="noStrike">
                <a:solidFill>
                  <a:srgbClr val="ff0000"/>
                </a:solidFill>
                <a:latin typeface="Century Schoolbook"/>
              </a:rPr>
              <a:t>2. ВРЕМЕНА ГОДА (8 КЛАСС)</a:t>
            </a:r>
            <a:br>
              <a:rPr sz="3000"/>
            </a:br>
            <a:r>
              <a:rPr b="1" lang="ru-RU" sz="3000" spc="-1" strike="noStrike">
                <a:solidFill>
                  <a:srgbClr val="ff0000"/>
                </a:solidFill>
                <a:latin typeface="Century Schoolbook"/>
              </a:rPr>
              <a:t>3. ИЗУЧЕНИЕ ОКЕАНОВ (7 КЛАСС)</a:t>
            </a:r>
            <a:br>
              <a:rPr sz="3000"/>
            </a:br>
            <a:r>
              <a:rPr b="1" lang="ru-RU" sz="3000" spc="-1" strike="noStrike">
                <a:solidFill>
                  <a:srgbClr val="ff0000"/>
                </a:solidFill>
                <a:latin typeface="Century Schoolbook"/>
              </a:rPr>
              <a:t>4. РЕКРЕАЦИОННЫЕ РЕСУРСЫ КАВКАЗА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2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ИГРОВАЯ ДЕЯТЕЛЬНОСТЬ НА УРОКЕ.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1. «ВОПРОС – ОТВЕТ»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2. «САМОЕ ГЛАВНОЕ»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3. «КУДА ИДЕТ КОРАБЛЬ?»</a:t>
            </a:r>
            <a:br>
              <a:rPr sz="4000"/>
            </a:b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5640" y="285480"/>
            <a:ext cx="61722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ДОМАШНЕЕ ЗАДАНИЕ: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2285640" y="1428840"/>
            <a:ext cx="6172200" cy="49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entury Schoolbook"/>
              </a:rPr>
              <a:t>Образ моей Родины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entury Schoolbook"/>
              </a:rPr>
              <a:t>Туристический маршрут по Японии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entury Schoolbook"/>
              </a:rPr>
              <a:t>Экологические законы Барри Коммонера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entury Schoolbook"/>
              </a:rPr>
              <a:t>Постановка опытов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entury Schoolbook"/>
              </a:rPr>
              <a:t>                             </a:t>
            </a:r>
            <a:r>
              <a:rPr b="1" lang="ru-RU" sz="1800" spc="-1" strike="noStrike">
                <a:solidFill>
                  <a:srgbClr val="ff0000"/>
                </a:solidFill>
                <a:latin typeface="Century Schoolbook"/>
              </a:rPr>
              <a:t>Тематика опытов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entury Schoolbook"/>
              </a:rPr>
              <a:t>Влияние света на прорастание семян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entury Schoolbook"/>
              </a:rPr>
              <a:t>Определение жароустойчивости семян некоторых растений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entury Schoolbook"/>
              </a:rPr>
              <a:t>Аллелопатия в растительном мире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entury Schoolbook"/>
              </a:rPr>
              <a:t>Настические движения у растений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entury Schoolbook"/>
              </a:rPr>
              <a:t>Оценка качества воды ближайшего водоема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entury Schoolbook"/>
              </a:rPr>
              <a:t>Собрать гербарии лекарственных, пищевых, ядовитых растений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entury Schoolbook"/>
              </a:rPr>
              <a:t>Оформить коллекцию семян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entury Schoolbook"/>
              </a:rPr>
              <a:t>Подготовить фотоальбом 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0T01:44:12Z</dcterms:created>
  <dc:creator>МОУ НОВОПЕТРОВСКАЯ СОШ</dc:creator>
  <dc:description/>
  <dc:language>en-US</dc:language>
  <cp:lastModifiedBy>useriche</cp:lastModifiedBy>
  <dcterms:modified xsi:type="dcterms:W3CDTF">2014-01-28T02:51:27Z</dcterms:modified>
  <cp:revision>21</cp:revision>
  <dc:subject/>
  <dc:title>Исследовательская работа на уроках и во внеклассной работе.</dc:title>
</cp:coreProperties>
</file>