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EC41-B38C-4779-ADA1-FF1768157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4E7-0B79-455E-8C9A-77D9DD5DA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4A8-2A2B-44C7-8DD3-AB2F3526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8FC-DCC1-4F76-93EB-7B0B3E9F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583-2C4F-4D21-8DA7-FB18E8AA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614-BB09-418B-8040-B11802C8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9A26-CCBB-4E7D-92D4-75AA5C6B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70B7-1AAB-43ED-BD84-8D9A9CEC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222C-78F7-4FB2-A726-75101773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B79C-70DB-4F71-94F3-EDDB6214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E127-BFF1-45D5-A6FA-B0CCEEC3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0B17-6DE8-4AFB-A9E3-0637684C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B515-43D0-45FD-9CC8-0B2503F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394-E5E7-4D2A-AE84-B403CC1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5ECD-BBD9-44AD-B7AA-C094F2F8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D9B1-E728-4FE5-915C-E2C03ACC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ACD-35F0-4791-A885-C9741913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710F-9C9B-4936-891C-FC040C21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8C4-04EE-4019-9518-8512D9C3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0F067-F04F-4A5F-9512-18935884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4BEFC-0E3E-4DC6-AD0B-69554FB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1D0C4-2BC1-44DF-B34F-BFC2F253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50075-487D-4C33-B3CB-1791E41F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26EBC-940D-4506-9DAD-FDE1E39B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866-CD66-4FA6-9CC2-5F1545B3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59DDA-DE7E-4939-B5EE-BBF74FC9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B9B67-4AE5-404A-9F39-2C98893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1E20D-C8CE-47F5-B2C3-4FCFF47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56C67-FCD7-4F7E-9D16-47AA88E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DF481-172E-46EC-B8D9-47320329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E4A25-2B52-4ACF-8799-5C74EAC0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06494-F92F-4503-8081-8E3C61FE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A1E2-35E1-4FB9-93DD-AC591B4E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4BE49-ED0B-4909-9A0D-0CCAF8E3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53AB-7D5D-4770-BE41-CA5DA40C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180-5545-47A1-9909-824B19EB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4A4D-9393-4B7A-8828-208DB59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B348A-0277-4E7C-AEB6-BBBF1100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697E-8FDE-4372-A0E0-796CAB5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693A-51BE-4D88-80A9-04BC8896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2FC9-338B-4E40-B2A7-626749B6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D0BF-2233-43C3-8C84-D51ACC7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F23D-B1CE-4BFF-9029-7DCD2DE4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2346-4C06-4E78-866B-7D7A1EDC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3950-1CA7-45E5-BD75-B7963455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1F23B-1524-4FB2-9348-CA0E9E75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C73-EC09-48E6-9A30-80BD5606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980EC-E460-43AF-A80F-3AE731D7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A09DD-050E-4EDB-B3F2-620BA3F0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FFEA7-5448-4140-893E-595E207D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7B328-A643-416A-B916-DC9CD595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88E36-0C9A-4A78-8221-B19D8AE7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ABB00-2039-4EA2-B768-0B37DD39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EF0DD-7777-4505-8A7B-F3E0F88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39D85-4EF6-43B9-9856-F246DF52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BF8E3-B7E7-496A-88C0-3E0A831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E8570-AEEB-4C53-9E3F-BDA14877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17F-6117-4037-8743-5C895998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59361-BF44-49BD-B8F3-3686E8AC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D2AB9-BE4F-41AA-BF8A-4B4BD887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FD2A0-CF6A-4B97-B931-C7E66B37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90D6E-0FE9-4C8B-BBF4-5F4CFD5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4BAD19-33AB-4CD4-9E0A-BDEFE13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D6B71-0899-45BA-A72A-034AC50F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92695-C09F-4256-A1D9-2D32618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B9F75-F352-457C-A80F-0B275E2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7CD75-CF87-4A24-A172-4021477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34BCE-3CA3-4BC2-BF38-47CA9F0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585-A1B8-4793-9B35-3093945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34F6C-1558-4F36-A561-2C7B91E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B5A17-98BD-4ACD-8A9D-A85B641B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EAB44-C3A1-4E23-BAA5-8649BD9A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A13A2-46A7-4F5F-AD7D-122A9810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88196-86E3-4F85-8BC0-FFDB8DD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70E32-3244-47D4-8AEA-887EB345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44213-FE01-4C95-B0A6-FD32C84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4BC34-4F30-4C81-BCD8-7285727C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D2223-E5DA-4C0E-A866-6FDA6917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8B0F2-E535-4301-94E4-A61C291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215-8C25-4902-AB9D-EF657C33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E6BEE-C3C7-449F-A291-409FC67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B8DE8-6FA8-4062-9075-0AD59AA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9290F-352B-41D9-B4E0-4A69EE3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86059-627A-4D17-A004-4F611BDE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7B5E4-2F71-4979-A218-25C58022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D61-B0BD-4865-856F-81EF26B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4755-B982-4F6A-AF92-525CE31075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CB01-2B60-4695-BB24-0C14C07756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9C1A-7450-4FD6-B7DA-5204FF7E3D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A83-9922-4758-9627-983A253FB1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A57-78D0-4D1D-9F40-53C8DA0DA0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BA63-91CA-4577-B09B-0EB4DC4838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3DCE-A56C-48E5-A828-3ACC85DFDF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642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ССЛЕДОВАТЕЛЬСКАЯ РАБОТА НА УРОКАХ И ВО ВНЕКЛАССНОЙ РАБОТЕ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едагогическая система учителя МОУ Новопетровской СОШ Мещеряковой Н.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428400"/>
            <a:ext cx="6172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ИССЛЕДОВАНИЯ ВО ВНЕУРОЧНОЕ ВРЕМ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деля географ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ень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е агитбрига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лассные ча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Исследования в школьном дендрар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Выступления на конференция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ружковая раб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14200" y="285840"/>
          <a:ext cx="8501040" cy="6286320"/>
        </p:xfrm>
        <a:graphic>
          <a:graphicData uri="http://schemas.openxmlformats.org/drawingml/2006/table">
            <a:tbl>
              <a:tblPr/>
              <a:tblGrid>
                <a:gridCol w="1760760"/>
                <a:gridCol w="2489040"/>
                <a:gridCol w="2125800"/>
                <a:gridCol w="212544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шк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рай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1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лияние размеров корневой системы на рост и развитие папоротника-орля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микроскопических обитателей и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Исследование видового состава бегоний Новопетровском школ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8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гиацинтов к новогодним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Особенности выращивания тюльпанов в зимний пери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ыгонка луковичных к праздника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8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Аптека на подоконни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Топонимы моего се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Лекарственные растения окрестностей села Новопетр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АВТОРСКИЕ ПРОГРАММЫ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1. ФАКУЛЬТАТИВНЫЙ КУРС «СТРАНОВЕДЕНИЕ» 11 КЛАСС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2. ФАКУЛЬТАТИВНЫЙ КУРС «ЗДОРОВЬЕ И ОКРУЖАЮЩАЯ СРЕДА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3. ПРОГРАММА ЭКОЛОГИЧЕСКОГО КРУЖКА «ЗЕЛЕНЫЙ МИР»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4. КОМПЛЕКТ ГРУППОВЫХ ПРАКТИЧЕСКИХ РАБОТ ПО ГЕОГРАФИ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643040" y="792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еограф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Object 1"/>
          <p:cNvGraphicFramePr/>
          <p:nvPr/>
        </p:nvGraphicFramePr>
        <p:xfrm>
          <a:off x="923760" y="1071720"/>
          <a:ext cx="708660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071720"/>
                    <a:ext cx="708660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0" name="Object 1"/>
          <p:cNvGraphicFramePr/>
          <p:nvPr/>
        </p:nvGraphicFramePr>
        <p:xfrm>
          <a:off x="685800" y="785880"/>
          <a:ext cx="73864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85880"/>
                    <a:ext cx="73864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1928880" y="972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ческий анализ качества знаний учащих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Эколог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Object 1"/>
          <p:cNvGraphicFramePr/>
          <p:nvPr/>
        </p:nvGraphicFramePr>
        <p:xfrm>
          <a:off x="1214280" y="1857240"/>
          <a:ext cx="63946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857240"/>
                    <a:ext cx="63946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6" name="Object 1"/>
          <p:cNvGraphicFramePr/>
          <p:nvPr/>
        </p:nvGraphicFramePr>
        <p:xfrm>
          <a:off x="576360" y="857160"/>
          <a:ext cx="7495920" cy="501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857160"/>
                    <a:ext cx="7495920" cy="50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2000160" y="792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1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28760" y="1428840"/>
          <a:ext cx="8215200" cy="4000320"/>
        </p:xfrm>
        <a:graphic>
          <a:graphicData uri="http://schemas.openxmlformats.org/drawingml/2006/table">
            <a:tbl>
              <a:tblPr/>
              <a:tblGrid>
                <a:gridCol w="1172880"/>
                <a:gridCol w="1175040"/>
                <a:gridCol w="1172880"/>
                <a:gridCol w="1173240"/>
                <a:gridCol w="1173240"/>
                <a:gridCol w="1174680"/>
                <a:gridCol w="11732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500120" y="37800"/>
            <a:ext cx="57866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ультаты государственной аттеста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9 класс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00040" y="1397160"/>
          <a:ext cx="8072640" cy="4103640"/>
        </p:xfrm>
        <a:graphic>
          <a:graphicData uri="http://schemas.openxmlformats.org/drawingml/2006/table">
            <a:tbl>
              <a:tblPr/>
              <a:tblGrid>
                <a:gridCol w="1152720"/>
                <a:gridCol w="1153800"/>
                <a:gridCol w="1152720"/>
                <a:gridCol w="1154160"/>
                <a:gridCol w="1152360"/>
                <a:gridCol w="1154160"/>
                <a:gridCol w="115272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ч-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да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еограф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ачеств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КАЖДЫЙ ИЗ ВИДОВ ИД ЯВЛЯЕТСЯ ЛИЧНОСТНО – ОРИЕНТИРОВАННЫМ И ДАЕТ ВОЗМОЖНОСТЬ ВООРУЖИТЬ УЧАЩИХСЯ НЕОБХОДИМЫМ ИНСТРУМЕНТАРИЕМ ДЛЯ ОСВОЕНИЯ СТРЕМИТЕЛЬНО НАРАСТАЮЩЕГО СЕГОДНЯ ПОТОКА НАУЧНОЙ ИНФОРМАЦИИ, ОРИЕНТАЦИИ В НЕМ  И СИСТЕМАТИЗАЦИИ ВНЕПРОГРАММНОГО МАТЕРИАЛА ПО ОДНОМУ ИЗ НАПРАВЛЕНИЙ НАУКИ В ВИДЕ НАУЧНО-ИССЛЕДОВАТЕЛЬСКОЙ РАБОТЫ.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«КОГДА ЛЮДЕЙ СТАНУТ УЧИТЬ НЕ ТОМУ, ЧТО ОНИ ДОЛЖНЫ ДУМАТЬ, А ТОМУ, КАК ОНИ ДОЛЖНЫ ДУМАТЬ, ТО ТОГДА ИСЧЕЗНУТ ВСЯКИЕ НЕДОРАЗУМЕНИЯ»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Г. ЛИХТЕНБЕРГ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ЦЕЛЬ: СФОРМИРОВАТЬ ТВОРЧЕСКУЮ, СОЦИАЛЬНО АКТИВНУЮ ЛИЧНОСТЬ НОВОГО ТИПА В ПРОЦЕССЕ ИССЛЕДОВАТЕЛЬСКОЙ РАБОТЫ</a:t>
            </a: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формировать навыки работы с научной литературой и интернет-ресурс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своить методы научного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Формировать креативные способности, интеллектуальные умения и навы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ИННОВАЦИОННЫЕ ТЕХНОЛОГИИ: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1. РАЗВИТИЕ ТВОРЧЕСКИХ КАЧЕСТВ РЕБЕНКА (ИВАНОВ И.П.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2. ИССЛЕДОВАТЕЛЬСКОЕ ОБУЧЕНИЕ (САВЕНКОВ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3. ТЕХНОЛОГИЯ КСО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ДЬЯЧЕНКО А.И)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4. ТЕХНОЛОГИЯ АДАПТИВНОГО ОБУЧЕНИЯ (ГРАНИЦКАЯ А.С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СЛОВИЯ ДЛЯ СОЗДАНИЯ ИССЛЕДОВАТЕЛЬСКОЙ ДЕЯТЕЛЬНОСТИ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5640" y="2356920"/>
            <a:ext cx="61722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Творческая сред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Учет возрастных особенносте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Психологический комфорт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2858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СНОВНЫЕ НАПРАВЛЕНИЯ ИССЛЕДОВАТЕЛЬСКОЙ РАБОТЫ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2143080"/>
            <a:ext cx="61722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роблемное, эстетическое, частично-поисковое обуче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роки-исслед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Групповые формы работы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РГАНИЗАЦИЯ ИССЛЕДОВАТЕЛЬСКОЙ     РАБОТЫ НА УРОКЕ.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1. ПУТЕШЕСТВИЕ ПО ЦЕНТРАЛЬНОМУ РАЙОНУ (9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2. ВРЕМЕНА ГОДА (8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3. ИЗУЧЕНИЕ ОКЕАНОВ (7 КЛАСС)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4. РЕКРЕАЦИОННЫЕ РЕСУРСЫ КАВКАЗ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ГРОВАЯ ДЕЯТЕЛЬНОСТЬ НА УРОКЕ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1. «ВОПРОС – ОТВЕТ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2. «САМОЕ ГЛАВНОЕ»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3. «КУДА ИДЕТ КОРАБЛЬ?»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ДОМАШНЕЕ ЗАДАНИЕ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браз моей Родин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уристический маршрут по Япон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Экологические законы Барри Коммонер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становка опыт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Тематика опытов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Влияние света на прорастание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пределение жароустойчивости семян некотор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Аллелопатия в растительном мир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Настические движения у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ценка качества воды ближайшего водое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Собрать гербарии лекарственных, пищевых, ядовитых растени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Оформить коллекцию семян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Подготовить фотоальбом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1:44:12Z</dcterms:created>
  <dc:creator>МОУ НОВОПЕТРОВСКАЯ СОШ</dc:creator>
  <dc:description/>
  <dc:language>en-US</dc:language>
  <cp:lastModifiedBy>useriche</cp:lastModifiedBy>
  <dcterms:modified xsi:type="dcterms:W3CDTF">2014-01-28T02:51:27Z</dcterms:modified>
  <cp:revision>21</cp:revision>
  <dc:subject/>
  <dc:title>Исследовательская работа на уроках и во внеклассной работе.</dc:title>
</cp:coreProperties>
</file>