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EC5-21AB-4843-9145-A9B6332A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31F-1CB9-48F4-BA96-163219C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7C2-F6A6-4CDD-A2BA-992585CF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1B6-A704-4B5F-88D9-C6E030CD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3EA-BCF2-481D-8020-D21EDE00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B498-88BE-42FD-BADC-962796AC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CAF-1983-469C-9696-44F5542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8D4D-3EF8-4B68-AFE4-AFDDAF6F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3E70-1568-4B91-A9D7-1E7CAA9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C484-1266-4A41-8000-AE5DF72E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DD3C-A20A-41DA-8367-26AFABBB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859-CF4F-436D-9389-36B7BB71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B4F4-23EB-4B87-829B-079F28C3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E0C5-EBFD-4C52-8366-4792C10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1FDB-D371-4E56-97F4-D4CCB1EB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D7CE-2A7F-48FB-BBBE-9E55100D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E16C-E0EE-4CDE-92E4-C5419412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CBB-4A60-434F-B4B8-13460C2D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1CB-EE97-4350-9A52-B7E510B4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792-A87D-4338-B844-CBBA10A9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3C2-A73F-489F-B3D9-5ACA18C0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D1C-E00C-45E8-86BE-98AC039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653-48BA-4FA0-8ABB-89F48ED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9B6-D5A8-45BF-94A1-F51B0527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82F-283B-4F3A-A5A9-FDB5D9E58F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544-0D05-4F57-BF6A-99F0989D0A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отовимся к ГИА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57800" y="617220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Все будет хорош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28600"/>
            <a:ext cx="26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Авт. Зинченко Г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61722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Тест 1, част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9. Линейные урав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898560" y="1565280"/>
            <a:ext cx="61117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ите уравнение 3 – 2х = 6 – 4(х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42321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0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6640" y="2514600"/>
            <a:ext cx="283824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х + 4х = 6 – 8 – 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2880" y="3352680"/>
            <a:ext cx="1280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х = - 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09640" y="4114800"/>
            <a:ext cx="13633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= - 2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2840" y="499896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если ошиб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97440" y="56386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548640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56386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. Найди координаты точки пересечения, решив систему уравне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37160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9480" y="2209680"/>
            <a:ext cx="1371600" cy="320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417800">
            <a:off x="-1706400" y="4864680"/>
            <a:ext cx="5793840" cy="80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rot="5354400">
            <a:off x="-1504080" y="4877280"/>
            <a:ext cx="5797440" cy="76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9800" y="4572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5440" y="28954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5920" y="3657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3240" y="1905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90080" y="37339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79640" y="2027160"/>
            <a:ext cx="527364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ямая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у = 2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се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раболу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у = - х</a:t>
            </a:r>
            <a:r>
              <a:rPr b="0" lang="en-US" sz="2400" spc="-1" strike="noStrike" baseline="8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8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двух точках. Вычислите координаты точк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51040" y="408456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8862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2;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86000" y="4959360"/>
                <a:ext cx="6095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х</m:t>
                              </m:r>
                            </m:e>
                          </m:mr>
                          <m:m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</m:e>
                          </m:mr>
                        </m:m>
                        <m:r>
                          <m:t xml:space="preserve">⇔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⇔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286000" y="6095880"/>
                <a:ext cx="1905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343400" y="6095880"/>
                <a:ext cx="1676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1.Составь уравнение по условию задачи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441360" y="16462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уть от поселка до станции пешеход прошел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 ч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а велосипедист проехал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5 ч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корость велосипедист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 км/ч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льше скорости пешехода. С какой скоростью ехал велосипедист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65760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ое уравнение соответствует условию задачи, если буквой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означена скорость велосипедиста (в км/ч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133720" y="4844880"/>
                <a:ext cx="518148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,5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1,5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1,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800600" y="5867280"/>
            <a:ext cx="457200" cy="5335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2. Линейные неравен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898560" y="1265400"/>
            <a:ext cx="61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те неравенство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10х – 4(2х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&g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8560" y="17938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– 8х + 1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&gt;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94040" y="17985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10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- 8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4 – 1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2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-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&gt; - 4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62120" y="3124080"/>
                <a:ext cx="60195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657600" y="327672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. Квадратное неравен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53080" y="10663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35520" y="289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9960" y="2286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33680" y="2895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4720" y="990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9960" y="1189080"/>
            <a:ext cx="42829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рисунке изображен график функции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 = 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2х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уя график, решите неравенств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ru-RU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+ 2х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gt; 0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62120" y="3200400"/>
                <a:ext cx="40384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/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2133720" y="3200400"/>
            <a:ext cx="380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5312520" y="1730880"/>
            <a:ext cx="194760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572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57290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4. Прогресс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914400"/>
            <a:ext cx="7620120" cy="1557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й последовательности, заданной формуло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–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о члена (левый столбец), поставьте в соответствие верное утверждение (правый столбец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3200" y="2971800"/>
            <a:ext cx="18064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400" spc="-1" strike="noStrike" baseline="-4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 baseline="-6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n</a:t>
            </a:r>
            <a:r>
              <a:rPr b="0" lang="en-US" sz="2400" spc="-1" strike="noStrike" baseline="6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3505320"/>
            <a:ext cx="1752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) у</a:t>
            </a:r>
            <a:r>
              <a:rPr b="0" lang="en-US" sz="2400" spc="-1" strike="noStrike" baseline="-4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= 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038480"/>
            <a:ext cx="205740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z</a:t>
            </a:r>
            <a:r>
              <a:rPr b="0" lang="en-US" sz="2400" spc="-1" strike="noStrike" baseline="-40000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2</a:t>
            </a:r>
            <a:r>
              <a:rPr b="0" lang="en-US" sz="2400" spc="-1" strike="noStrike" baseline="6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9920" y="297180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)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Арифмет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42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) Геометр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962520"/>
            <a:ext cx="61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) Последовательность не является прогресс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86400" y="5105520"/>
          <a:ext cx="1904760" cy="103500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5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581280" y="51814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12240" y="57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40080" y="57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68480" y="571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352680"/>
            <a:ext cx="9907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905120" y="3276360"/>
            <a:ext cx="9144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676520" y="373356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5. Квадратичная функ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343400" y="990720"/>
          <a:ext cx="3352680" cy="362268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9080"/>
                <a:gridCol w="558720"/>
                <a:gridCol w="55872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343400" y="198108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410080" y="990720"/>
            <a:ext cx="0" cy="3581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1981080"/>
            <a:ext cx="15264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198108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3358080" y="920160"/>
            <a:ext cx="524592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572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57290"/>
              </a:path>
            </a:pathLst>
          </a:cu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23200" y="2133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17520" y="3200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68480" y="205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6412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00520" y="2057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31720" y="10666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3600" y="4267080"/>
            <a:ext cx="15228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3276720"/>
            <a:ext cx="15264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276720"/>
            <a:ext cx="15228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7680" y="9604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афик какой квадратичной функции изображен на рису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09480" y="2743200"/>
                <a:ext cx="2819520" cy="23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57200" y="388620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32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6. График реальной зависим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038480" y="990720"/>
          <a:ext cx="4038480" cy="465768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5080"/>
                <a:gridCol w="504720"/>
                <a:gridCol w="504720"/>
                <a:gridCol w="50472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 flipV="1">
            <a:off x="4038480" y="1066680"/>
            <a:ext cx="0" cy="4572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5638680"/>
            <a:ext cx="3962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575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      4     6      8     10    12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меся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879480"/>
            <a:ext cx="16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Число телефонов, тыс.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38480" y="53341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72000" y="5105160"/>
            <a:ext cx="45720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029200" y="4572000"/>
            <a:ext cx="533520" cy="5335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62720" y="4114800"/>
            <a:ext cx="228600" cy="4572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791320" y="3809520"/>
            <a:ext cx="228600" cy="30492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019920" y="3580920"/>
            <a:ext cx="533160" cy="22860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553080" y="3276720"/>
            <a:ext cx="533520" cy="304560"/>
          </a:xfrm>
          <a:prstGeom prst="line">
            <a:avLst/>
          </a:prstGeom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38480" y="51051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72000" y="4572000"/>
            <a:ext cx="99072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4343040"/>
            <a:ext cx="45720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019920" y="411444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324480" y="3581280"/>
            <a:ext cx="228600" cy="533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553080" y="3047760"/>
            <a:ext cx="533520" cy="533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752480"/>
            <a:ext cx="2895480" cy="3143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рма начала продавать две новые модели телефонов –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В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графиках показан ход продаж. Сколько всего телефонов двух моделей было продано за 10 месяце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6066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943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800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. Сравниваем числа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066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ь числа в порядке возрас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640" y="15415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081; 0,18; 0,08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2920" y="1933560"/>
            <a:ext cx="61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йствительно, что может быть прощ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1460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0803; 0,081; 0,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8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ить числа в порядке уб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581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1903; 0,0903; 0,20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9240" y="4067280"/>
            <a:ext cx="61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йствительно, что может быть прощ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48769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0,2093; 0,1903; 0,09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. Чудо квадратного корн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1976400"/>
                <a:ext cx="266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,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0880" y="4419720"/>
                <a:ext cx="17528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4419720"/>
                <a:ext cx="1695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57200" y="1066680"/>
            <a:ext cx="6629400" cy="45972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Какое из чисел является рацион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7200" y="1981080"/>
                <a:ext cx="3124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9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362320" y="3809880"/>
            <a:ext cx="2590560" cy="45972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ерные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33520" y="3048120"/>
                <a:ext cx="31240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114800" y="2971800"/>
                <a:ext cx="3009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,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0" y="4419720"/>
                <a:ext cx="1701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29400" y="4368960"/>
                <a:ext cx="1676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.Проц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99072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левизор стоил 2400 р. После переоценки его цена стала 1300 р. Сколько примерно процентов от первоначальной стоимости составляет новая стоимость телевиз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666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) 35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) 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) 0,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048120"/>
            <a:ext cx="45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 отметить верный отв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733920"/>
            <a:ext cx="4572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) 35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) 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) 0,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648320"/>
            <a:ext cx="76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если ошиблись и нужно исправ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6386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) 35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) 54%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) 0,5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5627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562720"/>
            <a:ext cx="53316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518148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980720" y="5105520"/>
            <a:ext cx="11430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. Вычисление значения выраж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447920" y="1523880"/>
                <a:ext cx="556236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,4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981080" y="525780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3807000"/>
                <a:ext cx="54864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,4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380760" y="32004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8920" y="6019920"/>
            <a:ext cx="29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Если ошиблись</a:t>
            </a:r>
            <a:r>
              <a:rPr b="0" lang="en-US" sz="2800" spc="-1" strike="noStrike">
                <a:solidFill>
                  <a:srgbClr val="9966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199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5791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 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5715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. Буквенное выраж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на килограмма яблок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блей. Сколько рублей надо заплатить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7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ммов ябл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2666880"/>
                <a:ext cx="62481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00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0,7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114800" y="28195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09880"/>
            <a:ext cx="66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на килограмма апельсинов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блей. Сколько рублей надо заплатить з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илограмм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граммов апельсин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25960" y="53802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,3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6.Тождественные преобразования выраж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205000" y="3200400"/>
                <a:ext cx="40482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17680" y="2027160"/>
            <a:ext cx="71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каком случае выражение преобразовано в тождественно рав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5334120"/>
            <a:ext cx="457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7. Любимые алгебраические дроб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13372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прост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81480" y="1905120"/>
                <a:ext cx="12477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81080" y="3200400"/>
                <a:ext cx="44960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00" y="3291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276720"/>
            <a:ext cx="6098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8. Степень с целым показателем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79520" y="212580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йдите час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0481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 запишите в виде десятичной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38098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657600" y="1905120"/>
                <a:ext cx="1295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2133720" y="5181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: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9960" y="43894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А если ошиб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4952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3809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9528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,0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962160" y="48006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3-26T12:05:3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