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1F7-CA10-4FFB-A0A1-ED0B05A2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432-0A5F-4FA8-BAC4-422F0D6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251-471F-4392-A7E1-B31EE2BB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904-616B-466F-A023-7A1F215D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F4B8-39E2-44FE-A87F-34CC1B60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2AA-9F5E-407E-8816-378A3FC3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03E1-D109-4E86-8FB2-A5BFB81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3157-1893-4996-B3F1-EF17CEB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DEAA-0EE6-4D68-A1E0-1D0B5BF3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156-98CE-4664-BD5B-25D3E5E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1602-206A-4A09-854E-C9C567B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6F7-8E16-4433-8A9F-50EEC31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ECA-9D42-4C90-8305-4817EF3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703-1A3C-477F-9658-8AB7A01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456-A66A-4FFC-BD6B-407D2BFB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5C0-54B9-48AD-A9BA-5B37BD18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2537-2BC2-4D4F-8CE2-F803A3A2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AE1-099D-4D96-B34E-635D6750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9B-0E7C-4E8F-8EBF-1D870B6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18A-E5EE-4967-BC8E-18C31514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E54-E598-44A1-864D-7BE091D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EBF-91BA-49CA-918B-9F319CD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9EB-6668-4792-8C29-0B94C5D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D4C-5414-49BB-A1CB-914EF178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A87-54BE-4E5E-A3FE-279FCCA674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DD6-CBB2-4CB8-B066-C31BC16DDE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Тест 1, част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9. Линейные урав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898560" y="1565280"/>
            <a:ext cx="61117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ите уравнение 3 – 2х = 6 – 4(х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4232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0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6640" y="2514600"/>
            <a:ext cx="28382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х + 4х = 6 – 8 – 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2880" y="3352680"/>
            <a:ext cx="1280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х = -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640" y="4114800"/>
            <a:ext cx="13633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- 2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2840" y="499896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если ошиб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97440" y="56386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548640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56386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37160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9480" y="2209680"/>
            <a:ext cx="1371600" cy="320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417800">
            <a:off x="-1706400" y="4864680"/>
            <a:ext cx="5793840" cy="80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rot="5354400">
            <a:off x="-1504080" y="4877280"/>
            <a:ext cx="5797440" cy="76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9800" y="4572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5440" y="2895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5920" y="3657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3240" y="1905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90080" y="37339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79640" y="2027160"/>
            <a:ext cx="527364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ямая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 = 2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се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раболу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 = - х</a:t>
            </a:r>
            <a:r>
              <a:rPr b="0" lang="en-US" sz="2400" spc="-1" strike="noStrike" baseline="8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8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вух точках. Вычислите координаты точк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51040" y="40845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886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86000" y="4959360"/>
                <a:ext cx="6095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</m:e>
                          </m:mr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286000" y="6095880"/>
                <a:ext cx="1905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343400" y="6095880"/>
                <a:ext cx="1676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441360" y="16462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уть от поселка до станции пешеход прошел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 ч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а велосипедист проехал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5 ч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орость велосипедист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 км/ч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льше скорости пешехода. С какой скоростью ехал велосипедист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65760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ое уравнение соответствует условию задачи, если буквой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означена скорость велосипедиста (в км/ч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133720" y="4844880"/>
                <a:ext cx="518148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,5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1,5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1,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800600" y="5867280"/>
            <a:ext cx="457200" cy="5335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. Линейные неравен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898560" y="1265400"/>
            <a:ext cx="61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неравенство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0х – 4(2х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&g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17938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– 8х + 1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&gt;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4040" y="17985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0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- 8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4 – 1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 - 4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62120" y="3124080"/>
                <a:ext cx="60195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657600" y="327672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вадратное неравен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53080" y="10663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3552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996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33680" y="289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472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9960" y="1189080"/>
            <a:ext cx="4282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рисунке изображен график функци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2х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уя график, решите неравенств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2х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gt; 0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62120" y="3200400"/>
                <a:ext cx="40384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/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2133720" y="3200400"/>
            <a:ext cx="380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5312520" y="1730880"/>
            <a:ext cx="194760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572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57290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4.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914400"/>
            <a:ext cx="7620120" cy="1557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й последовательности, заданной формул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–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о члена (левый столбец), поставьте в соответствие верное утверждение (правый столбец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3200" y="2971800"/>
            <a:ext cx="18064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 baseline="-6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n</a:t>
            </a:r>
            <a:r>
              <a:rPr b="0" lang="en-US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3505320"/>
            <a:ext cx="1752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) у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= 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038480"/>
            <a:ext cx="20574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z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2</a:t>
            </a:r>
            <a:r>
              <a:rPr b="0" lang="en-US" sz="2400" spc="-1" strike="noStrike" baseline="6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9920" y="29718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)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Арифмет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42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)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962520"/>
            <a:ext cx="61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) Последовательность не является прогресс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86400" y="5105520"/>
          <a:ext cx="190476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581280" y="51814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1224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4008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6848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352680"/>
            <a:ext cx="9907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05120" y="3276360"/>
            <a:ext cx="9144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676520" y="373356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5. Квадратичная функ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343400" y="990720"/>
          <a:ext cx="3352680" cy="36226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558720"/>
                <a:gridCol w="55872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343400" y="198108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10080" y="990720"/>
            <a:ext cx="0" cy="3581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1981080"/>
            <a:ext cx="15264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1981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3358080" y="920160"/>
            <a:ext cx="524592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572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57290"/>
              </a:path>
            </a:pathLst>
          </a:cu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3200" y="21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17520" y="3200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6848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6412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00520" y="2057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31720" y="10666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3600" y="4267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3276720"/>
            <a:ext cx="15264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276720"/>
            <a:ext cx="15228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7680" y="960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афик какой квадратичной функции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09480" y="2743200"/>
                <a:ext cx="2819520" cy="23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57200" y="388620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32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038480" y="990720"/>
          <a:ext cx="4038480" cy="465768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5080"/>
                <a:gridCol w="504720"/>
                <a:gridCol w="504720"/>
                <a:gridCol w="50472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 flipV="1">
            <a:off x="4038480" y="1066680"/>
            <a:ext cx="0" cy="457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5638680"/>
            <a:ext cx="3962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75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      4     6      8     10    12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879480"/>
            <a:ext cx="16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Число телефонов, тыс.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38480" y="53341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72000" y="5105160"/>
            <a:ext cx="45720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029200" y="4572000"/>
            <a:ext cx="53352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62720" y="4114800"/>
            <a:ext cx="228600" cy="4572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791320" y="3809520"/>
            <a:ext cx="228600" cy="304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019920" y="3580920"/>
            <a:ext cx="53316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553080" y="32767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38480" y="51051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4572000"/>
            <a:ext cx="99072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4343040"/>
            <a:ext cx="45720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019920" y="411444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324480" y="3581280"/>
            <a:ext cx="22860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553080" y="30477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752480"/>
            <a:ext cx="2895480" cy="314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рма начала продавать две новые модели телефонов –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В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графиках показан ход продаж. Сколько всего телефонов двух моделей было продано за 10 месяце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6066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8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066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ь числа в порядке возрас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640" y="15415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081; 0,18; 0,08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2920" y="1933560"/>
            <a:ext cx="61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йствительно, что может быть прощ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1460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0803; 0,081; 0,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8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ь числа в порядке уб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581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1903; 0,0903; 0,20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9240" y="4067280"/>
            <a:ext cx="61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йствительно, что может быть прощ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8769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2093; 0,1903; 0,09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. Чудо квадратного кор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1976400"/>
                <a:ext cx="266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,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0880" y="4419720"/>
                <a:ext cx="1752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419720"/>
                <a:ext cx="1695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57200" y="1066680"/>
            <a:ext cx="6629400" cy="4597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Какое из чисел является рацион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7200" y="1981080"/>
                <a:ext cx="3124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9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362320" y="3809880"/>
            <a:ext cx="2590560" cy="4597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ерные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33520" y="3048120"/>
                <a:ext cx="31240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114800" y="2971800"/>
                <a:ext cx="3009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,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4419720"/>
                <a:ext cx="1701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29400" y="4368960"/>
                <a:ext cx="1676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99072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левизор стоил 2400 р. После переоценки его цена стала 1300 р. Сколько примерно процентов от первоначальной стоимости составляет новая стоимость телевиз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04812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отметить верный отв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733920"/>
            <a:ext cx="4572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648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если ошиблись и нужно исправ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638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5627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562720"/>
            <a:ext cx="53316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18148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980720" y="5105520"/>
            <a:ext cx="1143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447920" y="1523880"/>
                <a:ext cx="556236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,4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981080" y="5257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3807000"/>
                <a:ext cx="54864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,4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380760" y="3200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8920" y="6019920"/>
            <a:ext cx="29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Если ошиблись</a:t>
            </a:r>
            <a:r>
              <a:rPr b="0" lang="en-US" sz="2800" spc="-1" strike="noStrike">
                <a:solidFill>
                  <a:srgbClr val="9966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199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715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на килограмма яблок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ммов ябл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2666880"/>
                <a:ext cx="62481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00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7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114800" y="2819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на килограмма апельсинов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илограмм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ммов апельси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25960" y="53802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.Тождественные преобразования выра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205000" y="3200400"/>
                <a:ext cx="40482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17680" y="2027160"/>
            <a:ext cx="71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каком случае выражение преобразовано в тождественно р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533412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7. Любимые алгебраические дроб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81480" y="1905120"/>
                <a:ext cx="12477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81080" y="3200400"/>
                <a:ext cx="44960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76720"/>
            <a:ext cx="6098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8. Степень с целым показател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79520" y="21258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дите час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048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запишите в виде десятичной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809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657600" y="1905120"/>
                <a:ext cx="1295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2133720" y="5181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960" y="43894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А если ошиб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4952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3809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952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62160" y="48006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26T12:05:3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