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D4E-6EB4-4665-8ABE-27BF3936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0D4-4015-45C6-891D-184254C3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E51-FC8D-41CF-981E-F95FECE5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548-C5B1-45B3-A905-CF54CACB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2A25-62CA-4AFC-996C-9384E8C0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D9E1-BE50-4632-BF21-F7DF8D98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0582-C886-43C9-84DC-A2ECC6C1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E6B3-5E90-4FEA-842A-A1BA682F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FFBF-33D4-4C26-BEAC-5EC5E378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EDF2-F86F-47AF-A8D1-77FDB2F9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7B22-3023-4281-A4F6-702A15FA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427-D4C5-4E75-B322-84886426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B2E7-A238-4AF7-B0D7-32B92CA3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D11F-47D6-41FA-BD3E-C53DDD3B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244F-5CC9-40DB-9E3C-59A168FF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C471-36C4-49CF-A34A-F65D0A03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0E44-A401-4008-9EDA-4C0037BF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1E4-20AB-4D78-88BE-1CA74FA8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6E3-A7E5-42FF-922A-DCC9372D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41C-7B5A-420A-ABA1-8EAC3EB0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359-9EA7-4322-8012-85BAAA67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BC5-51C7-4EFE-9C3F-3C27D603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81E-D8C9-4705-8FAF-F63E2BEB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B28-F00B-498A-B6D9-98E99E2F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9CE7-056E-4D6A-990A-85C6BE45E8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1C31-3355-44FE-8A50-220317AAA1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отовимся к ГИ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57800" y="617220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Все будет хорош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248520" y="228600"/>
            <a:ext cx="26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Авт. Зинченко Г.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00960" y="61722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Тест 2, часть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718080" y="415620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9. Линейны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14400" y="1600200"/>
            <a:ext cx="611172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те уравнение 3 – 2х = 6 – 4(х - 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886200" y="42321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 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5562720" y="40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5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831600" y="2514600"/>
            <a:ext cx="28594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+ 4х = 6 + 8 – 3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749520" y="3352680"/>
            <a:ext cx="12780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= 11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789480" y="4114800"/>
            <a:ext cx="118656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= 5,5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2742840" y="4998960"/>
            <a:ext cx="28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если ошиб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28195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 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997440" y="563868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- 5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4191120" y="5486400"/>
            <a:ext cx="5331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5257800" y="56386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5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0. Найди координаты точки пересечения, решив систему уравнений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4"/>
          <p:cNvSpPr/>
          <p:nvPr/>
        </p:nvSpPr>
        <p:spPr>
          <a:xfrm flipV="1">
            <a:off x="137160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60948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6"/>
          <p:cNvSpPr/>
          <p:nvPr/>
        </p:nvSpPr>
        <p:spPr>
          <a:xfrm flipV="1">
            <a:off x="609480" y="2209680"/>
            <a:ext cx="1371600" cy="3200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Arc 7"/>
          <p:cNvSpPr/>
          <p:nvPr/>
        </p:nvSpPr>
        <p:spPr>
          <a:xfrm rot="16417800">
            <a:off x="-366840" y="3606840"/>
            <a:ext cx="2897280" cy="4017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rc 8"/>
          <p:cNvSpPr/>
          <p:nvPr/>
        </p:nvSpPr>
        <p:spPr>
          <a:xfrm flipH="1" rot="5354400">
            <a:off x="114840" y="3615840"/>
            <a:ext cx="2899080" cy="3808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379800" y="4572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765440" y="2895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1375920" y="3657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993240" y="1905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1990080" y="373392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2879640" y="2027160"/>
            <a:ext cx="52736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яма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 = 3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секае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раболу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 = - х</a:t>
            </a:r>
            <a:r>
              <a:rPr b="0" lang="ru-RU" sz="2400" spc="-1" strike="noStrike" baseline="8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+1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вух точках. Вычислите координаты точки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2651040" y="408456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4114800" y="38862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(2;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0"/>
              <p:cNvSpPr txBox="1"/>
              <p:nvPr/>
            </p:nvSpPr>
            <p:spPr>
              <a:xfrm>
                <a:off x="2208240" y="4959360"/>
                <a:ext cx="6251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  <m:r>
                                <m:t xml:space="preserve">х</m:t>
                              </m:r>
                            </m:e>
                          </m:mr>
                          <m:m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  <m:r>
                          <m:t xml:space="preserve">⇔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9"/>
              <p:cNvSpPr txBox="1"/>
              <p:nvPr/>
            </p:nvSpPr>
            <p:spPr>
              <a:xfrm>
                <a:off x="2313000" y="6095880"/>
                <a:ext cx="1851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8"/>
              <p:cNvSpPr txBox="1"/>
              <p:nvPr/>
            </p:nvSpPr>
            <p:spPr>
              <a:xfrm>
                <a:off x="4383000" y="6095880"/>
                <a:ext cx="1595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23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11.Составь уравнение по условию задачи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41360" y="1646280"/>
            <a:ext cx="786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ыжник от озера до деревни шел со скорость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5 км/ч, а обратно – со скоростью 12 км/ч. Сколько времени ушло у него на обратную дорогу, если на весь путь туда и обратно лыжник затратил 3 ч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80880" y="320040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 – время на обратную дорогу. Какое уравнение соответствует условию задач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1832040" y="4875120"/>
                <a:ext cx="578484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х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3" name="Oval 8"/>
          <p:cNvSpPr/>
          <p:nvPr/>
        </p:nvSpPr>
        <p:spPr>
          <a:xfrm>
            <a:off x="4191120" y="5105520"/>
            <a:ext cx="609480" cy="533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12. Линейные неравен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57200" y="1219320"/>
            <a:ext cx="313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6"/>
              <p:cNvSpPr txBox="1"/>
              <p:nvPr/>
            </p:nvSpPr>
            <p:spPr>
              <a:xfrm>
                <a:off x="3962520" y="1219320"/>
                <a:ext cx="2781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≤</m:t>
                    </m:r>
                    <m:r>
                      <m:t xml:space="preserve">9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5"/>
              <p:cNvSpPr txBox="1"/>
              <p:nvPr/>
            </p:nvSpPr>
            <p:spPr>
              <a:xfrm>
                <a:off x="380880" y="3276720"/>
                <a:ext cx="3200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380880" y="3886200"/>
                <a:ext cx="3200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3"/>
              <p:cNvSpPr txBox="1"/>
              <p:nvPr/>
            </p:nvSpPr>
            <p:spPr>
              <a:xfrm>
                <a:off x="380880" y="4495680"/>
                <a:ext cx="1447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2"/>
              <p:cNvSpPr txBox="1"/>
              <p:nvPr/>
            </p:nvSpPr>
            <p:spPr>
              <a:xfrm>
                <a:off x="380880" y="5029200"/>
                <a:ext cx="1143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18"/>
          <p:cNvSpPr/>
          <p:nvPr/>
        </p:nvSpPr>
        <p:spPr>
          <a:xfrm>
            <a:off x="1800" y="2764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1800" y="3220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0" y="36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1800" y="385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4"/>
              <p:cNvSpPr txBox="1"/>
              <p:nvPr/>
            </p:nvSpPr>
            <p:spPr>
              <a:xfrm>
                <a:off x="1295280" y="2514600"/>
                <a:ext cx="6172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Oval 36"/>
          <p:cNvSpPr/>
          <p:nvPr/>
        </p:nvSpPr>
        <p:spPr>
          <a:xfrm>
            <a:off x="5867280" y="251460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. Квадратное неравенст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Line 4"/>
          <p:cNvSpPr/>
          <p:nvPr/>
        </p:nvSpPr>
        <p:spPr>
          <a:xfrm flipV="1">
            <a:off x="6553080" y="1066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54864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6781680" y="2895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617832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615996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647712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7933680" y="2895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174720" y="990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228600" y="1219320"/>
            <a:ext cx="47401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рисунке изображен график функции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 = х</a:t>
            </a:r>
            <a:r>
              <a:rPr b="0" lang="ru-RU" sz="2400" spc="-1" strike="noStrike" baseline="6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+ х-6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спользуя график, решите неравенство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х</a:t>
            </a:r>
            <a:r>
              <a:rPr b="0" lang="ru-RU" sz="2400" spc="-1" strike="noStrike" baseline="6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+ х-6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&lt; 0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6"/>
              <p:cNvSpPr txBox="1"/>
              <p:nvPr/>
            </p:nvSpPr>
            <p:spPr>
              <a:xfrm>
                <a:off x="1905120" y="3276720"/>
                <a:ext cx="9442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19"/>
          <p:cNvSpPr/>
          <p:nvPr/>
        </p:nvSpPr>
        <p:spPr>
          <a:xfrm>
            <a:off x="5105520" y="28954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708120" y="3573360"/>
            <a:ext cx="27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вет: 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Arc 21"/>
          <p:cNvSpPr/>
          <p:nvPr/>
        </p:nvSpPr>
        <p:spPr>
          <a:xfrm rot="5233800">
            <a:off x="5576040" y="2500920"/>
            <a:ext cx="1523880" cy="1246320"/>
          </a:xfrm>
          <a:prstGeom prst="pie">
            <a:avLst/>
          </a:prstGeom>
          <a:noFill/>
          <a:ln w="572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*14. Прогресс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80880" y="914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геометрической прогрессии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3"/>
              <p:cNvSpPr txBox="1"/>
              <p:nvPr/>
            </p:nvSpPr>
            <p:spPr>
              <a:xfrm>
                <a:off x="5257800" y="838080"/>
                <a:ext cx="17524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42"/>
              <p:cNvSpPr txBox="1"/>
              <p:nvPr/>
            </p:nvSpPr>
            <p:spPr>
              <a:xfrm>
                <a:off x="533520" y="3200400"/>
                <a:ext cx="8001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Rectangle 44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45"/>
          <p:cNvSpPr/>
          <p:nvPr/>
        </p:nvSpPr>
        <p:spPr>
          <a:xfrm>
            <a:off x="1800" y="337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47"/>
          <p:cNvSpPr/>
          <p:nvPr/>
        </p:nvSpPr>
        <p:spPr>
          <a:xfrm>
            <a:off x="457200" y="1523880"/>
            <a:ext cx="73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каком случае при сравнении членов этой прогрессии знак неравенства поставлен неверно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49"/>
          <p:cNvSpPr/>
          <p:nvPr/>
        </p:nvSpPr>
        <p:spPr>
          <a:xfrm>
            <a:off x="2514600" y="3124080"/>
            <a:ext cx="533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5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0"/>
              <p:cNvSpPr txBox="1"/>
              <p:nvPr/>
            </p:nvSpPr>
            <p:spPr>
              <a:xfrm>
                <a:off x="838080" y="4419720"/>
                <a:ext cx="72392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15. Квадратичная функ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343400" y="990720"/>
          <a:ext cx="3352680" cy="362736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59080"/>
                <a:gridCol w="558720"/>
                <a:gridCol w="55872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Line 424"/>
          <p:cNvSpPr/>
          <p:nvPr/>
        </p:nvSpPr>
        <p:spPr>
          <a:xfrm>
            <a:off x="4343400" y="3048120"/>
            <a:ext cx="327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425"/>
          <p:cNvSpPr/>
          <p:nvPr/>
        </p:nvSpPr>
        <p:spPr>
          <a:xfrm flipV="1">
            <a:off x="6019920" y="990720"/>
            <a:ext cx="0" cy="3581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426"/>
          <p:cNvSpPr/>
          <p:nvPr/>
        </p:nvSpPr>
        <p:spPr>
          <a:xfrm>
            <a:off x="601992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Arc 435"/>
          <p:cNvSpPr/>
          <p:nvPr/>
        </p:nvSpPr>
        <p:spPr>
          <a:xfrm rot="16200000">
            <a:off x="3885840" y="2590200"/>
            <a:ext cx="2667240" cy="1447920"/>
          </a:xfrm>
          <a:prstGeom prst="pie">
            <a:avLst/>
          </a:prstGeom>
          <a:noFill/>
          <a:ln w="572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437"/>
          <p:cNvSpPr/>
          <p:nvPr/>
        </p:nvSpPr>
        <p:spPr>
          <a:xfrm>
            <a:off x="5409000" y="29718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438"/>
          <p:cNvSpPr/>
          <p:nvPr/>
        </p:nvSpPr>
        <p:spPr>
          <a:xfrm>
            <a:off x="4588920" y="30481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439"/>
          <p:cNvSpPr/>
          <p:nvPr/>
        </p:nvSpPr>
        <p:spPr>
          <a:xfrm>
            <a:off x="610200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440"/>
          <p:cNvSpPr/>
          <p:nvPr/>
        </p:nvSpPr>
        <p:spPr>
          <a:xfrm>
            <a:off x="6178320" y="1828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441"/>
          <p:cNvSpPr/>
          <p:nvPr/>
        </p:nvSpPr>
        <p:spPr>
          <a:xfrm>
            <a:off x="7324200" y="31240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442"/>
          <p:cNvSpPr/>
          <p:nvPr/>
        </p:nvSpPr>
        <p:spPr>
          <a:xfrm>
            <a:off x="5641200" y="990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443"/>
          <p:cNvSpPr/>
          <p:nvPr/>
        </p:nvSpPr>
        <p:spPr>
          <a:xfrm>
            <a:off x="4572000" y="2971800"/>
            <a:ext cx="15228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AutoShape 444"/>
          <p:cNvSpPr/>
          <p:nvPr/>
        </p:nvSpPr>
        <p:spPr>
          <a:xfrm>
            <a:off x="5105520" y="1981080"/>
            <a:ext cx="15228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445"/>
          <p:cNvSpPr/>
          <p:nvPr/>
        </p:nvSpPr>
        <p:spPr>
          <a:xfrm>
            <a:off x="5715000" y="2971800"/>
            <a:ext cx="15228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446"/>
          <p:cNvSpPr/>
          <p:nvPr/>
        </p:nvSpPr>
        <p:spPr>
          <a:xfrm>
            <a:off x="517680" y="9604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афик какой квадратичной функции изображен на рисун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47"/>
              <p:cNvSpPr txBox="1"/>
              <p:nvPr/>
            </p:nvSpPr>
            <p:spPr>
              <a:xfrm>
                <a:off x="654120" y="2743200"/>
                <a:ext cx="2730600" cy="23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9" name="Oval 449"/>
          <p:cNvSpPr/>
          <p:nvPr/>
        </p:nvSpPr>
        <p:spPr>
          <a:xfrm>
            <a:off x="609480" y="3352680"/>
            <a:ext cx="4572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327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16. График реальной зависим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038480" y="990720"/>
          <a:ext cx="4038840" cy="4663800"/>
        </p:xfrm>
        <a:graphic>
          <a:graphicData uri="http://schemas.openxmlformats.org/drawingml/2006/table">
            <a:tbl>
              <a:tblPr/>
              <a:tblGrid>
                <a:gridCol w="505080"/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Line 184"/>
          <p:cNvSpPr/>
          <p:nvPr/>
        </p:nvSpPr>
        <p:spPr>
          <a:xfrm flipV="1">
            <a:off x="4038480" y="1066680"/>
            <a:ext cx="0" cy="4572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185"/>
          <p:cNvSpPr/>
          <p:nvPr/>
        </p:nvSpPr>
        <p:spPr>
          <a:xfrm>
            <a:off x="4038480" y="5638680"/>
            <a:ext cx="39625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86"/>
          <p:cNvSpPr/>
          <p:nvPr/>
        </p:nvSpPr>
        <p:spPr>
          <a:xfrm>
            <a:off x="4114800" y="575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      4     6      8     10    12    </a:t>
            </a: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меся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87"/>
          <p:cNvSpPr/>
          <p:nvPr/>
        </p:nvSpPr>
        <p:spPr>
          <a:xfrm>
            <a:off x="2209680" y="879480"/>
            <a:ext cx="167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Число телефонов, тыс.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190"/>
          <p:cNvSpPr/>
          <p:nvPr/>
        </p:nvSpPr>
        <p:spPr>
          <a:xfrm flipV="1">
            <a:off x="4038480" y="5334120"/>
            <a:ext cx="533520" cy="30456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191"/>
          <p:cNvSpPr/>
          <p:nvPr/>
        </p:nvSpPr>
        <p:spPr>
          <a:xfrm flipV="1">
            <a:off x="4572000" y="5105160"/>
            <a:ext cx="457200" cy="2286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192"/>
          <p:cNvSpPr/>
          <p:nvPr/>
        </p:nvSpPr>
        <p:spPr>
          <a:xfrm flipV="1">
            <a:off x="5029200" y="4572000"/>
            <a:ext cx="533520" cy="5335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93"/>
          <p:cNvSpPr/>
          <p:nvPr/>
        </p:nvSpPr>
        <p:spPr>
          <a:xfrm flipV="1">
            <a:off x="5562720" y="4114800"/>
            <a:ext cx="228600" cy="4572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4"/>
          <p:cNvSpPr/>
          <p:nvPr/>
        </p:nvSpPr>
        <p:spPr>
          <a:xfrm flipV="1">
            <a:off x="5791320" y="3809520"/>
            <a:ext cx="228600" cy="3049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195"/>
          <p:cNvSpPr/>
          <p:nvPr/>
        </p:nvSpPr>
        <p:spPr>
          <a:xfrm flipV="1">
            <a:off x="6019920" y="3580920"/>
            <a:ext cx="533160" cy="2286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196"/>
          <p:cNvSpPr/>
          <p:nvPr/>
        </p:nvSpPr>
        <p:spPr>
          <a:xfrm flipV="1">
            <a:off x="6553080" y="3276720"/>
            <a:ext cx="533520" cy="30456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197"/>
          <p:cNvSpPr/>
          <p:nvPr/>
        </p:nvSpPr>
        <p:spPr>
          <a:xfrm flipV="1">
            <a:off x="4038480" y="5105160"/>
            <a:ext cx="533520" cy="533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198"/>
          <p:cNvSpPr/>
          <p:nvPr/>
        </p:nvSpPr>
        <p:spPr>
          <a:xfrm flipV="1">
            <a:off x="4572000" y="4572000"/>
            <a:ext cx="990720" cy="533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199"/>
          <p:cNvSpPr/>
          <p:nvPr/>
        </p:nvSpPr>
        <p:spPr>
          <a:xfrm flipV="1">
            <a:off x="5562720" y="4343040"/>
            <a:ext cx="45720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00"/>
          <p:cNvSpPr/>
          <p:nvPr/>
        </p:nvSpPr>
        <p:spPr>
          <a:xfrm flipV="1">
            <a:off x="6019920" y="4114440"/>
            <a:ext cx="30456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201"/>
          <p:cNvSpPr/>
          <p:nvPr/>
        </p:nvSpPr>
        <p:spPr>
          <a:xfrm flipV="1">
            <a:off x="6324480" y="3581280"/>
            <a:ext cx="228600" cy="533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202"/>
          <p:cNvSpPr/>
          <p:nvPr/>
        </p:nvSpPr>
        <p:spPr>
          <a:xfrm flipV="1">
            <a:off x="6553080" y="3047760"/>
            <a:ext cx="533520" cy="533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203"/>
          <p:cNvSpPr/>
          <p:nvPr/>
        </p:nvSpPr>
        <p:spPr>
          <a:xfrm>
            <a:off x="228600" y="1752480"/>
            <a:ext cx="2895480" cy="3143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рма начала продавать две новые модели телефонов –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В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графиках показан ход продаж. Сколько всего телефонов двух моделей было продано за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сяцев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204"/>
          <p:cNvSpPr/>
          <p:nvPr/>
        </p:nvSpPr>
        <p:spPr>
          <a:xfrm>
            <a:off x="1736640" y="60660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205"/>
          <p:cNvSpPr/>
          <p:nvPr/>
        </p:nvSpPr>
        <p:spPr>
          <a:xfrm>
            <a:off x="28954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600 ты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68709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1. Сравниваем числ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685800" y="3429000"/>
                <a:ext cx="622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7"/>
              <p:cNvSpPr txBox="1"/>
              <p:nvPr/>
            </p:nvSpPr>
            <p:spPr>
              <a:xfrm>
                <a:off x="1981080" y="3429000"/>
                <a:ext cx="6271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9"/>
              <p:cNvSpPr txBox="1"/>
              <p:nvPr/>
            </p:nvSpPr>
            <p:spPr>
              <a:xfrm>
                <a:off x="3505320" y="365760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 Box 4"/>
          <p:cNvSpPr/>
          <p:nvPr/>
        </p:nvSpPr>
        <p:spPr>
          <a:xfrm>
            <a:off x="380880" y="1219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кажите наибольшее из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5486400" y="1066680"/>
                <a:ext cx="22096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,5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1"/>
              <p:cNvSpPr txBox="1"/>
              <p:nvPr/>
            </p:nvSpPr>
            <p:spPr>
              <a:xfrm>
                <a:off x="5410080" y="3657600"/>
                <a:ext cx="1219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Oval 23"/>
          <p:cNvSpPr/>
          <p:nvPr/>
        </p:nvSpPr>
        <p:spPr>
          <a:xfrm>
            <a:off x="1905120" y="3581280"/>
            <a:ext cx="4572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2. Чудо квадратного корн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57200" y="1066680"/>
            <a:ext cx="6629400" cy="119124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аждое из чисел соотнесите с соответствующей точкой координатной прям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3124080" y="2514600"/>
                <a:ext cx="774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5"/>
              <p:cNvSpPr txBox="1"/>
              <p:nvPr/>
            </p:nvSpPr>
            <p:spPr>
              <a:xfrm>
                <a:off x="1066680" y="2514600"/>
                <a:ext cx="684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4"/>
              <p:cNvSpPr txBox="1"/>
              <p:nvPr/>
            </p:nvSpPr>
            <p:spPr>
              <a:xfrm>
                <a:off x="5257800" y="2514600"/>
                <a:ext cx="8413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17"/>
          <p:cNvSpPr/>
          <p:nvPr/>
        </p:nvSpPr>
        <p:spPr>
          <a:xfrm>
            <a:off x="180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28"/>
          <p:cNvSpPr/>
          <p:nvPr/>
        </p:nvSpPr>
        <p:spPr>
          <a:xfrm>
            <a:off x="533520" y="3962520"/>
            <a:ext cx="7848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1371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24382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31"/>
          <p:cNvSpPr/>
          <p:nvPr/>
        </p:nvSpPr>
        <p:spPr>
          <a:xfrm>
            <a:off x="3657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32"/>
          <p:cNvSpPr/>
          <p:nvPr/>
        </p:nvSpPr>
        <p:spPr>
          <a:xfrm>
            <a:off x="48769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61722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122508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2292120" y="4267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351108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7"/>
          <p:cNvSpPr/>
          <p:nvPr/>
        </p:nvSpPr>
        <p:spPr>
          <a:xfrm>
            <a:off x="473040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38"/>
          <p:cNvSpPr/>
          <p:nvPr/>
        </p:nvSpPr>
        <p:spPr>
          <a:xfrm>
            <a:off x="602568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39"/>
          <p:cNvSpPr/>
          <p:nvPr/>
        </p:nvSpPr>
        <p:spPr>
          <a:xfrm>
            <a:off x="2209680" y="3886200"/>
            <a:ext cx="15264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41"/>
          <p:cNvSpPr/>
          <p:nvPr/>
        </p:nvSpPr>
        <p:spPr>
          <a:xfrm>
            <a:off x="5105520" y="3886200"/>
            <a:ext cx="15228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42"/>
          <p:cNvSpPr/>
          <p:nvPr/>
        </p:nvSpPr>
        <p:spPr>
          <a:xfrm>
            <a:off x="4495680" y="3886200"/>
            <a:ext cx="15264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43"/>
          <p:cNvSpPr/>
          <p:nvPr/>
        </p:nvSpPr>
        <p:spPr>
          <a:xfrm>
            <a:off x="3352680" y="3886200"/>
            <a:ext cx="15264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44"/>
          <p:cNvSpPr/>
          <p:nvPr/>
        </p:nvSpPr>
        <p:spPr>
          <a:xfrm>
            <a:off x="1600200" y="3048120"/>
            <a:ext cx="3429000" cy="761760"/>
          </a:xfrm>
          <a:prstGeom prst="line">
            <a:avLst/>
          </a:prstGeom>
          <a:ln w="284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45"/>
          <p:cNvSpPr/>
          <p:nvPr/>
        </p:nvSpPr>
        <p:spPr>
          <a:xfrm flipH="1">
            <a:off x="3429000" y="3048120"/>
            <a:ext cx="76320" cy="761760"/>
          </a:xfrm>
          <a:prstGeom prst="line">
            <a:avLst/>
          </a:prstGeom>
          <a:ln w="28440">
            <a:solidFill>
              <a:srgbClr val="ffb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2286000" y="3200400"/>
            <a:ext cx="3200400" cy="685800"/>
          </a:xfrm>
          <a:prstGeom prst="line">
            <a:avLst/>
          </a:prstGeom>
          <a:ln w="2844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3.Проц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09480" y="990720"/>
            <a:ext cx="71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*В двух библиотеках книг было одинаковое количество. Через год в первой библиотеке число книг увеличилось на 5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а во второй – в 1,5 раза. В какой библиотеке книг стало больш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457200" y="3429000"/>
            <a:ext cx="53352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33520" y="2895480"/>
            <a:ext cx="7543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 первой библиотеке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ниг осталось поровну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о второй библиотеке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ответа не хватает данны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4. Вычисление значения выра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2368440" y="2508120"/>
                <a:ext cx="406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0"/>
              <p:cNvSpPr txBox="1"/>
              <p:nvPr/>
            </p:nvSpPr>
            <p:spPr>
              <a:xfrm>
                <a:off x="6292800" y="2508120"/>
                <a:ext cx="406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Rectangle 5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447920" y="1752480"/>
                <a:ext cx="550548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ражения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8,4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2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Text Box 6"/>
          <p:cNvSpPr/>
          <p:nvPr/>
        </p:nvSpPr>
        <p:spPr>
          <a:xfrm>
            <a:off x="1981080" y="525780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457200" y="3809880"/>
                <a:ext cx="48434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,4</m:t>
                        </m:r>
                        <m:r>
                          <m:t xml:space="preserve">+</m:t>
                        </m:r>
                        <m:r>
                          <m:t xml:space="preserve">1,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,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Text Box 10"/>
          <p:cNvSpPr/>
          <p:nvPr/>
        </p:nvSpPr>
        <p:spPr>
          <a:xfrm>
            <a:off x="3380760" y="32004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1528920" y="6019920"/>
            <a:ext cx="29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Если ошиблись</a:t>
            </a:r>
            <a:r>
              <a:rPr b="0" lang="ru-RU" sz="2800" spc="-1" strike="noStrike">
                <a:solidFill>
                  <a:srgbClr val="9966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4495680" y="60199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5715000" y="5791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- 2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6019920" y="571500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4"/>
              <p:cNvSpPr txBox="1"/>
              <p:nvPr/>
            </p:nvSpPr>
            <p:spPr>
              <a:xfrm>
                <a:off x="5486400" y="3819600"/>
                <a:ext cx="9907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6"/>
              <p:cNvSpPr txBox="1"/>
              <p:nvPr/>
            </p:nvSpPr>
            <p:spPr>
              <a:xfrm>
                <a:off x="7315200" y="5595840"/>
                <a:ext cx="685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7"/>
              <p:cNvSpPr txBox="1"/>
              <p:nvPr/>
            </p:nvSpPr>
            <p:spPr>
              <a:xfrm>
                <a:off x="3581280" y="4954680"/>
                <a:ext cx="6858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5. Буквенное выраж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33520" y="990720"/>
            <a:ext cx="66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на килограмма бананов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блей. Сколько рублей надо заплатить з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8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аммов банан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003320" y="2666880"/>
                <a:ext cx="62215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0,8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Oval 7"/>
          <p:cNvSpPr/>
          <p:nvPr/>
        </p:nvSpPr>
        <p:spPr>
          <a:xfrm>
            <a:off x="4114800" y="2819520"/>
            <a:ext cx="4572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6.Тождественные преобразования выраж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205000" y="3200400"/>
                <a:ext cx="40482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7" name="Text Box 6"/>
          <p:cNvSpPr/>
          <p:nvPr/>
        </p:nvSpPr>
        <p:spPr>
          <a:xfrm>
            <a:off x="517680" y="2027160"/>
            <a:ext cx="71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каком случае выражение преобразовано в тождественно равно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2209680" y="3886200"/>
            <a:ext cx="457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7. Любимые алгебраические дроб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38080" y="213372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остить выраж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80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1"/>
              <p:cNvSpPr txBox="1"/>
              <p:nvPr/>
            </p:nvSpPr>
            <p:spPr>
              <a:xfrm>
                <a:off x="4648320" y="1828800"/>
                <a:ext cx="26668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у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0"/>
              <p:cNvSpPr txBox="1"/>
              <p:nvPr/>
            </p:nvSpPr>
            <p:spPr>
              <a:xfrm>
                <a:off x="1676520" y="3886200"/>
                <a:ext cx="5181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</m:den>
                    </m:f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</m:den>
                    </m:f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12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0" y="34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14"/>
          <p:cNvSpPr/>
          <p:nvPr/>
        </p:nvSpPr>
        <p:spPr>
          <a:xfrm>
            <a:off x="4495680" y="4038480"/>
            <a:ext cx="457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8. Степень с целым показателем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57200" y="1219320"/>
            <a:ext cx="7086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стейшие паразиты имеют длину от 1 см до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ru-RU" sz="2400" spc="-1" strike="noStrike" baseline="60000">
                <a:solidFill>
                  <a:srgbClr val="000000"/>
                </a:solidFill>
                <a:latin typeface="Comic Sans MS"/>
              </a:rPr>
              <a:t>-4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м. Выразите последнюю величину в м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533520" y="30481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 запишите в виде десятичной дроб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5800" y="38098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133720" y="5181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669960" y="438948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А если ошиблис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01992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0,002 м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2362320" y="3809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0,002 м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88620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0,0002 м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3962160" y="480060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лое Василёво</cp:lastModifiedBy>
  <dcterms:modified xsi:type="dcterms:W3CDTF">2013-11-22T09:08:54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