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46B00-7A03-43A3-AC9C-189BD9C84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3E489-FCD3-4394-8FFF-FC0D569A4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2910B-5079-4DA1-8943-E706802DA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6EB2C-3751-41DF-951F-2CD434518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83ABA-778B-444A-AE71-DCC43D99D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18580-2EB5-47FD-82B5-2715245A1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F3627-0ADE-4585-BA5F-FAB51195D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9AD48-9A9A-42CE-AC5B-00715CAA2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91D56-2D5A-4AC5-952E-D505FDB24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A7E8B-CC2A-45C4-BF08-B79690EF0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98637-0E63-47F1-A61F-DD2F67290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35580-B12F-4FFC-9C56-E66665BEE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113CB-39DE-478B-8F3D-B2BF520BA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B663-CAB8-4B94-869E-3A6503B1A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E7533-9EE5-4CE9-9544-4FD25902C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AD450-A423-4A02-8A48-24510979E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A0A4E-E047-4AAC-8781-58715ABC4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61C17-94F1-473A-8D2F-527ADF58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1472-75CF-4D20-AEBB-25A320EEF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69A2E-2B32-44B2-B332-0FDC0681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48A51-A0A8-467B-B716-E8BBD02D5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335F-DD76-4C24-9605-C1738985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F59F-1F0E-4E88-8FD2-A0C14C88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9B0C-9D50-4D13-A6E4-6AC6F8F25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9091-4670-49D7-97EF-D9BECE4B66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F94A-7280-4CCA-957F-7C64492934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b7"/>
                </a:solidFill>
                <a:latin typeface="Arial Black"/>
              </a:rPr>
              <a:t>Игры Чувашии</a:t>
            </a:r>
            <a:endParaRPr b="1" lang="en-US" sz="9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4960" y="244440"/>
            <a:ext cx="8307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Икс (Йокс)</a:t>
            </a:r>
            <a:br>
              <a:rPr sz="4000"/>
            </a:br>
            <a:endParaRPr b="1" lang="en-US" sz="4000" spc="-1" strike="noStrike">
              <a:solidFill>
                <a:srgbClr val="ffffb7"/>
              </a:solidFill>
              <a:latin typeface="Arial Black"/>
            </a:endParaRPr>
          </a:p>
        </p:txBody>
      </p:sp>
      <p:sp>
        <p:nvSpPr>
          <p:cNvPr id="116"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ногочисленные разновидности известной игры «Чижик» широко распространены в Чувашии. Одной из таких разновидностей и является игра «Икс». В нее обычно играют летом на большой ровной площадке. Играют чаще вдвоем, но иногда втроем, впятером. Для игры нужен «йокс» - деревянная палочка длиной приблизительно 15-20 см, четырехгранная заостренная с двух концов, на каждой стороне ее - цифры-зарубки - I, II, III и на последней - X (рис. 1). Для подбивания йокса нужна палка длиной 30-50 см. </a:t>
            </a:r>
            <a:r>
              <a:rPr b="1" lang="ru-RU" sz="1600" spc="-1" strike="noStrike">
                <a:solidFill>
                  <a:srgbClr val="ffffff"/>
                </a:solidFill>
                <a:latin typeface="Arial"/>
              </a:rPr>
              <a:t>Описание</a:t>
            </a:r>
            <a:r>
              <a:rPr b="0" lang="ru-RU" sz="1600" spc="-1" strike="noStrike">
                <a:solidFill>
                  <a:srgbClr val="ffffff"/>
                </a:solidFill>
                <a:latin typeface="Arial"/>
              </a:rPr>
              <a:t>. На земле чертят квадрат примерно 30х30 см, в центре которого кладут йокс. Первый игрок ударяет палкой по заостренному концу йокса, а вторым ударом - взлетевший йокс, отбивая его как можно дальше. Второй игрок бежит к йоксу, смотрит, какой цифрой вверх он лежит, и сообщает об этом всем. Такое количество очков и начисляется первому игроку. Второй игрок берет йокс и бросает в сторону квадрата, стараясь попасть в него. Если второй игрок не попал в квадрат, опять смотрят, какой стороной йокс упал. Очки, соответствующие цифре на этой стороне йокса, прибавляются первому игроку, к тому же он имеет право бить по йоксу там, куда он упал после броска второго. Первый игрок может отбивать йокс от квадрата на лету. Если йокс попадет в квадрат, то у бьющего «сгорают» все очки и бить будет второй играющий, а ловить - следующий по очеред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авил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сли йокс после удара первого игрока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упал стороной Х, то право бить сраз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ереходит ко второму игроку, а первом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чков не начисляется.</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беждает тот, кто раньше наберет</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словленное количество очков.</a:t>
            </a:r>
            <a:endParaRPr b="0" lang="en-US" sz="16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 descr="Рис. 1 Икс"/>
          <p:cNvPicPr/>
          <p:nvPr/>
        </p:nvPicPr>
        <p:blipFill>
          <a:blip r:embed="rId1"/>
          <a:stretch/>
        </p:blipFill>
        <p:spPr>
          <a:xfrm>
            <a:off x="4572000" y="3932280"/>
            <a:ext cx="434340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Летучая мышь (Шашилле серей)</a:t>
            </a:r>
            <a:endParaRPr b="1" lang="en-US" sz="4400" spc="-1" strike="noStrike">
              <a:solidFill>
                <a:srgbClr val="ffffb7"/>
              </a:solidFill>
              <a:latin typeface="Arial Black"/>
            </a:endParaRPr>
          </a:p>
        </p:txBody>
      </p:sp>
      <p:sp>
        <p:nvSpPr>
          <p:cNvPr id="119"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которые пожилые люди хорошо помнят, как играли в деревнях Чувашии в тридцатые-пятидесятые годы в «Летучую мышь», а молодежь ее уже не знает. Подростки и юноши - 10-20 человек - играли обычно в теплое время года в поле или на большой открытой площадке. Для игры нужно изготовить «летучую мышь» - сбить или связать накрест две тонкие планочки или щепочки (15-20х1,5-2 см). Желательно, чтобы они были слегка изогнуты - как пропеллер. Получается вертушка - «летучая мышь» (рис. 3).</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писание</a:t>
            </a:r>
            <a:r>
              <a:rPr b="0" lang="en-US" sz="1600" spc="-1" strike="noStrike">
                <a:solidFill>
                  <a:srgbClr val="ffffff"/>
                </a:solidFill>
                <a:latin typeface="Arial"/>
              </a:rPr>
              <a:t>. Игроки делятся на две команды по 5-10 человек в каждой и выбирают капитанов. Те становятся в центре большой площадки, остальные игроки - произвольно. По жребию один из капитанов первым бросает «летучую мышь» высоко вверх и в сторону (в любую). Все игроки, кроме капитанов, стараются поймать «летучую мышь» в воздухе или на земле. Поймавший приносит «летучую мышь» капитану своей команды, который получает право бросить ее. Если предыдущий бросок делал капитан этой же команды, то ей начисляют очко. Играют до заранее условленного количества очков.</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равил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льзя отнимать «летучую мышь» 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игрока, который поймал ее, опередив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других.</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Если игроки противоположных команд</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дновременно схватились за упавшую</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летучую мышь», то этот результат ником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е засчитывается, а производится повторно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подкидывание.</a:t>
            </a:r>
            <a:endParaRPr b="0" lang="en-US" sz="1600" spc="-1" strike="noStrike">
              <a:solidFill>
                <a:srgbClr val="ffffff"/>
              </a:solidFill>
              <a:latin typeface="Arial"/>
            </a:endParaRPr>
          </a:p>
        </p:txBody>
      </p:sp>
      <p:pic>
        <p:nvPicPr>
          <p:cNvPr id="120" name="" descr="Рис. 3 Летучая мышь"/>
          <p:cNvPicPr/>
          <p:nvPr/>
        </p:nvPicPr>
        <p:blipFill>
          <a:blip r:embed="rId1"/>
          <a:stretch/>
        </p:blipFill>
        <p:spPr>
          <a:xfrm>
            <a:off x="4381560" y="4343400"/>
            <a:ext cx="476244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99" name="" descr=""/>
          <p:cNvPicPr/>
          <p:nvPr/>
        </p:nvPicPr>
        <p:blipFill>
          <a:blip r:embed="rId1"/>
          <a:stretch/>
        </p:blipFill>
        <p:spPr>
          <a:xfrm>
            <a:off x="1905120" y="0"/>
            <a:ext cx="534672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Михаил Васильевич Игнатьев</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File:Flag of Chuvashia.svg"/>
          <p:cNvPicPr/>
          <p:nvPr/>
        </p:nvPicPr>
        <p:blipFill>
          <a:blip r:embed="rId1"/>
          <a:stretch/>
        </p:blipFill>
        <p:spPr>
          <a:xfrm>
            <a:off x="0" y="1600200"/>
            <a:ext cx="4572000" cy="2857680"/>
          </a:xfrm>
          <a:prstGeom prst="rect">
            <a:avLst/>
          </a:prstGeom>
          <a:ln w="0">
            <a:noFill/>
          </a:ln>
        </p:spPr>
      </p:pic>
      <p:pic>
        <p:nvPicPr>
          <p:cNvPr id="103" name="" descr="File:Coat of Arms of Chuvashia.svg"/>
          <p:cNvPicPr/>
          <p:nvPr/>
        </p:nvPicPr>
        <p:blipFill>
          <a:blip r:embed="rId2"/>
          <a:stretch/>
        </p:blipFill>
        <p:spPr>
          <a:xfrm>
            <a:off x="5105520" y="2666880"/>
            <a:ext cx="366552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ffb7"/>
                </a:solidFill>
                <a:latin typeface="Arial Black"/>
              </a:rPr>
              <a:t>В цветы (Чечекле)</a:t>
            </a:r>
            <a:br>
              <a:rPr sz="4000"/>
            </a:br>
            <a:endParaRPr b="1" lang="en-US" sz="4000" spc="-1" strike="noStrike">
              <a:solidFill>
                <a:srgbClr val="ffffb7"/>
              </a:solidFill>
              <a:latin typeface="Arial Black"/>
            </a:endParaRPr>
          </a:p>
        </p:txBody>
      </p:sp>
      <p:sp>
        <p:nvSpPr>
          <p:cNvPr id="10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эту игру чувашские дети и подростки играли еще в начале века. Играют в нее и сейчас, обычно летом на небольшой ровной площадке или в зале. Участвует в ней 15 и более человек (нечетное количеств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писание</a:t>
            </a:r>
            <a:r>
              <a:rPr b="0" lang="ru-RU" sz="2000" spc="-1" strike="noStrike">
                <a:solidFill>
                  <a:srgbClr val="ffffff"/>
                </a:solidFill>
                <a:latin typeface="Arial"/>
              </a:rPr>
              <a:t>. Половина играющих сидит на корточках по кругу. За спиной каждого стоит игрок. Водящий ходит за кругом и спрашивает у одного из стоящих игроков: «Сколько у тебя цветов?» Тот называет число. Какое число названо, столько раз оба они обегают круг, но бегут при этом в разные стороны. Тот, кто быстрее вернется на прежнее место, касается сидящего игрока и встает позади него, а опоздавший становится водящ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ави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ва игрока начинают бег по кругу одновременно. Остальные играющие не должны их задерживат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 максимальном количестве кругов договариваются заранее. Стоящие в кругу могут хором считать, сколько кругов пробежали игро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дящие на корточках могут (по договоренности) меняться местами со стоящим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ариант</a:t>
            </a:r>
            <a:r>
              <a:rPr b="0" lang="ru-RU" sz="2000" spc="-1" strike="noStrike">
                <a:solidFill>
                  <a:srgbClr val="ffffff"/>
                </a:solidFill>
                <a:latin typeface="Arial"/>
              </a:rPr>
              <a:t>. Издавна живет в Чувашии игра «В стульчики» («Пуканла»). Игроки не ведут диалога, а, хлопнув друг друга по ладоням, пробегают один круг, стремясь занять освободившееся мест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Выйдем, девушки, играть (Херсем, вайа Тухар-и)</a:t>
            </a:r>
            <a:br>
              <a:rPr sz="4000"/>
            </a:br>
            <a:endParaRPr b="1" lang="en-US" sz="4000" spc="-1" strike="noStrike">
              <a:solidFill>
                <a:srgbClr val="ffffb7"/>
              </a:solidFill>
              <a:latin typeface="Arial Black"/>
            </a:endParaRPr>
          </a:p>
        </p:txBody>
      </p:sp>
      <p:sp>
        <p:nvSpPr>
          <p:cNvPr id="107"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елах и деревнях Чувашии играли в эту игру в тридцатые-пятидесятые годы. Играли обычно юноши и девушки, собравшись в летнее время года на деревенских улицах или на полянах. Количество участников - 10-20 человек и боле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писание</a:t>
            </a:r>
            <a:r>
              <a:rPr b="0" lang="ru-RU" sz="2000" spc="-1" strike="noStrike">
                <a:solidFill>
                  <a:srgbClr val="ffffff"/>
                </a:solidFill>
                <a:latin typeface="Arial"/>
              </a:rPr>
              <a:t>. Играющие идут по кругу, взявшись за руки, под слова одной из своих любимых песен. Водящий стоит в центре круга. Неожиданно он кричит: «Расходитесь!» («Сирелер!») - и бросается салить кого-нибудь из разбегающихся игроков. Но сделать он может лишь такое количество шагов, о котором договорились (учитывается величина круга) - обычно 3-5 шагов. Осаленный - новый водящ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ави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ужно следить, чтобы водящий салил только после слова «расходитесь», а не выкрикивал его уже на ходу.</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одящий сделал больше шагов, чем условлено, то осаливание не засчитывается.</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олк или заяц? (Кашкар е мулкач?)</a:t>
            </a:r>
            <a:endParaRPr b="1" lang="en-US" sz="3200" spc="-1" strike="noStrike">
              <a:solidFill>
                <a:srgbClr val="ffffb7"/>
              </a:solidFill>
              <a:latin typeface="Arial Black"/>
            </a:endParaRPr>
          </a:p>
        </p:txBody>
      </p:sp>
      <p:sp>
        <p:nvSpPr>
          <p:cNvPr id="10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грают обычно в летнее время на открытой площадке или в зале размером 20х30 м. Как правило, в игре участвуют и мальчики, и девочки 8-14 лет, 10-12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Описание</a:t>
            </a:r>
            <a:r>
              <a:rPr b="0" lang="en-US" sz="1800" spc="-1" strike="noStrike">
                <a:solidFill>
                  <a:srgbClr val="ffffff"/>
                </a:solidFill>
                <a:latin typeface="Arial"/>
              </a:rPr>
              <a:t>. Играющие образуют круг, став лицом к центру. Выбранный водящий ходит за кругом, быстро говоря слова: «Огонь горит, самовар кипит, так, так, так и надо. Дед, чем ты занят?» После этих слов дотрагивается до плеча игрока, позади которого оказался. Тот закрывает глаза ладонями. Так повторяется, пока не окажутся закрытыми глаза у всех. Теперь водящий ходит уже с другими словами: «Волк или заяц? Волк или заяц?» При этом трогает любого игрока за плечо и заглядывает ему в лицо. А игрок отнимает от лица руки. Если выражение у него на лице «грозное», «хищное», водящий молча отправляет игрока в одну сторону круга, где будут стоять «волки». Другим предлагает идти на противоположную сторону. Они становятся «зайцами». Как только последний игрок займет свое место на одной из сторон, «волки» бросаются ловить «зайцев» по всей площадке, о границах которой договариваются заранее. Побеждает «заяц», пойманный последним. Он и начинает игр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авил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ельзя подглядыва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гроки, которые уже распределены, стоят молча, чтобы остальные не знали, сколько «волков» и «зайцев».</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яц» считается пойманным, если «волк» дотронулся до него руко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2720" y="244440"/>
            <a:ext cx="82296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Шарманка (Шарманка)</a:t>
            </a:r>
            <a:br>
              <a:rPr sz="4000"/>
            </a:br>
            <a:endParaRPr b="1" lang="en-US" sz="4000" spc="-1" strike="noStrike">
              <a:solidFill>
                <a:srgbClr val="ffffb7"/>
              </a:solidFill>
              <a:latin typeface="Arial Black"/>
            </a:endParaRPr>
          </a:p>
        </p:txBody>
      </p:sp>
      <p:sp>
        <p:nvSpPr>
          <p:cNvPr id="11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Эта своеобразная игра распространена сейчас в большинстве районов республики в самых разных вариантах. Играют на асфальтированной или хорошо утоптанной площадке размером 4X10 м, разделенной поперек чертой на две равные части. Играют ребята 4-8-х классов, по 10-12 человек, обычно без специальных организаторов и судей. Для игры требуется небольшой резиновый мяч.</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писание</a:t>
            </a:r>
            <a:r>
              <a:rPr b="0" lang="en-US" sz="1600" spc="-1" strike="noStrike">
                <a:solidFill>
                  <a:srgbClr val="ffffff"/>
                </a:solidFill>
                <a:latin typeface="Arial"/>
              </a:rPr>
              <a:t>. Играющие располагаются поровну на каждой стороне площадки (рис. 2, А), установив, кто за кем бьет. После этого первый игрок команды № 1 бьет мяч рукой так, чтобы он, ударившись на своей стороне площадки, перелетел на другую половину и ударился там один раз. После этого первый игрок команды № 2 должен сразу перебить мяч на противоположную сторону (рис. 2, Б). После этого мяч отбивает уже второй игрок из команды № 1. Первый игрок, ударив мяч, перебегает на противоположную сторону площадки и ждет своей очереди отбивать Мяч (см. рис. 2, В), после чего снова переходит на другую сторону. Если он не попал мячом на противоположную площадку или допустил двойной удар на своей, то получает 1 очко (получивший 3 очка выбывает из игры). Постепенно игроков остается все меньше и меньше, а перебегать приходится все чаще и чаще. Игроки начинают крутиться, как «шарманка». Отсюда, вероятно, произошло название игры. Так играют, пока не останутся только 2 игрока, которые уже не перебегают, а просто играют до получения 3 очков (на победителя). Игра повторяется. Победитель прошлой игры имеет 1 запасное очко и выбывает из игры, получив 4 штрафных оч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равил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бегают с одной стороны площадки на другую только против часовой стрелк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дарять мяч можно всеми частями тела, но обычно делают это только рукам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чки начисляются, как в настольном теннисе.</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азновидность</a:t>
            </a:r>
            <a:r>
              <a:rPr b="0" lang="en-US" sz="1600" spc="-1" strike="noStrike">
                <a:solidFill>
                  <a:srgbClr val="ffffff"/>
                </a:solidFill>
                <a:latin typeface="Arial"/>
              </a:rPr>
              <a:t>. Играют на столе для настольного тенниса, без ракеток, небольшим резиновым мячом, который бьют руками. Счет очкам ведется по командам.</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Играют до установленного количества очко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2" name="" descr="Рис. 2 Шарманка"/>
          <p:cNvPicPr/>
          <p:nvPr/>
        </p:nvPicPr>
        <p:blipFill>
          <a:blip r:embed="rId1"/>
          <a:stretch/>
        </p:blipFill>
        <p:spPr>
          <a:xfrm>
            <a:off x="3124080" y="46080"/>
            <a:ext cx="35416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Игры с предметами</a:t>
            </a:r>
            <a:br>
              <a:rPr sz="3200"/>
            </a:br>
            <a:r>
              <a:rPr b="0" lang="ru-RU" sz="3200" spc="-1" strike="noStrike">
                <a:solidFill>
                  <a:srgbClr val="ffffb7"/>
                </a:solidFill>
                <a:latin typeface="Arial Black"/>
              </a:rPr>
              <a:t>Хищник в море (Тискер кайак тимерсе)</a:t>
            </a:r>
            <a:br>
              <a:rPr sz="3200"/>
            </a:br>
            <a:endParaRPr b="1" lang="en-US" sz="3200" spc="-1" strike="noStrike">
              <a:solidFill>
                <a:srgbClr val="ffffb7"/>
              </a:solidFill>
              <a:latin typeface="Arial Black"/>
            </a:endParaRPr>
          </a:p>
        </p:txBody>
      </p:sp>
      <p:sp>
        <p:nvSpPr>
          <p:cNvPr id="114"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i="1" lang="ru-RU" sz="1800" spc="-1" strike="noStrike">
                <a:solidFill>
                  <a:srgbClr val="ffffff"/>
                </a:solidFill>
                <a:latin typeface="Arial"/>
              </a:rPr>
              <a:t>Другое название - «Небо и земля» («Пэлеть тада щер») </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разновидность общеизвестной игры «Удочка». Играют на ровной площадке подростки и юноши, 5-15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исание</a:t>
            </a:r>
            <a:r>
              <a:rPr b="0" lang="ru-RU" sz="1800" spc="-1" strike="noStrike">
                <a:solidFill>
                  <a:srgbClr val="ffffff"/>
                </a:solidFill>
                <a:latin typeface="Arial"/>
              </a:rPr>
              <a:t>. Игроки образуют круг, в центре которого есть столбик или колышек высотой 15-20 см. Берут веревку длиной 2-3 м. На одном конце ее делают петлю и надевают на столбик или колышек. Выбранный по считалке или жребию водящий берется за свободный конец веревки и бежит по кругу так, чтобы веревка была натянута, а рука с веревкой была бы не выше бедра. Остальные игроки - «рыбки» - не должны выходить из круга, описываемого бегущим с веревкой. При приближении веревки игроки стараются перепрыгнуть через нее, не задев. Задетые веревкой «рыбки» выходят из игры. Водящий может неожиданно изменить направление своего бега, стараясь поймать (осалить) как можно больше «рыбок». Обычно играют до тех пор, пока на площадке не останется 1-3 неосаленные «рыбки», так как всех «переловить» трудно.</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авил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дящий не имеет права менять направление движения веревки, отрывая руку от туловища. Если он хочет неожиданно изменить направление движения веревки, то должен делать это изменив направление бег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льзя поднимать веревку выше бед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грающие должны перепрыгивать через веревку, а не убегать от не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9T20:18:57Z</dcterms:created>
  <dc:creator>Пользователь</dc:creator>
  <dc:description/>
  <dc:language>en-US</dc:language>
  <cp:lastModifiedBy>Пользователь</cp:lastModifiedBy>
  <dcterms:modified xsi:type="dcterms:W3CDTF">2014-01-28T17:20:4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