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3B1E-6C4C-4104-99ED-1AEC66E41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8846-9C4A-4706-A881-E68227429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58BE8-1DB6-484D-A9E3-508DABF4C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093ED-F63D-4E35-AEC9-6281CE04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038F1-F09E-4708-AD25-2B004FFCE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64CE9-9313-4478-BCF7-5A0ECFC45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759EE-DD8D-4386-A6C2-7B0496286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A08BC-E054-4ECA-9E13-35BE564D2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1BAA-955C-428B-936F-5F2FACCD8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A8044-29E0-471B-8495-197DEC805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03BED-A1BF-414A-B31E-412470A8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FE83-2F78-4334-91E7-208B6D3F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1C955-0C80-4B02-AB41-EB10EA7D4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2C736-8224-4155-93B1-D3F00DD4C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4B2AC-D5E4-4742-B732-42C5286BC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32F2D-53F2-41F2-8BC1-282EEBA7A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5E6D8-F98A-4B9B-A977-CBFA4401D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B58B-1A27-48A0-A590-796DDEF8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905F-28C6-4852-AAEE-1B00152C8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C18D-C0A0-474E-B9C7-36B9923F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CB25-010D-4844-98D5-78EC0D81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2E42B-5DCF-48A9-B88A-75131F50E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BCD0-BE6F-4C16-AFF7-314B4394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D579-181A-443F-BD7C-50D027CCB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0DC2-07D9-4C95-9BE5-CCE3BC0AF924}"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EC52-DA95-4FA8-90B7-B24FA5631728}"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Arial"/>
              </a:rPr>
              <a:t>Игры Татарии</a:t>
            </a:r>
            <a:endParaRPr b="0" lang="en-US" sz="9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Хромая лиса (Аксак телке)</a:t>
            </a:r>
            <a:br>
              <a:rPr sz="4000"/>
            </a:br>
            <a:endParaRPr b="0" lang="en-US" sz="4000" spc="-1" strike="noStrike">
              <a:solidFill>
                <a:srgbClr val="ccecff"/>
              </a:solidFill>
              <a:latin typeface="Arial"/>
            </a:endParaRPr>
          </a:p>
        </p:txBody>
      </p:sp>
      <p:sp>
        <p:nvSpPr>
          <p:cNvPr id="185"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игре участвуют в основном дети младшего школьного возраста, от 5 до 30 человек.</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Описание</a:t>
            </a:r>
            <a:r>
              <a:rPr b="0" lang="ru-RU" sz="1800" spc="-1" strike="noStrike">
                <a:solidFill>
                  <a:srgbClr val="ffffff"/>
                </a:solidFill>
                <a:latin typeface="Verdana"/>
              </a:rPr>
              <a:t>. Одного из играющих выбирают «хромой лисой», другого - «хозяином дома» по имени Бикчантай. Остальные участники - «курочки». «Хромая лиса» располагается на одной стороне площадки - за чертой, в своей «норе». На другой стороне чертится круг диаметром 5-10 м - «курятник», В нем размещаются «курочки». Сбоку от большого круга чертится круг диаметром 1-2 м - «дом хозяина». «Хромая лиса» прыгает на одной ноге от своей «норы», приближаясь к «дому хозяина». Ее встречает «хозяин дома». Между ними происходит такой диалог (во время разговора «лиса» может стоять на обеих ногах):- Лиса, лисанька хромая, куда ночью ковыляешь? - Бикчантай, сынок Мамая, меня бабка ждет родная. - А зачем к ней торопиться? - Моя шуба там за печкой. - А если шуба загорится? - Окуну я шубу в речку. - Вдруг умчит ее теченье? - Я заплачу с огорченья. - Лиса, лисанька хромая, как без шубы ты пойдешь? - Бикчантай, сынок Мамая, как пройду, тогда поймешь. После такого разговора «хозяин дома» укладывается «спать». «Лиса» же, прыгая на одной ноге, заходит в «курятник». «Куры», «проснувшись», начинают бегать в кругу в разных направлениях. «Хромая лиса» старается кого-либо осалить. Сделать это не так легко, так как «куры» убегают от нее на двух ногах, а «лиса» гонится за ними, прыгая на одной ноге. Осаленный меняется ролью с «хромой лисой». Затем все становятся на свои места и игра начинается снова.</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хромая лиса», находясь в «курятнике», нечаянно станет на обе ноги или сменит ногу (если по договоренности это запрещено), то «хозяин дома» «просыпается» и направляется в «курятник». «Хромая лиса», испугавшись, бежит к своей «норе». «Хозяин дома» старается поймать ее т. е. осалить. Если ему это удается, осаленная остается «хромой лисой», в противном случае назначают другую «лису».</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жно предварительно разрешить «лисе» прыгать то на одной, то на другой ног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В узелок (Тесычек уены)</a:t>
            </a:r>
            <a:br>
              <a:rPr sz="4000"/>
            </a:br>
            <a:endParaRPr b="0" lang="en-US" sz="4000" spc="-1" strike="noStrike">
              <a:solidFill>
                <a:srgbClr val="ccecff"/>
              </a:solidFill>
              <a:latin typeface="Arial"/>
            </a:endParaRPr>
          </a:p>
        </p:txBody>
      </p:sp>
      <p:sp>
        <p:nvSpPr>
          <p:cNvPr id="187"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 игре принимают участие дети младшего и среднего возраста, 20-30 человек. Для нее нужен платок, завязанный узлом.</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Описание</a:t>
            </a:r>
            <a:r>
              <a:rPr b="0" lang="en-US" sz="2000" spc="-1" strike="noStrike">
                <a:solidFill>
                  <a:srgbClr val="ffffff"/>
                </a:solidFill>
                <a:latin typeface="Verdana"/>
              </a:rPr>
              <a:t>. Один из игроков - водящий. Остальные участники, образовав круг, садятся на землю или становятся на колени на расстоянии не более 2 м друг от друга. Водящий стоит за кругом с платком, завязанным в узелок. По сигналу руководителя водящий бросает узелок одному из игроков, сидящих в кругу, И отходит на три шага назад. Сидящие начинают передавать узелок от одного игрока другому так быстро, как будто ой летит по кругу. Водящий бежит за узелком, чтобы перехватить его. Если это ему удается, он меняется ролью с игроком, у которого был перехвачен узелок.</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Правила.</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Сидящие могут передавать узелок только своему соседу справа или слева.</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дящий должен перехватить узелок из рук. Узелок не считается пойманным водящим, если поднят им с земли (если кто-то уронит) или схвачен на лету. Однако в игре младших ребят водящему разрешается брать узелок с пола (с земли), если его уронили.</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 время передачи узелка можно менять направлени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15328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Бег по следу (Эздэн йегеру)</a:t>
            </a:r>
            <a:br>
              <a:rPr sz="4000"/>
            </a:br>
            <a:endParaRPr b="0" lang="en-US" sz="4000" spc="-1" strike="noStrike">
              <a:solidFill>
                <a:srgbClr val="ccecff"/>
              </a:solidFill>
              <a:latin typeface="Arial"/>
            </a:endParaRPr>
          </a:p>
        </p:txBody>
      </p:sp>
      <p:sp>
        <p:nvSpPr>
          <p:cNvPr id="18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Описание</a:t>
            </a:r>
            <a:r>
              <a:rPr b="0" lang="en-US" sz="2400" spc="-1" strike="noStrike">
                <a:solidFill>
                  <a:srgbClr val="ffffff"/>
                </a:solidFill>
                <a:latin typeface="Verdana"/>
              </a:rPr>
              <a:t>. Играющие разбиваются</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на две команды и выстраиваются в</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две колонны за линией старта.</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Для каждой команды чертятся от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инии старта непрерывные прямые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инии, большие круги, спирали и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ругие фигуры (рис.). Первые игроки команд начинают бег по нарисованным линиям. Вернувшись, они касаются руками вторых игроков своих команд, а сами становятся в конец колонны. Остальные пробегают это же расстояние. Выигрывает команда, закончившая эстафету перво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Правила.</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 разрешается начинать бег, пока возвратившийся игрок не коснется рукой следующего.</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и беге надо строго придерживаться линий дистанции.</a:t>
            </a:r>
            <a:endParaRPr b="0" lang="en-US" sz="2400" spc="-1" strike="noStrike">
              <a:solidFill>
                <a:srgbClr val="ffffff"/>
              </a:solidFill>
              <a:latin typeface="Verdana"/>
            </a:endParaRPr>
          </a:p>
        </p:txBody>
      </p:sp>
      <p:pic>
        <p:nvPicPr>
          <p:cNvPr id="190" name="" descr="Бег по следу"/>
          <p:cNvPicPr/>
          <p:nvPr/>
        </p:nvPicPr>
        <p:blipFill>
          <a:blip r:embed="rId1"/>
          <a:stretch/>
        </p:blipFill>
        <p:spPr>
          <a:xfrm>
            <a:off x="5400720" y="457200"/>
            <a:ext cx="374328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езидент</a:t>
            </a:r>
            <a:br>
              <a:rPr sz="4000"/>
            </a:br>
            <a:r>
              <a:rPr b="0" lang="ru-RU" sz="4000" spc="-1" strike="noStrike">
                <a:solidFill>
                  <a:srgbClr val="ccecff"/>
                </a:solidFill>
                <a:latin typeface="Arial"/>
              </a:rPr>
              <a:t>Рустам Минниханов</a:t>
            </a:r>
            <a:endParaRPr b="0" lang="en-US" sz="4000" spc="-1" strike="noStrike">
              <a:solidFill>
                <a:srgbClr val="ccecff"/>
              </a:solidFill>
              <a:latin typeface="Arial"/>
            </a:endParaRPr>
          </a:p>
        </p:txBody>
      </p:sp>
      <p:sp>
        <p:nvSpPr>
          <p:cNvPr id="15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58" name="" descr="File:Flag of Tatarstan.svg"/>
          <p:cNvPicPr/>
          <p:nvPr/>
        </p:nvPicPr>
        <p:blipFill>
          <a:blip r:embed="rId1"/>
          <a:stretch/>
        </p:blipFill>
        <p:spPr>
          <a:xfrm>
            <a:off x="533520" y="4419720"/>
            <a:ext cx="4495680" cy="2247840"/>
          </a:xfrm>
          <a:prstGeom prst="rect">
            <a:avLst/>
          </a:prstGeom>
          <a:ln w="0">
            <a:noFill/>
          </a:ln>
        </p:spPr>
      </p:pic>
      <p:pic>
        <p:nvPicPr>
          <p:cNvPr id="159" name="" descr="File:Coat of Arms of Tatarstan.svg"/>
          <p:cNvPicPr/>
          <p:nvPr/>
        </p:nvPicPr>
        <p:blipFill>
          <a:blip r:embed="rId2"/>
          <a:stretch/>
        </p:blipFill>
        <p:spPr>
          <a:xfrm>
            <a:off x="5105520" y="17524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2" name="" descr=""/>
          <p:cNvPicPr/>
          <p:nvPr/>
        </p:nvPicPr>
        <p:blipFill>
          <a:blip r:embed="rId1"/>
          <a:stretch/>
        </p:blipFill>
        <p:spPr>
          <a:xfrm>
            <a:off x="155520" y="46080"/>
            <a:ext cx="8988480" cy="62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Храм всех религий</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 name="" descr="File:Kazan church.jpg"/>
          <p:cNvPicPr/>
          <p:nvPr/>
        </p:nvPicPr>
        <p:blipFill>
          <a:blip r:embed="rId1"/>
          <a:stretch/>
        </p:blipFill>
        <p:spPr>
          <a:xfrm>
            <a:off x="228600" y="1195560"/>
            <a:ext cx="8610480" cy="572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0"/>
            <a:ext cx="792468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азанский кремль</a:t>
            </a:r>
            <a:endParaRPr b="0" lang="en-US" sz="4400" spc="-1" strike="noStrike">
              <a:solidFill>
                <a:srgbClr val="ccecff"/>
              </a:solidFill>
              <a:latin typeface="Arial"/>
            </a:endParaRPr>
          </a:p>
        </p:txBody>
      </p:sp>
      <p:sp>
        <p:nvSpPr>
          <p:cNvPr id="16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Кремль на гравюре Эдварда Турнерелли,1839 г </a:t>
            </a:r>
            <a:endParaRPr b="0" lang="en-US" sz="2800" spc="-1" strike="noStrike">
              <a:solidFill>
                <a:srgbClr val="ffffff"/>
              </a:solidFill>
              <a:latin typeface="Verdana"/>
            </a:endParaRPr>
          </a:p>
        </p:txBody>
      </p:sp>
      <p:pic>
        <p:nvPicPr>
          <p:cNvPr id="168" name="" descr="File:Э. Турнерелли. Казанская крепость.jpg"/>
          <p:cNvPicPr/>
          <p:nvPr/>
        </p:nvPicPr>
        <p:blipFill>
          <a:blip r:embed="rId1"/>
          <a:stretch/>
        </p:blipFill>
        <p:spPr>
          <a:xfrm>
            <a:off x="685800" y="1619280"/>
            <a:ext cx="6924600" cy="52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600200"/>
            <a:ext cx="9372600" cy="439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3" name="" descr="File:KAZAN METRO kozia sloboda.jpg"/>
          <p:cNvPicPr/>
          <p:nvPr/>
        </p:nvPicPr>
        <p:blipFill>
          <a:blip r:embed="rId1"/>
          <a:stretch/>
        </p:blipFill>
        <p:spPr>
          <a:xfrm>
            <a:off x="0" y="3443400"/>
            <a:ext cx="5105520" cy="3414600"/>
          </a:xfrm>
          <a:prstGeom prst="rect">
            <a:avLst/>
          </a:prstGeom>
          <a:ln w="0">
            <a:noFill/>
          </a:ln>
        </p:spPr>
      </p:pic>
      <p:pic>
        <p:nvPicPr>
          <p:cNvPr id="174" name="" descr="File:Kazan Metro Kremlyovskaya Station.jpg"/>
          <p:cNvPicPr/>
          <p:nvPr/>
        </p:nvPicPr>
        <p:blipFill>
          <a:blip r:embed="rId2"/>
          <a:stretch/>
        </p:blipFill>
        <p:spPr>
          <a:xfrm>
            <a:off x="0" y="0"/>
            <a:ext cx="4572000" cy="3429000"/>
          </a:xfrm>
          <a:prstGeom prst="rect">
            <a:avLst/>
          </a:prstGeom>
          <a:ln w="0">
            <a:noFill/>
          </a:ln>
        </p:spPr>
      </p:pic>
      <p:pic>
        <p:nvPicPr>
          <p:cNvPr id="175" name="" descr="File:Kazan Metro Ametiyevo Station.jpg"/>
          <p:cNvPicPr/>
          <p:nvPr/>
        </p:nvPicPr>
        <p:blipFill>
          <a:blip r:embed="rId3"/>
          <a:stretch/>
        </p:blipFill>
        <p:spPr>
          <a:xfrm>
            <a:off x="4495680" y="3371760"/>
            <a:ext cx="4648320" cy="3486240"/>
          </a:xfrm>
          <a:prstGeom prst="rect">
            <a:avLst/>
          </a:prstGeom>
          <a:ln w="0">
            <a:noFill/>
          </a:ln>
        </p:spPr>
      </p:pic>
      <p:pic>
        <p:nvPicPr>
          <p:cNvPr id="176" name="" descr="File:Aviatozelesh qazan metro.jpg"/>
          <p:cNvPicPr/>
          <p:nvPr/>
        </p:nvPicPr>
        <p:blipFill>
          <a:blip r:embed="rId4"/>
          <a:stretch/>
        </p:blipFill>
        <p:spPr>
          <a:xfrm>
            <a:off x="4114800" y="0"/>
            <a:ext cx="5029200" cy="337032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Казань-арена</a:t>
            </a:r>
            <a:endParaRPr b="0" lang="en-US" sz="2400" spc="-1" strike="noStrike">
              <a:solidFill>
                <a:srgbClr val="ccecff"/>
              </a:solidFill>
              <a:latin typeface="Arial"/>
            </a:endParaRPr>
          </a:p>
        </p:txBody>
      </p:sp>
      <p:pic>
        <p:nvPicPr>
          <p:cNvPr id="178" name="" descr="File:Центр гребных видов спорта.jpg"/>
          <p:cNvPicPr/>
          <p:nvPr/>
        </p:nvPicPr>
        <p:blipFill>
          <a:blip r:embed="rId1"/>
          <a:stretch/>
        </p:blipFill>
        <p:spPr>
          <a:xfrm>
            <a:off x="3508200" y="0"/>
            <a:ext cx="5635800" cy="3111480"/>
          </a:xfrm>
          <a:prstGeom prst="rect">
            <a:avLst/>
          </a:prstGeom>
          <a:ln w="0">
            <a:noFill/>
          </a:ln>
        </p:spPr>
      </p:pic>
      <p:pic>
        <p:nvPicPr>
          <p:cNvPr id="179" name="" descr="File:Kazan-arena-stadium.jpg"/>
          <p:cNvPicPr/>
          <p:nvPr/>
        </p:nvPicPr>
        <p:blipFill>
          <a:blip r:embed="rId2"/>
          <a:stretch/>
        </p:blipFill>
        <p:spPr>
          <a:xfrm>
            <a:off x="0" y="3657600"/>
            <a:ext cx="5715000" cy="3151080"/>
          </a:xfrm>
          <a:prstGeom prst="rect">
            <a:avLst/>
          </a:prstGeom>
          <a:ln w="0">
            <a:noFill/>
          </a:ln>
        </p:spPr>
      </p:pic>
      <p:sp>
        <p:nvSpPr>
          <p:cNvPr id="180" name=""/>
          <p:cNvSpPr/>
          <p:nvPr/>
        </p:nvSpPr>
        <p:spPr>
          <a:xfrm>
            <a:off x="0" y="344520"/>
            <a:ext cx="342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80880" y="1143000"/>
            <a:ext cx="3124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Центр гребны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видов спор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Маляр и краски (Буяну-буяну)</a:t>
            </a: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 игре участвуют в основном дети дошкольного и младшего школьного возраста, от 5 до 40 человек.</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писание</a:t>
            </a:r>
            <a:r>
              <a:rPr b="0" lang="ru-RU" sz="1600" spc="-1" strike="noStrike">
                <a:solidFill>
                  <a:srgbClr val="ffffff"/>
                </a:solidFill>
                <a:latin typeface="Verdana"/>
              </a:rPr>
              <a:t>. На расстоянии 20-30 м чертят две параллельные линии. На одной из них устанавливают гимнастические скамейки. Сбоку между линиями чертят круг диаметром 3-4 м - «дом маляра». Выбирают водящего и «маляра», остальные игроки становятся «краскам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раски» садятся на гимнастические скамейки или на траву в один ряд. Отослав «маляра» в его «дом», водящий распределяет между играющими краски: красную, зеленую, желтую и т. д. По сигналу руководителя к водящему (он стоит рядом с «красками») подходит «маляр» и спрашивает:</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Бабушка, бабушка, я пришел за краской. Разрешите взять?</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У меня, дружочек, красок много очень. Какую тебе дать?«Маляр» называет какую-нибудь краску, например красную. Участник игры, получивший название «красная краска», быстро встает и бежит до второй линии. «Маляр» пытается догнать его и коснуться рукой. Если ему это удается, то он отводит «краску» в свой «дом». Если «маляр» не поймает «краску», то она возвращается к себе в «дом» (на скамейку) и «меняет» свой цвет. После этого игра повторяется.</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авил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Ловить «краску» можно только до противоположной линии площадк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аляру» запрещается ловить игрока, пока тот не встал с гимнастической скамейки или с земл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е добежав до второй линии, «краска» не имеет права вернуться обратно и сесть на скамейку.</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7T11:43:41Z</dcterms:created>
  <dc:creator>Пользователь</dc:creator>
  <dc:description/>
  <dc:language>en-US</dc:language>
  <cp:lastModifiedBy>Пользователь</cp:lastModifiedBy>
  <dcterms:modified xsi:type="dcterms:W3CDTF">2014-01-28T17:14:4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