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D33-ACD0-4295-97B6-AFDCA5E6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42C-0604-4D3E-8229-D4ABB319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658-CB1B-46BB-BAF1-8B819487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0C7-DB1F-4B63-986B-9A8B6DFD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13B2-B3F8-4791-A9B3-8A169D6E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DB9C-4BB8-4CAA-ABE1-0B25AAF7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CD6E-739C-4B0A-8812-5CD844D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C9FB-AF3A-46C7-A769-5C68E15C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0466-0BAC-4A3D-9E40-A8444264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FB7A-C1B7-4241-B27F-3103FD89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85E7-CF3D-42CD-8C14-0EF41E0A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101-A78F-4BBC-9499-A42820B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706B-2B68-441A-99E4-2E3F58D7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3B0B-5FD1-43FA-9AAA-723BEF33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1651-E7C2-408D-BCB5-E1FD87AF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BC3E-D6F2-47EC-9EEE-B2AE7F87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B096-0826-490F-AC9E-764BDAD8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901-510A-4030-B6B7-E6519AC6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C91-C63A-43EB-9B5B-9EFB3EB6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9F9-C3D8-40A1-9ADD-7AFDC0C6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04B-4848-457D-AB3C-1775A0A4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B0C-13CB-4D34-A627-4445F18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9CC-C703-4F8B-A5FC-DE507A5E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263-6964-4588-A081-FEEF68C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2B36-A8A5-4B33-9F48-31707388D4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6EDE-0383-4EAA-A3FB-95BB4DC549E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ian.ru/economy/20111215/517289720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809880" cy="2747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3581640" cy="243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133720" y="350532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620040" y="4343400"/>
            <a:ext cx="252396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6705720" y="533520"/>
            <a:ext cx="2076480" cy="1428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5680" y="5867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ЕВОЛЮЦИЯ ЦЕ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3962520" y="1522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флекс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годня на уроке я узнал…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04000" y="3429000"/>
            <a:ext cx="2990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Учебные задачи поставленные в начале урок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ЗУЧИТЬ - ЧТО ТАКОЕ ИНФЛЯ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ПОЗНАКОМИТЬСЯ С ФОРМАМИ И ТИПАМИ ИНФЛЯ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ВЫЯСНИТЬ ПРИЧИНЫ ВОЗНИКНОВЕНИЯ И ПОСЛЕДСТВИЯ ИНФЛЯЦИЯ ДЛЯ НАСЕЛЕНИЯ И СТРАНЫ В ЦЕЛ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Выскажите свое мнение по поводу  мер, направленных на снижение цен, предложенных ведомством Г. Греф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держивание роста цен на бензин и соляр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держивание тарифов естественных монополий и в сфере ЖК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величение импорта мяса, повышение конкуренции на продовольственных рынках на дефицитные товар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допущение роста расходов на «социалку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допущение расходов Стабфонда свыше запланированных в бюдж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ревод с 1 января 2007 года в Стабфонд денег, получаемых от экспорта не только нефти, но и газ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граничение внешних заимствований госкомпаний и предприят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ажа госбумаг населени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ватизация пакетов крупных госкомпаний (таких как «Газпром»), с продажей акций широкому кругу инвес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5» Предложите свои меры по регулированию инфляции в РФ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ТОГ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719360"/>
            <a:ext cx="8763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ценочный л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867280" y="4572000"/>
            <a:ext cx="28576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ЕМА УРОК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Инфляция – формы, причины возникновения и её последствия"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15000" y="4019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УЧЕБНЫЕ ЗАД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74320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УЧЕБНЫЕ ЗАДА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ЗУЧИТЬ - ЧТО ТАКОЕ ИНФЛЯ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ПОЗНАКОМИТЬСЯ С ФОРМАМИ И ТИПАМИ ИНФЛЯ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ВЫЯСНИТЬ ПРИЧИНЫ ВОЗНИКНОВЕНИЯ И ПОСЛЕДСТВИЯ ИНФЛЯЦИЯ ДЛЯ НАСЕЛЕНИЯ И СТРАНЫ В ЦЕЛ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4582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фляция - это когда карманы рвутся от денег, а на новый пиджак всё ещё не хвата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шок денег - символ либо бешеного богатства, либо бешеной инфля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2666880" cy="2050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581280" y="4724280"/>
            <a:ext cx="22100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Работа в группах (правила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дание 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комиться с текстом, ответить на вопросы, построить кластер.                    (7-8 мину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 инф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ловия повышения уровня цен при кажд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вы последствия каждой из форм инфляции (приме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248520" y="4218120"/>
            <a:ext cx="26478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ормы инфля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94240"/>
            <a:ext cx="2666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рмальная (ползучая) инфля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441972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ренная инфля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3200400"/>
            <a:ext cx="304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алопирующая инфля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36232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иперинфля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38080" y="4723920"/>
            <a:ext cx="1828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505320" y="3657240"/>
            <a:ext cx="9903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7800" y="266688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бота в группа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группа получает свой проблемный вопр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груп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скрыть его в полной мере и представить ответ. Помощником в этом для вас будут сайт. Для облегчения работы к каждому проблемному вопросу даны несколько подвопросов (учебные вопросы). Ответив на них, вы тем самым раскроете свой группово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1 групп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очему возникает инфляция спрос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2 групп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очему возникает инфляция предложе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3 групп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акие бывают типы инфляций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4 групп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тиинфляционная политика госуда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нализ тек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 января - РИА Новости. Экс-глава Минфина РФ А. Кудрин считает главной задачей экономики России сохранение низкого уровня инфляции на протяжении нескольких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задача российской экономики – низкая инфляция, которая будет поддерживаться на протяжении нескольких лет. Банки должны быть уверенны, что правительство страны будет ее поддерживать на одном уровне", - заявил в ходе лекции Куд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большая зависимость от энергоресурсов, которые составляют 40-45% ВВП, а доходы от нефти и газа составляют порядка 40% бюджета. В результате получится двойной удар. То есть наша страна еще более уязвима от кризиса", - отметил Куд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-руководитель Минфина добавил, что укрепление национальной валюты приведет </a:t>
            </a: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к удешевлению и увеличению импо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ледовательно к уменьшению экспорта и тяжелой реализации собственной продукции, что тоже не пойдет на пользу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В то же время, если курс не укреплять и вбрасывать деньги в экономику, будет увеличиваться инфляция", отметив, что в 2013 г. количество денег в российской экономике уже выросло на 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Предшествующее десятилетие у нас была экономика спроса. Сейчас нам нужна экономика предложения, инвестиционной модели. Она требует большей конкуренции, свободы предприятий и меньшего государственного вмеша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Назовите главную задачу российской экономике на ближайши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зовите проблемы, с которыми может столкнуться экономика России в ближайше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акое решение предлагает Алексей Куд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8T13:41:4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