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8F0-C4C5-45D8-A7CA-3BC4F0D4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001-A4B2-4CAD-9419-9CDDB101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24C-5D30-4752-9CA0-836D6790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935-6A0E-4AF9-9C38-53BF3370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A571-5AE2-4A30-BB1E-43F93343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5B55-A1D5-4187-8E84-066BC101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2AA0-9197-410A-95D1-42164B00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F7B0-43AD-44CE-BC62-E73D3F02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0A19-C15D-4B52-9C1F-EB6309A2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D9D7-9677-4060-B91E-971215CD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77ED-AD82-4970-9A9D-27D86378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80A-346E-4329-93DC-7C68ED33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0B3F-8E2B-499F-BC7B-E459234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E691-FCD5-4453-B555-93B608D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62F-E167-423B-8014-5E2ECB3C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AB6E-B716-4527-B28C-7D65C03A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C284-213D-4527-A761-785D19D9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7CA-52BB-40F6-9B88-90297E90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83A-BC39-4012-95D2-FEC0730A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34D-3112-4DE4-A60A-7148C3E6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E24-00EE-4F80-A9DE-89EB1287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240-1A67-48BC-B614-386C9D0A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B9BB-1F05-4F54-801B-B1AB21FE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C2D-A7BF-488B-A3EE-DB9144D0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AA78-0D27-495F-B11A-60BB35A7B9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9C5A-D918-464D-BA42-52B2A3FC5E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ian.ru/economy/20111215/517289720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809880" cy="2747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3581640" cy="243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133720" y="350532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620040" y="4343400"/>
            <a:ext cx="252396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705720" y="533520"/>
            <a:ext cx="2076480" cy="1428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5680" y="5867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ЕВОЛЮЦИЯ ЦЕ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3962520" y="1522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ефлекс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годня на уроке я узнал…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904000" y="3429000"/>
            <a:ext cx="2990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Учебные задачи поставленные в начале урока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ЗУЧИТЬ - ЧТО ТАКОЕ ИНФЛЯ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ПОЗНАКОМИТЬСЯ С ФОРМАМИ И ТИПАМИ ИНФЛЯ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ВЫЯСНИТЬ ПРИЧИНЫ ВОЗНИКНОВЕНИЯ И ПОСЛЕДСТВИЯ ИНФЛЯЦИЯ ДЛЯ НАСЕЛЕНИЯ И СТРАНЫ В ЦЕЛ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Выскажите свое мнение по поводу  мер, направленных на снижение цен, предложенных ведомством Г. Греф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держивание роста цен на бензин и соляр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держивание тарифов естественных монополий и в сфере ЖК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величение импорта мяса, повышение конкуренции на продовольственных рынках на дефицитные това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допущение роста расходов на «социалк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допущение расходов Стабфонда свыше запланированных в бюдж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евод с 1 января 2007 года в Стабфонд денег, получаемых от экспорта не только нефти, но и газ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граничение внешних заимствований госкомпаний и предприят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ажа госбумаг населени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ватизация пакетов крупных госкомпаний (таких как «Газпром»), с продажей акций широкому кругу инвес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5» Предложите свои меры по регулированию инфляции в РФ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ТОГ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8763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ценоч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867280" y="4572000"/>
            <a:ext cx="2857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ЕМА УРОК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Инфляция – формы, причины возникновения и её последствия"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15000" y="4019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УЧЕБНЫЕ ЗАД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74320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УЧЕБНЫЕ ЗАДА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ИЗУЧИТЬ - ЧТО ТАКОЕ ИНФЛЯ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ПОЗНАКОМИТЬСЯ С ФОРМАМИ И ТИПАМИ ИНФЛЯ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ВЫЯСНИТЬ ПРИЧИНЫ ВОЗНИКНОВЕНИЯ И ПОСЛЕДСТВИЯ ИНФЛЯЦИЯ ДЛЯ НАСЕЛЕНИЯ И СТРАНЫ В ЦЕЛ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4582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ляция - это когда карманы рвутся от денег, а на новый пиджак всё ещё не хвата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шок денег - символ либо бешеного богатства, либо бешеной инфля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2666880" cy="2050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581280" y="4724280"/>
            <a:ext cx="22100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Работа в группах (правила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дание 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ся с текстом, ответить на вопросы, построить кластер.                    (7-8 мину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инф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ловия повышения уровня цен при кажд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вы последствия каждой из форм инфляции (приме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48520" y="4218120"/>
            <a:ext cx="26478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ормы инфля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94240"/>
            <a:ext cx="2666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рмальная (ползучая) инфля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441972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ренная инфля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3200400"/>
            <a:ext cx="3048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алопирующая инфля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3623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иперинфля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38080" y="4723920"/>
            <a:ext cx="1828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505320" y="3657240"/>
            <a:ext cx="9903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7800" y="266688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бота в группа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группа получает свой проблемный вопр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 груп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скрыть его в полной мере и представить ответ. Помощником в этом для вас будут сайт. Для облегчения работы к каждому проблемному вопросу даны несколько подвопросов (учебные вопросы). Ответив на них, вы тем самым раскроете свой группово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1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чему возникает инфляция спрос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2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чему возникает инфляция предлож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3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акие бывают типы инфляци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4 групп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тиинфляционная политика госуда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нализ тек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 января - РИА Новости. Экс-глава Минфина РФ А. Кудрин считает главной задачей экономики России сохранение низкого уровня инфляции на протяжении нескольких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задача российской экономики – низкая инфляция, которая будет поддерживаться на протяжении нескольких лет. Банки должны быть уверенны, что правительство страны будет ее поддерживать на одном уровне", - заявил в ходе лекции Куд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большая зависимость от энергоресурсов, которые составляют 40-45% ВВП, а доходы от нефти и газа составляют порядка 40% бюджета. В результате получится двойной удар. То есть наша страна еще более уязвима от кризиса", - отметил Куд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-руководитель Минфина добавил, что укрепление национальной валюты приведет </a:t>
            </a: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к удешевлению и увеличению импо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ледовательно к уменьшению экспорта и тяжелой реализации собственной продукции, что тоже не пойдет на пользу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В то же время, если курс не укреплять и вбрасывать деньги в экономику, будет увеличиваться инфляция", отметив, что в 2013 г. количество денег в российской экономике уже выросло на 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Предшествующее десятилетие у нас была экономика спроса. Сейчас нам нужна экономика предложения, инвестиционной модели. Она требует большей конкуренции, свободы предприятий и меньшего государственного вмеш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Назовите главную задачу российской экономике на ближайши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зовите проблемы, с которыми может столкнуться экономика России в ближайше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акое решение предлагает Алексей Куд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28T13:41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