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46888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47200" cy="919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7631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5840" y="87631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D258C-7125-4E9B-A8C4-E8101DC2689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6200" y="87631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0D9F9-0F61-47DE-A839-2DBA2D911FB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6200" y="87631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30FFA-78C7-4F93-A5DB-0CCBBBC5C05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6200" y="87631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8CE67-0AA4-4F97-BEC8-6237808283F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6200" y="87631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40F30-436F-46BD-AC45-40573FA4B42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63111-11BC-4661-89B2-34D001BF9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09320" y="409572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3F174-C26F-459A-A6FA-0A070E605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68116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AFE80-FFB0-45F6-B824-253D08CAC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50036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79140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0932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450036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79140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18E59-E09C-47C8-AFBE-2F0262E15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904B34-C0C0-4762-B372-244CD12EE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8E2A5B-525A-422D-A383-3A5A54687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76D0A8-20EC-4360-AEFD-196E5ADA2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3B8EA3-B704-4EFD-9BD0-B2CA6E654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AEED5E-5971-447F-9D1C-57DA587AF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2117880" y="-360"/>
            <a:ext cx="686736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A82124-7B33-49B8-B984-3C8AEB7B1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AD34C6-9330-4CE8-BE67-1D1C54E90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11D2F-782C-4B4E-96A7-BA61CFA31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8116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427B53-5277-498F-9C63-CAB57A157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EA9894-AD4A-4FD1-86CC-2468E7AAE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2209320" y="409572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A9CC37-664F-4C67-904C-19056EA3C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68116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C3FE2C-A0B6-424C-B83F-61795E3BB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0036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79140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220932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450036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79140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9FB063-65EA-4752-AD40-505ED561E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BC004-2045-4682-8430-41ACCB817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CEC97-E8C7-49BA-A92B-3E2E944D1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D5877-55E5-49B0-BC0A-6EE473C19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117880" y="-360"/>
            <a:ext cx="686736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171AB-D71F-42C8-9CAE-8554149F8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C8467-6291-4165-9638-DBED2D33A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8116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C1CC0-05D3-4A8A-9B2D-BA0BCEA6E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42989-620F-4720-AE5B-A4DAC6E0F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3"/>
          <p:cNvSpPr/>
          <p:nvPr/>
        </p:nvSpPr>
        <p:spPr>
          <a:xfrm>
            <a:off x="0" y="6415200"/>
            <a:ext cx="9142560" cy="44136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99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Freeform 4"/>
          <p:cNvSpPr/>
          <p:nvPr/>
        </p:nvSpPr>
        <p:spPr>
          <a:xfrm>
            <a:off x="7574040" y="5902200"/>
            <a:ext cx="1569960" cy="955800"/>
          </a:xfrm>
          <a:custGeom>
            <a:avLst/>
            <a:gdLst/>
            <a:ahLst/>
            <a:rect l="l" t="t" r="r" b="b"/>
            <a:pathLst>
              <a:path w="989" h="602">
                <a:moveTo>
                  <a:pt x="243" y="0"/>
                </a:moveTo>
                <a:lnTo>
                  <a:pt x="988" y="346"/>
                </a:lnTo>
                <a:lnTo>
                  <a:pt x="953" y="600"/>
                </a:lnTo>
                <a:lnTo>
                  <a:pt x="0" y="601"/>
                </a:lnTo>
                <a:lnTo>
                  <a:pt x="243" y="0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Freeform 5"/>
          <p:cNvSpPr/>
          <p:nvPr/>
        </p:nvSpPr>
        <p:spPr>
          <a:xfrm>
            <a:off x="7575480" y="6176880"/>
            <a:ext cx="1568520" cy="681120"/>
          </a:xfrm>
          <a:custGeom>
            <a:avLst/>
            <a:gdLst/>
            <a:ahLst/>
            <a:rect l="l" t="t" r="r" b="b"/>
            <a:pathLst>
              <a:path w="988" h="429">
                <a:moveTo>
                  <a:pt x="0" y="428"/>
                </a:moveTo>
                <a:lnTo>
                  <a:pt x="427" y="0"/>
                </a:lnTo>
                <a:lnTo>
                  <a:pt x="987" y="219"/>
                </a:lnTo>
                <a:lnTo>
                  <a:pt x="987" y="428"/>
                </a:lnTo>
                <a:lnTo>
                  <a:pt x="0" y="428"/>
                </a:lnTo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6"/>
          <p:cNvSpPr/>
          <p:nvPr/>
        </p:nvSpPr>
        <p:spPr>
          <a:xfrm>
            <a:off x="0" y="0"/>
            <a:ext cx="9142560" cy="129528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99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Freeform 7"/>
          <p:cNvSpPr/>
          <p:nvPr/>
        </p:nvSpPr>
        <p:spPr>
          <a:xfrm>
            <a:off x="0" y="0"/>
            <a:ext cx="2211480" cy="6858000"/>
          </a:xfrm>
          <a:custGeom>
            <a:avLst/>
            <a:gdLst/>
            <a:ahLst/>
            <a:rect l="l" t="t" r="r" b="b"/>
            <a:pathLst>
              <a:path w="1393" h="4320">
                <a:moveTo>
                  <a:pt x="0" y="0"/>
                </a:moveTo>
                <a:lnTo>
                  <a:pt x="1392" y="240"/>
                </a:lnTo>
                <a:lnTo>
                  <a:pt x="288" y="4319"/>
                </a:lnTo>
                <a:lnTo>
                  <a:pt x="0" y="4319"/>
                </a:lnTo>
                <a:lnTo>
                  <a:pt x="0" y="0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24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746E6-77B3-43EF-88FD-10328D72F0B0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2227320" y="6415200"/>
            <a:ext cx="50911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Freeform 11"/>
          <p:cNvSpPr/>
          <p:nvPr/>
        </p:nvSpPr>
        <p:spPr>
          <a:xfrm>
            <a:off x="0" y="-15840"/>
            <a:ext cx="1522440" cy="6873840"/>
          </a:xfrm>
          <a:custGeom>
            <a:avLst/>
            <a:gdLst/>
            <a:ahLst/>
            <a:rect l="l" t="t" r="r" b="b"/>
            <a:pathLst>
              <a:path w="959" h="4330">
                <a:moveTo>
                  <a:pt x="0" y="0"/>
                </a:moveTo>
                <a:lnTo>
                  <a:pt x="958" y="346"/>
                </a:lnTo>
                <a:lnTo>
                  <a:pt x="286" y="4329"/>
                </a:lnTo>
                <a:lnTo>
                  <a:pt x="0" y="4329"/>
                </a:lnTo>
                <a:lnTo>
                  <a:pt x="0" y="0"/>
                </a:lnTo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body"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99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99cc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7923240" y="6414840"/>
            <a:ext cx="969840" cy="42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154FC-93AF-477E-8842-6362C82B17D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3"/>
          <p:cNvSpPr/>
          <p:nvPr/>
        </p:nvSpPr>
        <p:spPr>
          <a:xfrm>
            <a:off x="1568520" y="4454640"/>
            <a:ext cx="7574040" cy="952560"/>
          </a:xfrm>
          <a:prstGeom prst="rect">
            <a:avLst/>
          </a:prstGeom>
          <a:solidFill>
            <a:srgbClr val="8686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4"/>
          <p:cNvSpPr/>
          <p:nvPr/>
        </p:nvSpPr>
        <p:spPr>
          <a:xfrm>
            <a:off x="0" y="6415200"/>
            <a:ext cx="9142560" cy="44136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99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Freeform 5"/>
          <p:cNvSpPr/>
          <p:nvPr/>
        </p:nvSpPr>
        <p:spPr>
          <a:xfrm>
            <a:off x="7574040" y="5902200"/>
            <a:ext cx="1569960" cy="955800"/>
          </a:xfrm>
          <a:custGeom>
            <a:avLst/>
            <a:gdLst/>
            <a:ahLst/>
            <a:rect l="l" t="t" r="r" b="b"/>
            <a:pathLst>
              <a:path w="989" h="602">
                <a:moveTo>
                  <a:pt x="243" y="0"/>
                </a:moveTo>
                <a:lnTo>
                  <a:pt x="988" y="346"/>
                </a:lnTo>
                <a:lnTo>
                  <a:pt x="953" y="600"/>
                </a:lnTo>
                <a:lnTo>
                  <a:pt x="0" y="601"/>
                </a:lnTo>
                <a:lnTo>
                  <a:pt x="243" y="0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6"/>
          <p:cNvSpPr/>
          <p:nvPr/>
        </p:nvSpPr>
        <p:spPr>
          <a:xfrm>
            <a:off x="7575480" y="6176880"/>
            <a:ext cx="1568520" cy="681120"/>
          </a:xfrm>
          <a:custGeom>
            <a:avLst/>
            <a:gdLst/>
            <a:ahLst/>
            <a:rect l="l" t="t" r="r" b="b"/>
            <a:pathLst>
              <a:path w="988" h="429">
                <a:moveTo>
                  <a:pt x="0" y="428"/>
                </a:moveTo>
                <a:lnTo>
                  <a:pt x="427" y="0"/>
                </a:lnTo>
                <a:lnTo>
                  <a:pt x="987" y="219"/>
                </a:lnTo>
                <a:lnTo>
                  <a:pt x="987" y="428"/>
                </a:lnTo>
                <a:lnTo>
                  <a:pt x="0" y="428"/>
                </a:lnTo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7"/>
          <p:cNvSpPr/>
          <p:nvPr/>
        </p:nvSpPr>
        <p:spPr>
          <a:xfrm>
            <a:off x="0" y="0"/>
            <a:ext cx="9142560" cy="129528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99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Freeform 8"/>
          <p:cNvSpPr/>
          <p:nvPr/>
        </p:nvSpPr>
        <p:spPr>
          <a:xfrm>
            <a:off x="0" y="0"/>
            <a:ext cx="2211480" cy="6858000"/>
          </a:xfrm>
          <a:custGeom>
            <a:avLst/>
            <a:gdLst/>
            <a:ahLst/>
            <a:rect l="l" t="t" r="r" b="b"/>
            <a:pathLst>
              <a:path w="1393" h="4320">
                <a:moveTo>
                  <a:pt x="0" y="0"/>
                </a:moveTo>
                <a:lnTo>
                  <a:pt x="1392" y="240"/>
                </a:lnTo>
                <a:lnTo>
                  <a:pt x="288" y="4319"/>
                </a:lnTo>
                <a:lnTo>
                  <a:pt x="0" y="4319"/>
                </a:lnTo>
                <a:lnTo>
                  <a:pt x="0" y="0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Freeform 10"/>
          <p:cNvSpPr/>
          <p:nvPr/>
        </p:nvSpPr>
        <p:spPr>
          <a:xfrm>
            <a:off x="3240" y="-15840"/>
            <a:ext cx="1522440" cy="6873840"/>
          </a:xfrm>
          <a:custGeom>
            <a:avLst/>
            <a:gdLst/>
            <a:ahLst/>
            <a:rect l="l" t="t" r="r" b="b"/>
            <a:pathLst>
              <a:path w="959" h="4330">
                <a:moveTo>
                  <a:pt x="0" y="0"/>
                </a:moveTo>
                <a:lnTo>
                  <a:pt x="958" y="346"/>
                </a:lnTo>
                <a:lnTo>
                  <a:pt x="286" y="4329"/>
                </a:lnTo>
                <a:lnTo>
                  <a:pt x="0" y="4329"/>
                </a:lnTo>
                <a:lnTo>
                  <a:pt x="0" y="0"/>
                </a:lnTo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99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99cc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4"/>
          </p:nvPr>
        </p:nvSpPr>
        <p:spPr>
          <a:xfrm>
            <a:off x="7772400" y="6414840"/>
            <a:ext cx="1371600" cy="42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A77C2-F4D9-4A61-90D1-7473B4E3FD4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227320" y="6415200"/>
            <a:ext cx="50911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dt" idx="6"/>
          </p:nvPr>
        </p:nvSpPr>
        <p:spPr>
          <a:xfrm>
            <a:off x="57924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BB392-5B18-4626-AC75-929F26A5F7EE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2"/>
          <p:cNvSpPr/>
          <p:nvPr/>
        </p:nvSpPr>
        <p:spPr>
          <a:xfrm>
            <a:off x="7772400" y="6415200"/>
            <a:ext cx="137160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081CF-A873-4B7D-AF7D-24861A44481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4"/>
          <p:cNvSpPr/>
          <p:nvPr/>
        </p:nvSpPr>
        <p:spPr>
          <a:xfrm>
            <a:off x="57960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09.09.2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4" name="Object 2"/>
          <p:cNvGraphicFramePr/>
          <p:nvPr/>
        </p:nvGraphicFramePr>
        <p:xfrm>
          <a:off x="2397240" y="2109960"/>
          <a:ext cx="2266920" cy="221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97240" y="2109960"/>
                    <a:ext cx="2266920" cy="221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68680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0099"/>
                </a:solidFill>
                <a:latin typeface="Arial"/>
              </a:rPr>
              <a:t>Интернет-ориентированны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990720" y="449568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0099"/>
                </a:solidFill>
                <a:latin typeface="Times New Roman"/>
              </a:rPr>
              <a:t>педагогические технологии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Дата 3"/>
          <p:cNvSpPr/>
          <p:nvPr/>
        </p:nvSpPr>
        <p:spPr>
          <a:xfrm>
            <a:off x="57960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09.09.2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Номер слайда 5"/>
          <p:cNvSpPr/>
          <p:nvPr/>
        </p:nvSpPr>
        <p:spPr>
          <a:xfrm>
            <a:off x="7923240" y="6415200"/>
            <a:ext cx="96984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95B30-D2C1-474D-B26A-74EB4D0B262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0099"/>
                </a:solidFill>
                <a:latin typeface="Arial"/>
              </a:rPr>
              <a:t>Доклад (презентация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981080" y="1371240"/>
            <a:ext cx="7004160" cy="470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убличное сообщение, представляющее собой развернутое изложение определенной темы, вопроса программы. Доклад может быть представлен различными участниками процесса обучения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реподавателем (лектором, координатором и т.д.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риглашенным экспертом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обучащимся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группой обучащихся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ри этом, если при очном обучении докладчик и учебная группа находятся в одном месте, при дистанционном обучении все присутствующие находятся друг от друга на расстоянии, а сам доклад проводится в виде телеконференции в режиме реального времени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Также доклад в условиях Интернет вполне может быть представлен и в отсроченном режиме. Для этого докладчик готовит все необходимые материалы (текст доклада, слайды PowerPoint, иллюстрации и т.д., вплоть до видеозаписи данного доклада) и размещает все это на одном из сайтов Интернет. Обучащиеся получают от преподавателя информацию о том, когда и на каком сайте можно познакомиться с этим докладом. Преимуществом является то, что обучащиеся будут знакомиться с материалами подобных "докладов" гораздо внимательнее, чем при прослушивании традиционных докладов, когда основным каналом восприятия информации является аудиальный, что затрудняет усвоение новой информации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Дата 3"/>
          <p:cNvSpPr/>
          <p:nvPr/>
        </p:nvSpPr>
        <p:spPr>
          <a:xfrm>
            <a:off x="57960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09.09.2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Номер слайда 5"/>
          <p:cNvSpPr/>
          <p:nvPr/>
        </p:nvSpPr>
        <p:spPr>
          <a:xfrm>
            <a:off x="7923240" y="6415200"/>
            <a:ext cx="96984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6CB85-4003-4954-99A7-55782DF79AD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0099"/>
                </a:solidFill>
                <a:latin typeface="Arial"/>
              </a:rPr>
              <a:t>Проблемная лекци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981080" y="1142640"/>
            <a:ext cx="700416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Лекции в Интернет очень популярны (многие учреждения дистанционного обучения строят весь учебный процесс именно в форме лекций и семинаров). Как правило, при этом речь идет о таких перспективных технологиях, как стримминг-видео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В условиях активного внедрения новых педагогических технологий в учебный процесс лекции постепенно видоизменяются. Одной из интересных форм лекции является проблемная лекция.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роблемная лекция нацелена на представление обучащимся какой-либо одной проблемы (наиболее важной в рамках учебного курса, концептуально значимой, актуальной и т.д.). Подобная лекция строится по определенным правилам: весь материал должен быть разделен на части, каждая из которых включает проблемную ситуацию. Далее разрешение проблемных ситуаций идет по алгоритму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формулируется проблема, проводится анализ, обозначаются рамки исследования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роблема актуализируется до уровня значимости для каждого обучащегося, готовятся основания (опорные знания) для решения проблемы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опоставляются результаты анализа ситуации с нормой (концепцией, теорией, критериями т.д.)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разрабатываются механизмы достижения нормы в исследуемой проблеме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опоставляются результаты с целью (несоответствие рассматривается как новая проблема)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В ходе проблемной лекции можно слушать, сравнивать, выделять главное, обобщать, делать выводы и, кроме того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критически относиться к полученной информации (строить собственную гипотезу)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доказывать (подбирать, выстраивать аргументы)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творчески мыслить (получать новые смыслы, использовать их)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Дата 3"/>
          <p:cNvSpPr/>
          <p:nvPr/>
        </p:nvSpPr>
        <p:spPr>
          <a:xfrm>
            <a:off x="57960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09.09.2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Номер слайда 5"/>
          <p:cNvSpPr/>
          <p:nvPr/>
        </p:nvSpPr>
        <p:spPr>
          <a:xfrm>
            <a:off x="7923240" y="6415200"/>
            <a:ext cx="96984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F9095-B277-4906-8F97-212726335B9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0099"/>
                </a:solidFill>
                <a:latin typeface="Arial"/>
              </a:rPr>
              <a:t>Встречи с экспертам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 рамках дистанционного курса при использовании проблемного метода обучения, метода проектов и кооперативного обучения координаторы часто приглашают на встречу с обучащимися профессионалов, которые играют роль экспертов в данной предметной области, отвечая на вопросы обучащихся, проводя "открытые уроки мастерства" или оценивая творческие проекты обучащихся. Это может быть сделано как в форме мультимедийной конференции, так и в условиях сетевого форума или просто по электронной почте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Координатор заранее информирует обучащимся о предстоящей встрече, сообщая имя эксперта, область его профессиональных интересов и компетенций, а также время встречи и форму ее проведения. Как правило, для экономии времени во время онлайновой встречи, обучающиеся заранее готовят свои вопросы и передают их через координатора эксперту. Эксперт получает вопросы, анализирует их и учитывает при подготовке к встрече с обучащимися, что помогает ему лучше сориентироваться в предпочтениях, знаниях/незнаниях обучающихся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Дата 3"/>
          <p:cNvSpPr/>
          <p:nvPr/>
        </p:nvSpPr>
        <p:spPr>
          <a:xfrm>
            <a:off x="57960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09.09.2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Номер слайда 5"/>
          <p:cNvSpPr/>
          <p:nvPr/>
        </p:nvSpPr>
        <p:spPr>
          <a:xfrm>
            <a:off x="7923240" y="6415200"/>
            <a:ext cx="96984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B347B-E87D-488D-B433-33F68EE81E6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0099"/>
                </a:solidFill>
                <a:latin typeface="Arial"/>
              </a:rPr>
              <a:t>Индивидуальное обучени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Менторство (индивидуальное наставничество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етевой ментор - профессионал в конкретной предметной области, который помогает обучащемуся самостоятельно освоить тот или иной вопрос как в рамках учебной программы, так и вне ее (особенно, если речь идет об индивидуальной работе с талантливыми детьми). Эта форма работы с обучащимися идеально подходит для Интернета, поскольку при общении по электронной почте или в чатах обучащиеся чувствуют себя более раскрепощенное чем при личном очном общении со взрослым ментором. Отсроченная коммуникация позволяет более четко формулировать вопросы и ответы на них. Менторство заканчивается тогда, когда обучащийся справляется с заданием или разбирается с темой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2" name="Object 4"/>
          <p:cNvGraphicFramePr/>
          <p:nvPr/>
        </p:nvGraphicFramePr>
        <p:xfrm>
          <a:off x="171360" y="646200"/>
          <a:ext cx="1009800" cy="987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1360" y="646200"/>
                    <a:ext cx="1009800" cy="98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Дата 3"/>
          <p:cNvSpPr/>
          <p:nvPr/>
        </p:nvSpPr>
        <p:spPr>
          <a:xfrm>
            <a:off x="57960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09.09.2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Номер слайда 5"/>
          <p:cNvSpPr/>
          <p:nvPr/>
        </p:nvSpPr>
        <p:spPr>
          <a:xfrm>
            <a:off x="7923240" y="6415200"/>
            <a:ext cx="96984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3C654-AAD5-47C1-9AC9-F9BA21970B6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0099"/>
                </a:solidFill>
                <a:latin typeface="Arial"/>
              </a:rPr>
              <a:t>Парное обучени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Репетиция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Друзья по переписк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Совместная творческая работ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Рецензирование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8" name="Object 4"/>
          <p:cNvGraphicFramePr/>
          <p:nvPr/>
        </p:nvGraphicFramePr>
        <p:xfrm>
          <a:off x="171360" y="646200"/>
          <a:ext cx="1009800" cy="987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1360" y="646200"/>
                    <a:ext cx="1009800" cy="98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0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Дата 3"/>
          <p:cNvSpPr/>
          <p:nvPr/>
        </p:nvSpPr>
        <p:spPr>
          <a:xfrm>
            <a:off x="57960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09.09.2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Номер слайда 5"/>
          <p:cNvSpPr/>
          <p:nvPr/>
        </p:nvSpPr>
        <p:spPr>
          <a:xfrm>
            <a:off x="7923240" y="6415200"/>
            <a:ext cx="96984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11C13-FCB8-4F57-BA37-279C7FD8F6A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0099"/>
                </a:solidFill>
                <a:latin typeface="Arial"/>
              </a:rPr>
              <a:t>Репетиция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133720" y="1371240"/>
            <a:ext cx="6851520" cy="470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Два участника группы совместно готовятся к итоговой презентации (представлению проекта, выступлению с докладом на конференции и т.п.). Каждый из них подготовил свою собственную презентацию. Однако, перед ними ставится новая задача - "проиграть" друг перед другом эти презентации, а затем обсудить их качество, задать друг другу как можно большее количество вопросов, пытаясь предугадать, какие ситуации могут возникнуть во время будущей официально запланированной презентации перед всей группой. После предварительного просмотра и обсуждения обучащиеся корректируют свои материалы, помогают друг другу в их доработке (переработке).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ри подобной форме работы обучащиеся глубже вникают в суть изучаемого вопроса, заранее "проговаривают" весь материал презентации, что позволяет решить следующие задачи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снимается страх публичного выступления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овышается уверенность в собственных силах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лучше запоминается материал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заранее корректируются все неточности (что позволяет представить в дальнейшем выверенный вариант презентации, не содержащий ошибок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обучащиеся лишний раз тренируются в использовании сетевых ресурсов и технологий (например, при участии в видео конференции или чате).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Дата 3"/>
          <p:cNvSpPr/>
          <p:nvPr/>
        </p:nvSpPr>
        <p:spPr>
          <a:xfrm>
            <a:off x="57960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09.09.2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Номер слайда 5"/>
          <p:cNvSpPr/>
          <p:nvPr/>
        </p:nvSpPr>
        <p:spPr>
          <a:xfrm>
            <a:off x="7923240" y="6415200"/>
            <a:ext cx="96984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996C1-88AB-46AD-A480-C4A03F8C7AE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0099"/>
                </a:solidFill>
                <a:latin typeface="Arial"/>
              </a:rPr>
              <a:t>Друзья по переписк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тавшая уже "классической" форма общения обучащихся по Интернету. Переписка по электронной почте, общение в чатах очень эффективны при изучении иностранных языков, для тренировки языковых умений и навыков и общением с носителями языка. Однако, многолетний опыт преподавателей, работающих с обучащимися в Интернет показал, что просто переписка - без определенной темы и не контролируемая преподавателем не будет эффективной и, едва начавшись, может тут же прерваться. "Друзьям по переписке" должны быть поставлены конкретные задачи, их деятельность должна вписываться в определенный учебный курс и осуществляться по плану. Эта формы работы очень часто используется при обучении обучащихся по проектной методике, в проектах по гуманитарным дисциплинам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Дата 3"/>
          <p:cNvSpPr/>
          <p:nvPr/>
        </p:nvSpPr>
        <p:spPr>
          <a:xfrm>
            <a:off x="57960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09.09.2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Номер слайда 5"/>
          <p:cNvSpPr/>
          <p:nvPr/>
        </p:nvSpPr>
        <p:spPr>
          <a:xfrm>
            <a:off x="7923240" y="6415200"/>
            <a:ext cx="96984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08E1F-7601-4047-8F7E-1886F487D45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0099"/>
                </a:solidFill>
                <a:latin typeface="Arial"/>
              </a:rPr>
              <a:t>Совместная творческая работ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ctr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Этот прием также хорошо известен всем тем, кто работал с обучащимися в рамках телекоммуникационных проектов. Обучащиеся получают одно творческое задание на двоих и начинают работу над ним в качестве соавторов. При этом возможны различные схемы совместной деятельности, которые обучащиеся могут выбрать сами или им это может подсказать преподаватель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Дата 3"/>
          <p:cNvSpPr/>
          <p:nvPr/>
        </p:nvSpPr>
        <p:spPr>
          <a:xfrm>
            <a:off x="57960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09.09.2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Номер слайда 5"/>
          <p:cNvSpPr/>
          <p:nvPr/>
        </p:nvSpPr>
        <p:spPr>
          <a:xfrm>
            <a:off x="7923240" y="6415200"/>
            <a:ext cx="96984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B08B0-434E-4698-A2B7-2B1130815CB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0099"/>
                </a:solidFill>
                <a:latin typeface="Arial"/>
              </a:rPr>
              <a:t>Рецензирование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анная форма совместной работы обучащихся предусматривает обмен рецензиями на работы друг друга. Преподаватель ставит перед двумя обучащимися задачу: написать в качестве зачетной работы реферат, а затем, обменяться этими рефератами и написать на них рецензию. Когда работа будет выполнена, обучащиеся пересылают по электронной почте свои работы и рецензии на них преподавателю, тот проверяет их и дает свои комментари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Дата 3"/>
          <p:cNvSpPr/>
          <p:nvPr/>
        </p:nvSpPr>
        <p:spPr>
          <a:xfrm>
            <a:off x="57960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09.09.2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Номер слайда 5"/>
          <p:cNvSpPr/>
          <p:nvPr/>
        </p:nvSpPr>
        <p:spPr>
          <a:xfrm>
            <a:off x="7923240" y="6415200"/>
            <a:ext cx="96984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9C227-BBC2-414B-830A-CC156389CE9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0099"/>
                </a:solidFill>
                <a:latin typeface="Arial"/>
              </a:rPr>
              <a:t>Коллективное обучени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Диспу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Доклад (презентация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Проблемная лекци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Встречи с экспертам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0" name="Object 4"/>
          <p:cNvGraphicFramePr/>
          <p:nvPr/>
        </p:nvGraphicFramePr>
        <p:xfrm>
          <a:off x="171360" y="646200"/>
          <a:ext cx="1009800" cy="987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1360" y="646200"/>
                    <a:ext cx="1009800" cy="98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0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Дата 3"/>
          <p:cNvSpPr/>
          <p:nvPr/>
        </p:nvSpPr>
        <p:spPr>
          <a:xfrm>
            <a:off x="57960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09.09.2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Номер слайда 5"/>
          <p:cNvSpPr/>
          <p:nvPr/>
        </p:nvSpPr>
        <p:spPr>
          <a:xfrm>
            <a:off x="7923240" y="6415200"/>
            <a:ext cx="96984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03BA0-DE1C-4CEB-94FD-1C7AA85F593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0099"/>
                </a:solidFill>
                <a:latin typeface="Arial"/>
              </a:rPr>
              <a:t>Диспут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Диспут - это публичный спор, одна из активных форм работы с обучащимися. Обычно посвящается обсуждению злободневных проблем. Диспуты могут проводиться и с помощью асинхронной коммуникации (с помощью списков рассылки, форумов), так и в виде телеконференций в режиме реального времени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роведение диспута должно тщательно планироваться, а участники диспута еще до его проведения должны познакомиться с темой, изучить достаточное количество первоисточников, чтобы аргументировано отстаивать свою точку зрения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Далее диспут проводится либо в форме видеоконференции, что очень близко по способу организации к традиционному диспуту, либо в форме асинхронной конференции. В этом случае кто-либо из участников или преподаватель пишет вступление. Каждый обучащийся (пара, группа обучащихся) публикует свое выступление на конференции; затем идет аргументированное обсуждение, в котором ключевую роль, опять же, играет координатор. Продолжительность асинхронного диспута, как правило, не превышает двух недель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Диспут можно объединить с ролевыми играми, индивидуальными или командными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2-11-12T08:28:28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49</vt:r8>
  </property>
  <property fmtid="{D5CDD505-2E9C-101B-9397-08002B2CF9AE}" pid="3" name="Version">
    <vt:r8>3</vt:r8>
  </property>
</Properties>
</file>