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468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472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584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16BD-9258-4901-909C-3F3992E9EA2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8850-0987-43D3-8672-C6A58221FB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8F25-A530-406A-96F1-F5C736A08CE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C1B8-9939-4E04-BC72-03E7CEBD29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12E3-1C6D-42B4-B364-BF16113973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5510-C74B-4AC9-B14C-A13D40355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BA12-5BDA-4BB9-89B1-78A1EA0F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9121-D8A2-4734-8056-1156442CD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A01E-4233-4BFF-AA0C-F462A5262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D8E457-E227-4FC1-A19E-82914C24E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6CD03A-C61A-4972-B551-3708D919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C4D3A0-BCBF-4ED4-847F-9CEDD786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8D19DF-F1BD-43A1-BBA0-0CB280E6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A7F4B0-C330-46C6-B331-EB2144C7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3A28A-6618-46AB-B5D3-51CB604D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194B5C-D1B0-4936-BA93-0A30AA6D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340D-548F-4F57-94C2-EFE4CF88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80942C-F16B-4D4E-A5FF-B0A12CEB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1BA10D-04EF-4BC0-B37B-E8FE18CF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5CA39C-010F-4557-A269-7E207389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21898-FBF9-44AC-95A5-A60C90DB7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0E77E-D72D-4FF7-A5EF-45490AC73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8A64-1A21-4AC1-A675-E9BD487B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03B7-4452-42A8-BC8B-583B9FA0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2617-1E32-4BEA-90FA-6CBFE496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2E0B-4419-4E07-B645-4AFD0609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4276-C489-4F2A-978C-C7EA0198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3954-15A1-48D6-877C-1F6D5108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ED2D-F16D-45A2-8EEB-4454DE33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4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Freeform 5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7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9401-752E-4A2B-89AE-77512519B13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Freeform 11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59C3-93B9-4C76-BA8A-F11201301F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5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6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reeform 8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10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9694-6527-4C5E-B0F0-BD93015106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085D-9340-4BB0-AAA8-1513BE10DF2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2"/>
          <p:cNvSpPr/>
          <p:nvPr/>
        </p:nvSpPr>
        <p:spPr>
          <a:xfrm>
            <a:off x="7772400" y="6415200"/>
            <a:ext cx="1371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E93E-D1B4-4A31-B6EA-D4A5E24475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57960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09.09.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Object 2"/>
          <p:cNvGraphicFramePr/>
          <p:nvPr/>
        </p:nvGraphicFramePr>
        <p:xfrm>
          <a:off x="2397240" y="2109960"/>
          <a:ext cx="2266920" cy="22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240" y="2109960"/>
                    <a:ext cx="2266920" cy="22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99"/>
                </a:solidFill>
                <a:latin typeface="Arial"/>
              </a:rPr>
              <a:t>Интернет-ориентированны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90720" y="44956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99"/>
                </a:solidFill>
                <a:latin typeface="Times New Roman"/>
              </a:rPr>
              <a:t>педагогические технологи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Дата 3"/>
          <p:cNvSpPr/>
          <p:nvPr/>
        </p:nvSpPr>
        <p:spPr>
          <a:xfrm>
            <a:off x="57960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09.09.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Номер слайда 5"/>
          <p:cNvSpPr/>
          <p:nvPr/>
        </p:nvSpPr>
        <p:spPr>
          <a:xfrm>
            <a:off x="7923240" y="6415200"/>
            <a:ext cx="9698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53BD-F563-4F02-8CE6-CC0C4D8E3E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99"/>
                </a:solidFill>
                <a:latin typeface="Arial"/>
              </a:rPr>
              <a:t>Доклад (презентация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7004160" cy="470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убличное сообщение, представляющее собой развернутое изложение определенной темы, вопроса программы. Доклад может быть представлен различными участниками процесса обучения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еподавателем (лектором, координатором и т.д.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иглашенным экспертом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учащимся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уппой обучащихся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и этом, если при очном обучении докладчик и учебная группа находятся в одном месте, при дистанционном обучении все присутствующие находятся друг от друга на расстоянии, а сам доклад проводится в виде телеконференции в режиме реального времен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акже доклад в условиях Интернет вполне может быть представлен и в отсроченном режиме. Для этого докладчик готовит все необходимые материалы (текст доклада, слайды PowerPoint, иллюстрации и т.д., вплоть до видеозаписи данного доклада) и размещает все это на одном из сайтов Интернет. Обучащиеся получают от преподавателя информацию о том, когда и на каком сайте можно познакомиться с этим докладом. Преимуществом является то, что обучащиеся будут знакомиться с материалами подобных "докладов" гораздо внимательнее, чем при прослушивании традиционных докладов, когда основным каналом восприятия информации является аудиальный, что затрудняет усвоение новой информаци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Дата 3"/>
          <p:cNvSpPr/>
          <p:nvPr/>
        </p:nvSpPr>
        <p:spPr>
          <a:xfrm>
            <a:off x="57960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09.09.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Номер слайда 5"/>
          <p:cNvSpPr/>
          <p:nvPr/>
        </p:nvSpPr>
        <p:spPr>
          <a:xfrm>
            <a:off x="7923240" y="6415200"/>
            <a:ext cx="9698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A81E-9497-48D0-A723-436E6F0688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99"/>
                </a:solidFill>
                <a:latin typeface="Arial"/>
              </a:rPr>
              <a:t>Проблемная лекц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981080" y="1142640"/>
            <a:ext cx="70041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екции в Интернет очень популярны (многие учреждения дистанционного обучения строят весь учебный процесс именно в форме лекций и семинаров). Как правило, при этом речь идет о таких перспективных технологиях, как стримминг-видео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условиях активного внедрения новых педагогических технологий в учебный процесс лекции постепенно видоизменяются. Одной из интересных форм лекции является проблемная лекция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блемная лекция нацелена на представление обучащимся какой-либо одной проблемы (наиболее важной в рамках учебного курса, концептуально значимой, актуальной и т.д.). Подобная лекция строится по определенным правилам: весь материал должен быть разделен на части, каждая из которых включает проблемную ситуацию. Далее разрешение проблемных ситуаций идет по алгоритму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формулируется проблема, проводится анализ, обозначаются рамки исследования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блема актуализируется до уровня значимости для каждого обучащегося, готовятся основания (опорные знания) для решения проблемы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поставляются результаты анализа ситуации с нормой (концепцией, теорией, критериями т.д.)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зрабатываются механизмы достижения нормы в исследуемой проблеме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поставляются результаты с целью (несоответствие рассматривается как новая проблема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ходе проблемной лекции можно слушать, сравнивать, выделять главное, обобщать, делать выводы и, кроме того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ритически относиться к полученной информации (строить собственную гипотезу)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оказывать (подбирать, выстраивать аргументы)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ворчески мыслить (получать новые смыслы, использовать их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Дата 3"/>
          <p:cNvSpPr/>
          <p:nvPr/>
        </p:nvSpPr>
        <p:spPr>
          <a:xfrm>
            <a:off x="57960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09.09.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Номер слайда 5"/>
          <p:cNvSpPr/>
          <p:nvPr/>
        </p:nvSpPr>
        <p:spPr>
          <a:xfrm>
            <a:off x="7923240" y="6415200"/>
            <a:ext cx="9698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9A52-F76D-4CF2-AEDA-98F67484D4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99"/>
                </a:solidFill>
                <a:latin typeface="Arial"/>
              </a:rPr>
              <a:t>Встречи с экспертам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рамках дистанционного курса при использовании проблемного метода обучения, метода проектов и кооперативного обучения координаторы часто приглашают на встречу с обучащимися профессионалов, которые играют роль экспертов в данной предметной области, отвечая на вопросы обучащихся, проводя "открытые уроки мастерства" или оценивая творческие проекты обучащихся. Это может быть сделано как в форме мультимедийной конференции, так и в условиях сетевого форума или просто по электронной почт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оординатор заранее информирует обучащимся о предстоящей встрече, сообщая имя эксперта, область его профессиональных интересов и компетенций, а также время встречи и форму ее проведения. Как правило, для экономии времени во время онлайновой встречи, обучающиеся заранее готовят свои вопросы и передают их через координатора эксперту. Эксперт получает вопросы, анализирует их и учитывает при подготовке к встрече с обучащимися, что помогает ему лучше сориентироваться в предпочтениях, знаниях/незнаниях обучающихс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Дата 3"/>
          <p:cNvSpPr/>
          <p:nvPr/>
        </p:nvSpPr>
        <p:spPr>
          <a:xfrm>
            <a:off x="57960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09.09.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Номер слайда 5"/>
          <p:cNvSpPr/>
          <p:nvPr/>
        </p:nvSpPr>
        <p:spPr>
          <a:xfrm>
            <a:off x="7923240" y="6415200"/>
            <a:ext cx="9698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6088-6952-4FE4-AFFF-718FB565DF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99"/>
                </a:solidFill>
                <a:latin typeface="Arial"/>
              </a:rPr>
              <a:t>Индивидуальное обуч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нторство (индивидуальное наставничество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тевой ментор - профессионал в конкретной предметной области, который помогает обучащемуся самостоятельно освоить тот или иной вопрос как в рамках учебной программы, так и вне ее (особенно, если речь идет об индивидуальной работе с талантливыми детьми). Эта форма работы с обучащимися идеально подходит для Интернета, поскольку при общении по электронной почте или в чатах обучащиеся чувствуют себя более раскрепощенное чем при личном очном общении со взрослым ментором. Отсроченная коммуникация позволяет более четко формулировать вопросы и ответы на них. Менторство заканчивается тогда, когда обучащийся справляется с заданием или разбирается с темо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Дата 3"/>
          <p:cNvSpPr/>
          <p:nvPr/>
        </p:nvSpPr>
        <p:spPr>
          <a:xfrm>
            <a:off x="57960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09.09.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Номер слайда 5"/>
          <p:cNvSpPr/>
          <p:nvPr/>
        </p:nvSpPr>
        <p:spPr>
          <a:xfrm>
            <a:off x="7923240" y="6415200"/>
            <a:ext cx="9698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6D64-94B6-498A-A257-097B20848D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99"/>
                </a:solidFill>
                <a:latin typeface="Arial"/>
              </a:rPr>
              <a:t>Парное обуч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епетици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рузья по переписк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вместная творческая рабо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ецензировани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Дата 3"/>
          <p:cNvSpPr/>
          <p:nvPr/>
        </p:nvSpPr>
        <p:spPr>
          <a:xfrm>
            <a:off x="57960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09.09.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Номер слайда 5"/>
          <p:cNvSpPr/>
          <p:nvPr/>
        </p:nvSpPr>
        <p:spPr>
          <a:xfrm>
            <a:off x="7923240" y="6415200"/>
            <a:ext cx="9698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74EA-5055-44E8-9C6F-0BC0B10BAE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99"/>
                </a:solidFill>
                <a:latin typeface="Arial"/>
              </a:rPr>
              <a:t>Репетиц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133720" y="1371240"/>
            <a:ext cx="6851520" cy="470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ва участника группы совместно готовятся к итоговой презентации (представлению проекта, выступлению с докладом на конференции и т.п.). Каждый из них подготовил свою собственную презентацию. Однако, перед ними ставится новая задача - "проиграть" друг перед другом эти презентации, а затем обсудить их качество, задать друг другу как можно большее количество вопросов, пытаясь предугадать, какие ситуации могут возникнуть во время будущей официально запланированной презентации перед всей группой. После предварительного просмотра и обсуждения обучащиеся корректируют свои материалы, помогают друг другу в их доработке (переработке)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и подобной форме работы обучащиеся глубже вникают в суть изучаемого вопроса, заранее "проговаривают" весь материал презентации, что позволяет решить следующие задачи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нимается страх публичного выступления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вышается уверенность в собственных силах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лучше запоминается материал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ранее корректируются все неточности (что позволяет представить в дальнейшем выверенный вариант презентации, не содержащий ошибок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учащиеся лишний раз тренируются в использовании сетевых ресурсов и технологий (например, при участии в видео конференции или чате)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Дата 3"/>
          <p:cNvSpPr/>
          <p:nvPr/>
        </p:nvSpPr>
        <p:spPr>
          <a:xfrm>
            <a:off x="57960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09.09.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Номер слайда 5"/>
          <p:cNvSpPr/>
          <p:nvPr/>
        </p:nvSpPr>
        <p:spPr>
          <a:xfrm>
            <a:off x="7923240" y="6415200"/>
            <a:ext cx="9698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F5FA-5F1A-4D40-B070-6B7D7378AE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99"/>
                </a:solidFill>
                <a:latin typeface="Arial"/>
              </a:rPr>
              <a:t>Друзья по переписк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авшая уже "классической" форма общения обучащихся по Интернету. Переписка по электронной почте, общение в чатах очень эффективны при изучении иностранных языков, для тренировки языковых умений и навыков и общением с носителями языка. Однако, многолетний опыт преподавателей, работающих с обучащимися в Интернет показал, что просто переписка - без определенной темы и не контролируемая преподавателем не будет эффективной и, едва начавшись, может тут же прерваться. "Друзьям по переписке" должны быть поставлены конкретные задачи, их деятельность должна вписываться в определенный учебный курс и осуществляться по плану. Эта формы работы очень часто используется при обучении обучащихся по проектной методике, в проектах по гуманитарным дисциплина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Дата 3"/>
          <p:cNvSpPr/>
          <p:nvPr/>
        </p:nvSpPr>
        <p:spPr>
          <a:xfrm>
            <a:off x="57960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09.09.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Номер слайда 5"/>
          <p:cNvSpPr/>
          <p:nvPr/>
        </p:nvSpPr>
        <p:spPr>
          <a:xfrm>
            <a:off x="7923240" y="6415200"/>
            <a:ext cx="9698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3483-2B22-46C1-B31D-3383B9CEC1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99"/>
                </a:solidFill>
                <a:latin typeface="Arial"/>
              </a:rPr>
              <a:t>Совместная творческая раб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от прием также хорошо известен всем тем, кто работал с обучащимися в рамках телекоммуникационных проектов. Обучащиеся получают одно творческое задание на двоих и начинают работу над ним в качестве соавторов. При этом возможны различные схемы совместной деятельности, которые обучащиеся могут выбрать сами или им это может подсказать преподавател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Дата 3"/>
          <p:cNvSpPr/>
          <p:nvPr/>
        </p:nvSpPr>
        <p:spPr>
          <a:xfrm>
            <a:off x="57960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09.09.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Номер слайда 5"/>
          <p:cNvSpPr/>
          <p:nvPr/>
        </p:nvSpPr>
        <p:spPr>
          <a:xfrm>
            <a:off x="7923240" y="6415200"/>
            <a:ext cx="9698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F369-2B85-4813-863A-018F4300BB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99"/>
                </a:solidFill>
                <a:latin typeface="Arial"/>
              </a:rPr>
              <a:t>Рецензировани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анная форма совместной работы обучащихся предусматривает обмен рецензиями на работы друг друга. Преподаватель ставит перед двумя обучащимися задачу: написать в качестве зачетной работы реферат, а затем, обменяться этими рефератами и написать на них рецензию. Когда работа будет выполнена, обучащиеся пересылают по электронной почте свои работы и рецензии на них преподавателю, тот проверяет их и дает свои комментар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Дата 3"/>
          <p:cNvSpPr/>
          <p:nvPr/>
        </p:nvSpPr>
        <p:spPr>
          <a:xfrm>
            <a:off x="57960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09.09.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Номер слайда 5"/>
          <p:cNvSpPr/>
          <p:nvPr/>
        </p:nvSpPr>
        <p:spPr>
          <a:xfrm>
            <a:off x="7923240" y="6415200"/>
            <a:ext cx="9698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00CA-D9A8-4D1F-B5E5-7EFBDBE9A5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99"/>
                </a:solidFill>
                <a:latin typeface="Arial"/>
              </a:rPr>
              <a:t>Коллективное обуч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испу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оклад (презентация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блемная лекц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стречи с эксперта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Object 4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Дата 3"/>
          <p:cNvSpPr/>
          <p:nvPr/>
        </p:nvSpPr>
        <p:spPr>
          <a:xfrm>
            <a:off x="57960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09.09.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Номер слайда 5"/>
          <p:cNvSpPr/>
          <p:nvPr/>
        </p:nvSpPr>
        <p:spPr>
          <a:xfrm>
            <a:off x="7923240" y="6415200"/>
            <a:ext cx="9698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F4B3-844B-4630-B642-65F7CF869A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99"/>
                </a:solidFill>
                <a:latin typeface="Arial"/>
              </a:rPr>
              <a:t>Диспу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испут - это публичный спор, одна из активных форм работы с обучащимися. Обычно посвящается обсуждению злободневных проблем. Диспуты могут проводиться и с помощью асинхронной коммуникации (с помощью списков рассылки, форумов), так и в виде телеконференций в режиме реального времен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ведение диспута должно тщательно планироваться, а участники диспута еще до его проведения должны познакомиться с темой, изучить достаточное количество первоисточников, чтобы аргументировано отстаивать свою точку зре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алее диспут проводится либо в форме видеоконференции, что очень близко по способу организации к традиционному диспуту, либо в форме асинхронной конференции. В этом случае кто-либо из участников или преподаватель пишет вступление. Каждый обучащийся (пара, группа обучащихся) публикует свое выступление на конференции; затем идет аргументированное обсуждение, в котором ключевую роль, опять же, играет координатор. Продолжительность асинхронного диспута, как правило, не превышает двух недель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испут можно объединить с ролевыми играми, индивидуальными или командным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12T08:28:28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