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7A9-752C-43BF-A3F0-065609A4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C9E-395A-4DB5-80C2-77DC5016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16F-8E98-4476-B4F6-9A86097E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49F-0642-4C1E-972D-C1BF051E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19F0-1EF3-4733-B82C-E28C6A6B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C1BE-A374-4B95-A333-8454E6E9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5DB0-2612-4E48-BF3D-02CF696D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D3DD-3F5F-4053-B528-F2115092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B8B8-D001-4E28-B48E-8ED75FA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5FAD-A093-48AE-9547-6ACC5075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B7F6-7CA5-42BB-B2F5-31A8F8D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275-D293-4653-A91C-AAD02AEC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3B39-337E-49C7-97A0-49D5F1F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976C-9F72-42D3-95E9-9F6AD91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99CA-EB12-4FC4-9DB6-B8F7070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19AF-BAB3-44B0-BEBD-3C7937DD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606-E219-460A-9CED-C5D74B09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AF1-8D2D-4BF8-9157-C4870B82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ACA-2EA5-4A21-8450-08507C6D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EDB-A609-4913-9B0B-60157691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70B-9966-42E0-8CE6-C6DF917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358-6BF1-4509-84B6-631D2789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6D1-9D4E-4772-9585-99ACF0C3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61E-3574-4084-BA74-0094C7C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9420-F9FD-455C-B427-2442A10FB7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D8FB-EA6D-41EE-9ED9-46E03645E0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Ландшафтный диза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й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н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560200" y="4889520"/>
            <a:ext cx="29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зунов Андр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 МБОУ СОШ №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Каменск-Шахти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рил: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еленская Н.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en-US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10" descr="34"/>
          <p:cNvPicPr/>
          <p:nvPr/>
        </p:nvPicPr>
        <p:blipFill>
          <a:blip r:embed="rId1"/>
          <a:stretch/>
        </p:blipFill>
        <p:spPr>
          <a:xfrm>
            <a:off x="395280" y="90792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u_846864626"/>
          <p:cNvPicPr/>
          <p:nvPr/>
        </p:nvPicPr>
        <p:blipFill>
          <a:blip r:embed="rId2"/>
          <a:stretch/>
        </p:blipFill>
        <p:spPr>
          <a:xfrm>
            <a:off x="2700360" y="3789360"/>
            <a:ext cx="3382920" cy="28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59268377_9e2bc17d30de"/>
          <p:cNvPicPr/>
          <p:nvPr/>
        </p:nvPicPr>
        <p:blipFill>
          <a:blip r:embed="rId3"/>
          <a:stretch/>
        </p:blipFill>
        <p:spPr>
          <a:xfrm>
            <a:off x="5724360" y="907920"/>
            <a:ext cx="31719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0_39f_167ad173_XL"/>
          <p:cNvPicPr/>
          <p:nvPr/>
        </p:nvPicPr>
        <p:blipFill>
          <a:blip r:embed="rId1"/>
          <a:stretch/>
        </p:blipFill>
        <p:spPr>
          <a:xfrm>
            <a:off x="250920" y="1557360"/>
            <a:ext cx="4319640" cy="475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9612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Ландшафтный дизаин участ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137(1)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6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en-US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en-US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6175"/>
          <p:cNvPicPr/>
          <p:nvPr/>
        </p:nvPicPr>
        <p:blipFill>
          <a:blip r:embed="rId1"/>
          <a:stretch/>
        </p:blipFill>
        <p:spPr>
          <a:xfrm>
            <a:off x="4932360" y="3429000"/>
            <a:ext cx="392256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103640" cy="322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436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4" descr="13"/>
          <p:cNvPicPr/>
          <p:nvPr/>
        </p:nvPicPr>
        <p:blipFill>
          <a:blip r:embed="rId1"/>
          <a:stretch/>
        </p:blipFill>
        <p:spPr>
          <a:xfrm>
            <a:off x="900000" y="1557360"/>
            <a:ext cx="7344000" cy="5078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yapon"/>
          <p:cNvPicPr/>
          <p:nvPr/>
        </p:nvPicPr>
        <p:blipFill>
          <a:blip r:embed="rId2"/>
          <a:stretch/>
        </p:blipFill>
        <p:spPr>
          <a:xfrm>
            <a:off x="4932360" y="3500280"/>
            <a:ext cx="38876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7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японском саду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3" descr="0_1c92b_e702ed24_XL"/>
          <p:cNvPicPr/>
          <p:nvPr/>
        </p:nvPicPr>
        <p:blipFill>
          <a:blip r:embed="rId1"/>
          <a:stretch/>
        </p:blipFill>
        <p:spPr>
          <a:xfrm>
            <a:off x="324000" y="3068640"/>
            <a:ext cx="410364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0c0d61b4f588"/>
          <p:cNvPicPr/>
          <p:nvPr/>
        </p:nvPicPr>
        <p:blipFill>
          <a:blip r:embed="rId2"/>
          <a:stretch/>
        </p:blipFill>
        <p:spPr>
          <a:xfrm>
            <a:off x="4716360" y="3068640"/>
            <a:ext cx="40323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60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3" descr="17"/>
          <p:cNvPicPr/>
          <p:nvPr/>
        </p:nvPicPr>
        <p:blipFill>
          <a:blip r:embed="rId1"/>
          <a:stretch/>
        </p:blipFill>
        <p:spPr>
          <a:xfrm>
            <a:off x="4897440" y="3035160"/>
            <a:ext cx="4067280" cy="348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0a1aaaaaa"/>
          <p:cNvPicPr/>
          <p:nvPr/>
        </p:nvPicPr>
        <p:blipFill>
          <a:blip r:embed="rId2"/>
          <a:stretch/>
        </p:blipFill>
        <p:spPr>
          <a:xfrm>
            <a:off x="468360" y="3036960"/>
            <a:ext cx="38163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Админ</cp:lastModifiedBy>
  <dcterms:modified xsi:type="dcterms:W3CDTF">2014-01-27T14:41:53Z</dcterms:modified>
  <cp:revision>38</cp:revision>
  <dc:subject/>
  <dc:title>Слайд 1</dc:title>
</cp:coreProperties>
</file>