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271-A68A-4F8A-A48B-907FA0BE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CD5-3A91-4940-9774-C920DBB7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7F2-889F-424B-9854-0190252C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70A-3407-4AE9-BF60-C5AF5062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25AB-3ECD-4CC0-B414-2EDADCA6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8725-3E83-47E2-B84C-EEC3A06B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4EA0-53D5-4512-B691-5D4FA8A7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2EB0-999F-43DB-978E-F129B249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6E2E-98E8-4F8C-B720-383081FD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972C-A9C1-4CBA-9704-BA707D58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EC39-51C7-4E8B-AE98-86130272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0FD-ABFA-4A42-A872-3DB13849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7411-B1AA-47E5-9F29-7861FF7B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EC6F-D1E1-4D11-8143-7ABB395E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C4AC-7959-4D1D-9340-DB4AC00C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76D2-34DA-4B97-91C2-7B973E0E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504A-3DCD-42FC-A275-BEE0D160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216-9F35-4EF7-8A9E-3EAD815A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C4F-101D-48E7-8F3D-8C387E4C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95A-B315-4287-8A1A-BCF6DA86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36E-B5C9-427D-8224-816774DF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F9E-5D2F-4822-A0AA-FE1DDA56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847-2C4D-4F83-B57E-37468485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994-80B8-4E1A-BAF3-F9BA23E6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2D41-D121-4C75-8D17-242336C55B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CC63-32E0-4855-9E33-1AEED360FE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Ландшафтный диза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й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н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560200" y="4889520"/>
            <a:ext cx="292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азунов Андр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к МБОУ СОШ №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Каменск-Шахтин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рил: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еленская Н.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en-US" sz="60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Picture 10" descr="34"/>
          <p:cNvPicPr/>
          <p:nvPr/>
        </p:nvPicPr>
        <p:blipFill>
          <a:blip r:embed="rId1"/>
          <a:stretch/>
        </p:blipFill>
        <p:spPr>
          <a:xfrm>
            <a:off x="395280" y="90792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u_846864626"/>
          <p:cNvPicPr/>
          <p:nvPr/>
        </p:nvPicPr>
        <p:blipFill>
          <a:blip r:embed="rId2"/>
          <a:stretch/>
        </p:blipFill>
        <p:spPr>
          <a:xfrm>
            <a:off x="2700360" y="3789360"/>
            <a:ext cx="3382920" cy="2852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59268377_9e2bc17d30de"/>
          <p:cNvPicPr/>
          <p:nvPr/>
        </p:nvPicPr>
        <p:blipFill>
          <a:blip r:embed="rId3"/>
          <a:stretch/>
        </p:blipFill>
        <p:spPr>
          <a:xfrm>
            <a:off x="5724360" y="907920"/>
            <a:ext cx="31719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12" descr="0_39f_167ad173_XL"/>
          <p:cNvPicPr/>
          <p:nvPr/>
        </p:nvPicPr>
        <p:blipFill>
          <a:blip r:embed="rId1"/>
          <a:stretch/>
        </p:blipFill>
        <p:spPr>
          <a:xfrm>
            <a:off x="250920" y="1557360"/>
            <a:ext cx="4319640" cy="475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curb-appeal-fall_house-e1286394205512"/>
          <p:cNvPicPr/>
          <p:nvPr/>
        </p:nvPicPr>
        <p:blipFill>
          <a:blip r:embed="rId2"/>
          <a:stretch/>
        </p:blipFill>
        <p:spPr>
          <a:xfrm>
            <a:off x="4643280" y="1557360"/>
            <a:ext cx="450072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49600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9612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Ландшафтный дизаин участ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137(1)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46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0" descr="post-591-1245698642_thumb"/>
          <p:cNvPicPr/>
          <p:nvPr/>
        </p:nvPicPr>
        <p:blipFill>
          <a:blip r:embed="rId1"/>
          <a:stretch/>
        </p:blipFill>
        <p:spPr>
          <a:xfrm>
            <a:off x="0" y="-38160"/>
            <a:ext cx="9252000" cy="6896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en-US" sz="60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en-US" sz="60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9" descr="6175"/>
          <p:cNvPicPr/>
          <p:nvPr/>
        </p:nvPicPr>
        <p:blipFill>
          <a:blip r:embed="rId1"/>
          <a:stretch/>
        </p:blipFill>
        <p:spPr>
          <a:xfrm>
            <a:off x="4932360" y="3429000"/>
            <a:ext cx="3922560" cy="32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landscape6"/>
          <p:cNvPicPr/>
          <p:nvPr/>
        </p:nvPicPr>
        <p:blipFill>
          <a:blip r:embed="rId2"/>
          <a:stretch/>
        </p:blipFill>
        <p:spPr>
          <a:xfrm>
            <a:off x="108000" y="3448080"/>
            <a:ext cx="4103640" cy="3224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436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4" descr="13"/>
          <p:cNvPicPr/>
          <p:nvPr/>
        </p:nvPicPr>
        <p:blipFill>
          <a:blip r:embed="rId1"/>
          <a:stretch/>
        </p:blipFill>
        <p:spPr>
          <a:xfrm>
            <a:off x="900000" y="1557360"/>
            <a:ext cx="7344000" cy="5078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364000" y="177336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100"/>
          <p:cNvPicPr/>
          <p:nvPr/>
        </p:nvPicPr>
        <p:blipFill>
          <a:blip r:embed="rId1"/>
          <a:stretch/>
        </p:blipFill>
        <p:spPr>
          <a:xfrm>
            <a:off x="179280" y="1798560"/>
            <a:ext cx="4969080" cy="4799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4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08000" y="2060640"/>
            <a:ext cx="4535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landscape"/>
          <p:cNvPicPr/>
          <p:nvPr/>
        </p:nvPicPr>
        <p:blipFill>
          <a:blip r:embed="rId1"/>
          <a:stretch/>
        </p:blipFill>
        <p:spPr>
          <a:xfrm>
            <a:off x="395280" y="2060640"/>
            <a:ext cx="4321080" cy="4557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918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9" descr="438b1b7b7b4e"/>
          <p:cNvPicPr/>
          <p:nvPr/>
        </p:nvPicPr>
        <p:blipFill>
          <a:blip r:embed="rId1"/>
          <a:stretch/>
        </p:blipFill>
        <p:spPr>
          <a:xfrm>
            <a:off x="250920" y="3500280"/>
            <a:ext cx="4174920" cy="312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yapon"/>
          <p:cNvPicPr/>
          <p:nvPr/>
        </p:nvPicPr>
        <p:blipFill>
          <a:blip r:embed="rId2"/>
          <a:stretch/>
        </p:blipFill>
        <p:spPr>
          <a:xfrm>
            <a:off x="4932360" y="3500280"/>
            <a:ext cx="38876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748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 японском саду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3" descr="0_1c92b_e702ed24_XL"/>
          <p:cNvPicPr/>
          <p:nvPr/>
        </p:nvPicPr>
        <p:blipFill>
          <a:blip r:embed="rId1"/>
          <a:stretch/>
        </p:blipFill>
        <p:spPr>
          <a:xfrm>
            <a:off x="324000" y="3068640"/>
            <a:ext cx="4103640" cy="3639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0c0d61b4f588"/>
          <p:cNvPicPr/>
          <p:nvPr/>
        </p:nvPicPr>
        <p:blipFill>
          <a:blip r:embed="rId2"/>
          <a:stretch/>
        </p:blipFill>
        <p:spPr>
          <a:xfrm>
            <a:off x="4716360" y="3068640"/>
            <a:ext cx="403236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60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3" descr="17"/>
          <p:cNvPicPr/>
          <p:nvPr/>
        </p:nvPicPr>
        <p:blipFill>
          <a:blip r:embed="rId1"/>
          <a:stretch/>
        </p:blipFill>
        <p:spPr>
          <a:xfrm>
            <a:off x="4897440" y="3035160"/>
            <a:ext cx="4067280" cy="3489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0a1aaaaaa"/>
          <p:cNvPicPr/>
          <p:nvPr/>
        </p:nvPicPr>
        <p:blipFill>
          <a:blip r:embed="rId2"/>
          <a:stretch/>
        </p:blipFill>
        <p:spPr>
          <a:xfrm>
            <a:off x="468360" y="3036960"/>
            <a:ext cx="381636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55:10Z</dcterms:created>
  <dc:creator>User</dc:creator>
  <dc:description/>
  <dc:language>en-US</dc:language>
  <cp:lastModifiedBy>Админ</cp:lastModifiedBy>
  <dcterms:modified xsi:type="dcterms:W3CDTF">2014-01-27T14:41:53Z</dcterms:modified>
  <cp:revision>38</cp:revision>
  <dc:subject/>
  <dc:title>Слайд 1</dc:title>
</cp:coreProperties>
</file>