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3D59-BE61-4340-8D3B-CD7701D61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985F-9F1F-4E6C-ACA0-1AFF2ECE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E357-5E59-4754-9B8A-1B73FED0F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00B4-B7B1-4429-A4CB-00A37E731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FE15C-F1AA-4BC8-BC49-EB12E7EEB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743CDE-AEF5-4B85-8279-06CC5DCC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66BD2B-3B9E-4E73-BDFF-0E7BF405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11DCD2-60DD-4ABB-8AD9-E13F16BC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96AD6-8ED0-4A7C-9720-EF1FAB26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60EFD2-AA88-4EA2-88C5-D1388AE5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7B21B-DA16-4E74-AEC2-1E6A2039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531F-4C0A-4391-ACEF-547E458A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B4D6D-F484-423A-A8E3-FB2B5B5C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72479-A8BD-45E8-8D7A-0EF88C47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337A9-A4C9-46D6-958C-F513EE06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D0FF9-E1EE-4FBC-BC16-F3244EFB6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AA4F3-E9C6-40B3-8FEE-CE413381D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BBAD-7961-42CF-BA02-357FD97E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A9DE-5BFA-4192-8A83-C839C7AD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1D42-9B1C-4F8F-B70A-91D9ED96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3B7E-574D-4B9D-B158-1F30992E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5F5F-3313-47F4-AC73-F1969EC5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FFD1-731C-4AD1-A922-8A28F89C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B0C1-F4C4-4744-9006-0639A238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6B59-A687-402D-9A4D-1DA081A65C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EAEF-53D9-47CB-8373-FFD83A9C5E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1413000"/>
            <a:ext cx="78595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«  Свободное  общество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вободных  людей»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.В. Пути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539640" y="0"/>
            <a:ext cx="8027280" cy="6856200"/>
            <a:chOff x="539640" y="0"/>
            <a:chExt cx="8027280" cy="6856200"/>
          </a:xfrm>
        </p:grpSpPr>
        <p:cxnSp>
          <p:nvCxnSpPr>
            <p:cNvPr id="98" name="_s101380"/>
            <p:cNvCxnSpPr>
              <a:stCxn id="99" idx="0"/>
              <a:endCxn id="100" idx="2"/>
            </p:cNvCxnSpPr>
            <p:nvPr/>
          </p:nvCxnSpPr>
          <p:spPr>
            <a:xfrm flipV="1" rot="16200000">
              <a:off x="5271840" y="2022480"/>
              <a:ext cx="1371960" cy="2810160"/>
            </a:xfrm>
            <a:prstGeom prst="bentConnector3">
              <a:avLst>
                <a:gd name="adj1" fmla="val 832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1" name="_s101381"/>
            <p:cNvCxnSpPr>
              <a:stCxn id="102" idx="0"/>
              <a:endCxn id="100" idx="2"/>
            </p:cNvCxnSpPr>
            <p:nvPr/>
          </p:nvCxnSpPr>
          <p:spPr>
            <a:xfrm flipV="1">
              <a:off x="4553280" y="2741760"/>
              <a:ext cx="3600" cy="1371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3" name="_s101382"/>
            <p:cNvCxnSpPr>
              <a:stCxn id="104" idx="0"/>
              <a:endCxn id="100" idx="2"/>
            </p:cNvCxnSpPr>
            <p:nvPr/>
          </p:nvCxnSpPr>
          <p:spPr>
            <a:xfrm flipH="1" flipV="1" rot="5400000">
              <a:off x="2462400" y="2022840"/>
              <a:ext cx="1371960" cy="2810160"/>
            </a:xfrm>
            <a:prstGeom prst="bentConnector3">
              <a:avLst>
                <a:gd name="adj1" fmla="val 832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0" name="_s101383"/>
            <p:cNvSpPr/>
            <p:nvPr/>
          </p:nvSpPr>
          <p:spPr>
            <a:xfrm>
              <a:off x="3349080" y="0"/>
              <a:ext cx="2408040" cy="2742480"/>
            </a:xfrm>
            <a:custGeom>
              <a:avLst/>
              <a:gdLst>
                <a:gd name="textAreaLeft" fmla="*/ 117360 w 2408040"/>
                <a:gd name="textAreaRight" fmla="*/ 2290680 w 2408040"/>
                <a:gd name="textAreaTop" fmla="*/ 117360 h 2742480"/>
                <a:gd name="textAreaBottom" fmla="*/ 2625120 h 2742480"/>
              </a:gdLst>
              <a:ahLst/>
              <a:rect l="textAreaLeft" t="textAreaTop" r="textAreaRight" b="textAreaBottom"/>
              <a:pathLst>
                <a:path w="21600" h="24599">
                  <a:moveTo>
                    <a:pt x="3600" y="0"/>
                  </a:moveTo>
                  <a:arcTo wR="3600" hR="3600" stAng="16200000" swAng="-5400000"/>
                  <a:lnTo>
                    <a:pt x="0" y="20999"/>
                  </a:lnTo>
                  <a:arcTo wR="3600" hR="3600" stAng="10800000" swAng="-5400000"/>
                  <a:lnTo>
                    <a:pt x="18000" y="245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Разноуровнев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задан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_s101384"/>
            <p:cNvSpPr/>
            <p:nvPr/>
          </p:nvSpPr>
          <p:spPr>
            <a:xfrm>
              <a:off x="539640" y="4113720"/>
              <a:ext cx="2408040" cy="2742480"/>
            </a:xfrm>
            <a:custGeom>
              <a:avLst/>
              <a:gdLst>
                <a:gd name="textAreaLeft" fmla="*/ 117360 w 2408040"/>
                <a:gd name="textAreaRight" fmla="*/ 2290680 w 2408040"/>
                <a:gd name="textAreaTop" fmla="*/ 117360 h 2742480"/>
                <a:gd name="textAreaBottom" fmla="*/ 2625120 h 2742480"/>
              </a:gdLst>
              <a:ahLst/>
              <a:rect l="textAreaLeft" t="textAreaTop" r="textAreaRight" b="textAreaBottom"/>
              <a:pathLst>
                <a:path w="21600" h="24599">
                  <a:moveTo>
                    <a:pt x="3600" y="0"/>
                  </a:moveTo>
                  <a:arcTo wR="3600" hR="3600" stAng="16200000" swAng="-5400000"/>
                  <a:lnTo>
                    <a:pt x="0" y="20999"/>
                  </a:lnTo>
                  <a:arcTo wR="3600" hR="3600" stAng="10800000" swAng="-5400000"/>
                  <a:lnTo>
                    <a:pt x="18000" y="245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Репродуктивно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подражательны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_s101385"/>
            <p:cNvSpPr/>
            <p:nvPr/>
          </p:nvSpPr>
          <p:spPr>
            <a:xfrm>
              <a:off x="3349080" y="4113720"/>
              <a:ext cx="2408040" cy="2742480"/>
            </a:xfrm>
            <a:custGeom>
              <a:avLst/>
              <a:gdLst>
                <a:gd name="textAreaLeft" fmla="*/ 117360 w 2408040"/>
                <a:gd name="textAreaRight" fmla="*/ 2290680 w 2408040"/>
                <a:gd name="textAreaTop" fmla="*/ 117360 h 2742480"/>
                <a:gd name="textAreaBottom" fmla="*/ 2625120 h 2742480"/>
              </a:gdLst>
              <a:ahLst/>
              <a:rect l="textAreaLeft" t="textAreaTop" r="textAreaRight" b="textAreaBottom"/>
              <a:pathLst>
                <a:path w="21600" h="24599">
                  <a:moveTo>
                    <a:pt x="3600" y="0"/>
                  </a:moveTo>
                  <a:arcTo wR="3600" hR="3600" stAng="16200000" swAng="-5400000"/>
                  <a:lnTo>
                    <a:pt x="0" y="20999"/>
                  </a:lnTo>
                  <a:arcTo wR="3600" hR="3600" stAng="10800000" swAng="-5400000"/>
                  <a:lnTo>
                    <a:pt x="18000" y="245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Поисково –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исполнительны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_s101386"/>
            <p:cNvSpPr/>
            <p:nvPr/>
          </p:nvSpPr>
          <p:spPr>
            <a:xfrm>
              <a:off x="6158880" y="4113720"/>
              <a:ext cx="2408040" cy="2742480"/>
            </a:xfrm>
            <a:custGeom>
              <a:avLst/>
              <a:gdLst>
                <a:gd name="textAreaLeft" fmla="*/ 117360 w 2408040"/>
                <a:gd name="textAreaRight" fmla="*/ 2290680 w 2408040"/>
                <a:gd name="textAreaTop" fmla="*/ 117360 h 2742480"/>
                <a:gd name="textAreaBottom" fmla="*/ 2625120 h 2742480"/>
              </a:gdLst>
              <a:ahLst/>
              <a:rect l="textAreaLeft" t="textAreaTop" r="textAreaRight" b="textAreaBottom"/>
              <a:pathLst>
                <a:path w="21600" h="24599">
                  <a:moveTo>
                    <a:pt x="3600" y="0"/>
                  </a:moveTo>
                  <a:arcTo wR="3600" hR="3600" stAng="16200000" swAng="-5400000"/>
                  <a:lnTo>
                    <a:pt x="0" y="20999"/>
                  </a:lnTo>
                  <a:arcTo wR="3600" hR="3600" stAng="10800000" swAng="-5400000"/>
                  <a:lnTo>
                    <a:pt x="18000" y="245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Инициативно-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творчески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Чистороворки 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должить  чистоговорку,  выбрать  нужное  слово  из  предложенных  двух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ончить  фразу  самостоятельно,  подобрать  рифмующиеся  слоги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думать  свою  чистоговорк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читалки 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78100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1- й уровень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Сочинить  считалку,  подобрав  рифмы  из  правого  столбика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258560" y="3357360"/>
            <a:ext cx="482436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чинается считалк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дубу скворец 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летел дом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 считалочк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435280" y="2133360"/>
            <a:ext cx="3708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кворе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ал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не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101 -0.02887 L -0.26545 0.06561 E">
                                      <p:cBhvr>
                                        <p:cTn id="205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875 0.00139 L -0.14757 -0.10348 E">
                                      <p:cBhvr>
                                        <p:cTn id="209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13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читалк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26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-й уровень. Даны рифмы. Подобрать подходящие по смыслу слова, чтобы получилась считал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читал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3-й уровень. Сочинить свою считалку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35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Ехал Ваня на базар,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и купил там самовар.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аз-два-три-четыре-пять,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ачинаем мы играть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429264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Кристина С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На  уроках  русского  языка,  развития  речи  предлагаю  детям  занимательные  задания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3141360"/>
            <a:ext cx="82296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реди  данных  слов  (картинок)  найди  рифмующиеся  слова,  соедини  их  стрелкам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.  Игра  «Поймай  рифму»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8229600" cy="30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росаю  мяч  и  называю  слово,  задача  ребёнка – поймать  мяч  и  придумать  слово,  рифмующиеся  с  моим,  а  затем  бросить  мне  мяч  и  сказать  своё  слов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.  Игра  «Четвёртый  лишний»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звать  лишнее  слово,  которое  не  рифмуется  с  остальны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57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бразование  должно  быть направлено на  раскрытие  творческого  потенциала  и  инициативы  личности,  на  формирование  восприимчивости  к  новизне  и  готовности  изменять  мир  и  себя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91520" cy="58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остепенно  задания  усложняются.  Мы  переходим  к  сочинению  двустиший  и  четверостиший.  Детям  нравится  выполнять  задания  разного  уровня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-й уровень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2924280"/>
            <a:ext cx="8229600" cy="26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кончить  строчку  стихотворения,  выбрав  нужную  рифму  из  предложенных  трёх  слов.  Подчеркните  подходящее   слов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-й уровень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2491920"/>
            <a:ext cx="82296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полнить  классификацию,  распределив  слова  на  2  группы  рифмующихся  сл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-й уровень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)  На  основе  группы  рифмующихся  слов  из  задания  2 –го  придумать  небольшое  стихотворе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) Продолжить  стихотворе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) Придумать  свою  группу  рифмующихся  слов   и  на  их  основе  сочинить  небольшое  стихотвор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686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пит  щенок  в  ночи  унылой  Завалился  на  бочок,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одбегает  к  нему  Рыжик –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Это  наш  забавный  кот.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Спят  они   в одной  кроватке,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Тихо – тихо  не  шумят,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Днём  они  дерутся  часто,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Жить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не  могут  дружно  так.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(Кристина С.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тихосложение – это  первый  этап  в  развитии  творческих  способностей  детей,  который  позволяет  им  глубже  постигать  и  ценить  образы  подлинной  художественно – поэтической  речи,  принадлежащие  перу  великих  поэто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8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Уроки  чтения  провожу  так,  чтобы  через  произведения  великих  мастеров  русского  слова:  А.С. Пушкина,  М.Ю. Лермонтова,  Н.А.Некрасова,  Ф.И.Тютчева,  А.А. Фета,  С.А.Есенина,  дети  открыли  для  себя  красоту  окружающего  нас  мира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Ребёнок  по  своей  природе – пытливый  исследователь, открыватель  мира.  Так  пусть  перед  ним  открывается  чудесный  мир  в  живых  красках,  ярких  и  трепетных  звуках,  в  сказке,  игре,  в  собственном  творчестве,  в  красоте.  Через  сказку,  игру,  через  неповторимое  детское  творчество – верная  дорога  к  сердцу  ребёнка».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 В.А. Сухомлинск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6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Искусство  помогает  «открыть  уста  детей»,  желание  поделиться  своими  чувствами  и  мыслями,  пробуждает  фантазию,  помогает  осознать  своё  место  в  этом  мире.  Тема,  раскрытая  разными  видами  искусства,  формирует  основы  целостного  представления  об  окружающем  мире,  отражённом  в  музыке,  изобразительном искусстве,  литератур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1905120"/>
          <a:ext cx="8229600" cy="411480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ринцип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Восприятие  ребёнка  как  личност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Внимательное  и  чуткое  отношение  ко  всем  проявлениям  творческой  активности  младших  школьнико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Предоставления  ребёнку  психологической  свободы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Повышение  и  укрепление  самооцен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Создание  творчески  обогащённой  образовательной  среды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Творческая  позиция  педагог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Задачи интегрированных уроков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 развивать  общую  культуру  школьника,  приобщая  к  общечеловеческим  ценностям  художественной  культур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 помогать  понять  своеобразие  и  единство  «языка»  разных  видов  искусства  посредством  сопоставления  и  анализ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 развивать  эмоциональную  сферу  учени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развивать  познавательные  способности  учащихся  (восприятие, память, мышление,  воображение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 развивать  музыкальную  культуру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 развивать  творческую  активнос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 воспитывать  чувство  любви  к  природ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686800" cy="616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очинение – высшая  форма  проявления  способностей  ребёнка, требующая  от  него  высокого,  эмоционального  напряжения.  Детям  нравится  быть  в  роли  автора.  При  написании  сочинения  ученик  выражает  свои  мысли  и  чувства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6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Каждая  работа – результат  детского  самовыражения  в  слове,  которое  не  может  и  не  должно  быть  гладким  и  ровным.  Это  форма  мысли  и  творчеств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686800" cy="65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Использование произведений искусства на уроках литературного чтения и развития речи помогает ученикам не только увидеть, услышать, понять и почувствовать богатство и разнообразие окружающего мира, но и развивает умение находить и активно использовать в речи  изобразительно – выразительные  средства языка, правильно стилистически излагать свои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мысли и чувств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Цель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формирование  творческой  личности  школьника  средствами  художественно – творческой  деятельности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Каждый  урок  это  исследования,  это  поиск.  Дети  учатся  анализировать,  рассуждать,  отстаивать  свою  точку  зрения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1342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Разнообразные  задания  в  «Чудо  прописи»  В.А. Илюхино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55280" y="2637000"/>
            <a:ext cx="727236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развивают  и  обогащают  речь, они  формируют  способность  к  анализу,  синтезу,  сравнению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8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748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1. Допиши  недостающее  слово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2. Составь  из  слов  предложения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3. Переставь  в  слове  буквы  так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чтобы  получилось  новое  слово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(анограммы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4.  Из  букв  данного  слова  составь  новое  слово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адания 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 прочитай  скороговорку  с  повествовательной,  восклицательной,  вопросительной  интонацией,  делая  логическое  ударение  каждый  раз  на  другое  слово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 вырази  мимикой,  жестами,  голосом  восхищение,  удивление, иронию,  насмешку,  грусть,  обиду, возмуще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 придумай  жизненные  ситуации,  когда  можно  эту  фразу  по – разном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гра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«Кто  больше  подберёт  рифм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2565360"/>
            <a:ext cx="82296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Косы – росы-  кокос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тичка -  водичка - синич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Ручка – тучка - куч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21:53:48Z</dcterms:created>
  <dc:creator>Ultra</dc:creator>
  <dc:description/>
  <dc:language>en-US</dc:language>
  <cp:lastModifiedBy>Ultra</cp:lastModifiedBy>
  <dcterms:modified xsi:type="dcterms:W3CDTF">2008-01-23T00:28:06Z</dcterms:modified>
  <cp:revision>2</cp:revision>
  <dc:subject/>
  <dc:title>«  Свободное  общество          свободных  людей»                             В.В. Путин</dc:title>
</cp:coreProperties>
</file>