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1B0-2FC4-41D7-9713-A4DE3134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F61-AA4B-4AED-93BD-DCF5F11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BB2-0C20-4E7C-9A43-22F207F8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668-C9AF-4EF2-801C-00DAA9BF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F22B7-ACCA-411B-AC4B-066B16E5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CF37F-FBDB-41E2-B116-E8C91F9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A2F16-EF44-4E64-81EF-864F56A5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29A0E-B9D1-4510-9E38-3452AB7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F73E8-FF3B-47F1-992E-53007DB5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77BB-D6AF-4BD4-AEE5-947F343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2889A-47F5-4B92-8240-F5E4381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EAC-16EF-45C0-8F9F-909EA92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5D6E-E720-4281-8F33-1D548AF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2E9FF-1CE9-4CD6-AFA5-B2A25FD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2E86D-F585-48E1-AA6C-DE98527B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CC23-1772-481F-B3BF-3E01BE2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A1F8-9CC2-4D64-9892-DA7DB526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06E-8BFA-4794-810A-5E4CDAC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9CC-C1C7-49AE-9A4A-4CC410F9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3A9-6F3D-4DE0-A78F-B6AC03E9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5ED-C7E8-48F2-ADE7-C43B6D32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47F-0128-4412-8F8B-BEEDA358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294-CE44-40FE-80F5-C2F2CF95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839-AFC5-4904-B945-151EA53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9D6-BB1B-460C-9D61-8E77627B3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CA2-3574-419F-8532-DBD588EAF9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859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  Свободное  общество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ободных  людей»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.В. Пу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9640" y="0"/>
            <a:ext cx="8027280" cy="6856200"/>
            <a:chOff x="539640" y="0"/>
            <a:chExt cx="8027280" cy="6856200"/>
          </a:xfrm>
        </p:grpSpPr>
        <p:cxnSp>
          <p:nvCxnSpPr>
            <p:cNvPr id="98" name="_s101380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271840" y="2022480"/>
              <a:ext cx="1371960" cy="28101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01381"/>
            <p:cNvCxnSpPr>
              <a:stCxn id="102" idx="0"/>
              <a:endCxn id="100" idx="2"/>
            </p:cNvCxnSpPr>
            <p:nvPr/>
          </p:nvCxnSpPr>
          <p:spPr>
            <a:xfrm flipV="1">
              <a:off x="4553280" y="2741760"/>
              <a:ext cx="3600" cy="1371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101382"/>
            <p:cNvCxnSpPr>
              <a:stCxn id="104" idx="0"/>
              <a:endCxn id="100" idx="2"/>
            </p:cNvCxnSpPr>
            <p:nvPr/>
          </p:nvCxnSpPr>
          <p:spPr>
            <a:xfrm flipH="1" flipV="1" rot="5400000">
              <a:off x="2462400" y="2022840"/>
              <a:ext cx="1371960" cy="28101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0" name="_s101383"/>
            <p:cNvSpPr/>
            <p:nvPr/>
          </p:nvSpPr>
          <p:spPr>
            <a:xfrm>
              <a:off x="3349080" y="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зноуровн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зад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1384"/>
            <p:cNvSpPr/>
            <p:nvPr/>
          </p:nvSpPr>
          <p:spPr>
            <a:xfrm>
              <a:off x="53964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продуктив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одражате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01385"/>
            <p:cNvSpPr/>
            <p:nvPr/>
          </p:nvSpPr>
          <p:spPr>
            <a:xfrm>
              <a:off x="334908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исково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исполните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01386"/>
            <p:cNvSpPr/>
            <p:nvPr/>
          </p:nvSpPr>
          <p:spPr>
            <a:xfrm>
              <a:off x="6158880" y="4113720"/>
              <a:ext cx="2408040" cy="2742480"/>
            </a:xfrm>
            <a:custGeom>
              <a:avLst/>
              <a:gdLst>
                <a:gd name="textAreaLeft" fmla="*/ 117360 w 2408040"/>
                <a:gd name="textAreaRight" fmla="*/ 2290680 w 2408040"/>
                <a:gd name="textAreaTop" fmla="*/ 117360 h 2742480"/>
                <a:gd name="textAreaBottom" fmla="*/ 2625120 h 2742480"/>
              </a:gdLst>
              <a:ahLst/>
              <a:rect l="textAreaLeft" t="textAreaTop" r="textAreaRight" b="textAreaBottom"/>
              <a:pathLst>
                <a:path w="21600" h="24599">
                  <a:moveTo>
                    <a:pt x="3600" y="0"/>
                  </a:moveTo>
                  <a:arcTo wR="3600" hR="3600" stAng="16200000" swAng="-5400000"/>
                  <a:lnTo>
                    <a:pt x="0" y="20999"/>
                  </a:lnTo>
                  <a:arcTo wR="3600" hR="3600" stAng="10800000" swAng="-5400000"/>
                  <a:lnTo>
                    <a:pt x="18000" y="245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нициативно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творческ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истороворк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ь  чистоговорку,  выбрать  нужное  слово  из  предложенных  дву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чить  фразу  самостоятельно,  подобрать  рифмующиеся  слоги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думать  свою  чистоговор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1- й уровень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Сочинить  считалку,  подобрав  рифмы  из  правого  столбик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58560" y="3357360"/>
            <a:ext cx="48243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инается считал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дубу скворец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летел до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читалочк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35280" y="2133360"/>
            <a:ext cx="370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вор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01 -0.02887 L -0.26545 0.06561 E">
                                      <p:cBhvr>
                                        <p:cTn id="205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00139 L -0.14757 -0.10348 E">
                                      <p:cBhvr>
                                        <p:cTn id="20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-й уровень. Даны рифмы. Подобрать подходящие по смыслу слова, чтобы получилась считал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чита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-й уровень. Сочинить свою считал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хал Ваня на базар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купил там самовар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-два-три-четыре-пять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инаем мы игра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2926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Кристина С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  уроках  русского  языка,  развития  речи  предлагаю  детям  занимательные  зад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и  данных  слов  (картинок)  найди  рифмующиеся  слова,  соедини  их  стрелк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  Игра  «Поймай  рифму»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осаю  мяч  и  называю  слово,  задача  ребёнка – поймать  мяч  и  придумать  слово,  рифмующиеся  с  моим,  а  затем  бросить  мне  мяч  и  сказать  своё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 Игра  «Четвёртый  лишний»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звать  лишнее  слово,  которое  не  рифмуется  с  остальн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разование  должно  быть направлено на  раскрытие  творческого  потенциала  и  инициативы  личности,  на  формирование  восприимчивости  к  новизне  и  готовности  изменять  мир  и  себ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тепенно  задания  усложняются.  Мы  переходим  к  сочинению  двустиший  и  четверостиший.  Детям  нравится  выполнять  задания  разного  уровн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ончить  строчку  стихотворения,  выбрав  нужную  рифму  из  предложенных  трёх  слов.  Подчеркните  подходящее   сл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ть  классификацию,  распределив  слова  на  2  группы  рифмующихся  с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й уровен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На  основе  группы  рифмующихся  слов  из  задания  2 –го  придумать  небольшое  стихотвор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) Продолжить  стихотвор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) Придумать  свою  группу  рифмующихся  слов   и  на  их  основе  сочинить  небольшое  стихотв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ит  щенок  в  ночи  унылой  Завалился  на  бочок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бегает  к  нему  Рыжик –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Это  наш  забавный  кот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Спят  они   в одной  кроватке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Тихо – тихо  не  шумя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Днём  они  дерутся  часто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Жи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не  могут  дружно  так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Кристина С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тихосложение – это  первый  этап  в  развитии  творческих  способностей  детей,  который  позволяет  им  глубже  постигать  и  ценить  образы  подлинной  художественно – поэтической  речи,  принадлежащие  перу  великих  поэ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0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ки  чтения  провожу  так,  чтобы  через  произведения  великих  мастеров  русского  слова:  А.С. Пушкина,  М.Ю. Лермонтова,  Н.А.Некрасова,  Ф.И.Тютчева,  А.А. Фета,  С.А.Есенина,  дети  открыли  для  себя  красоту  окружающего  нас  мира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ебёнок  по  своей  природе – пытливый  исследователь, открыватель  мира.  Так  пусть  перед  ним  открывается  чудесный  мир  в  живых  красках,  ярких  и  трепетных  звуках,  в  сказке,  игре,  в  собственном  творчестве,  в  красоте.  Через  сказку,  игру,  через  неповторимое  детское  творчество – верная  дорога  к  сердцу  ребёнка»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В.А. Сухомл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кусство  помогает  «открыть  уста  детей»,  желание  поделиться  своими  чувствами  и  мыслями,  пробуждает  фантазию,  помогает  осознать  своё  место  в  этом  мире.  Тема,  раскрытая  разными  видами  искусства,  формирует  основы  целостного  представления  об  окружающем  мире,  отражённом  в  музыке,  изобразительном искусстве,  литератур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нцип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осприятие  ребёнка  как  лич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Внимательное  и  чуткое  отношение  ко  всем  проявлениям  творческой  активности  младших  школьник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едоставления  ребёнку  психологической  своб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вышение  и  укрепление  самооце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здание  творчески  обогащённой  образовательной  сре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Творческая  позиция  педагог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 интегрированных урок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общую  культуру  школьника,  приобщая  к  общечеловеческим  ценностям  художественной  культу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помогать  понять  своеобразие  и  единство  «языка»  разных  видов  искусства  посредством  сопоставления  и  анализ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эмоциональную  сферу  учен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развивать  познавательные  способности  учащихся  (восприятие, память, мышление,  воображ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музыкальную  культу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развивать  творческую  актив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воспитывать  чувство  любви  к 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6868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чинение – высшая  форма  проявления  способностей  ребёнка, требующая  от  него  высокого,  эмоционального  напряжения.  Детям  нравится  быть  в  роли  автора.  При  написании  сочинения  ученик  выражает  свои  мысли  и  чувства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ждая  работа – результат  детского  самовыражения  в  слове,  которое  не  может  и  не  должно  быть  гладким  и  ровным.  Это  форма  мысли  и  творчест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686800" cy="65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спользование произведений искусства на уроках литературного чтения и развития речи помогает ученикам не только увидеть, услышать, понять и почувствовать богатство и разнообразие окружающего мира, но и развивает умение находить и активно использовать в речи  изобразительно – выразительные  средства языка, правильно стилистически излагать сво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мысли и чув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ирование  творческой  личности  школьника  средствами  художественно – творческой 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ждый  урок  это  исследования,  это  поиск.  Дети  учатся  анализировать,  рассуждать,  отстаивать  свою  точку  зре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знообразные  задания  в  «Чудо  прописи»  В.А. Илюхин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звивают  и  обогащают  речь, они  формируют  способность  к  анализу,  синтезу,  сравнению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1. Допиши  недостающее  сло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2. Составь  из  слов  предлож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3. Переставь  в  слове  буквы  так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чтобы  получилось  новое  слово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(анограмм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4.  Из  букв  данного  слова  составь  новое  слов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я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прочитай  скороговорку  с  повествовательной,  восклицательной,  вопросительной  интонацией,  делая  логическое  ударение  каждый  раз  на  другое  слов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вырази  мимикой,  жестами,  голосом  восхищение,  удивление, иронию,  насмешку,  грусть,  обиду, возму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придумай  жизненные  ситуации,  когда  можно  эту  фразу  по – разн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гра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«Кто  больше  подберёт  риф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сы – росы-  кок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тичка -  водичка - синич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учка – тучка - куч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1:53:48Z</dcterms:created>
  <dc:creator>Ultra</dc:creator>
  <dc:description/>
  <dc:language>en-US</dc:language>
  <cp:lastModifiedBy>Ultra</cp:lastModifiedBy>
  <dcterms:modified xsi:type="dcterms:W3CDTF">2008-01-23T00:28:06Z</dcterms:modified>
  <cp:revision>2</cp:revision>
  <dc:subject/>
  <dc:title>«  Свободное  общество          свободных  людей»                             В.В. Путин</dc:title>
</cp:coreProperties>
</file>