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60A1-84A6-41C3-AFC0-E836E8A4B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50D1-07D3-4712-98E6-6B617B24F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3342-A323-4264-82C2-D80033350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1ACD-8B09-4CBD-B7E7-61F2EC3B0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508C5-80F2-43E1-B80C-2FC5971A2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50DCF-5B1E-4875-89E4-59AAE63E2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0BC62-4CD1-4269-B881-99FA94F15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9FC09-79A0-469F-9A56-2A3A89069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514F9-285A-4494-A76B-6C085902E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B7CDE-0603-45A7-8EDB-F7A809470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E66CB-A295-4CA5-AA94-C108BBFE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13AC-718B-4172-BE63-C6695359D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825B4-5C73-44A1-A6AB-4551473E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887CE-A86D-4223-BED1-A9601FEA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06B48-78D6-4A06-8F3C-57D238E26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99B4C-590C-4B6A-8BBD-66137EDDF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1B2DD-75F1-47D5-BFAF-B3E4A3AAF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4B85-7D1F-484F-8E46-9470F14C9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92AB-FD1A-4EF7-857D-0F99B2B84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ECC2-2C47-4B25-BDD5-03C51C7CD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E763-3848-4FD5-A9D5-D158AF442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496D-BA2A-4ACA-956D-4EF5E3D8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0BDF-03DB-4B93-A4B3-A75DE0F5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3591-C064-48BB-A38A-F5545191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59C35-0963-402D-A00A-5DF32F546C3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EB22E-0562-46C2-BF34-B8AB0E8DCCEA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2268360" y="476280"/>
            <a:ext cx="4392720" cy="45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dobe Garamond Pro Bold"/>
              </a:rPr>
              <a:t>SUPERSTI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dobe Garamond Pro Bold"/>
              </a:rPr>
              <a:t>MYSTER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dobe Garamond Pro Bold"/>
              </a:rPr>
              <a:t>&amp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332000" y="5084640"/>
            <a:ext cx="64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66"/>
                </a:solidFill>
                <a:latin typeface="Adobe Garamond Pro Bold"/>
              </a:rPr>
              <a:t>BELIEF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13600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1" lang="en-GB" sz="7200" spc="-1" strike="noStrike">
                <a:solidFill>
                  <a:srgbClr val="ffff66"/>
                </a:solidFill>
                <a:latin typeface="Arial"/>
              </a:rPr>
              <a:t>MIX PAIR SHARE”</a:t>
            </a:r>
            <a:endParaRPr b="0" lang="en-US" sz="7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314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66ccff"/>
              </a:solidFill>
              <a:latin typeface="Arial"/>
            </a:endParaRPr>
          </a:p>
        </p:txBody>
      </p:sp>
      <p:pic>
        <p:nvPicPr>
          <p:cNvPr id="102" name="Рисунок 3" descr="http://for-css.ru/_ld/49/4918.jpeg"/>
          <p:cNvPicPr/>
          <p:nvPr/>
        </p:nvPicPr>
        <p:blipFill>
          <a:blip r:embed="rId1"/>
          <a:stretch/>
        </p:blipFill>
        <p:spPr>
          <a:xfrm>
            <a:off x="1908000" y="3357720"/>
            <a:ext cx="5400720" cy="33112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CORNERS”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2700360" y="2861280"/>
            <a:ext cx="604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66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55640" y="1267200"/>
            <a:ext cx="8024760" cy="43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Arial"/>
              </a:rPr>
              <a:t>THE ORIGIN OF “TOUCH WOOD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Arial"/>
              </a:rPr>
              <a:t>THE MYSTERY OF SAL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Arial"/>
              </a:rPr>
              <a:t>THE MYTH OF HOUSEWARMING GIF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66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1" lang="en-US" sz="4800" spc="-1" strike="noStrike">
                <a:solidFill>
                  <a:srgbClr val="ffff66"/>
                </a:solidFill>
                <a:latin typeface="Arial"/>
              </a:rPr>
              <a:t>ROUND TABLE”</a:t>
            </a:r>
            <a:r>
              <a:rPr b="1" lang="ru-RU" sz="4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484360" y="2998800"/>
          <a:ext cx="6202440" cy="2816280"/>
        </p:xfrm>
        <a:graphic>
          <a:graphicData uri="http://schemas.openxmlformats.org/drawingml/2006/table">
            <a:tbl>
              <a:tblPr/>
              <a:tblGrid>
                <a:gridCol w="6202440"/>
              </a:tblGrid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d0d0d"/>
                          </a:solidFill>
                          <a:latin typeface="Adobe Garamond Pro Bold"/>
                        </a:rPr>
                        <a:t>COMPLETE THE TEXT USING APPROPRIATE TENSE.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8" name="Picture 16" descr="2"/>
          <p:cNvPicPr/>
          <p:nvPr/>
        </p:nvPicPr>
        <p:blipFill>
          <a:blip r:embed="rId1"/>
          <a:stretch/>
        </p:blipFill>
        <p:spPr>
          <a:xfrm>
            <a:off x="250920" y="3645000"/>
            <a:ext cx="2394000" cy="29224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1944720" cy="194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2016000" y="1655640"/>
          <a:ext cx="5256360" cy="4784760"/>
        </p:xfrm>
        <a:graphic>
          <a:graphicData uri="http://schemas.openxmlformats.org/drawingml/2006/table">
            <a:tbl>
              <a:tblPr/>
              <a:tblGrid>
                <a:gridCol w="5256360"/>
              </a:tblGrid>
              <a:tr h="478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4d"/>
                          </a:solidFill>
                          <a:latin typeface="Times New Roman"/>
                          <a:ea typeface="Times New Roman"/>
                        </a:rPr>
                        <a:t>1)WHY DO SOME PEOPLE THROW SPILT SALT OVER THEIR SHOULDERS?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4d"/>
                          </a:solidFill>
                          <a:latin typeface="Times New Roman"/>
                          <a:ea typeface="Times New Roman"/>
                        </a:rPr>
                        <a:t>2)WHAT IS THE ORIGIN OF THE PHRAS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4d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1" lang="en-US" sz="2800" spc="-1" strike="noStrike">
                          <a:solidFill>
                            <a:srgbClr val="00004d"/>
                          </a:solidFill>
                          <a:latin typeface="Times New Roman"/>
                          <a:ea typeface="Times New Roman"/>
                        </a:rPr>
                        <a:t>TOUCH WOOD”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4d"/>
                          </a:solidFill>
                          <a:latin typeface="Times New Roman"/>
                          <a:ea typeface="Times New Roman"/>
                        </a:rPr>
                        <a:t>3)WHERE DOES THE PRACTICE OF A “HOUSEWARMING GIFT” COME FROM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1" lang="en-GB" sz="4800" spc="-1" strike="noStrike">
                <a:solidFill>
                  <a:srgbClr val="ffff66"/>
                </a:solidFill>
                <a:latin typeface="Arial"/>
              </a:rPr>
              <a:t>A/R GUIDE”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600200"/>
          <a:ext cx="7115040" cy="2830680"/>
        </p:xfrm>
        <a:graphic>
          <a:graphicData uri="http://schemas.openxmlformats.org/drawingml/2006/table">
            <a:tbl>
              <a:tblPr/>
              <a:tblGrid>
                <a:gridCol w="263520"/>
                <a:gridCol w="6851520"/>
              </a:tblGrid>
              <a:tr h="283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66ccff"/>
                          </a:solidFill>
                          <a:latin typeface="Adobe Garamond Pro Bold"/>
                        </a:rPr>
                        <a:t>    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66ccff"/>
                          </a:solidFill>
                          <a:latin typeface="Adobe Garamond Pro Bold"/>
                        </a:rPr>
                        <a:t>   </a:t>
                      </a:r>
                      <a:r>
                        <a:rPr b="1" lang="en-US" sz="5400" spc="-1" strike="noStrike">
                          <a:solidFill>
                            <a:srgbClr val="66ccff"/>
                          </a:solidFill>
                          <a:latin typeface="Adobe Garamond Pro Bold"/>
                        </a:rPr>
                        <a:t>GOOD  OR BAD LUCK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5BASCAD1ATPFCAZ32D4ACAU79TWTCADI3N0MCA92UZ9NCARXWX34CAQFVMXHCAX5N35HCAI9RL7WCAVKTTOUCAP8RNESCAQ2EY9JCAJGI9U5CA4Q9HR6CAMO1JBVCAS6JD9JCA2QPCUPCATBGVQGCA1MS6PO"/>
          <p:cNvPicPr/>
          <p:nvPr/>
        </p:nvPicPr>
        <p:blipFill>
          <a:blip r:embed="rId1"/>
          <a:stretch/>
        </p:blipFill>
        <p:spPr>
          <a:xfrm>
            <a:off x="179280" y="189000"/>
            <a:ext cx="2376720" cy="189684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5"/>
          <p:cNvSpPr/>
          <p:nvPr/>
        </p:nvSpPr>
        <p:spPr>
          <a:xfrm>
            <a:off x="2556000" y="574920"/>
            <a:ext cx="676908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4d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004d"/>
                </a:solidFill>
                <a:latin typeface="Arial"/>
              </a:rPr>
              <a:t>THINK- WRITE- ROBIN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d"/>
                </a:solidFill>
                <a:latin typeface="Arial"/>
              </a:rPr>
              <a:t>-HAVE YOU CHANGED ANY ANSW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d"/>
                </a:solidFill>
                <a:latin typeface="Arial"/>
              </a:rPr>
              <a:t>-WHAT AND WH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d"/>
                </a:solidFill>
                <a:latin typeface="Arial"/>
              </a:rPr>
              <a:t>-WHAT SUPERSTITIONS DO YOU BELIEV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d"/>
                </a:solidFill>
                <a:latin typeface="Arial"/>
              </a:rPr>
              <a:t>- WH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66"/>
                </a:solidFill>
                <a:latin typeface="Arial"/>
              </a:rPr>
              <a:t>WORD CINQUAIN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187280" y="1341360"/>
          <a:ext cx="8229600" cy="4525920"/>
        </p:xfrm>
        <a:graphic>
          <a:graphicData uri="http://schemas.openxmlformats.org/drawingml/2006/table">
            <a:tbl>
              <a:tblPr/>
              <a:tblGrid>
                <a:gridCol w="432000"/>
                <a:gridCol w="7797600"/>
              </a:tblGrid>
              <a:tr h="4525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1 line: a word or two to name the topic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2 line: two or three words that describe the topic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3 line: three or four words that express action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4 line: four or five words that express personal attitude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5 line: a word or two to rename the topic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457200" y="476280"/>
          <a:ext cx="1893960" cy="2130480"/>
        </p:xfrm>
        <a:graphic>
          <a:graphicData uri="http://schemas.openxmlformats.org/drawingml/2006/table">
            <a:tbl>
              <a:tblPr/>
              <a:tblGrid>
                <a:gridCol w="1893960"/>
              </a:tblGrid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86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1835280" y="1197000"/>
          <a:ext cx="4897440" cy="3747960"/>
        </p:xfrm>
        <a:graphic>
          <a:graphicData uri="http://schemas.openxmlformats.org/drawingml/2006/table">
            <a:tbl>
              <a:tblPr/>
              <a:tblGrid>
                <a:gridCol w="215640"/>
                <a:gridCol w="4681800"/>
              </a:tblGrid>
              <a:tr h="3750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HOME TASK: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TO MAKE UP YOUR OWN STORY USING SOME NEW SUPERSTITIONS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1T10:02:52Z</dcterms:created>
  <dc:creator>Юля</dc:creator>
  <dc:description/>
  <dc:language>en-US</dc:language>
  <cp:lastModifiedBy>пк</cp:lastModifiedBy>
  <dcterms:modified xsi:type="dcterms:W3CDTF">2014-01-22T19:12:45Z</dcterms:modified>
  <cp:revision>10</cp:revision>
  <dc:subject/>
  <dc:title>Слайд 1</dc:title>
</cp:coreProperties>
</file>