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74EB-DDCB-48C5-AA5E-88FD4D051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F037-D070-48DC-8004-65DF6CB8A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ADA8-4CCA-49BA-BA3F-8134028EC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3215-14EE-4317-99D1-48F44889A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29731-1D46-4A71-BA77-84259174C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7356D-B4B2-4119-B56C-4D8ADEABE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953AD-AFDA-4178-BC86-6AFE73AF9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54557-B965-4A96-9923-8903D57D2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A239A-ED44-4506-A3AD-BAB988F14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69BEB-FFA6-4E17-B569-4CC910D80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561B8-1374-4C8C-A97D-59AAF8C5E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E9C6-26B4-4D5A-9DD2-8928FF83D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B99AA-FCA5-447C-A68C-B0D41AD4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C3589-83D3-446C-A005-0868B5934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6532F-204F-44A7-9B83-A6C470374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07335-24FD-4A60-A70B-BB10EC20C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0BF9F-6D71-48B5-903B-A3F1AEDC1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6ABD-23BA-4B90-90B3-A1D50FD1C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7FB3-7F56-4866-A2B4-C469E464C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B095-4F63-4237-9F76-60BD172D7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DA43-DA7B-4EEE-B8E4-5EF8BC6AA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8617-B1B6-48E5-AB60-EE70AA14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9180-10F7-473A-9D58-2546CC68A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EEA7-79F3-44BB-9937-C1EB4837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FAA5A-D410-4596-A289-CF9861B91EF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35546-8B54-401F-876B-D4C3280F5EF5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2268360" y="476280"/>
            <a:ext cx="4392720" cy="45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dobe Garamond Pro Bold"/>
              </a:rPr>
              <a:t>SUPERSTI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dobe Garamond Pro Bold"/>
              </a:rPr>
              <a:t>MYSTER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dobe Garamond Pro Bold"/>
              </a:rPr>
              <a:t>&amp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1332000" y="5084640"/>
            <a:ext cx="64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66"/>
                </a:solidFill>
                <a:latin typeface="Adobe Garamond Pro Bold"/>
              </a:rPr>
              <a:t>BELIEF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13600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66"/>
                </a:solidFill>
                <a:latin typeface="Arial"/>
              </a:rPr>
              <a:t>“</a:t>
            </a:r>
            <a:r>
              <a:rPr b="1" lang="en-GB" sz="7200" spc="-1" strike="noStrike">
                <a:solidFill>
                  <a:srgbClr val="ffff66"/>
                </a:solidFill>
                <a:latin typeface="Arial"/>
              </a:rPr>
              <a:t>MIX PAIR SHARE”</a:t>
            </a:r>
            <a:endParaRPr b="0" lang="en-US" sz="7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5280" y="314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66ccff"/>
              </a:solidFill>
              <a:latin typeface="Arial"/>
            </a:endParaRPr>
          </a:p>
        </p:txBody>
      </p:sp>
      <p:pic>
        <p:nvPicPr>
          <p:cNvPr id="102" name="Рисунок 3" descr="http://for-css.ru/_ld/49/4918.jpeg"/>
          <p:cNvPicPr/>
          <p:nvPr/>
        </p:nvPicPr>
        <p:blipFill>
          <a:blip r:embed="rId1"/>
          <a:stretch/>
        </p:blipFill>
        <p:spPr>
          <a:xfrm>
            <a:off x="1908000" y="3357720"/>
            <a:ext cx="5400720" cy="33112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“</a:t>
            </a: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CORNERS”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2700360" y="2861280"/>
            <a:ext cx="604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ccff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66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55640" y="1267200"/>
            <a:ext cx="8024760" cy="43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Arial"/>
              </a:rPr>
              <a:t>THE ORIGIN OF “TOUCH WOOD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Arial"/>
              </a:rPr>
              <a:t>THE MYSTERY OF SAL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Arial"/>
              </a:rPr>
              <a:t>THE MYTH OF HOUSEWARMING GIF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66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"/>
              </a:rPr>
              <a:t>“</a:t>
            </a:r>
            <a:r>
              <a:rPr b="1" lang="en-US" sz="4800" spc="-1" strike="noStrike">
                <a:solidFill>
                  <a:srgbClr val="ffff66"/>
                </a:solidFill>
                <a:latin typeface="Arial"/>
              </a:rPr>
              <a:t>ROUND TABLE”</a:t>
            </a:r>
            <a:r>
              <a:rPr b="1" lang="ru-RU" sz="4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484360" y="2998800"/>
          <a:ext cx="6202440" cy="2816280"/>
        </p:xfrm>
        <a:graphic>
          <a:graphicData uri="http://schemas.openxmlformats.org/drawingml/2006/table">
            <a:tbl>
              <a:tblPr/>
              <a:tblGrid>
                <a:gridCol w="6202440"/>
              </a:tblGrid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d0d0d"/>
                          </a:solidFill>
                          <a:latin typeface="Adobe Garamond Pro Bold"/>
                        </a:rPr>
                        <a:t>COMPLETE THE TEXT USING APPROPRIATE TENSE.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8" name="Picture 16" descr="2"/>
          <p:cNvPicPr/>
          <p:nvPr/>
        </p:nvPicPr>
        <p:blipFill>
          <a:blip r:embed="rId1"/>
          <a:stretch/>
        </p:blipFill>
        <p:spPr>
          <a:xfrm>
            <a:off x="250920" y="3645000"/>
            <a:ext cx="2394000" cy="292248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b2b2b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1944720" cy="194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2016000" y="1655640"/>
          <a:ext cx="5256360" cy="4784760"/>
        </p:xfrm>
        <a:graphic>
          <a:graphicData uri="http://schemas.openxmlformats.org/drawingml/2006/table">
            <a:tbl>
              <a:tblPr/>
              <a:tblGrid>
                <a:gridCol w="5256360"/>
              </a:tblGrid>
              <a:tr h="478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4d"/>
                          </a:solidFill>
                          <a:latin typeface="Times New Roman"/>
                          <a:ea typeface="Times New Roman"/>
                        </a:rPr>
                        <a:t>1)WHY DO SOME PEOPLE THROW SPILT SALT OVER THEIR SHOULDERS?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4d"/>
                          </a:solidFill>
                          <a:latin typeface="Times New Roman"/>
                          <a:ea typeface="Times New Roman"/>
                        </a:rPr>
                        <a:t>2)WHAT IS THE ORIGIN OF THE PHRAS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4d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1" lang="en-US" sz="2800" spc="-1" strike="noStrike">
                          <a:solidFill>
                            <a:srgbClr val="00004d"/>
                          </a:solidFill>
                          <a:latin typeface="Times New Roman"/>
                          <a:ea typeface="Times New Roman"/>
                        </a:rPr>
                        <a:t>TOUCH WOOD”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4d"/>
                          </a:solidFill>
                          <a:latin typeface="Times New Roman"/>
                          <a:ea typeface="Times New Roman"/>
                        </a:rPr>
                        <a:t>3)WHERE DOES THE PRACTICE OF A “HOUSEWARMING GIFT” COME FROM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66"/>
                </a:solidFill>
                <a:latin typeface="Arial"/>
              </a:rPr>
              <a:t>“</a:t>
            </a:r>
            <a:r>
              <a:rPr b="1" lang="en-GB" sz="4800" spc="-1" strike="noStrike">
                <a:solidFill>
                  <a:srgbClr val="ffff66"/>
                </a:solidFill>
                <a:latin typeface="Arial"/>
              </a:rPr>
              <a:t>A/R GUIDE”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7200" y="1600200"/>
          <a:ext cx="7115040" cy="2830680"/>
        </p:xfrm>
        <a:graphic>
          <a:graphicData uri="http://schemas.openxmlformats.org/drawingml/2006/table">
            <a:tbl>
              <a:tblPr/>
              <a:tblGrid>
                <a:gridCol w="263520"/>
                <a:gridCol w="6851520"/>
              </a:tblGrid>
              <a:tr h="283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66ccff"/>
                          </a:solidFill>
                          <a:latin typeface="Adobe Garamond Pro Bold"/>
                        </a:rPr>
                        <a:t>    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66ccff"/>
                          </a:solidFill>
                          <a:latin typeface="Adobe Garamond Pro Bold"/>
                        </a:rPr>
                        <a:t>   </a:t>
                      </a:r>
                      <a:r>
                        <a:rPr b="1" lang="en-US" sz="5400" spc="-1" strike="noStrike">
                          <a:solidFill>
                            <a:srgbClr val="66ccff"/>
                          </a:solidFill>
                          <a:latin typeface="Adobe Garamond Pro Bold"/>
                        </a:rPr>
                        <a:t>GOOD  OR BAD LUCK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5BASCAD1ATPFCAZ32D4ACAU79TWTCADI3N0MCA92UZ9NCARXWX34CAQFVMXHCAX5N35HCAI9RL7WCAVKTTOUCAP8RNESCAQ2EY9JCAJGI9U5CA4Q9HR6CAMO1JBVCAS6JD9JCA2QPCUPCATBGVQGCA1MS6PO"/>
          <p:cNvPicPr/>
          <p:nvPr/>
        </p:nvPicPr>
        <p:blipFill>
          <a:blip r:embed="rId1"/>
          <a:stretch/>
        </p:blipFill>
        <p:spPr>
          <a:xfrm>
            <a:off x="179280" y="189000"/>
            <a:ext cx="2376720" cy="189684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5"/>
          <p:cNvSpPr/>
          <p:nvPr/>
        </p:nvSpPr>
        <p:spPr>
          <a:xfrm>
            <a:off x="2556000" y="574920"/>
            <a:ext cx="676908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4d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004d"/>
                </a:solidFill>
                <a:latin typeface="Arial"/>
              </a:rPr>
              <a:t>THINK- WRITE- ROBIN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d"/>
                </a:solidFill>
                <a:latin typeface="Arial"/>
              </a:rPr>
              <a:t>-HAVE YOU CHANGED ANY ANSW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d"/>
                </a:solidFill>
                <a:latin typeface="Arial"/>
              </a:rPr>
              <a:t>-WHAT AND WH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d"/>
                </a:solidFill>
                <a:latin typeface="Arial"/>
              </a:rPr>
              <a:t>-WHAT SUPERSTITIONS DO YOU BELIEV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d"/>
                </a:solidFill>
                <a:latin typeface="Arial"/>
              </a:rPr>
              <a:t>- WH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66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66"/>
                </a:solidFill>
                <a:latin typeface="Arial"/>
              </a:rPr>
              <a:t>WORD CINQUAIN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187280" y="1341360"/>
          <a:ext cx="8229600" cy="4525920"/>
        </p:xfrm>
        <a:graphic>
          <a:graphicData uri="http://schemas.openxmlformats.org/drawingml/2006/table">
            <a:tbl>
              <a:tblPr/>
              <a:tblGrid>
                <a:gridCol w="432000"/>
                <a:gridCol w="7797600"/>
              </a:tblGrid>
              <a:tr h="4525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1 line: a word or two to name the topic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2 line: two or three words that describe the topic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3 line: three or four words that express action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4 line: four or five words that express personal attitude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5 line: a word or two to rename the topic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457200" y="476280"/>
          <a:ext cx="1893960" cy="2130480"/>
        </p:xfrm>
        <a:graphic>
          <a:graphicData uri="http://schemas.openxmlformats.org/drawingml/2006/table">
            <a:tbl>
              <a:tblPr/>
              <a:tblGrid>
                <a:gridCol w="1893960"/>
              </a:tblGrid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86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1835280" y="1197000"/>
          <a:ext cx="4897440" cy="3747960"/>
        </p:xfrm>
        <a:graphic>
          <a:graphicData uri="http://schemas.openxmlformats.org/drawingml/2006/table">
            <a:tbl>
              <a:tblPr/>
              <a:tblGrid>
                <a:gridCol w="215640"/>
                <a:gridCol w="4681800"/>
              </a:tblGrid>
              <a:tr h="3750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HOME TASK: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TO MAKE UP YOUR OWN STORY USING SOME NEW SUPERSTITIONS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1T10:02:52Z</dcterms:created>
  <dc:creator>Юля</dc:creator>
  <dc:description/>
  <dc:language>en-US</dc:language>
  <cp:lastModifiedBy>пк</cp:lastModifiedBy>
  <dcterms:modified xsi:type="dcterms:W3CDTF">2014-01-22T19:12:45Z</dcterms:modified>
  <cp:revision>10</cp:revision>
  <dc:subject/>
  <dc:title>Слайд 1</dc:title>
</cp:coreProperties>
</file>