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303-CABC-4884-BD26-37A255AB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889-C4AA-4D4F-8ECA-801E4241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86B-B1A2-462A-8BF7-570435E4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661-D8B3-4582-8BAE-C244399D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3D85-DC75-4838-B277-74EB89D2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BC4B-FAF9-4B10-B0C8-F0611D08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E92F-9412-4F90-B776-E68B42D5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7D8B-AD7A-4442-A658-71787768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E59D-CE93-43E7-A9F3-BEB2B3F7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CEA3-FB24-4F47-BE26-A4EC3562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6912-E038-409D-841F-4E8C1EDC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EAB-8FA5-4916-BF4E-AB445CFF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3904-380B-4B6A-87DC-476BFA93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B598-5F8A-40BE-AA7D-2F025AE8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8854-8AD1-4264-ABBD-288A5779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6C9E-F9C4-45F8-8B0D-1A6AB2BF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AD43-2200-43A0-8939-F31C6456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8E7-152F-4EDB-9F3D-A1B196DD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8F0-EB69-40CE-AE22-6B73AF45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316-7190-42EF-8222-71035F7A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E10-6EC6-4C6A-A24D-E88145BA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31A-5F26-48B9-AE3D-1B97DCD9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70E-A9A4-497B-B0F2-F3396FE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CC0-BF73-4621-A9F7-1DB48B37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C64-2C19-4C25-9AB2-504F3CFBBA0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592E-6F8B-4C79-BB9E-D3237918614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Tiger%20Intro.wav" TargetMode="External"/><Relationship Id="rId3" Type="http://schemas.microsoft.com/office/2007/relationships/media" Target="file:///tmp/home/.config/libreoffice/4/user/gallery/Tiger%20Intro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flamingo.wav" TargetMode="External"/><Relationship Id="rId3" Type="http://schemas.microsoft.com/office/2007/relationships/media" Target="file:///tmp/home/.config/libreoffice/4/user/gallery/flamingo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Monotype Corsiva"/>
              </a:rPr>
              <a:t>По страницам </a:t>
            </a:r>
            <a:br>
              <a:rPr sz="4800"/>
            </a:br>
            <a:r>
              <a:rPr b="1" lang="en-US" sz="4800" spc="-1" strike="noStrike">
                <a:solidFill>
                  <a:srgbClr val="cc0000"/>
                </a:solidFill>
                <a:latin typeface="Monotype Corsiva"/>
              </a:rPr>
              <a:t>        «Красной книги»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419280" y="3733560"/>
            <a:ext cx="5190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Окружающий мир, 3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ингизова Альфинур Вафи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 МБОУ СОШ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Г.Учалы 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20757000">
            <a:off x="1402920" y="3357360"/>
            <a:ext cx="22860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Жалоба №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Ох, и не любят меня люди. Голос, видите ли, мой им не нравится, и глаза, говорят у меня некрасивые. Считают, что я беду приношу. А так ли это? Если бы не я, пришлось бы некоторым сидеть без хлеб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Со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824720" cy="496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858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8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Жалоба №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Сама знаю, что не красавица.     А окажись я рядом, многие шараха-ются в сторону, а то ещё и камнем бросят или ногой пнут. А за что? Польза от меня больша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Жаб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5183280" cy="460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25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Monotype Corsiva"/>
              </a:rPr>
              <a:t>По страницам </a:t>
            </a:r>
            <a:br>
              <a:rPr sz="4200"/>
            </a:br>
            <a:r>
              <a:rPr b="1" lang="en-US" sz="4200" spc="-1" strike="noStrike">
                <a:solidFill>
                  <a:srgbClr val="cc0000"/>
                </a:solidFill>
                <a:latin typeface="Monotype Corsiva"/>
              </a:rPr>
              <a:t>               «Красной книги»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40360" y="3213000"/>
            <a:ext cx="237636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Очень ценный пушной зверёк. Был на грани уничтожения, но предпринятые меры по его охране спасли этот вид животных. Сейчас общая численность их 700 тысяч гол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Владыка Аркт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 В двух-трёхлетнем возрасте эти птицы создают пары и больше никогда не расст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 Эта большая белая птица служит символом красоты и любви, чистоты и неж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67920"/>
            <a:ext cx="7010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Знахари готовили из частей его тела лекарства от слабости и трус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Детёныши этих птиц рождаются с длинными толстыми ногами, прямым красным клювом и ходят 2 года в сером оперении, а затем одеваются в розовый наря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95640" y="1268280"/>
            <a:ext cx="4321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 е р е г и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342900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 р и р о д у !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Собо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176720" cy="33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4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Белый медвед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616720" cy="3817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4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Журав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103640" cy="4537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176720" cy="446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82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Тиг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824360" cy="460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384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Arial"/>
              </a:rPr>
              <a:t>Розовый фламинго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840720" cy="4103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38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Выхухо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824720" cy="4537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6764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87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Лебед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63640" y="1595520"/>
            <a:ext cx="5688000" cy="366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644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Monotype Corsiva"/>
              </a:rPr>
              <a:t>  </a:t>
            </a:r>
            <a:r>
              <a:rPr b="1" lang="en-US" sz="4200" spc="-1" strike="noStrike">
                <a:solidFill>
                  <a:srgbClr val="cc0000"/>
                </a:solidFill>
                <a:latin typeface="Monotype Corsiva"/>
              </a:rPr>
              <a:t>Охрана природы   </a:t>
            </a:r>
            <a:br>
              <a:rPr sz="4200"/>
            </a:br>
            <a:r>
              <a:rPr b="1" lang="en-US" sz="4200" spc="-1" strike="noStrike">
                <a:solidFill>
                  <a:srgbClr val="cc0000"/>
                </a:solidFill>
                <a:latin typeface="Monotype Corsiva"/>
              </a:rPr>
              <a:t>                в Башкортостан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 целью сохранения уникальной природы Башкортостана организованы    3 заповедника, 12 заказников по охране лекарственных растений, 15 охотничьих заказников, Национальный парк «Башкирия», 2 природных парка, более 150 памятников природы, издана «Красная Книга», в которую занесены редкие и исчезающие растения и животные, нуждающиеся в охра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8:58:27Z</dcterms:created>
  <dc:creator>FuckYouBill</dc:creator>
  <dc:description/>
  <dc:language>en-US</dc:language>
  <cp:lastModifiedBy>uer</cp:lastModifiedBy>
  <dcterms:modified xsi:type="dcterms:W3CDTF">2013-12-24T16:03:54Z</dcterms:modified>
  <cp:revision>15</cp:revision>
  <dc:subject/>
  <dc:title>По страницам          «Красной книги»…</dc:title>
</cp:coreProperties>
</file>