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1EF-640C-4364-A3BE-E2AE0911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143-2F73-4446-80AA-47A4F62B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9C2-58F8-49BB-9C86-55E7C178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381-84B6-4D2E-A35C-04AF3D0B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6960-B5A3-4EEB-932F-40027CD1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86FA-B2EC-4CBF-9BD5-E40ED3F3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413C-C4E8-42D9-A208-947A046C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E8A2-D719-48E8-90C3-86F5538F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12F1-8F9F-4122-8D8F-8B80675C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091F-CCFB-4BA0-BDB5-3F254B83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11B1-EAB2-4A8D-98E1-98400C54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224-7A70-4AEA-BCDD-02C94D55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EAE3-1D98-4474-B25B-54715B9B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F7CC-66D9-4288-A721-4AB31DF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FB4F-F5CD-49D7-AE9A-3C94A161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F9ED-256E-4843-98E8-D97C68E5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C324-49EA-473B-A48F-8CE7BCD2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188-0623-4D62-BA75-3CFAFEA2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5AA-D625-4CDD-A63E-E2ED8A20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4DF-F702-43E3-8609-9786BD85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E50-2A8A-46C5-AE89-F5083BE1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107-F4E9-42AD-BEB9-BB7FBBE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7F7-EF34-4912-9CCE-AAF3D9C8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C67-1563-40C6-8176-5B163142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D0FF-4714-483F-8842-1E2E8DDDE9C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FAA0-A0FE-4AB1-AB9A-D0115F84123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Tiger%20Intro.wav" TargetMode="External"/><Relationship Id="rId3" Type="http://schemas.microsoft.com/office/2007/relationships/media" Target="file:///tmp/home/.config/libreoffice/4/user/gallery/Tiger%20Intro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flamingo.wav" TargetMode="External"/><Relationship Id="rId3" Type="http://schemas.microsoft.com/office/2007/relationships/media" Target="file:///tmp/home/.config/libreoffice/4/user/gallery/flamingo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Monotype Corsiva"/>
              </a:rPr>
              <a:t>По страницам </a:t>
            </a:r>
            <a:br>
              <a:rPr sz="4800"/>
            </a:br>
            <a:r>
              <a:rPr b="1" lang="en-US" sz="4800" spc="-1" strike="noStrike">
                <a:solidFill>
                  <a:srgbClr val="cc0000"/>
                </a:solidFill>
                <a:latin typeface="Monotype Corsiva"/>
              </a:rPr>
              <a:t>        «Красной книги»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419280" y="3733560"/>
            <a:ext cx="5190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Окружающий мир, 3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ингизова Альфинур Вафи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 МБОУ СОШ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Г.Учалы 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20757000">
            <a:off x="1402920" y="3357360"/>
            <a:ext cx="22860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Жалоба №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Ох, и не любят меня люди. Голос, видите ли, мой им не нравится, и глаза, говорят у меня некрасивые. Считают, что я беду приношу. А так ли это? Если бы не я, пришлось бы некоторым сидеть без хлеб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Со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824720" cy="496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858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8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Жалоба №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Сама знаю, что не красавица.     А окажись я рядом, многие шараха-ются в сторону, а то ещё и камнем бросят или ногой пнут. А за что? Польза от меня больша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Жаб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5183280" cy="460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25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Monotype Corsiva"/>
              </a:rPr>
              <a:t>По страницам </a:t>
            </a:r>
            <a:br>
              <a:rPr sz="4200"/>
            </a:br>
            <a:r>
              <a:rPr b="1" lang="en-US" sz="4200" spc="-1" strike="noStrike">
                <a:solidFill>
                  <a:srgbClr val="cc0000"/>
                </a:solidFill>
                <a:latin typeface="Monotype Corsiva"/>
              </a:rPr>
              <a:t>               «Красной книги»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40360" y="3213000"/>
            <a:ext cx="237636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Очень ценный пушной зверёк. Был на грани уничтожения, но предпринятые меры по его охране спасли этот вид животных. Сейчас общая численность их 700 тысяч гол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Владыка Аркт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 В двух-трёхлетнем возрасте эти птицы создают пары и больше никогда не расст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 Эта большая белая птица служит символом красоты и любви, чистоты и неж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267920"/>
            <a:ext cx="7010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Знахари готовили из частей его тела лекарства от слабости и трус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Детёныши этих птиц рождаются с длинными толстыми ногами, прямым красным клювом и ходят 2 года в сером оперении, а затем одеваются в розовый наря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95640" y="1268280"/>
            <a:ext cx="4321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 е р е г и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342900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 р и р о д у !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Собо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176720" cy="33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4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Белый медвед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616720" cy="3817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4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Журав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103640" cy="4537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176720" cy="446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82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Тигр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824360" cy="460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384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Arial"/>
              </a:rPr>
              <a:t>Розовый фламинго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840720" cy="4103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38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Выхухол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824720" cy="4537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6764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87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Лебед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172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63640" y="1595520"/>
            <a:ext cx="5688000" cy="366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644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Monotype Corsiva"/>
              </a:rPr>
              <a:t>  </a:t>
            </a:r>
            <a:r>
              <a:rPr b="1" lang="en-US" sz="4200" spc="-1" strike="noStrike">
                <a:solidFill>
                  <a:srgbClr val="cc0000"/>
                </a:solidFill>
                <a:latin typeface="Monotype Corsiva"/>
              </a:rPr>
              <a:t>Охрана природы   </a:t>
            </a:r>
            <a:br>
              <a:rPr sz="4200"/>
            </a:br>
            <a:r>
              <a:rPr b="1" lang="en-US" sz="4200" spc="-1" strike="noStrike">
                <a:solidFill>
                  <a:srgbClr val="cc0000"/>
                </a:solidFill>
                <a:latin typeface="Monotype Corsiva"/>
              </a:rPr>
              <a:t>                в Башкортостан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 целью сохранения уникальной природы Башкортостана организованы    3 заповедника, 12 заказников по охране лекарственных растений, 15 охотничьих заказников, Национальный парк «Башкирия», 2 природных парка, более 150 памятников природы, издана «Красная Книга», в которую занесены редкие и исчезающие растения и животные, нуждающиеся в охра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8:58:27Z</dcterms:created>
  <dc:creator>FuckYouBill</dc:creator>
  <dc:description/>
  <dc:language>en-US</dc:language>
  <cp:lastModifiedBy>uer</cp:lastModifiedBy>
  <dcterms:modified xsi:type="dcterms:W3CDTF">2013-12-24T16:03:54Z</dcterms:modified>
  <cp:revision>15</cp:revision>
  <dc:subject/>
  <dc:title>По страницам          «Красной книги»…</dc:title>
</cp:coreProperties>
</file>