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EC6-D36E-4ABA-9790-B9DCEEA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7E7-6943-4109-B9F3-65C685B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FC8-0454-4121-81FD-967F5E81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4DF-B33D-4717-96CD-6FFC9AFA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7AE-BA7E-4368-84CD-C45D4D19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2A5F-4AD4-4E12-B4C3-E445E3E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543B-143E-4A17-9960-99F77A8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513-A4E5-432A-87D6-EE048EDC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379F-F619-4E4C-B9CE-C6F27C9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020E-6E9C-4150-B73C-54384045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4FBA-D0D4-4DEC-AA56-CBE16F6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D9F-F036-427F-86EF-CACE854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B71-FF25-473F-8715-2C6D9802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EE15-0437-43AC-9331-30F0320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A835-870B-4CDF-AFAD-D34F785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0FB6-2122-41F7-97AB-6C89C234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CE2-34BA-4D29-BF18-9564B258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09D-1123-4A21-BBBD-894C0ED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269-0CAA-4A05-816D-834E3FD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95A-1ACA-403E-A0FE-F9780AF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A57-FEED-42A9-80B1-8EB00A5F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98F-7890-4F04-895E-80E09A4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AD0-63C4-43CE-8857-DF4C375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9CC-98A9-4119-AAD8-9DB4BEF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157A-CBBE-49DB-AF59-6E5886373A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13E-516B-488A-B0DE-A71AB8F45E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У Победы есть цена – справедливая борьб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9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ЕНИКАМИ  6 КЛАСС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НЫЙ РУКОВОД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РАВЛЕВА СВЕТЛАНА ЕГ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десь уже его спортивные качества обрели и профессиональные грани. Его настойчивость, целеустремленность, трудолюбие, принципиальность в понимании гражданской марали и нравственности отчетливо представляли его, как образцового сотрудника правоохранительных органов. Можно охарактеризовать его как бойца, находящегося на боевом посту, смысл жизни которого в служении Родине и народу, добру и справедлив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81636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да и все Сергей Иванович выполнял со спортивным азартом. Он неоднократно защищал честь Сергиево-Посадского района, Московской области  и ГУВД МО на Чемпионатах России международных соревнованиях по борьбе самбо и дзюд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179960" cy="55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 период службы в органах внутренних дел, уже как тренер, он подготовил целую плеяду спортсменов, которые также имеют высокие спортивные дости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2578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 октября 1989 года ему присвоено звание судьи Республиканской категории по самбо, но несмотря на то, что у него уже было много воспитанников, он продолжал бороться сам и добивался высоких спортивных результ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87692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выдающиеся заслуги в подготовке высококвалифицированных спортсменов – сотрудников ГУВД, которые под руководством С. И. Тропинова приобрели хорошие навыки рукопашного боя и огневой подготовки, необходимые для выполнения оперативно-служебных задач в борьбе с преступностью, 24 декабря 1991 года ему было присвоено почетное звание «Заслуженный тренер России» по сам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518184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июня 1997 года на боевом посту майор Сергей Иванович Тропинов поги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успели вовремя оказать медицинскую помощ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33920" y="-36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,  жизнь, как цеп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годы - ее звенья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зве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ряются на растяж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ыв – последнее звено цеп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 так уж человеку сужде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самое красивое зве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вено, которое со звоном оборвало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350532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соединить оборванную цепь, после смерти Сергея Ивановича, его друзья , ветераны Загорского самбо, возглавляемые своими тренерами -  Альбертом Михайловичем и Александром Михайловичем Лазаревым, - крепко «взялись за руки» и на мужском совете приняли решение увековечить имя друга и продолжить общее дело – воспитывать гармонически развитое молодое, подрастающее поколение посредствам занятий  борьбой самб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ноября 1997 года был организован первый Всероссийский турнир по самбо имени заслуженного тренера РСФСР, мастера спор та СССР, майора милиции С. И. Тропин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95288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ргей Иванович Тропин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ргей Иванович Тропинов родился 16 ноября 1953 года в деревне Гагино Бужаниновского административного  сельского округа Загорского района Московской области, раскинувшегося вблизи маленькой речушки Киниболки в 12 километрах к северо-востоку  от города Загорс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510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ская церков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мечательное событие связано с Гагинской церковью и селом. Здесь в 1898 году в Спасской церкви венчался великий русский певец Федор Иванович Шаляпин с балериной, итальянкой Иолой Торнаги. Это, можно сказать, лирическое историческое отступление к судьбе подростка Сережи Тропинова отношения никакого не имеет. А вот один случай, позже произошедший в Гагино, действительно прославил Сережу на всю стра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утор в пожа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тогда заканчивал школу в деревне Яковлево. Однажды рядом с Гагино, на хуторе Виноградовых, случился пожар. Кто-то застучал в рельсу, кто-то схватился за ведра. Словом, побежал народ на помощь соседям. Оказалось, что в доме, охваченном огнем, осталась старая бабушка и двое ребятишек. Остальные Виноградовы, видимо, в шоке стояли перед горящим домом, как вкопанные. Тут Сережа и бросился в пекло. Несмотря на то что сам наглотался ядовитого дыма и сильно пожег легкие, герой спас все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69 году закончил 8 классов, перешел в вечернюю школу и поступил на работу электриком на  ЗОМ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49568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дион «Темп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коре, физически развитый юноша увлекся борьбой и записался в секцию самбо на стадион «Темп», что на Скобяном посел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“&amp;Tcy;&amp;iecy;&amp;mcy;&amp;pcy;” &amp;ncy;&amp;acy; &amp;zcy;&amp;acy;&amp;mcy;&amp;kcy;&amp;iecy;"/>
          <p:cNvPicPr/>
          <p:nvPr/>
        </p:nvPicPr>
        <p:blipFill>
          <a:blip r:embed="rId1"/>
          <a:stretch/>
        </p:blipFill>
        <p:spPr>
          <a:xfrm>
            <a:off x="152280" y="16002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родная одаренность позволила Сергею буквально на лету схватывать и понимать сложную технику борьбы. Поэтому не замедляли сказаться результаты. Придя немного позже своих сверстников, он уже через год сам во многом ста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восходить их и в силе и мастер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00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при всем этом он оставался скромным, простым  и доброжелательным. Примером может послужить простой эпизод на тренировке, когда он, став именитым и прославленным мастером, мог после своей изнурительной тренировки уделить внимание новичку, позволяя ему еще целое занятие отрабатывать на себе при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10552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 1972 году окончил вечернюю школу и в ноябре  был призван в армию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129200" cy="54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51200" y="1219320"/>
            <a:ext cx="40896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7:14:03Z</dcterms:created>
  <dc:creator>Светлана</dc:creator>
  <dc:description/>
  <dc:language>en-US</dc:language>
  <cp:lastModifiedBy>Светлана</cp:lastModifiedBy>
  <dcterms:modified xsi:type="dcterms:W3CDTF">2014-01-28T16:12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