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2A8-C951-41F9-BB91-6B6654F2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205-52DA-42E2-83C8-08007DA3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C39-66E3-4F31-BA02-A74D2945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F90-5209-4CBC-A05D-D79F9C61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9793-F822-4954-BF17-212DD6F2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1C78-617F-49EB-BAE8-F62C59D3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D60E-2AB8-454D-ADC4-3BF7A1E5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74BE-71A5-4658-B505-3F0D911C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B929-7CBB-43B8-9C11-54ED2ABA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A27C-C9F3-48D9-9135-7D66997B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D670-889D-43BC-B273-A57FF74A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73E-2312-4FA6-8495-97D90E23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0F39-66C1-40B8-B563-8E1EAB73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0011-8E87-459C-8D84-500462B9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77D2-14DC-4368-B688-29382791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B0B6-D0D4-4B99-BE7C-23876CCF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B559-0DED-4ED8-AA1E-19F01BB7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940-DCE8-4D26-9094-36F4274F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DE1-54A9-4093-982A-AE0C100A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C61-9687-4D8D-BA7A-94871AD1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B2C-C2A9-4AEE-AA75-54E4660B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9EC-B61F-4FBB-A51E-363E35A5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2CC-0F3D-4433-993B-B742FA85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752-10A6-435E-8705-20D50975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349B-7AD1-4E49-BDC4-A708ABCA8B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2BEB-1DD8-4FC9-B5EB-52B6D606BC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У Победы есть цена – справедливая борьб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90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ЗЕНТАЦИЯ ПОДГОТОВЛЕН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УЧЕНИКАМИ  6 КЛАССА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ССНЫЙ РУКОВОДИТЕЛ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УРАВЛЕВА СВЕТЛАНА ЕГО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80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десь уже его спортивные качества обрели и профессиональные грани. Его настойчивость, целеустремленность, трудолюбие, принципиальность в понимании гражданской марали и нравственности отчетливо представляли его, как образцового сотрудника правоохранительных органов. Можно охарактеризовать его как бойца, находящегося на боевом посту, смысл жизни которого в служении Родине и народу, добру и справедлив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381636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гда и все Сергей Иванович выполнял со спортивным азартом. Он неоднократно защищал честь Сергиево-Посадского района, Московской области  и ГУВД МО на Чемпионатах России международных соревнованиях по борьбе самбо и дзюд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4179960" cy="55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 период службы в органах внутренних дел, уже как тренер, он подготовил целую плеяду спортсменов, которые также имеют высокие спортивные достиж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5257800" cy="39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0 октября 1989 года ему присвоено звание судьи Республиканской категории по самбо, но несмотря на то, что у него уже было много воспитанников, он продолжал бороться сам и добивался высоких спортивных результа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87692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 выдающиеся заслуги в подготовке высококвалифицированных спортсменов – сотрудников ГУВД, которые под руководством С. И. Тропинова приобрели хорошие навыки рукопашного боя и огневой подготовки, необходимые для выполнения оперативно-служебных задач в борьбе с преступностью, 24 декабря 1991 года ему было присвоено почетное звание «Заслуженный тренер России» по самб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5181840" cy="34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8 июня 1997 года на боевом посту майор Сергей Иванович Тропинов поги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успели вовремя оказать медицинскую помощ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72464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733920" y="-360"/>
            <a:ext cx="5410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,  жизнь, как цеп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 годы - ее звенья 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 звен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еряются на растяж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рыв – последнее звено цепи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 так уж человеку сужде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самое красивое звен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вено, которое со звоном оборвалос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3505320" cy="34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тобы соединить оборванную цепь, после смерти Сергея Ивановича, его друзья , ветераны Загорского самбо, возглавляемые своими тренерами -  Альбертом Михайловичем и Александром Михайловичем Лазаревым, - крепко «взялись за руки» и на мужском совете приняли решение увековечить имя друга и продолжить общее дело – воспитывать гармонически развитое молодое, подрастающее поколение посредствам занятий  борьбой самб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8 ноября 1997 года был организован первый Всероссийский турнир по самбо имени заслуженного тренера РСФСР, мастера спор та СССР, майора милиции С. И. Тропино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952880" cy="39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ергей Иванович Тропинов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ергей Иванович Тропинов родился 16 ноября 1953 года в деревне Гагино Бужаниновского административного  сельского округа Загорского района Московской области, раскинувшегося вблизи маленькой речушки Киниболки в 12 километрах к северо-востоку  от города Загорс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5100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асская церков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52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мечательное событие связано с Гагинской церковью и селом. Здесь в 1898 году в Спасской церкви венчался великий русский певец Федор Иванович Шаляпин с балериной, итальянкой Иолой Торнаги. Это, можно сказать, лирическое историческое отступление к судьбе подростка Сережи Тропинова отношения никакого не имеет. А вот один случай, позже произошедший в Гагино, действительно прославил Сережу на всю стран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Хутор в пожар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н тогда заканчивал школу в деревне Яковлево. Однажды рядом с Гагино, на хуторе Виноградовых, случился пожар. Кто-то застучал в рельсу, кто-то схватился за ведра. Словом, побежал народ на помощь соседям. Оказалось, что в доме, охваченном огнем, осталась старая бабушка и двое ребятишек. Остальные Виноградовы, видимо, в шоке стояли перед горящим домом, как вкопанные. Тут Сережа и бросился в пекло. Несмотря на то что сам наглотался ядовитого дыма и сильно пожег легкие, герой спас все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9528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969 году закончил 8 классов, перешел в вечернюю школу и поступил на работу электриком на  ЗОМ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495680" cy="33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адион «Темп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коре, физически развитый юноша увлекся борьбой и записался в секцию самбо на стадион «Темп», что на Скобяном посел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“&amp;Tcy;&amp;iecy;&amp;mcy;&amp;pcy;” &amp;ncy;&amp;acy; &amp;zcy;&amp;acy;&amp;mcy;&amp;kcy;&amp;iecy;"/>
          <p:cNvPicPr/>
          <p:nvPr/>
        </p:nvPicPr>
        <p:blipFill>
          <a:blip r:embed="rId1"/>
          <a:stretch/>
        </p:blipFill>
        <p:spPr>
          <a:xfrm>
            <a:off x="152280" y="1600200"/>
            <a:ext cx="48006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родная одаренность позволила Сергею буквально на лету схватывать и понимать сложную технику борьбы. Поэтому не замедляли сказаться результаты. Придя немного позже своих сверстников, он уже через год сам во многом ста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восходить их и в силе и мастерств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800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 при всем этом он оставался скромным, простым  и доброжелательным. Примером может послужить простой эпизод на тренировке, когда он, став именитым и прославленным мастером, мог после своей изнурительной тренировки уделить внимание новичку, позволяя ему еще целое занятие отрабатывать на себе при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10552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В 1972 году окончил вечернюю школу и в ноябре  был призван в армию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129200" cy="5410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51200" y="1219320"/>
            <a:ext cx="4089600" cy="533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7:14:03Z</dcterms:created>
  <dc:creator>Светлана</dc:creator>
  <dc:description/>
  <dc:language>en-US</dc:language>
  <cp:lastModifiedBy>Светлана</cp:lastModifiedBy>
  <dcterms:modified xsi:type="dcterms:W3CDTF">2014-01-28T16:12:1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