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FE0-7F12-4A8F-B145-7B0F250E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8A1-8FD2-4B3F-B94C-C0E6109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222-7653-498E-9E1E-49AF9C71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766-AE58-4FEA-B128-F267362D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0B6-D14B-42F9-9D8A-1E930903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84C-7FAB-439F-A105-1BFE9C6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272-A3DD-45AA-A0A3-7AFFACA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C9E-8874-4C12-9E88-7D7613D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251-F658-4119-B9CB-4B24F65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835-FCC4-453F-8D0B-A129FB1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634-7EF3-400E-8591-45E39F09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981-3264-4661-9407-8336FECD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431A-37A0-45D3-8B74-A4A900EC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Пропорційні відрізки</a:t>
            </a:r>
            <a:br>
              <a:rPr sz="4000"/>
            </a:br>
            <a:r>
              <a:rPr b="0" i="1" lang="uk-UA" sz="4000" spc="-1" strike="noStrike" u="sng">
                <a:solidFill>
                  <a:srgbClr val="ff3300"/>
                </a:solidFill>
                <a:uFillTx/>
                <a:latin typeface="Arial"/>
              </a:rPr>
              <a:t>в прямокутному трикут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Вико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учениця 8-А кл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Шорохова Анге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724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295280" y="19810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981080"/>
            <a:ext cx="449604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981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2860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24080" y="20570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526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9880" y="426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5600" y="4267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692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6920" y="4648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6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6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0040" y="3084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4320" y="4648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6560" y="46483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ричні співвіднош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Подібність трикутників дозволяє встановлювати низку співвідношень між довжинами деяких відрізків у трикутнику і колі(такі співвідношення називають </a:t>
            </a:r>
            <a:r>
              <a:rPr b="1" i="1" lang="uk-UA" sz="2800" spc="-1" strike="noStrike" u="sng">
                <a:solidFill>
                  <a:srgbClr val="ff3300"/>
                </a:solidFill>
                <a:uFillTx/>
                <a:latin typeface="Arial"/>
              </a:rPr>
              <a:t>метричними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). Спочатку введемо декілька допоміжних по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05120" y="403812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624852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038480"/>
            <a:ext cx="34290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0" y="602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396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260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3960" y="617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146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Відрізок х називають </a:t>
            </a:r>
            <a:r>
              <a:rPr b="1" i="1" lang="uk-UA" sz="3200" spc="-1" strike="noStrike" u="sng">
                <a:solidFill>
                  <a:srgbClr val="ff3300"/>
                </a:solidFill>
                <a:uFillTx/>
                <a:latin typeface="Arial"/>
              </a:rPr>
              <a:t>середнім пропорційним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між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відрізками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 i 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,якщо а:х=а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,тобто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х²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 =а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uk-UA" sz="32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33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У прямокутному трикутнику АВС з катетами ВС =а і АС =в та гіпотенуза АВ =с.Проведемо висоту С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 і позначимо її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.Відрізки А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 і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DB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,на якій ця висота ділить гіпотенузу,називають проекціями катетів на гіпотенузу.Проекції катетів а і в на гіпоенузу С позначають а</a:t>
            </a:r>
            <a:r>
              <a:rPr b="1" i="1" lang="uk-UA" sz="12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, і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i="1" lang="uk-UA" sz="12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990720" y="3200400"/>
            <a:ext cx="20574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400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48006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6720" y="43434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6960" y="41148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1000" y="63244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потен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1760" y="605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360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58360" y="605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124080"/>
            <a:ext cx="7596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3300"/>
                </a:solidFill>
                <a:uFillTx/>
                <a:latin typeface="Arial"/>
              </a:rPr>
              <a:t>Теорема(Метричні співвідношення прямокутному трикутни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b4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3b4fb"/>
                </a:solidFill>
                <a:latin typeface="Arial"/>
              </a:rPr>
              <a:t>У прямокутному трикутн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cc00"/>
                </a:solidFill>
                <a:latin typeface="Arial"/>
              </a:rPr>
              <a:t>1)Висота,проведена до гіпотенузи,є середнім пропорційним між проекціями катетів на гіпотенузу :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²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99cc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⋅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99cc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99"/>
                </a:solidFill>
                <a:latin typeface="Arial"/>
              </a:rPr>
              <a:t>2)Катет є середнім пропорційним між гіпотенузою і його проекції на гіпотену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²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= c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⋅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i b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²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=c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⋅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Висота,проведена до гіпотенузи дорівнює добутку катетів поділеному на гіпотену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 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: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26000" y="1371600"/>
            <a:ext cx="451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4343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оняття відношення та пропорції виникли давно. Про це насамперед: свідчать будівлі стародавнього світу, які вражають пропорційністю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 Вавилоні для відношень застосовували навіть спеціальн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ідношення величин як число вперше визначив Ньютон. Відношення відрізків як число вперше строго означив французький математик Андрієн Марі Лежандр у своїй праці «Елементи геометрії» 1794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2619360" cy="32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89880" y="3581280"/>
            <a:ext cx="24541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58672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Arial"/>
              </a:rPr>
              <a:t>Андрієн Марі Леж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</cp:lastModifiedBy>
  <dcterms:modified xsi:type="dcterms:W3CDTF">2014-01-28T14:44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