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67D-D164-4F1D-A087-38492A87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372-5528-455D-AE28-1E76FF81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E2D69-3F0C-4B67-B145-F7CF6DE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A051B-6CAF-416C-842F-A4A07BF8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7BC99-196F-4CA8-A689-152CDE7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3EC78-539A-412C-A56E-60128296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D5203-5D19-4487-8FF4-0CB919C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6DAD7-CB98-4556-9E70-1FD98F5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46F00-605B-4B1A-90FD-EBE20736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F5FF-C1B8-4445-A944-8211093A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A6D0F-8120-4291-9ADB-B73B0534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C7C2E-E2A4-4D6E-8B8A-453E82A2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2AD-1E29-403F-9567-80637CF3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05B5B-9079-47DA-96D6-C7C4BE0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1A23-A4CF-408F-AA90-F9C8CA0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28F6D-A4A7-469F-B44A-656A720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CC9FA-C623-4A4D-BFA4-384066C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4D23-55C3-439B-88FC-4D113776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56953-6F31-4A8A-8AB1-BC74600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7DB02-9CD1-467D-B981-1AAB3F8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B176B-6BFB-44CA-9A03-4FA1DA6A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38021-6959-4F36-9381-3CB8E9B5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1AA2F-D5D1-4AFC-88D3-DD36B9E4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E50-953A-4045-9987-8A63D3E9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036AF-8A8B-4AB3-883A-FE6856C8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9223B-E7D1-4B47-A323-68607FFB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AC631-2F44-409B-B462-126AFBF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C7D45-C7E7-4A91-A590-2508DE6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33D57-47A2-46AE-9800-7C57FFE0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B8AA5-46DA-4B32-9683-BF6F7416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07B0-C6EF-4CA9-95A5-C5E17D2F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A8ECF-5852-46D2-BC91-0FF4707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4797A-E9DC-458E-B744-5C7BD9B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E0086-8B8E-42F7-AB6C-4C25129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1BB-BECF-4772-A96D-402D7E0F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90E33-C26F-42EF-99F4-CEF64CB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99EC2-1468-4A48-963F-774B3934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19F65-760F-40A9-BF16-52579291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B4AEB-C543-4DC8-9771-B03E1D8A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84DDC-97D3-4307-B666-DCEF586C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72B03-99B2-42C8-9552-CC90462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8B70B-9007-464B-A2EA-05B9671A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8664E-68D8-4ABB-8754-64BFA5EA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929FC-71E5-421B-B348-C88CB42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4BCCA-E9B6-47DF-B09C-91AA303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9E26-6CB0-4C2E-805C-A09EDA99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B1657-2F70-4D80-B5D6-44E4D3C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929C0-6C6A-4D44-BC35-AD1A2A2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A878E-1E45-47D6-9D97-8FC80719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EDDDE-8F68-41B0-8055-10162626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1D8B4-6D99-4563-984D-CC773A25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ACE-8755-41F3-8148-330C74D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1744-E15E-4610-BF0E-2B710B3E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32AC-0DC6-48F3-9862-A0BC6D7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6420-BE36-4EEB-BA29-1781689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119B-DB1C-4048-84F6-171B417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3CC-0D32-4871-A452-614A74B5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536B-1975-4F21-986A-6780A15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5F36-8F10-4FE9-B3D9-B05E164F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EFE-3A99-436A-8164-29B9D62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0A9A-F9EC-4FE4-AA37-44F0D56D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DF77-73C4-4D2D-91FE-FF0AB5EE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48C8-85F1-4616-BE59-44992A6C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9204-4384-43A8-97E6-91B320B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C3AB-F819-445C-8B56-82B96D31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ECB2-933E-4F5C-B463-897C9DA4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CE86-85F9-4915-9DDE-A86D720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69F-9751-4740-BB0E-C656AFE5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DF0A-2B26-41C6-9D62-C0066CD4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8640-CDB9-4F71-9B9E-3417D3D4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36A5-83BA-4B16-98BD-DD6AE95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9461-4E07-40A4-A32D-4278775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A2C0-8CAF-4540-9906-46E17430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51CE-238C-476E-86E4-399D2CE7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B828-EBB3-41B9-9327-C2A8CB54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D80B1-DC2D-401C-818D-8A97B19C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4DFB-3D89-42C2-AD5E-BB56AB9B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EBB3-A719-41E5-96FC-2C2D8A1A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7C5-DEA3-4B08-9A43-8F6A16A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FB4C-576A-4ACE-B1BE-DAB1F48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BA11-67EB-4789-9BB4-75C29C0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DB5A-5B24-4AAA-9C44-0D741FAA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3195-A5BE-46E9-8ED8-82C517B3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12251-3BB1-4E50-91B6-7EF2ADD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D088-4460-4E1A-A2F0-63A072A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FE47-ABC5-4D0A-B107-76B72AF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D06F-DFE7-44B2-9F7D-EAC8F26A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B0D0-9A8E-4B67-BCD8-2897E5A6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F650E-D694-4A04-9D38-DB4F84A3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86E-0D9A-408F-8EAB-6AED7AE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5FEA-9E1B-432F-A17F-83F53D0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AED1-2761-48FA-9B51-DC1FB3A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C5E9-BEC6-48BA-B5B2-C460D31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EC88-94F0-4D73-8B08-96CCD67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02EF0-47EF-4A8B-B64E-BCBB3657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893F-671E-417E-9DAC-1FDBA5E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C12D-700C-432E-8E48-83CD5763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AC3E-0A2F-45D6-B935-A027CA4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BB6B-CE56-4017-A780-BCE2ACE2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AC06-212C-4503-87E6-EDDCB77B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F49-997E-45F2-88E1-6C45E725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EDF17-FA25-4FC3-B7C2-D6FE7608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BFFDB-9273-4059-B1D6-89152DDF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C801-01D7-4E13-B72D-5F0A7D12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99833-A3B6-4000-89E0-F1F089E2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71B5-8EF2-4209-9750-992C5F23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54703-0099-498D-ABA9-A2643F8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4FA24-F1D2-486B-998E-1FE683F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0BD8-34DD-475D-863D-976FE07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2A1E-41C4-474B-8DD7-0FAFFC0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D0B8-84DE-4038-99CA-2AAB610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A8D-38AC-4638-AC6B-5230DA7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F41AA-213F-431A-83E3-77B1B7AD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6EE9-7EC0-4773-A171-AE943C65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4C1B-7C73-4F7A-BA83-D1736809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8E41D-A53F-486A-B370-A4B64CFE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E322-3F94-4EDE-B5E5-C5EA08E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A13F-7EDA-4CCE-B3D4-E871CDB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E9CC9-2768-448B-BECC-5F7BBA74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6A2E-CE96-4A1D-BD7C-0792185A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3260-2BBB-478C-A3B6-28C147E2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5AF3C-5AC9-43D5-BBFD-6F1F08F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BC7-66A4-4138-B7B8-95470E7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23EE-66AF-4BE2-B8F8-017D276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10B44-7267-4E24-97D5-04CF02A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9E409-5BD4-4746-B39B-180F363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2CF7-A6BA-44C6-9377-3CB62BB8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77CB-D8D3-468E-89A0-B8806559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634C-5FE6-425B-98C0-EA83F426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316B-4E23-4140-BDDD-6CBDDC71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7994F-90BC-40B1-8F4F-AB0741A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511FF-D920-4B8D-B5D2-5337434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749A3-00B2-41B2-8B19-61615017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777-CB82-4EA6-9132-6055DCA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A7C25-47B2-4C27-A355-5A71EBBD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8BA37-78D8-438C-BBCE-DAE36AE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311E-EE00-4374-A0BA-CBBB6C7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26785-E6DB-4B0C-AEF2-491BA38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BE3CB-4784-4039-8DFE-FDBD4726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B936-188E-43AB-B34C-B22DDDE3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A41D-6F03-4623-8BC1-A0AB8AD1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24852-2EF8-4C73-8EEC-55558641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70EAD-D267-4BBE-A3B2-AEEB0658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5D96B-C878-4064-A42B-C5791796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A292-4AB4-4A12-AA9E-6B582FA1751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CBAE-B22C-4B0E-B7EF-28E4EE4399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225F-44C2-447F-BD6D-1463B17757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5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5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5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5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5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FE03-2184-458C-8894-177E3E74E7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FB8-C09A-42A9-9792-0234D90056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84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187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2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23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3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23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36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237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24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24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24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5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5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2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6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2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2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7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288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291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29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1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30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305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30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31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31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31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32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323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326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329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332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33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33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34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D83C-9605-4DDF-B362-0F28E0B0CA8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4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DBF-3799-4F42-9833-AB2B52715E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4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5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45C6-E1DC-4B21-9395-859BE6B144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4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AB2B-C6CE-4735-874A-9BFE61570C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5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3CD-CDE7-4F62-8B0B-5C525D1A20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A82-F4DD-41AF-9427-6871E9601D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EE8F-F70F-484F-BB14-C379F906E5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6" descr=""/>
          <p:cNvPicPr/>
          <p:nvPr/>
        </p:nvPicPr>
        <p:blipFill>
          <a:blip r:embed="rId1"/>
          <a:stretch/>
        </p:blipFill>
        <p:spPr>
          <a:xfrm>
            <a:off x="3851280" y="1085760"/>
            <a:ext cx="2016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6191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e3b30"/>
                </a:solidFill>
                <a:latin typeface="Franklin Gothic Book"/>
              </a:rPr>
              <a:t>What presents would you like to have ?</a:t>
            </a:r>
            <a:r>
              <a:rPr b="1" i="1" lang="ru-RU" sz="1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468360" y="1700280"/>
          <a:ext cx="7039080" cy="4568760"/>
        </p:xfrm>
        <a:graphic>
          <a:graphicData uri="http://schemas.openxmlformats.org/drawingml/2006/table">
            <a:tbl>
              <a:tblPr/>
              <a:tblGrid>
                <a:gridCol w="1728720"/>
                <a:gridCol w="1870200"/>
                <a:gridCol w="1679400"/>
                <a:gridCol w="1760760"/>
              </a:tblGrid>
              <a:tr h="945000">
                <a:tc row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 would like to have...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camera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ecause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play football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bal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rea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book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play gam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pe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o take picture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 comput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4" descr="santa ае"/>
          <p:cNvPicPr/>
          <p:nvPr/>
        </p:nvPicPr>
        <p:blipFill>
          <a:blip r:embed="rId1"/>
          <a:stretch/>
        </p:blipFill>
        <p:spPr>
          <a:xfrm>
            <a:off x="3348000" y="1484280"/>
            <a:ext cx="2951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3008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1692360" y="1052280"/>
            <a:ext cx="6480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urkey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dding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mpkin pie, vegetab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 .Santa Claus, holiday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ristmas tree, birch tre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 Christmas pudding, Easter, ring, horseshoe.4.trousers,stockings,presents,sock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4"/>
          <p:cNvSpPr/>
          <p:nvPr/>
        </p:nvSpPr>
        <p:spPr>
          <a:xfrm>
            <a:off x="1187280" y="215280"/>
            <a:ext cx="590580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r children from Bashkortostan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 is Santa Claus. I live in North Pole. There are a lot of Christmas customs and traditions in Britain. Every year the people of Norway give the city of London a present. It’s a big Christmas tree and it stands in Trafalgar Square. I will be very glad to meet you soon. I have got a lot of surprises for you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Clau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"/>
          <p:cNvPicPr/>
          <p:nvPr/>
        </p:nvPicPr>
        <p:blipFill>
          <a:blip r:embed="rId1"/>
          <a:stretch/>
        </p:blipFill>
        <p:spPr>
          <a:xfrm>
            <a:off x="3132000" y="2274840"/>
            <a:ext cx="32529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2916000" y="2421000"/>
            <a:ext cx="4319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erry Christmas and Happy New Year!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843280" y="907920"/>
            <a:ext cx="44654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Christmas Par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ristmas Day, happy d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are all glad and gay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all dance, and sing and s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6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lcome, welcome, Christmas Day!’’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4" descr="img7"/>
          <p:cNvPicPr/>
          <p:nvPr/>
        </p:nvPicPr>
        <p:blipFill>
          <a:blip r:embed="rId1"/>
          <a:stretch/>
        </p:blipFill>
        <p:spPr>
          <a:xfrm>
            <a:off x="3672000" y="1484280"/>
            <a:ext cx="2412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image16"/>
          <p:cNvPicPr/>
          <p:nvPr/>
        </p:nvPicPr>
        <p:blipFill>
          <a:blip r:embed="rId1"/>
          <a:stretch/>
        </p:blipFill>
        <p:spPr>
          <a:xfrm>
            <a:off x="3747960" y="1341360"/>
            <a:ext cx="2589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socks"/>
          <p:cNvPicPr/>
          <p:nvPr/>
        </p:nvPicPr>
        <p:blipFill>
          <a:blip r:embed="rId1"/>
          <a:stretch/>
        </p:blipFill>
        <p:spPr>
          <a:xfrm>
            <a:off x="3635280" y="1341360"/>
            <a:ext cx="21607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23" descr="Рис. 2"/>
          <p:cNvPicPr/>
          <p:nvPr/>
        </p:nvPicPr>
        <p:blipFill>
          <a:blip r:embed="rId1"/>
          <a:stretch/>
        </p:blipFill>
        <p:spPr>
          <a:xfrm>
            <a:off x="4067280" y="1527120"/>
            <a:ext cx="194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img2"/>
          <p:cNvPicPr/>
          <p:nvPr/>
        </p:nvPicPr>
        <p:blipFill>
          <a:blip r:embed="rId1"/>
          <a:stretch/>
        </p:blipFill>
        <p:spPr>
          <a:xfrm>
            <a:off x="3492360" y="2401920"/>
            <a:ext cx="2374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4" descr="img12"/>
          <p:cNvPicPr/>
          <p:nvPr/>
        </p:nvPicPr>
        <p:blipFill>
          <a:blip r:embed="rId1"/>
          <a:stretch/>
        </p:blipFill>
        <p:spPr>
          <a:xfrm>
            <a:off x="2916360" y="1700280"/>
            <a:ext cx="3024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img10"/>
          <p:cNvPicPr/>
          <p:nvPr/>
        </p:nvPicPr>
        <p:blipFill>
          <a:blip r:embed="rId1"/>
          <a:stretch/>
        </p:blipFill>
        <p:spPr>
          <a:xfrm>
            <a:off x="2916360" y="2133720"/>
            <a:ext cx="3071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6:34:57Z</dcterms:created>
  <dc:creator>1</dc:creator>
  <dc:description/>
  <dc:language>en-US</dc:language>
  <cp:lastModifiedBy>зиля</cp:lastModifiedBy>
  <dcterms:modified xsi:type="dcterms:W3CDTF">2014-01-28T19:20:40Z</dcterms:modified>
  <cp:revision>11</cp:revision>
  <dc:subject/>
  <dc:title>Слайд 1</dc:title>
</cp:coreProperties>
</file>