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B29-B0B3-4170-959B-B68089A8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822-8526-4927-A26E-5839F091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F25E2-2DA2-4E0D-AF04-8ADBEDA8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8993F-B086-4D0B-9F32-48E716ED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0576C-30D1-4059-89FD-CB0265AF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16193-0160-4CD6-86EF-87641174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DDFBD-77DB-4FBF-B40C-752B509B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D746A-8BDE-4055-956A-B81F375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CF636-BA5C-4A6E-9328-5999E028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A43AF-DBE1-4627-B14C-2D247908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B2C44-A9EC-48C4-A046-F8AB67C5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9AB71-6400-4971-82DE-C237F851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74A-2784-4C84-8D71-F0524DBA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42BCD-1E63-4ED4-9AAA-21537A5C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93B9A-92E5-4D71-BBD0-720B53AD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7F020-67B2-48F7-AF01-4970FC1F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4E519-A1C7-4E74-8F7F-219B7C49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E4D4D-49B9-4820-9022-8C5BA557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245A3-78F9-4C4C-887B-27A41778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FE744-C7CE-4290-A0F6-225B8982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6B8EE-2CCF-4192-97DF-805D1C95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8A60C-5BBB-49F9-94F7-A5543FAB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C9ABA-11C3-4731-98CC-B241FF7B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BEE-62D4-4CB5-9895-4C9A1888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DA81C-E892-4117-84F7-4921694A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FCFC0-F9B6-4BE4-AA4F-88D10F98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49E3E-7D1B-4DB8-A484-9EFD09B6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96A60-1BF3-4EE7-B6C8-8D4C9740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1AF7B-29E6-4555-A7D2-1DD47AC5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E4016-02E0-4304-A249-A638F764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F6D51-3ED1-4781-8D2F-853043F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2BFDA-F003-4FF0-A769-CEDEAA80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EF9BA-E530-4101-9C32-9CF06D6F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8D2FE-4699-49DD-8932-81F481DC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BB55-E3A8-4B44-80B2-1457D775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85CF2-D4BD-4069-A424-C978124C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0E7BC-0143-4F88-8A4D-2C7862A1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17D29-F854-402E-A794-8D9AE65C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BD3BE-FC85-4EB4-B831-15E32C8F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F162D-900D-4599-A9E5-8BB9F607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FA307-B0E0-4642-9A61-E1DDF053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8FFE8-386D-4277-821C-E8969F76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CD5B0-AF20-46FC-B35B-B3A6E054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30EA9-998D-4B21-8D87-9F9F1E29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E9F20-CF7B-47AA-A4E8-AD281738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7E38-E220-4A6C-8E34-7AB25F7F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115F9-3BB7-4005-87B7-4B5E1B59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AB459-02C7-4D7E-8A2E-BB7EDDA6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D11BC-2A73-4818-8168-A07A6121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DBB2A-55CF-4746-8DDE-E70080B2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D91E3-7E02-418D-8BFF-E603C05E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A84E-239B-46DD-A20C-772CE6C3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B9BC-FEFD-4827-BA28-EDBEF658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38AB-C2BB-4C93-9E80-586D1A04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9A85-7A90-45ED-BFFE-7AA19DC8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FA94-BCC3-4684-9D80-9B8C563C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022-34B6-444E-9A56-7CD4374C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DC98-BE19-44B1-A5B2-43E2CD51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695F-FED2-454F-B8D0-09FC227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C06F-8D22-4ED9-8D4F-2379627C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622B-365D-403D-8C2F-634A76BB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7923-91ED-4419-8D80-7A6112A1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1679-6245-41FF-BDB3-F9208CFD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AE6F-0C9A-4DA4-A769-C720EBB3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8DC8-885C-4354-8900-DB1CEBEB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7A05-A23D-4AB8-8B41-C4487436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773B-F2B9-4193-9836-05BBCD15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ABA-02DE-41A3-848A-5C2267D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96C2-6BFC-4513-B660-41725E73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CBCDF-2C24-4FEC-8C73-2401DCC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F8EF-9FA1-4E9E-84C3-22E2F031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E54C-536C-4F1D-94DF-81AE42C7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65B3-63EE-41E5-9092-B48A11BE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EBEF-FAA7-4F70-8657-71213581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59CA-1BBD-4C4F-9F4A-3E40924E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F844-0244-443B-BBE1-057BF3B1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0721-12BF-43A7-BC9C-894506CE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4E0CF-039B-40C9-881F-F2FB89D7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723-0838-4794-975E-9A00EE37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4BD0A-7ABB-4CB3-8B10-23D6EA2F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0060A-9988-40CA-B95B-B697EA00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2D7B6-6BB7-4140-A52E-F1BB01CF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BFD1-4479-4142-A0C6-C1274754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5F38-30BA-462D-B747-17D6A76C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4B84A-FC07-4320-B1EC-67DF958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9F216-6E08-4F20-8619-64C42696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7F5A-261B-4521-8D63-5F6593B2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5B37-41ED-494D-9CA4-C4E3F255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6205E-3AA8-4B2E-BBC9-4719A3BB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1A8-86B6-4711-823B-6DB4BA26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9854D-9D2C-4419-BCF0-7B68422E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8AF1C-7341-4156-86E4-84577C0C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559C0-51CC-4049-8D13-C2019A8A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29E3B-E90E-4F22-99B5-D0F37EFF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CFE0-F9C4-415E-90B6-9ACDBCC6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3CB04-3BAA-448E-A94B-EF8EA6B7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E508-0C42-4A83-93AA-338AB6E6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4A0B0-7E86-4EEE-87DD-F0BBFFF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FAB2A-5AF2-456A-BC0A-F1170E57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1210-FA80-4A7F-BB5E-73EDB90C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573-5ED7-4CF9-A5C0-D60F381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CAE85-B85C-4D76-A7A5-26A3C8B3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7583E-3BA0-4BD6-B30C-65C6341D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C69F4-F516-43FC-BB96-5157CEA3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3097-8563-4883-82F5-E2AD48B3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38622-AB85-48B4-85AF-1518647B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C0E43-9A33-482D-840B-D9778F59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68852-AEDC-492D-9FA5-AF933FF0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8360-FD74-4EBA-BFDD-DA2D9AAA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56661-B50B-4543-A0F0-C5E5A72D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043A9-4287-4D8E-88C3-290D474F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3AF-D860-4E23-962A-DC11569E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3264F-792E-4048-AEE3-7828B507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48F87-F51E-45DA-967A-41BF9020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28E64-B8C7-4A78-B62D-2E6B6DA3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37C45-97F7-4E69-B330-0E7DFDC9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95405-259B-4DE7-B42E-B24B6C17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8096B-0DFC-4389-B26C-D86E5884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2385C-D59B-4E78-9718-EA4FB215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C99C-9B7D-46F1-9D66-BD8FADCB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FE5B0-D7C6-4996-AD3C-400E99C6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10F17-CFD4-45A9-9263-56A0684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1A9-55B8-4BAC-8AF4-E8B3E39F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F9E5E-3828-4EC7-840D-71895100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97DAB-1430-4BF9-A1CA-0D01D6C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3ECB6-340D-4B7B-8E16-768D4DDF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3C21E-6D50-4F15-9041-C1007DD3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ACFDC-6BFE-42ED-ABA5-B8463839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F6EF7-F801-40B9-8CCF-A88F2D46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E70EB-ADD4-4DBF-8415-507A1E72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435B3-9CEF-48C5-BC4C-56D87588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0DF03-4906-4572-9634-456DAD31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558DE-6E00-48BF-8B76-8DF948EF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86A-4979-4E3C-BDE7-98D6AD09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BD2CA-945D-4DB9-9876-7846CC1D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AC930-C8CF-4658-B44E-B48C8CDD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FCD20-9123-4509-A940-3A4045B7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8885D-F655-4394-BA2B-5B1CE54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D08D6-B31C-483C-81F0-98F07C4F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32AC8-810D-4BB2-9741-A98436FC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42321-276D-445B-B0A6-2719972A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A4F88-89F3-4F43-A8B5-1E043893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CD1D9-EF60-4237-9644-501F2A7B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9B7DF-F1DB-47CB-9368-2E39CE0E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8A6A-5911-4C2D-9A57-CEEAD17929F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0E0C-416A-471D-88F8-C8B315C4B7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C431-5B67-44FF-8EF0-5E69126656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5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5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A8D8-6F8F-444D-8555-F50A99E4A1B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A162-EE19-4EE8-A71A-D961330F8E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84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8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187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8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22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2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23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3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23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10"/>
                  <p:cNvSpPr/>
                  <p:nvPr/>
                </p:nvSpPr>
                <p:spPr>
                  <a:xfrm>
                    <a:off x="5109480" y="22363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36" name="Group 12"/>
                  <p:cNvGrpSpPr/>
                  <p:nvPr/>
                </p:nvGrpSpPr>
                <p:grpSpPr>
                  <a:xfrm>
                    <a:off x="5760720" y="2323440"/>
                    <a:ext cx="2559240" cy="2740320"/>
                    <a:chOff x="5760720" y="2323440"/>
                    <a:chExt cx="2559240" cy="2740320"/>
                  </a:xfrm>
                </p:grpSpPr>
                <p:sp>
                  <p:nvSpPr>
                    <p:cNvPr id="237" name="Freeform 13"/>
                    <p:cNvSpPr/>
                    <p:nvPr/>
                  </p:nvSpPr>
                  <p:spPr>
                    <a:xfrm rot="2711400">
                      <a:off x="5583240" y="302076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24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24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4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24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5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5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5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36"/>
                  <p:cNvGrpSpPr/>
                  <p:nvPr/>
                </p:nvGrpSpPr>
                <p:grpSpPr>
                  <a:xfrm>
                    <a:off x="2085120" y="2367000"/>
                    <a:ext cx="3040200" cy="2530080"/>
                    <a:chOff x="2085120" y="2367000"/>
                    <a:chExt cx="3040200" cy="2530080"/>
                  </a:xfrm>
                </p:grpSpPr>
                <p:sp>
                  <p:nvSpPr>
                    <p:cNvPr id="26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524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38"/>
                    <p:cNvSpPr/>
                    <p:nvPr/>
                  </p:nvSpPr>
                  <p:spPr>
                    <a:xfrm flipH="1" rot="19496400">
                      <a:off x="2169360" y="3940920"/>
                      <a:ext cx="120024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6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6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45"/>
                  <p:cNvGrpSpPr/>
                  <p:nvPr/>
                </p:nvGrpSpPr>
                <p:grpSpPr>
                  <a:xfrm>
                    <a:off x="2167920" y="2098080"/>
                    <a:ext cx="2938320" cy="1000800"/>
                    <a:chOff x="2167920" y="2098080"/>
                    <a:chExt cx="2938320" cy="1000800"/>
                  </a:xfrm>
                </p:grpSpPr>
                <p:sp>
                  <p:nvSpPr>
                    <p:cNvPr id="27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4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4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7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27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7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8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8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63"/>
                  <p:cNvGrpSpPr/>
                  <p:nvPr/>
                </p:nvGrpSpPr>
                <p:grpSpPr>
                  <a:xfrm>
                    <a:off x="4026960" y="334440"/>
                    <a:ext cx="1461240" cy="1887840"/>
                    <a:chOff x="4026960" y="334440"/>
                    <a:chExt cx="1461240" cy="1887840"/>
                  </a:xfrm>
                </p:grpSpPr>
                <p:sp>
                  <p:nvSpPr>
                    <p:cNvPr id="288" name="Freeform 64"/>
                    <p:cNvSpPr/>
                    <p:nvPr/>
                  </p:nvSpPr>
                  <p:spPr>
                    <a:xfrm flipH="1" rot="3474000">
                      <a:off x="4336920" y="144468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65"/>
                    <p:cNvSpPr/>
                    <p:nvPr/>
                  </p:nvSpPr>
                  <p:spPr>
                    <a:xfrm flipH="1" rot="3474000">
                      <a:off x="4032360" y="545040"/>
                      <a:ext cx="7279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291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9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72"/>
                  <p:cNvGrpSpPr/>
                  <p:nvPr/>
                </p:nvGrpSpPr>
                <p:grpSpPr>
                  <a:xfrm>
                    <a:off x="5529600" y="626400"/>
                    <a:ext cx="2200320" cy="1451160"/>
                    <a:chOff x="5529600" y="626400"/>
                    <a:chExt cx="2200320" cy="1451160"/>
                  </a:xfrm>
                </p:grpSpPr>
                <p:sp>
                  <p:nvSpPr>
                    <p:cNvPr id="29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74"/>
                    <p:cNvSpPr/>
                    <p:nvPr/>
                  </p:nvSpPr>
                  <p:spPr>
                    <a:xfrm rot="19678800">
                      <a:off x="6864480" y="811080"/>
                      <a:ext cx="81684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1" name="Group 77"/>
                  <p:cNvGrpSpPr/>
                  <p:nvPr/>
                </p:nvGrpSpPr>
                <p:grpSpPr>
                  <a:xfrm>
                    <a:off x="5355720" y="270360"/>
                    <a:ext cx="1194840" cy="1901160"/>
                    <a:chOff x="5355720" y="270360"/>
                    <a:chExt cx="1194840" cy="1901160"/>
                  </a:xfrm>
                </p:grpSpPr>
                <p:sp>
                  <p:nvSpPr>
                    <p:cNvPr id="30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79"/>
                    <p:cNvSpPr/>
                    <p:nvPr/>
                  </p:nvSpPr>
                  <p:spPr>
                    <a:xfrm rot="17742000">
                      <a:off x="588708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0"/>
                  <p:cNvGrpSpPr/>
                  <p:nvPr/>
                </p:nvGrpSpPr>
                <p:grpSpPr>
                  <a:xfrm>
                    <a:off x="5349240" y="389520"/>
                    <a:ext cx="1890720" cy="1794960"/>
                    <a:chOff x="5349240" y="389520"/>
                    <a:chExt cx="1890720" cy="1794960"/>
                  </a:xfrm>
                </p:grpSpPr>
                <p:sp>
                  <p:nvSpPr>
                    <p:cNvPr id="305" name="Freeform 81"/>
                    <p:cNvSpPr/>
                    <p:nvPr/>
                  </p:nvSpPr>
                  <p:spPr>
                    <a:xfrm rot="18822600">
                      <a:off x="5249520" y="138780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82"/>
                    <p:cNvSpPr/>
                    <p:nvPr/>
                  </p:nvSpPr>
                  <p:spPr>
                    <a:xfrm rot="18822600">
                      <a:off x="6404400" y="585360"/>
                      <a:ext cx="7657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308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85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86"/>
                  <p:cNvGrpSpPr/>
                  <p:nvPr/>
                </p:nvGrpSpPr>
                <p:grpSpPr>
                  <a:xfrm>
                    <a:off x="3063240" y="2530800"/>
                    <a:ext cx="2194200" cy="3002400"/>
                    <a:chOff x="3063240" y="2530800"/>
                    <a:chExt cx="2194200" cy="3002400"/>
                  </a:xfrm>
                </p:grpSpPr>
                <p:sp>
                  <p:nvSpPr>
                    <p:cNvPr id="31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16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88"/>
                    <p:cNvSpPr/>
                    <p:nvPr/>
                  </p:nvSpPr>
                  <p:spPr>
                    <a:xfrm flipH="1" rot="18336000">
                      <a:off x="3070440" y="4591440"/>
                      <a:ext cx="113868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31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92"/>
                  <p:cNvGrpSpPr/>
                  <p:nvPr/>
                </p:nvGrpSpPr>
                <p:grpSpPr>
                  <a:xfrm>
                    <a:off x="4507920" y="2701800"/>
                    <a:ext cx="875880" cy="2927160"/>
                    <a:chOff x="4507920" y="2701800"/>
                    <a:chExt cx="875880" cy="2927160"/>
                  </a:xfrm>
                </p:grpSpPr>
                <p:sp>
                  <p:nvSpPr>
                    <p:cNvPr id="31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71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94"/>
                    <p:cNvSpPr/>
                    <p:nvPr/>
                  </p:nvSpPr>
                  <p:spPr>
                    <a:xfrm flipH="1" rot="16870800">
                      <a:off x="4366440" y="48070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32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98"/>
                  <p:cNvGrpSpPr/>
                  <p:nvPr/>
                </p:nvGrpSpPr>
                <p:grpSpPr>
                  <a:xfrm>
                    <a:off x="5648040" y="2594520"/>
                    <a:ext cx="1756800" cy="3030120"/>
                    <a:chOff x="5648040" y="2594520"/>
                    <a:chExt cx="1756800" cy="3030120"/>
                  </a:xfrm>
                </p:grpSpPr>
                <p:sp>
                  <p:nvSpPr>
                    <p:cNvPr id="323" name="Freeform 99"/>
                    <p:cNvSpPr/>
                    <p:nvPr/>
                  </p:nvSpPr>
                  <p:spPr>
                    <a:xfrm rot="3745200">
                      <a:off x="5265720" y="3396240"/>
                      <a:ext cx="203328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0"/>
                    <p:cNvSpPr/>
                    <p:nvPr/>
                  </p:nvSpPr>
                  <p:spPr>
                    <a:xfrm rot="3745200">
                      <a:off x="6352560" y="4719960"/>
                      <a:ext cx="108972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1"/>
                  <p:cNvGrpSpPr/>
                  <p:nvPr/>
                </p:nvGrpSpPr>
                <p:grpSpPr>
                  <a:xfrm>
                    <a:off x="5576400" y="2711880"/>
                    <a:ext cx="1225800" cy="2985480"/>
                    <a:chOff x="5576400" y="2711880"/>
                    <a:chExt cx="1225800" cy="2985480"/>
                  </a:xfrm>
                </p:grpSpPr>
                <p:sp>
                  <p:nvSpPr>
                    <p:cNvPr id="326" name="Freeform 102"/>
                    <p:cNvSpPr/>
                    <p:nvPr/>
                  </p:nvSpPr>
                  <p:spPr>
                    <a:xfrm rot="4286400">
                      <a:off x="5046840" y="3543840"/>
                      <a:ext cx="197280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103"/>
                    <p:cNvSpPr/>
                    <p:nvPr/>
                  </p:nvSpPr>
                  <p:spPr>
                    <a:xfrm rot="4286400">
                      <a:off x="5879160" y="488196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329" name="Freeform 105"/>
                    <p:cNvSpPr/>
                    <p:nvPr/>
                  </p:nvSpPr>
                  <p:spPr>
                    <a:xfrm rot="4898400">
                      <a:off x="4896360" y="360684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Freeform 106"/>
                    <p:cNvSpPr/>
                    <p:nvPr/>
                  </p:nvSpPr>
                  <p:spPr>
                    <a:xfrm rot="4898400">
                      <a:off x="5425200" y="4865040"/>
                      <a:ext cx="9738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Group 107"/>
                  <p:cNvGrpSpPr/>
                  <p:nvPr/>
                </p:nvGrpSpPr>
                <p:grpSpPr>
                  <a:xfrm>
                    <a:off x="4961160" y="2887560"/>
                    <a:ext cx="664920" cy="2717640"/>
                    <a:chOff x="4961160" y="2887560"/>
                    <a:chExt cx="664920" cy="2717640"/>
                  </a:xfrm>
                </p:grpSpPr>
                <p:sp>
                  <p:nvSpPr>
                    <p:cNvPr id="332" name="Freeform 108"/>
                    <p:cNvSpPr/>
                    <p:nvPr/>
                  </p:nvSpPr>
                  <p:spPr>
                    <a:xfrm rot="5755200">
                      <a:off x="4533480" y="366480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Freeform 109"/>
                    <p:cNvSpPr/>
                    <p:nvPr/>
                  </p:nvSpPr>
                  <p:spPr>
                    <a:xfrm rot="5755200">
                      <a:off x="4714920" y="4932000"/>
                      <a:ext cx="950760" cy="36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3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33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33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34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Arc 125"/>
              <p:cNvSpPr/>
              <p:nvPr/>
            </p:nvSpPr>
            <p:spPr>
              <a:xfrm>
                <a:off x="5588640" y="215532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5" name="Freeform 131"/>
              <p:cNvSpPr/>
              <p:nvPr/>
            </p:nvSpPr>
            <p:spPr>
              <a:xfrm>
                <a:off x="7513920" y="3112560"/>
                <a:ext cx="124200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Freeform 134"/>
              <p:cNvSpPr/>
              <p:nvPr/>
            </p:nvSpPr>
            <p:spPr>
              <a:xfrm flipH="1" rot="1347000">
                <a:off x="4183920" y="2158920"/>
                <a:ext cx="5428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5577-C28E-477B-AB25-F3E31E6B5F0E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40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DD8D-2F48-4F95-9858-8E75AF04930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4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5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5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2A59-C128-433B-96D6-5DB6FB489A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4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6F23-922F-41D3-872F-692D3FD9D4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5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1082-C1E5-4DA6-AD4C-59CDFE3FB2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99F2-F16E-4854-B347-74F6C9FE78F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2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662C-0901-4BD3-BA1F-8B944439B9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6" descr=""/>
          <p:cNvPicPr/>
          <p:nvPr/>
        </p:nvPicPr>
        <p:blipFill>
          <a:blip r:embed="rId1"/>
          <a:stretch/>
        </p:blipFill>
        <p:spPr>
          <a:xfrm>
            <a:off x="3851280" y="1085760"/>
            <a:ext cx="2016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6191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e3b30"/>
                </a:solidFill>
                <a:latin typeface="Franklin Gothic Book"/>
              </a:rPr>
              <a:t>What presents would you like to have ?</a:t>
            </a:r>
            <a:r>
              <a:rPr b="1" i="1" lang="ru-RU" sz="13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468360" y="1700280"/>
          <a:ext cx="7039080" cy="4568760"/>
        </p:xfrm>
        <a:graphic>
          <a:graphicData uri="http://schemas.openxmlformats.org/drawingml/2006/table">
            <a:tbl>
              <a:tblPr/>
              <a:tblGrid>
                <a:gridCol w="1728720"/>
                <a:gridCol w="1870200"/>
                <a:gridCol w="1679400"/>
                <a:gridCol w="1760760"/>
              </a:tblGrid>
              <a:tr h="945000">
                <a:tc row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 would like to have...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camera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ecau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o play footbal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ball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o rea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book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o play gam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pe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o take pictur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compute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4" descr="santa ае"/>
          <p:cNvPicPr/>
          <p:nvPr/>
        </p:nvPicPr>
        <p:blipFill>
          <a:blip r:embed="rId1"/>
          <a:stretch/>
        </p:blipFill>
        <p:spPr>
          <a:xfrm>
            <a:off x="3348000" y="1484280"/>
            <a:ext cx="29512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4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3008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1692360" y="1052280"/>
            <a:ext cx="6480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urkey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dding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mpkin pie, vegetab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 .Santa Claus, holiday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ristmas tree, birch tre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. Christmas pudding, Easter, ring, horseshoe.4.trousers,stockings,presents,sock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4"/>
          <p:cNvSpPr/>
          <p:nvPr/>
        </p:nvSpPr>
        <p:spPr>
          <a:xfrm>
            <a:off x="1187280" y="215280"/>
            <a:ext cx="590580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r children from Bashkortostan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 is Santa Claus. I live in North Pole. There are a lot of Christmas customs and traditions in Britain. Every year the people of Norway give the city of London a present. It’s a big Christmas tree and it stands in Trafalgar Square. I will be very glad to meet you soon. I have got a lot of surprises for you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a Clau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4" descr=""/>
          <p:cNvPicPr/>
          <p:nvPr/>
        </p:nvPicPr>
        <p:blipFill>
          <a:blip r:embed="rId1"/>
          <a:stretch/>
        </p:blipFill>
        <p:spPr>
          <a:xfrm>
            <a:off x="3132000" y="2274840"/>
            <a:ext cx="32529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2916000" y="2421000"/>
            <a:ext cx="4319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Merry Christmas and Happy New Year!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2843280" y="907920"/>
            <a:ext cx="446544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the Christmas Par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ristmas Day, happy da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are all glad and gay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all dance, and sing and sa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lcome, welcome, Christmas Day!’’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4" descr="img7"/>
          <p:cNvPicPr/>
          <p:nvPr/>
        </p:nvPicPr>
        <p:blipFill>
          <a:blip r:embed="rId1"/>
          <a:stretch/>
        </p:blipFill>
        <p:spPr>
          <a:xfrm>
            <a:off x="3672000" y="1484280"/>
            <a:ext cx="2412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image16"/>
          <p:cNvPicPr/>
          <p:nvPr/>
        </p:nvPicPr>
        <p:blipFill>
          <a:blip r:embed="rId1"/>
          <a:stretch/>
        </p:blipFill>
        <p:spPr>
          <a:xfrm>
            <a:off x="3747960" y="1341360"/>
            <a:ext cx="2589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4" descr="socks"/>
          <p:cNvPicPr/>
          <p:nvPr/>
        </p:nvPicPr>
        <p:blipFill>
          <a:blip r:embed="rId1"/>
          <a:stretch/>
        </p:blipFill>
        <p:spPr>
          <a:xfrm>
            <a:off x="3635280" y="1341360"/>
            <a:ext cx="21607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Рисунок 23" descr="Рис. 2"/>
          <p:cNvPicPr/>
          <p:nvPr/>
        </p:nvPicPr>
        <p:blipFill>
          <a:blip r:embed="rId1"/>
          <a:stretch/>
        </p:blipFill>
        <p:spPr>
          <a:xfrm>
            <a:off x="4067280" y="1527120"/>
            <a:ext cx="194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img2"/>
          <p:cNvPicPr/>
          <p:nvPr/>
        </p:nvPicPr>
        <p:blipFill>
          <a:blip r:embed="rId1"/>
          <a:stretch/>
        </p:blipFill>
        <p:spPr>
          <a:xfrm>
            <a:off x="3492360" y="2401920"/>
            <a:ext cx="2374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4" descr="img12"/>
          <p:cNvPicPr/>
          <p:nvPr/>
        </p:nvPicPr>
        <p:blipFill>
          <a:blip r:embed="rId1"/>
          <a:stretch/>
        </p:blipFill>
        <p:spPr>
          <a:xfrm>
            <a:off x="2916360" y="1700280"/>
            <a:ext cx="3024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img10"/>
          <p:cNvPicPr/>
          <p:nvPr/>
        </p:nvPicPr>
        <p:blipFill>
          <a:blip r:embed="rId1"/>
          <a:stretch/>
        </p:blipFill>
        <p:spPr>
          <a:xfrm>
            <a:off x="2916360" y="2133720"/>
            <a:ext cx="30715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6:34:57Z</dcterms:created>
  <dc:creator>1</dc:creator>
  <dc:description/>
  <dc:language>en-US</dc:language>
  <cp:lastModifiedBy>зиля</cp:lastModifiedBy>
  <dcterms:modified xsi:type="dcterms:W3CDTF">2014-01-28T19:20:40Z</dcterms:modified>
  <cp:revision>11</cp:revision>
  <dc:subject/>
  <dc:title>Слайд 1</dc:title>
</cp:coreProperties>
</file>