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F792-5857-44EA-802D-E4D7270AA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BA74-940A-4D7A-A5FA-E850E546C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88BA-1456-4ED5-B5C8-E878A4110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570D-B15F-47D2-8A01-642EA61F7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9DEB-D571-4641-A051-75563D0F3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1F10-3FFD-4AD3-83D5-2C5CC1D8B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48CB-31A3-4E8B-919B-8E67B3938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17D5-B698-40D5-BDD0-154DF17C4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4AED-E967-4831-94A6-7ABB7D867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A79B-D65B-47FB-B6BA-A4D25692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61A8-0B0D-4507-A11C-3CFF8E7F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8EDE-59A3-4F07-B989-68DBBCD2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A0E65-C6EB-47A5-97D1-9889BCD51A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УССКАЯ ПЕЧЬ В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УРАЛЬСКОЙ ИЗБ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038480" y="4343400"/>
            <a:ext cx="37339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АВТОР:    ПОТАПОВА  ДАРЬЯ ,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УЧЕНИЦА 9 «Б»  КЛАСС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МКУО  «СЛОБОДО – ТУРИНСКАЯ СОШ№2»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РУКОВОДИТЕЛЬ:      ЗАРОВНЯТНЫХ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ТАТЬЯНА МИХАЙЛОВН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094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Познавательна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: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накомств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 историей предметов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кружающих  нас в повседневной жизн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Общеучебны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: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тбор и систематизация материала, использование ИКТ при оформлении результатов проведенного исследования; публичное представление результатов исслед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3" descr="C:\Users\NC\Pictures\image.jpg"/>
          <p:cNvPicPr/>
          <p:nvPr/>
        </p:nvPicPr>
        <p:blipFill>
          <a:blip r:embed="rId1"/>
          <a:stretch/>
        </p:blipFill>
        <p:spPr>
          <a:xfrm>
            <a:off x="9524880" y="1523880"/>
            <a:ext cx="2360880" cy="161784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4" descr="C:\Users\NC\Pictures\2010-12-12 мои документы\мои документы 059.JPG"/>
          <p:cNvPicPr/>
          <p:nvPr/>
        </p:nvPicPr>
        <p:blipFill>
          <a:blip r:embed="rId2"/>
          <a:srcRect l="5404" t="0" r="10813" b="0"/>
          <a:stretch/>
        </p:blipFill>
        <p:spPr>
          <a:xfrm>
            <a:off x="6324480" y="762120"/>
            <a:ext cx="23623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9144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ечь в крестьянском доме ставили на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опечек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– фундамент из бревен. Внутри выкладывали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од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– днище, где горели дрова и готовили пищу. Верхняя часть печи называлась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водом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тверстие –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устье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ечь занимала почт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етвертую час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рестьянской изб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4" descr="C:\Users\NC\Pictures\imgB.jpg"/>
          <p:cNvPicPr/>
          <p:nvPr/>
        </p:nvPicPr>
        <p:blipFill>
          <a:blip r:embed="rId1"/>
          <a:stretch/>
        </p:blipFill>
        <p:spPr>
          <a:xfrm>
            <a:off x="5562720" y="3352680"/>
            <a:ext cx="2589120" cy="25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Users\NC\Desktop\печь\100_3089.jpg"/>
          <p:cNvPicPr/>
          <p:nvPr/>
        </p:nvPicPr>
        <p:blipFill>
          <a:blip r:embed="rId1"/>
          <a:srcRect l="0" t="11787" r="12456" b="4032"/>
          <a:stretch/>
        </p:blipFill>
        <p:spPr>
          <a:xfrm>
            <a:off x="990720" y="990720"/>
            <a:ext cx="2971800" cy="3809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C:\Users\NC\Desktop\печь\0027-027-Pech.jpg"/>
          <p:cNvPicPr/>
          <p:nvPr/>
        </p:nvPicPr>
        <p:blipFill>
          <a:blip r:embed="rId2"/>
          <a:srcRect l="12500" t="20373" r="13890" b="0"/>
          <a:stretch/>
        </p:blipFill>
        <p:spPr>
          <a:xfrm>
            <a:off x="4114800" y="762120"/>
            <a:ext cx="4038480" cy="3276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:\Users\NC\Desktop\печь\64963_or.jpg"/>
          <p:cNvPicPr/>
          <p:nvPr/>
        </p:nvPicPr>
        <p:blipFill>
          <a:blip r:embed="rId3"/>
          <a:stretch/>
        </p:blipFill>
        <p:spPr>
          <a:xfrm>
            <a:off x="3505320" y="4170240"/>
            <a:ext cx="3047760" cy="22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 печи был обязательно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шесток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де стояли горшки. На него сгребали угли. Под шестком в нише хранили инвентарь, лучину, а зимой… там жили кур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ыли и маленькие ниш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ля хранения хозяйствен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ых мелочей, сушк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укавиц, их называли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ичур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C:\Users\NC\Desktop\печь\100_3108.jpg"/>
          <p:cNvPicPr/>
          <p:nvPr/>
        </p:nvPicPr>
        <p:blipFill>
          <a:blip r:embed="rId1"/>
          <a:srcRect l="16824" t="0" r="0" b="0"/>
          <a:stretch/>
        </p:blipFill>
        <p:spPr>
          <a:xfrm>
            <a:off x="5791320" y="3429000"/>
            <a:ext cx="263664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ечь всегда строили н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пределенном расстоян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т стены, чтобы не был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жара. Небольшо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странство межд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еной и печь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зывалось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запечьем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его использовали дл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хозяйственных нужд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3" descr="F:\САНИ\758691296.jpg"/>
          <p:cNvPicPr/>
          <p:nvPr/>
        </p:nvPicPr>
        <p:blipFill>
          <a:blip r:embed="rId1"/>
          <a:srcRect l="0" t="0" r="32920" b="0"/>
          <a:stretch/>
        </p:blipFill>
        <p:spPr>
          <a:xfrm>
            <a:off x="5562720" y="1828800"/>
            <a:ext cx="28954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десь хозяйка храни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еобходимы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инадлежности дл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боты: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ухваты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зн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змеров,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кочергу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чапельник,(сковородник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большую лопат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rcRect l="9874" t="0" r="0" b="0"/>
          <a:stretch/>
        </p:blipFill>
        <p:spPr>
          <a:xfrm>
            <a:off x="5410080" y="762120"/>
            <a:ext cx="2781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Users\NC\Desktop\печь\100_3106.jpg"/>
          <p:cNvPicPr/>
          <p:nvPr/>
        </p:nvPicPr>
        <p:blipFill>
          <a:blip r:embed="rId1"/>
          <a:srcRect l="0" t="0" r="0" b="8431"/>
          <a:stretch/>
        </p:blipFill>
        <p:spPr>
          <a:xfrm>
            <a:off x="4648320" y="914400"/>
            <a:ext cx="3551040" cy="2438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C:\Users\NC\Desktop\печь\100_3110.jpg"/>
          <p:cNvPicPr/>
          <p:nvPr/>
        </p:nvPicPr>
        <p:blipFill>
          <a:blip r:embed="rId2"/>
          <a:srcRect l="12658" t="0" r="0" b="12806"/>
          <a:stretch/>
        </p:blipFill>
        <p:spPr>
          <a:xfrm>
            <a:off x="5029200" y="3657600"/>
            <a:ext cx="3154320" cy="2362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C:\Users\NC\Desktop\печь\100_3109.jpg"/>
          <p:cNvPicPr/>
          <p:nvPr/>
        </p:nvPicPr>
        <p:blipFill>
          <a:blip r:embed="rId3"/>
          <a:stretch/>
        </p:blipFill>
        <p:spPr>
          <a:xfrm>
            <a:off x="990720" y="3352680"/>
            <a:ext cx="3763800" cy="2824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C:\Users\NC\Desktop\печь\album_pic.jpg"/>
          <p:cNvPicPr/>
          <p:nvPr/>
        </p:nvPicPr>
        <p:blipFill>
          <a:blip r:embed="rId4"/>
          <a:stretch/>
        </p:blipFill>
        <p:spPr>
          <a:xfrm>
            <a:off x="1066680" y="762120"/>
            <a:ext cx="314964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C:\Users\NC\Desktop\печь\100_3113.jpg"/>
          <p:cNvPicPr/>
          <p:nvPr/>
        </p:nvPicPr>
        <p:blipFill>
          <a:blip r:embed="rId1"/>
          <a:srcRect l="3790" t="0" r="15400" b="9565"/>
          <a:stretch/>
        </p:blipFill>
        <p:spPr>
          <a:xfrm>
            <a:off x="1066680" y="685800"/>
            <a:ext cx="3353040" cy="2671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C:\Users\NC\Desktop\печь\0_6ddb6_bcfc771a_-1-XL.jpg"/>
          <p:cNvPicPr/>
          <p:nvPr/>
        </p:nvPicPr>
        <p:blipFill>
          <a:blip r:embed="rId2"/>
          <a:srcRect l="0" t="0" r="3735" b="35852"/>
          <a:stretch/>
        </p:blipFill>
        <p:spPr>
          <a:xfrm>
            <a:off x="4876920" y="990720"/>
            <a:ext cx="3124080" cy="2590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C:\Users\NC\Desktop\печь\scr.gif"/>
          <p:cNvPicPr/>
          <p:nvPr/>
        </p:nvPicPr>
        <p:blipFill>
          <a:blip r:embed="rId3"/>
          <a:stretch/>
        </p:blipFill>
        <p:spPr>
          <a:xfrm>
            <a:off x="4876920" y="2971800"/>
            <a:ext cx="3276360" cy="2666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C:\Users\NC\Desktop\печь\Изображение 024.jpg"/>
          <p:cNvPicPr/>
          <p:nvPr/>
        </p:nvPicPr>
        <p:blipFill>
          <a:blip r:embed="rId4"/>
          <a:srcRect l="0" t="0" r="21158" b="0"/>
          <a:stretch/>
        </p:blipFill>
        <p:spPr>
          <a:xfrm>
            <a:off x="1523880" y="3352680"/>
            <a:ext cx="31244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05:47:16Z</dcterms:created>
  <dc:creator>Катя</dc:creator>
  <dc:description/>
  <dc:language>en-US</dc:language>
  <cp:lastModifiedBy>NC</cp:lastModifiedBy>
  <dcterms:modified xsi:type="dcterms:W3CDTF">2014-01-28T13:28:55Z</dcterms:modified>
  <cp:revision>61</cp:revision>
  <dc:subject/>
  <dc:title>Название презентации</dc:title>
</cp:coreProperties>
</file>