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C12-2BE6-4CBB-B95F-CDBEE941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CDD-BD65-470D-811A-8B31F834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6DF-3996-4492-BCCD-66327220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E80-5AC0-47E8-8911-E70EA791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18C-2147-48CC-8B40-D39B5D5B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DAA-7F3D-4D0A-ACEF-CB0F9AC9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F73-89D4-49EB-B307-FDB3D591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198-B846-44B8-82DC-6EC05837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48E-9238-438B-B79C-6BED9769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B0A-B6B8-4597-AF58-144FBBE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2A8-320F-41A8-8EF8-57CA617E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30E-515C-4D08-ADC6-0125300C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AAD9-A9FC-47A7-A89A-5FC4D8F3D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АЯ ПЕЧЬ 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РАЛЬСКОЙ ИЗ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434340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АВТОР:    ПОТАПОВА  ДАРЬЯ 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УЧЕНИЦА 9 «Б»  КЛАСС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МКУО  «СЛОБОДО – ТУРИНСКАЯ СОШ№2»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УКОВОДИТЕЛЬ:      ЗАРОВНЯТНЫ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ТАТЬЯНА МИХАЙЛО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ознавате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ом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 историей предмет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ружающих  нас в повседневной жиз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бщеучеб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: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бор и систематизация материала, использование ИКТ при оформлении результатов проведенного исследования; публичное представление результатов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C:\Users\NC\Pictures\image.jpg"/>
          <p:cNvPicPr/>
          <p:nvPr/>
        </p:nvPicPr>
        <p:blipFill>
          <a:blip r:embed="rId1"/>
          <a:stretch/>
        </p:blipFill>
        <p:spPr>
          <a:xfrm>
            <a:off x="9524880" y="1523880"/>
            <a:ext cx="2360880" cy="1617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C:\Users\NC\Pictures\2010-12-12 мои документы\мои документы 059.JPG"/>
          <p:cNvPicPr/>
          <p:nvPr/>
        </p:nvPicPr>
        <p:blipFill>
          <a:blip r:embed="rId2"/>
          <a:srcRect l="5404" t="0" r="10813" b="0"/>
          <a:stretch/>
        </p:blipFill>
        <p:spPr>
          <a:xfrm>
            <a:off x="6324480" y="762120"/>
            <a:ext cx="2362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чь в крестьянском доме ставили н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пече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 фундамент из бревен. Внутри выкладывал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днище, где горели дрова и готовили пищу. Верхняя часть печи называлас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вод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рстие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сть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чь занимала поч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твертую ч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стьянской изб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C:\Users\NC\Pictures\imgB.jpg"/>
          <p:cNvPicPr/>
          <p:nvPr/>
        </p:nvPicPr>
        <p:blipFill>
          <a:blip r:embed="rId1"/>
          <a:stretch/>
        </p:blipFill>
        <p:spPr>
          <a:xfrm>
            <a:off x="5562720" y="3352680"/>
            <a:ext cx="258912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NC\Desktop\печь\100_3089.jpg"/>
          <p:cNvPicPr/>
          <p:nvPr/>
        </p:nvPicPr>
        <p:blipFill>
          <a:blip r:embed="rId1"/>
          <a:srcRect l="0" t="11787" r="12456" b="4032"/>
          <a:stretch/>
        </p:blipFill>
        <p:spPr>
          <a:xfrm>
            <a:off x="990720" y="990720"/>
            <a:ext cx="297180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NC\Desktop\печь\0027-027-Pech.jpg"/>
          <p:cNvPicPr/>
          <p:nvPr/>
        </p:nvPicPr>
        <p:blipFill>
          <a:blip r:embed="rId2"/>
          <a:srcRect l="12500" t="20373" r="13890" b="0"/>
          <a:stretch/>
        </p:blipFill>
        <p:spPr>
          <a:xfrm>
            <a:off x="4114800" y="762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NC\Desktop\печь\64963_or.jpg"/>
          <p:cNvPicPr/>
          <p:nvPr/>
        </p:nvPicPr>
        <p:blipFill>
          <a:blip r:embed="rId3"/>
          <a:stretch/>
        </p:blipFill>
        <p:spPr>
          <a:xfrm>
            <a:off x="3505320" y="4170240"/>
            <a:ext cx="304776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печи был обязательно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шест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де стояли горшки. На него сгребали угли. Под шестком в нише хранили инвентарь, лучину, а зимой… там жили ку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ли и маленькие ниш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хранения хозяйствен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ых мелочей, суш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кавиц, их называл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ичур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Users\NC\Desktop\печь\100_3108.jpg"/>
          <p:cNvPicPr/>
          <p:nvPr/>
        </p:nvPicPr>
        <p:blipFill>
          <a:blip r:embed="rId1"/>
          <a:srcRect l="16824" t="0" r="0" b="0"/>
          <a:stretch/>
        </p:blipFill>
        <p:spPr>
          <a:xfrm>
            <a:off x="5791320" y="3429000"/>
            <a:ext cx="26366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чь всегда строили 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ном расстоя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 стены, чтобы не бы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жара. Небольш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странство меж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еной и печ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ывалось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печье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о использовали дл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зяйственных нуж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F:\САНИ\758691296.jpg"/>
          <p:cNvPicPr/>
          <p:nvPr/>
        </p:nvPicPr>
        <p:blipFill>
          <a:blip r:embed="rId1"/>
          <a:srcRect l="0" t="0" r="32920" b="0"/>
          <a:stretch/>
        </p:blipFill>
        <p:spPr>
          <a:xfrm>
            <a:off x="5562720" y="1828800"/>
            <a:ext cx="2895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десь хозяйка хран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бходим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адлежности дл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боты: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хват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меров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черг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апельник,(сковород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ольшую лопа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9874" t="0" r="0" b="0"/>
          <a:stretch/>
        </p:blipFill>
        <p:spPr>
          <a:xfrm>
            <a:off x="5410080" y="762120"/>
            <a:ext cx="278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NC\Desktop\печь\100_3106.jpg"/>
          <p:cNvPicPr/>
          <p:nvPr/>
        </p:nvPicPr>
        <p:blipFill>
          <a:blip r:embed="rId1"/>
          <a:srcRect l="0" t="0" r="0" b="8431"/>
          <a:stretch/>
        </p:blipFill>
        <p:spPr>
          <a:xfrm>
            <a:off x="4648320" y="914400"/>
            <a:ext cx="355104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NC\Desktop\печь\100_3110.jpg"/>
          <p:cNvPicPr/>
          <p:nvPr/>
        </p:nvPicPr>
        <p:blipFill>
          <a:blip r:embed="rId2"/>
          <a:srcRect l="12658" t="0" r="0" b="12806"/>
          <a:stretch/>
        </p:blipFill>
        <p:spPr>
          <a:xfrm>
            <a:off x="5029200" y="3657600"/>
            <a:ext cx="315432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NC\Desktop\печь\100_3109.jpg"/>
          <p:cNvPicPr/>
          <p:nvPr/>
        </p:nvPicPr>
        <p:blipFill>
          <a:blip r:embed="rId3"/>
          <a:stretch/>
        </p:blipFill>
        <p:spPr>
          <a:xfrm>
            <a:off x="990720" y="3352680"/>
            <a:ext cx="3763800" cy="28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NC\Desktop\печь\album_pic.jpg"/>
          <p:cNvPicPr/>
          <p:nvPr/>
        </p:nvPicPr>
        <p:blipFill>
          <a:blip r:embed="rId4"/>
          <a:stretch/>
        </p:blipFill>
        <p:spPr>
          <a:xfrm>
            <a:off x="1066680" y="762120"/>
            <a:ext cx="3149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:\Users\NC\Desktop\печь\100_3113.jpg"/>
          <p:cNvPicPr/>
          <p:nvPr/>
        </p:nvPicPr>
        <p:blipFill>
          <a:blip r:embed="rId1"/>
          <a:srcRect l="3790" t="0" r="15400" b="9565"/>
          <a:stretch/>
        </p:blipFill>
        <p:spPr>
          <a:xfrm>
            <a:off x="1066680" y="685800"/>
            <a:ext cx="3353040" cy="26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NC\Desktop\печь\0_6ddb6_bcfc771a_-1-XL.jpg"/>
          <p:cNvPicPr/>
          <p:nvPr/>
        </p:nvPicPr>
        <p:blipFill>
          <a:blip r:embed="rId2"/>
          <a:srcRect l="0" t="0" r="3735" b="35852"/>
          <a:stretch/>
        </p:blipFill>
        <p:spPr>
          <a:xfrm>
            <a:off x="4876920" y="990720"/>
            <a:ext cx="3124080" cy="259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NC\Desktop\печь\scr.gif"/>
          <p:cNvPicPr/>
          <p:nvPr/>
        </p:nvPicPr>
        <p:blipFill>
          <a:blip r:embed="rId3"/>
          <a:stretch/>
        </p:blipFill>
        <p:spPr>
          <a:xfrm>
            <a:off x="4876920" y="2971800"/>
            <a:ext cx="327636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NC\Desktop\печь\Изображение 024.jpg"/>
          <p:cNvPicPr/>
          <p:nvPr/>
        </p:nvPicPr>
        <p:blipFill>
          <a:blip r:embed="rId4"/>
          <a:srcRect l="0" t="0" r="21158" b="0"/>
          <a:stretch/>
        </p:blipFill>
        <p:spPr>
          <a:xfrm>
            <a:off x="1523880" y="3352680"/>
            <a:ext cx="3124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NC</cp:lastModifiedBy>
  <dcterms:modified xsi:type="dcterms:W3CDTF">2014-01-28T13:28:55Z</dcterms:modified>
  <cp:revision>61</cp:revision>
  <dc:subject/>
  <dc:title>Название презентации</dc:title>
</cp:coreProperties>
</file>