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5.png" ContentType="image/png"/>
  <Override PartName="/ppt/media/image43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54.png" ContentType="image/png"/>
  <Override PartName="/ppt/media/image50.jpeg" ContentType="image/jpeg"/>
  <Override PartName="/ppt/media/image37.jpeg" ContentType="image/jpeg"/>
  <Override PartName="/ppt/media/image30.jpeg" ContentType="image/jpeg"/>
  <Override PartName="/ppt/media/image52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8.png" ContentType="image/png"/>
  <Override PartName="/ppt/media/image39.jpeg" ContentType="image/jpe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A273-11AD-495F-ADD3-7D67617917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A608-B09E-436D-8439-4FED1560600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0BD3-1E13-4F5E-9AD2-A5348497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AA08-45D2-4AEB-9888-DA9A4E3B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DC84-859A-4D42-AF20-CDE668A0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4A70-CA8E-4A69-A9FB-F971EF10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11F3-F2D4-417D-80DF-07039FFF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12E0-25AC-4BA2-BFB4-F8A9D200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5493-41AB-4641-985D-3B789CAA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9B39-E76E-43B4-B571-2010FD65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8469-EDAA-414F-9E55-F1775973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0A82-E6C1-414C-80C5-299B824F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11BE-E39C-4516-AD66-A90F2691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6953-00FC-40EF-8E4C-BED97952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3FFC-1137-47BF-A9E1-9AC7925B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1FDE-F469-43E7-9546-580AB81E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4518-7F97-448B-A0FE-7090F7C1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85D6-A063-408D-94C8-A074149F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B610-D42C-405A-A438-C5145B34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9744-C4CF-4C81-AFBD-694A0F60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CB9A-37D6-414C-8E88-0557540B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CA0B-9D89-4FDC-9D1D-3F2A2542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FC1E-F318-4DB0-9E3A-2E10511D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93F8-78C0-44C8-9A0D-6C8E590B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91A1-480C-4111-A2EC-00A99DC8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FB83-D487-455C-9E4C-D6B11877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8D9B-3D9A-4819-B76C-574F1E19AE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B347-BAD1-46D1-AC3D-D31B701E24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СНГ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одружество Независимых Государст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300px-Flag_of_the_CIS"/>
          <p:cNvPicPr/>
          <p:nvPr/>
        </p:nvPicPr>
        <p:blipFill>
          <a:blip r:embed="rId1"/>
          <a:stretch/>
        </p:blipFill>
        <p:spPr>
          <a:xfrm>
            <a:off x="1763640" y="3357720"/>
            <a:ext cx="6048360" cy="3024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islam.ru/sites/default/files/img/news/2011/12/karabah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рямоугольник 2" descr=""/>
          <p:cNvPicPr/>
          <p:nvPr/>
        </p:nvPicPr>
        <p:blipFill>
          <a:blip r:embed="rId1"/>
          <a:stretch/>
        </p:blipFill>
        <p:spPr>
          <a:xfrm>
            <a:off x="328680" y="-158760"/>
            <a:ext cx="8113680" cy="1511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savepic.su/2190946.jpg"/>
          <p:cNvPicPr/>
          <p:nvPr/>
        </p:nvPicPr>
        <p:blipFill>
          <a:blip r:embed="rId2"/>
          <a:stretch/>
        </p:blipFill>
        <p:spPr>
          <a:xfrm>
            <a:off x="841320" y="977760"/>
            <a:ext cx="7272360" cy="533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0" y="79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Приднестровский конфликт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конфликт между Молдавией и непризнанным государством, контролирующим часть заявленной территории Молдавии— Приднестровской Молдавской Республикой , под контролем которого находится, в основном, левобережье Днестра), население которого составляют молдаване, русские и украинцы (примерно в равной пропорции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нфликт, начавшийся ещё в советское время (1989), после обретения Молдавией независимости, привёл к вооружённому противостоянию и многочисленным жертвам с обеих сторон весной и летом 1992 года. В настоящее время безопасность в зоне конфликта обеспечивают Совместные миротворческие силы России, Молдавии, Приднестровья и военные наблюдатели от Украи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0" y="5086440"/>
            <a:ext cx="925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aramond"/>
              </a:rPr>
              <a:t>17 сентября 2006 на территории ПМР был проведён референдум, на который было вынесено два вопроса: «Считаете ли вы возможным сохранение курса на международное признание Приднестровья и вхождение в состав России?» и «Считаете ли вы возможным вхождение Приднестровья в состав Молдавии?». За независимость Приднестровской Молдавской Республики (ПМР) и её последующее свободное присоединение к Российской Федерации (РФ) высказались 97 % Против интеграции с РФ проголосовали 2,3 % избирател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Прямоугольник 1" descr=""/>
          <p:cNvPicPr/>
          <p:nvPr/>
        </p:nvPicPr>
        <p:blipFill>
          <a:blip r:embed="rId1"/>
          <a:stretch/>
        </p:blipFill>
        <p:spPr>
          <a:xfrm>
            <a:off x="1932120" y="-158760"/>
            <a:ext cx="4913280" cy="151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ruskline.ru/images/2008/12183.jpg"/>
          <p:cNvPicPr/>
          <p:nvPr/>
        </p:nvPicPr>
        <p:blipFill>
          <a:blip r:embed="rId2"/>
          <a:stretch/>
        </p:blipFill>
        <p:spPr>
          <a:xfrm>
            <a:off x="1403280" y="870120"/>
            <a:ext cx="6195960" cy="464652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2"/>
          <p:cNvSpPr/>
          <p:nvPr/>
        </p:nvSpPr>
        <p:spPr>
          <a:xfrm>
            <a:off x="0" y="5516640"/>
            <a:ext cx="914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Грузи́но-абха́зский конфли́кт (1992-1993, 1997, 2006, 2008)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— этнополитический конфликт между центральной властью Грузии и руководством автономной республики Абхаз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1332000" y="189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Россия признала независимость Абхазии 26 августа 2008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11160" y="1389240"/>
            <a:ext cx="91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Никарагуа признало независимость Абхазии 5 сентября 2008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Венесуэла признала независимость Абхазии 10 сентября 2009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b0f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Науру признала независимость Абхазии 15 декабря 2009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Тувалу признала независимость Абхазии 18 сентября 201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8" descr="Flag of Abkhazia.svg"/>
          <p:cNvPicPr/>
          <p:nvPr/>
        </p:nvPicPr>
        <p:blipFill>
          <a:blip r:embed="rId1"/>
          <a:stretch/>
        </p:blipFill>
        <p:spPr>
          <a:xfrm>
            <a:off x="250920" y="3068640"/>
            <a:ext cx="3146400" cy="158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Герб Республики Абхазия"/>
          <p:cNvPicPr/>
          <p:nvPr/>
        </p:nvPicPr>
        <p:blipFill>
          <a:blip r:embed="rId2"/>
          <a:stretch/>
        </p:blipFill>
        <p:spPr>
          <a:xfrm>
            <a:off x="5219640" y="3103560"/>
            <a:ext cx="2852640" cy="356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1" descr=""/>
          <p:cNvPicPr/>
          <p:nvPr/>
        </p:nvPicPr>
        <p:blipFill>
          <a:blip r:embed="rId1"/>
          <a:stretch/>
        </p:blipFill>
        <p:spPr>
          <a:xfrm>
            <a:off x="463680" y="-158760"/>
            <a:ext cx="7851600" cy="1511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://img.rufox.ru/files/big2/601613.jpg"/>
          <p:cNvPicPr/>
          <p:nvPr/>
        </p:nvPicPr>
        <p:blipFill>
          <a:blip r:embed="rId2"/>
          <a:stretch/>
        </p:blipFill>
        <p:spPr>
          <a:xfrm>
            <a:off x="1619280" y="927000"/>
            <a:ext cx="6039000" cy="45720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"/>
          <p:cNvSpPr/>
          <p:nvPr/>
        </p:nvSpPr>
        <p:spPr>
          <a:xfrm>
            <a:off x="324000" y="55134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оружённый конфликт, произошедший в августе 2008 года между Грузией, с одной стороны, и Южной Осетией и Абхазией, а также Россией, с друг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395280" y="115920"/>
            <a:ext cx="856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6 августа Россия официально признала Южную Осетию и Абхазию в качестве независимых государств. 2 сентября Грузия разорвала дипломатические отношения с Росси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Прямоугольник 1" descr=""/>
          <p:cNvPicPr/>
          <p:nvPr/>
        </p:nvPicPr>
        <p:blipFill>
          <a:blip r:embed="rId1"/>
          <a:stretch/>
        </p:blipFill>
        <p:spPr>
          <a:xfrm>
            <a:off x="2571840" y="79200"/>
            <a:ext cx="3725640" cy="153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www.profi-forex.org/system/news/1_5165.jpg"/>
          <p:cNvPicPr/>
          <p:nvPr/>
        </p:nvPicPr>
        <p:blipFill>
          <a:blip r:embed="rId2"/>
          <a:stretch/>
        </p:blipFill>
        <p:spPr>
          <a:xfrm>
            <a:off x="324000" y="1268280"/>
            <a:ext cx="2857320" cy="44290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3182760" y="1263600"/>
            <a:ext cx="596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Лукашенк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лександр Григорьевич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(1994-н.в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3195360" y="314172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ближение отношений с Россие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едущая роль государства в экономик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1" descr=""/>
          <p:cNvPicPr/>
          <p:nvPr/>
        </p:nvPicPr>
        <p:blipFill>
          <a:blip r:embed="rId1"/>
          <a:stretch/>
        </p:blipFill>
        <p:spPr>
          <a:xfrm>
            <a:off x="2651040" y="79200"/>
            <a:ext cx="3560760" cy="1536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img.blogs.pravda.com.ua/images/doc/5/1/51bc5-64550746124.jpg"/>
          <p:cNvPicPr/>
          <p:nvPr/>
        </p:nvPicPr>
        <p:blipFill>
          <a:blip r:embed="rId2"/>
          <a:stretch/>
        </p:blipFill>
        <p:spPr>
          <a:xfrm>
            <a:off x="-31680" y="1440"/>
            <a:ext cx="1920960" cy="25574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-197280" y="2417760"/>
            <a:ext cx="24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авчук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онид Макар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1-199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http://www.terra.md/i/news/6446.jpg"/>
          <p:cNvPicPr/>
          <p:nvPr/>
        </p:nvPicPr>
        <p:blipFill>
          <a:blip r:embed="rId3"/>
          <a:stretch/>
        </p:blipFill>
        <p:spPr>
          <a:xfrm>
            <a:off x="2028960" y="1184400"/>
            <a:ext cx="2158920" cy="2585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1820880" y="3732120"/>
            <a:ext cx="257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уч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онид Даниил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4-200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6" descr="http://img.vz.ru/upimg/m75/m75561.jpg"/>
          <p:cNvPicPr/>
          <p:nvPr/>
        </p:nvPicPr>
        <p:blipFill>
          <a:blip r:embed="rId4"/>
          <a:stretch/>
        </p:blipFill>
        <p:spPr>
          <a:xfrm>
            <a:off x="4216320" y="173664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6"/>
          <p:cNvSpPr/>
          <p:nvPr/>
        </p:nvSpPr>
        <p:spPr>
          <a:xfrm>
            <a:off x="4465080" y="4022640"/>
            <a:ext cx="23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Ющенк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иктор Андре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05-201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8" descr="Виктор  Фёдорович Янукович"/>
          <p:cNvPicPr/>
          <p:nvPr/>
        </p:nvPicPr>
        <p:blipFill>
          <a:blip r:embed="rId5"/>
          <a:stretch/>
        </p:blipFill>
        <p:spPr>
          <a:xfrm>
            <a:off x="6443640" y="2558880"/>
            <a:ext cx="2381400" cy="3286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6611400" y="5732640"/>
            <a:ext cx="23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Янук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иктор Федор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10-н.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1" descr=""/>
          <p:cNvPicPr/>
          <p:nvPr/>
        </p:nvPicPr>
        <p:blipFill>
          <a:blip r:embed="rId1"/>
          <a:stretch/>
        </p:blipFill>
        <p:spPr>
          <a:xfrm>
            <a:off x="2639880" y="79200"/>
            <a:ext cx="3595680" cy="1536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Мирча Иванович Снегур"/>
          <p:cNvPicPr/>
          <p:nvPr/>
        </p:nvPicPr>
        <p:blipFill>
          <a:blip r:embed="rId2"/>
          <a:stretch/>
        </p:blipFill>
        <p:spPr>
          <a:xfrm>
            <a:off x="0" y="0"/>
            <a:ext cx="2666880" cy="25812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-187560" y="25812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ирча Иванович Снегу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0-199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Пётр Кириллович Лучинский"/>
          <p:cNvPicPr/>
          <p:nvPr/>
        </p:nvPicPr>
        <p:blipFill>
          <a:blip r:embed="rId3"/>
          <a:stretch/>
        </p:blipFill>
        <p:spPr>
          <a:xfrm>
            <a:off x="2671920" y="1052640"/>
            <a:ext cx="2095200" cy="26096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2579040" y="3562200"/>
            <a:ext cx="227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тр Кирилл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учинск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7-20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6" descr="Владимир Николаевич Воронин"/>
          <p:cNvPicPr/>
          <p:nvPr/>
        </p:nvPicPr>
        <p:blipFill>
          <a:blip r:embed="rId4"/>
          <a:stretch/>
        </p:blipFill>
        <p:spPr>
          <a:xfrm>
            <a:off x="4762440" y="1438200"/>
            <a:ext cx="2381400" cy="2933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4680720" y="4371840"/>
            <a:ext cx="287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ладимир Никола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рони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01-200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8" descr="Николае Васильевич Тимофти"/>
          <p:cNvPicPr/>
          <p:nvPr/>
        </p:nvPicPr>
        <p:blipFill>
          <a:blip r:embed="rId5"/>
          <a:stretch/>
        </p:blipFill>
        <p:spPr>
          <a:xfrm>
            <a:off x="7211880" y="2905200"/>
            <a:ext cx="1905120" cy="2676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6245280" y="5661000"/>
            <a:ext cx="34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икола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Васил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имоф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12-н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800" y="0"/>
            <a:ext cx="9132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НГ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одружество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Н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езависимых 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Г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осударств — объединение большинства стран, образовавшихся после распада СССР;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было образовано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8 декабря 1991 года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–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БЕЛОВЕЖСКОЕ СОГЛАШЕНИЕ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1" descr=""/>
          <p:cNvPicPr/>
          <p:nvPr/>
        </p:nvPicPr>
        <p:blipFill>
          <a:blip r:embed="rId1"/>
          <a:stretch/>
        </p:blipFill>
        <p:spPr>
          <a:xfrm>
            <a:off x="-324000" y="-128520"/>
            <a:ext cx="3067200" cy="153648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10" descr=""/>
          <p:cNvPicPr/>
          <p:nvPr/>
        </p:nvPicPr>
        <p:blipFill>
          <a:blip r:embed="rId2"/>
          <a:stretch/>
        </p:blipFill>
        <p:spPr>
          <a:xfrm>
            <a:off x="4432320" y="-122400"/>
            <a:ext cx="5052960" cy="1536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Георгий Парменович Маргвелашвили"/>
          <p:cNvPicPr/>
          <p:nvPr/>
        </p:nvPicPr>
        <p:blipFill>
          <a:blip r:embed="rId3"/>
          <a:stretch/>
        </p:blipFill>
        <p:spPr>
          <a:xfrm>
            <a:off x="34920" y="90792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2"/>
          <p:cNvSpPr/>
          <p:nvPr/>
        </p:nvSpPr>
        <p:spPr>
          <a:xfrm>
            <a:off x="-21240" y="3575160"/>
            <a:ext cx="27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оргий Пармен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ргвелашвил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4" descr="Ильхам Алиев"/>
          <p:cNvPicPr/>
          <p:nvPr/>
        </p:nvPicPr>
        <p:blipFill>
          <a:blip r:embed="rId4"/>
          <a:stretch/>
        </p:blipFill>
        <p:spPr>
          <a:xfrm>
            <a:off x="5796000" y="971640"/>
            <a:ext cx="2666880" cy="40003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6198840" y="500544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льхам Алие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Прямоугольник 15" descr=""/>
          <p:cNvPicPr/>
          <p:nvPr/>
        </p:nvPicPr>
        <p:blipFill>
          <a:blip r:embed="rId5"/>
          <a:stretch/>
        </p:blipFill>
        <p:spPr>
          <a:xfrm>
            <a:off x="2048040" y="5626080"/>
            <a:ext cx="3633480" cy="1536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Серж Азатович Саргсян"/>
          <p:cNvPicPr/>
          <p:nvPr/>
        </p:nvPicPr>
        <p:blipFill>
          <a:blip r:embed="rId6"/>
          <a:stretch/>
        </p:blipFill>
        <p:spPr>
          <a:xfrm>
            <a:off x="2862360" y="3068640"/>
            <a:ext cx="2252520" cy="30448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8"/>
          <p:cNvSpPr/>
          <p:nvPr/>
        </p:nvSpPr>
        <p:spPr>
          <a:xfrm>
            <a:off x="3018960" y="2241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ерж Азат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аргся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рямоугольник 1" descr=""/>
          <p:cNvPicPr/>
          <p:nvPr/>
        </p:nvPicPr>
        <p:blipFill>
          <a:blip r:embed="rId1"/>
          <a:stretch/>
        </p:blipFill>
        <p:spPr>
          <a:xfrm>
            <a:off x="-324000" y="-128520"/>
            <a:ext cx="4469040" cy="153648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2" descr=""/>
          <p:cNvPicPr/>
          <p:nvPr/>
        </p:nvPicPr>
        <p:blipFill>
          <a:blip r:embed="rId2"/>
          <a:stretch/>
        </p:blipFill>
        <p:spPr>
          <a:xfrm>
            <a:off x="5443560" y="12600"/>
            <a:ext cx="3895560" cy="153504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3" descr=""/>
          <p:cNvPicPr/>
          <p:nvPr/>
        </p:nvPicPr>
        <p:blipFill>
          <a:blip r:embed="rId3"/>
          <a:stretch/>
        </p:blipFill>
        <p:spPr>
          <a:xfrm>
            <a:off x="2133720" y="5730840"/>
            <a:ext cx="5114880" cy="1535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Ислам Абдуганиевич Каримов"/>
          <p:cNvPicPr/>
          <p:nvPr/>
        </p:nvPicPr>
        <p:blipFill>
          <a:blip r:embed="rId4"/>
          <a:stretch/>
        </p:blipFill>
        <p:spPr>
          <a:xfrm>
            <a:off x="582480" y="836640"/>
            <a:ext cx="2333880" cy="348912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376920" y="434808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лам Абдуганиевич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рим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4" descr="Алмазбек Шаршенович Атамбаев"/>
          <p:cNvPicPr/>
          <p:nvPr/>
        </p:nvPicPr>
        <p:blipFill>
          <a:blip r:embed="rId5"/>
          <a:stretch/>
        </p:blipFill>
        <p:spPr>
          <a:xfrm>
            <a:off x="6056280" y="1031760"/>
            <a:ext cx="2666880" cy="375300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5"/>
          <p:cNvSpPr/>
          <p:nvPr/>
        </p:nvSpPr>
        <p:spPr>
          <a:xfrm>
            <a:off x="5838480" y="4818240"/>
            <a:ext cx="30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лмазбек Шаршен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тамбае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Picture 6" descr="Эмомали Рахмон"/>
          <p:cNvPicPr/>
          <p:nvPr/>
        </p:nvPicPr>
        <p:blipFill>
          <a:blip r:embed="rId6"/>
          <a:stretch/>
        </p:blipFill>
        <p:spPr>
          <a:xfrm>
            <a:off x="3129120" y="2581200"/>
            <a:ext cx="2666880" cy="348624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6"/>
          <p:cNvSpPr/>
          <p:nvPr/>
        </p:nvSpPr>
        <p:spPr>
          <a:xfrm>
            <a:off x="3421080" y="22129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момали Рахмо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1" descr=""/>
          <p:cNvPicPr/>
          <p:nvPr/>
        </p:nvPicPr>
        <p:blipFill>
          <a:blip r:embed="rId1"/>
          <a:stretch/>
        </p:blipFill>
        <p:spPr>
          <a:xfrm>
            <a:off x="-262080" y="-128520"/>
            <a:ext cx="4346640" cy="153648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2" descr=""/>
          <p:cNvPicPr/>
          <p:nvPr/>
        </p:nvPicPr>
        <p:blipFill>
          <a:blip r:embed="rId2"/>
          <a:stretch/>
        </p:blipFill>
        <p:spPr>
          <a:xfrm>
            <a:off x="4962600" y="12600"/>
            <a:ext cx="4065480" cy="153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Гурбангулы Мяликгулыевич Бердымухамедов"/>
          <p:cNvPicPr/>
          <p:nvPr/>
        </p:nvPicPr>
        <p:blipFill>
          <a:blip r:embed="rId3"/>
          <a:stretch/>
        </p:blipFill>
        <p:spPr>
          <a:xfrm>
            <a:off x="525600" y="984240"/>
            <a:ext cx="2970000" cy="3828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-181080" y="4941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урбангулы Мяликгулыевич Бердымухамед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4" descr="Нурсултан Абишевич Назарбаев"/>
          <p:cNvPicPr/>
          <p:nvPr/>
        </p:nvPicPr>
        <p:blipFill>
          <a:blip r:embed="rId4"/>
          <a:stretch/>
        </p:blipFill>
        <p:spPr>
          <a:xfrm>
            <a:off x="5567400" y="1154160"/>
            <a:ext cx="2857320" cy="29145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5556600" y="4165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рсултан Абишевич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зарбае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СНГ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одружество Независимых Государст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4" descr="300px-Flag_of_the_CIS"/>
          <p:cNvPicPr/>
          <p:nvPr/>
        </p:nvPicPr>
        <p:blipFill>
          <a:blip r:embed="rId1"/>
          <a:stretch/>
        </p:blipFill>
        <p:spPr>
          <a:xfrm>
            <a:off x="1763640" y="3357720"/>
            <a:ext cx="6048360" cy="3024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 spd="med"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Garamond"/>
              </a:rPr>
              <a:t>Состав стран-участниц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ff33"/>
                </a:solidFill>
                <a:latin typeface="Garamond"/>
              </a:rPr>
              <a:t>Азербайджан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ff33"/>
                </a:solidFill>
                <a:latin typeface="Garamond"/>
              </a:rPr>
              <a:t>Армения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ff33"/>
                </a:solidFill>
                <a:latin typeface="Garamond"/>
              </a:rPr>
              <a:t>Беларус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ff33"/>
                </a:solidFill>
                <a:latin typeface="Garamond"/>
              </a:rPr>
              <a:t>Казахстан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ff33"/>
                </a:solidFill>
                <a:latin typeface="Garamond"/>
              </a:rPr>
              <a:t>Киргизия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796000" y="1197000"/>
            <a:ext cx="1800360" cy="9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1800360" cy="90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5796000" y="3357720"/>
            <a:ext cx="1800360" cy="98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5796000" y="4508640"/>
            <a:ext cx="1800360" cy="86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7" name="Picture 9" descr=""/>
          <p:cNvPicPr/>
          <p:nvPr/>
        </p:nvPicPr>
        <p:blipFill>
          <a:blip r:embed="rId5"/>
          <a:stretch/>
        </p:blipFill>
        <p:spPr>
          <a:xfrm>
            <a:off x="5796000" y="5516640"/>
            <a:ext cx="1800360" cy="107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14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Молдавия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Россия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Таджикистан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Garamond"/>
              </a:rPr>
              <a:t>Туркмения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Узбекистан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Украин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266" descr=""/>
          <p:cNvPicPr/>
          <p:nvPr/>
        </p:nvPicPr>
        <p:blipFill>
          <a:blip r:embed="rId1"/>
          <a:stretch/>
        </p:blipFill>
        <p:spPr>
          <a:xfrm>
            <a:off x="5940360" y="476280"/>
            <a:ext cx="158436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0" name="Picture 267" descr=""/>
          <p:cNvPicPr/>
          <p:nvPr/>
        </p:nvPicPr>
        <p:blipFill>
          <a:blip r:embed="rId2"/>
          <a:stretch/>
        </p:blipFill>
        <p:spPr>
          <a:xfrm>
            <a:off x="5940360" y="1413000"/>
            <a:ext cx="1584360" cy="836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1" name="Picture 268" descr=""/>
          <p:cNvPicPr/>
          <p:nvPr/>
        </p:nvPicPr>
        <p:blipFill>
          <a:blip r:embed="rId3"/>
          <a:stretch/>
        </p:blipFill>
        <p:spPr>
          <a:xfrm>
            <a:off x="5940360" y="2421000"/>
            <a:ext cx="158436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2" name="Picture 270" descr=""/>
          <p:cNvPicPr/>
          <p:nvPr/>
        </p:nvPicPr>
        <p:blipFill>
          <a:blip r:embed="rId4"/>
          <a:stretch/>
        </p:blipFill>
        <p:spPr>
          <a:xfrm>
            <a:off x="5940360" y="4365720"/>
            <a:ext cx="1584360" cy="85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3" name="Picture 271" descr=""/>
          <p:cNvPicPr/>
          <p:nvPr/>
        </p:nvPicPr>
        <p:blipFill>
          <a:blip r:embed="rId5"/>
          <a:stretch/>
        </p:blipFill>
        <p:spPr>
          <a:xfrm>
            <a:off x="5940360" y="5300640"/>
            <a:ext cx="1584360" cy="85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Picture 272" descr=""/>
          <p:cNvPicPr/>
          <p:nvPr/>
        </p:nvPicPr>
        <p:blipFill>
          <a:blip r:embed="rId6"/>
          <a:stretch/>
        </p:blipFill>
        <p:spPr>
          <a:xfrm>
            <a:off x="5940360" y="3429000"/>
            <a:ext cx="1584360" cy="766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http://900igr.net/datas/okruzhajuschij-mir/SNG/0008-008-8-dekabrja-1991.jpg"/>
          <p:cNvPicPr/>
          <p:nvPr/>
        </p:nvPicPr>
        <p:blipFill>
          <a:blip r:embed="rId1"/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0" y="2232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2г.- Россия, Азербайджан, Казахстан, Таджикистан, Кыргызстан, Узбекистан подписали в Ташкент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говор о коллективной безопасности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г. – Россия, Беларусь, Казахстан заключил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говор об углублении интеграции в экономической и гуманитарной областя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г.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говор о союзе Беларуси и Росс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9г. – образова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юзного государ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Стрелка вниз 2"/>
          <p:cNvSpPr/>
          <p:nvPr/>
        </p:nvSpPr>
        <p:spPr>
          <a:xfrm>
            <a:off x="3995640" y="2924280"/>
            <a:ext cx="792360" cy="86508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3708360" y="3933720"/>
            <a:ext cx="1440000" cy="5749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врАЗЭ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3718080" y="4530600"/>
            <a:ext cx="144144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ДКБ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6659640" y="5013360"/>
            <a:ext cx="144144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збекиста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6659640" y="4265640"/>
            <a:ext cx="144144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аджикиста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6659640" y="3549600"/>
            <a:ext cx="144144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еларус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1476360" y="4970520"/>
            <a:ext cx="1440000" cy="5745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збекиста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2006г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1476360" y="4214880"/>
            <a:ext cx="144000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захста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Прямоугольник 10"/>
          <p:cNvSpPr/>
          <p:nvPr/>
        </p:nvSpPr>
        <p:spPr>
          <a:xfrm>
            <a:off x="1476360" y="3510000"/>
            <a:ext cx="144000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с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Прямоугольник 11"/>
          <p:cNvSpPr/>
          <p:nvPr/>
        </p:nvSpPr>
        <p:spPr>
          <a:xfrm>
            <a:off x="3718080" y="5559480"/>
            <a:ext cx="144144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рм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Стрелка вправо 12"/>
          <p:cNvSpPr/>
          <p:nvPr/>
        </p:nvSpPr>
        <p:spPr>
          <a:xfrm>
            <a:off x="2916360" y="4432320"/>
            <a:ext cx="792000" cy="24300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Стрелка вправо 14"/>
          <p:cNvSpPr/>
          <p:nvPr/>
        </p:nvSpPr>
        <p:spPr>
          <a:xfrm rot="10800000">
            <a:off x="5159160" y="4431960"/>
            <a:ext cx="1500120" cy="24300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39" name="Прямая со стрелкой 18"/>
          <p:cNvCxnSpPr/>
          <p:nvPr/>
        </p:nvCxnSpPr>
        <p:spPr>
          <a:xfrm flipV="1">
            <a:off x="4427280" y="5178240"/>
            <a:ext cx="1080" cy="2880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pic>
        <p:nvPicPr>
          <p:cNvPr id="140" name="Picture 5" descr="File:CSTOODKB.png"/>
          <p:cNvPicPr/>
          <p:nvPr/>
        </p:nvPicPr>
        <p:blipFill>
          <a:blip r:embed="rId1"/>
          <a:stretch/>
        </p:blipFill>
        <p:spPr>
          <a:xfrm>
            <a:off x="12600" y="4946760"/>
            <a:ext cx="1714680" cy="17334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1"/>
          <p:cNvSpPr/>
          <p:nvPr/>
        </p:nvSpPr>
        <p:spPr>
          <a:xfrm>
            <a:off x="1117080" y="631188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мблема ОДКБ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933800" cy="2562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-79560" y="2813040"/>
            <a:ext cx="55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седание ЕврАзЭС в декабре 2012 г., в Москв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5184720" y="1270080"/>
            <a:ext cx="3892680" cy="533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2320" y="-6480"/>
            <a:ext cx="91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г. – Грузия, Украина, Азербайджан, Молдова создали союз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УА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Стрелка вниз 2"/>
          <p:cNvSpPr/>
          <p:nvPr/>
        </p:nvSpPr>
        <p:spPr>
          <a:xfrm rot="1691400">
            <a:off x="2319480" y="401760"/>
            <a:ext cx="485640" cy="1976400"/>
          </a:xfrm>
          <a:prstGeom prst="downArrow">
            <a:avLst>
              <a:gd name="adj1" fmla="val 50000"/>
              <a:gd name="adj2" fmla="val 49872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Box 3"/>
          <p:cNvSpPr/>
          <p:nvPr/>
        </p:nvSpPr>
        <p:spPr>
          <a:xfrm flipH="1">
            <a:off x="250920" y="2754360"/>
            <a:ext cx="13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ближение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1747800" y="2376360"/>
            <a:ext cx="1816200" cy="4572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Т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1747800" y="2987640"/>
            <a:ext cx="1816200" cy="4572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50" name="Прямая со стрелкой 7"/>
          <p:cNvCxnSpPr/>
          <p:nvPr/>
        </p:nvCxnSpPr>
        <p:spPr>
          <a:xfrm>
            <a:off x="2124000" y="404640"/>
            <a:ext cx="720000" cy="18727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51" name="TextBox 9"/>
          <p:cNvSpPr/>
          <p:nvPr/>
        </p:nvSpPr>
        <p:spPr>
          <a:xfrm>
            <a:off x="2843280" y="1916280"/>
            <a:ext cx="63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97г. Украина подписала Хартию об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обых отношениях с НАТ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военные учения альянса 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рритории Украины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2" descr="http://s11.radikal.ru/i183/1106/70/5a63e87a2335.jpg"/>
          <p:cNvPicPr/>
          <p:nvPr/>
        </p:nvPicPr>
        <p:blipFill>
          <a:blip r:embed="rId1"/>
          <a:stretch/>
        </p:blipFill>
        <p:spPr>
          <a:xfrm>
            <a:off x="2619360" y="4437000"/>
            <a:ext cx="3809880" cy="2276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0"/>
          <p:cNvSpPr/>
          <p:nvPr/>
        </p:nvSpPr>
        <p:spPr>
          <a:xfrm>
            <a:off x="2131920" y="3952800"/>
            <a:ext cx="49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7г. - конфликт между РФ и Украиной в Крыму.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-189000"/>
            <a:ext cx="9223560" cy="24195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2" descr=""/>
          <p:cNvPicPr/>
          <p:nvPr/>
        </p:nvPicPr>
        <p:blipFill>
          <a:blip r:embed="rId2"/>
          <a:stretch/>
        </p:blipFill>
        <p:spPr>
          <a:xfrm>
            <a:off x="-30240" y="1365120"/>
            <a:ext cx="9217080" cy="15177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70200" y="2602080"/>
            <a:ext cx="312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Армени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4797360" y="2637000"/>
            <a:ext cx="45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Азербайджа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Выноска со стрелками влево/вправо 5"/>
          <p:cNvSpPr/>
          <p:nvPr/>
        </p:nvSpPr>
        <p:spPr>
          <a:xfrm flipV="1" rot="10800000">
            <a:off x="3136680" y="2819520"/>
            <a:ext cx="2011320" cy="465120"/>
          </a:xfrm>
          <a:custGeom>
            <a:avLst/>
            <a:gdLst>
              <a:gd name="textAreaLeft" fmla="*/ 521640 w 2011320"/>
              <a:gd name="textAreaRight" fmla="*/ 1489680 w 2011320"/>
              <a:gd name="textAreaTop" fmla="*/ 360 h 465120"/>
              <a:gd name="textAreaBottom" fmla="*/ 465840 h 46512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20351" y="8100"/>
                </a:lnTo>
                <a:lnTo>
                  <a:pt x="20351" y="5500"/>
                </a:lnTo>
                <a:lnTo>
                  <a:pt x="21600" y="10800"/>
                </a:lnTo>
                <a:lnTo>
                  <a:pt x="20351" y="16100"/>
                </a:lnTo>
                <a:lnTo>
                  <a:pt x="20351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1249" y="13500"/>
                </a:lnTo>
                <a:lnTo>
                  <a:pt x="1249" y="16100"/>
                </a:lnTo>
                <a:lnTo>
                  <a:pt x="0" y="10800"/>
                </a:lnTo>
                <a:lnTo>
                  <a:pt x="1249" y="5500"/>
                </a:lnTo>
                <a:lnTo>
                  <a:pt x="1249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-920520" y="3645000"/>
            <a:ext cx="1157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92-1994гг. – полномасштабные военные действ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93г. – урегулирование отношение при посредничестве ОБС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94г. – протокол о прекращение огн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7:08:52Z</dcterms:created>
  <dc:creator>user</dc:creator>
  <dc:description/>
  <dc:language>en-US</dc:language>
  <cp:lastModifiedBy>User</cp:lastModifiedBy>
  <dcterms:modified xsi:type="dcterms:W3CDTF">2013-10-30T19:24:50Z</dcterms:modified>
  <cp:revision>20</cp:revision>
  <dc:subject/>
  <dc:title>СНГ</dc:title>
</cp:coreProperties>
</file>