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gif" ContentType="image/gif"/>
  <Override PartName="/ppt/media/image11.gif" ContentType="image/gi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A98-E7ED-4F98-B35C-9FAF16D8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2642-38D8-48B2-8BDE-D1224ED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FCD-B4DC-46A1-9FD6-829EE26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8B8-1BF2-4677-855B-C92CC7F4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2DD-D4AF-4681-97F6-144BE5A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D03-EFAF-4E04-9473-B8340B5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13D-DBD1-48BD-8137-535DBAC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1DC-1904-44C7-A0E3-18015980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003-B737-4202-953E-F8E10856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3A3-2EB6-4E48-9091-F768892A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3AD-BB02-40A0-9541-418BCEF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6F7-2AFC-47D2-B382-553CEE0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35F0-F166-4D98-9071-E3ED5F45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72;&#1082;%20&#1082;&#1077;&#1084;%20&#1078;&#1077;%20&#1073;&#1099;&#1083;%20&#1055;&#1083;&#1102;&#1096;&#1082;&#1080;&#1085;.ppt" TargetMode="Externa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0.xml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2;&#1082;%20&#1082;&#1077;&#1084;%20&#1078;&#1077;%20&#1073;&#1099;&#1083;%20&#1055;&#1083;&#1102;&#1096;&#1082;&#1080;&#1085;.ppt#21. &#1057;&#1083;&#1072;&#1081;&#1076; 21" TargetMode="External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3440" y="4934520"/>
            <a:ext cx="8449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Так кем же все-таки был Плюшкин?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(Урок-исследование текста 6 гла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оэмы «Мертвые душ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84200" y="150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9548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40017" t="20857" r="0" b="0"/>
          <a:stretch/>
        </p:blipFill>
        <p:spPr>
          <a:xfrm>
            <a:off x="3203640" y="189000"/>
            <a:ext cx="2663640" cy="424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264600">
            <a:off x="323640" y="476280"/>
            <a:ext cx="2666880" cy="4105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rcRect l="44163" t="26873" r="31881" b="48991"/>
          <a:stretch/>
        </p:blipFill>
        <p:spPr>
          <a:xfrm rot="360000">
            <a:off x="6012000" y="475920"/>
            <a:ext cx="2808000" cy="409572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1"/>
          </p:cNvPr>
          <p:cNvSpPr/>
          <p:nvPr/>
        </p:nvSpPr>
        <p:spPr>
          <a:xfrm rot="16200000">
            <a:off x="1189080" y="-531720"/>
            <a:ext cx="6480000" cy="792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сам факт появления такого пейз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таком месте также не може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отнесен к случайностям: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  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т а к о м у  саду персонаж-мас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ерсонаж-карикатура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аконец, персонаж комиче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ронический, сатирический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не могут бы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под стать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и, однако, сад и его хозя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есомненно, соотнесены друг с друг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если мы в технике этого соотнес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мечаем изъяны и непоследова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то они должны быть поставл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графу авторских просчетов: он не сум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до конца выдержать ровность «тона»,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друг чего-то убоявшись и передум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                                                    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В.Н.Топ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532720" y="6021360"/>
            <a:ext cx="432000" cy="5382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38200"/>
              <a:gd name="textAreaBottom" fmla="*/ 510480 h 538200"/>
            </a:gdLst>
            <a:ahLst/>
            <a:rect l="textAreaLeft" t="textAreaTop" r="textAreaRight" b="textAreaBottom"/>
            <a:pathLst>
              <a:path w="21600" h="26906">
                <a:moveTo>
                  <a:pt x="0" y="0"/>
                </a:moveTo>
                <a:lnTo>
                  <a:pt x="21600" y="0"/>
                </a:lnTo>
                <a:lnTo>
                  <a:pt x="21600" y="26906"/>
                </a:lnTo>
                <a:lnTo>
                  <a:pt x="0" y="26906"/>
                </a:lnTo>
                <a:close/>
              </a:path>
              <a:path fill="lightenLess" w="21600" h="269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6">
                <a:moveTo>
                  <a:pt x="21600" y="0"/>
                </a:moveTo>
                <a:lnTo>
                  <a:pt x="21600" y="26906"/>
                </a:lnTo>
                <a:lnTo>
                  <a:pt x="20200" y="25506"/>
                </a:lnTo>
                <a:lnTo>
                  <a:pt x="20200" y="1400"/>
                </a:lnTo>
                <a:close/>
              </a:path>
              <a:path fill="darkenLess" w="21600" h="26906">
                <a:moveTo>
                  <a:pt x="21600" y="26906"/>
                </a:moveTo>
                <a:lnTo>
                  <a:pt x="0" y="26906"/>
                </a:lnTo>
                <a:lnTo>
                  <a:pt x="1400" y="25506"/>
                </a:lnTo>
                <a:lnTo>
                  <a:pt x="20200" y="25506"/>
                </a:lnTo>
                <a:close/>
              </a:path>
              <a:path fill="lighten" w="21600" h="26906">
                <a:moveTo>
                  <a:pt x="0" y="269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6"/>
                </a:lnTo>
                <a:close/>
              </a:path>
              <a:path fill="darken" w="21600" h="26906">
                <a:moveTo>
                  <a:pt x="10800" y="644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06">
                <a:moveTo>
                  <a:pt x="10800" y="6821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06">
                <a:moveTo>
                  <a:pt x="8224" y="10876"/>
                </a:moveTo>
                <a:lnTo>
                  <a:pt x="12088" y="10876"/>
                </a:lnTo>
                <a:lnTo>
                  <a:pt x="12088" y="17874"/>
                </a:lnTo>
                <a:lnTo>
                  <a:pt x="13376" y="17874"/>
                </a:lnTo>
                <a:lnTo>
                  <a:pt x="13376" y="18797"/>
                </a:lnTo>
                <a:lnTo>
                  <a:pt x="8224" y="18797"/>
                </a:lnTo>
                <a:lnTo>
                  <a:pt x="8224" y="17874"/>
                </a:lnTo>
                <a:lnTo>
                  <a:pt x="9512" y="17874"/>
                </a:lnTo>
                <a:lnTo>
                  <a:pt x="9512" y="11782"/>
                </a:lnTo>
                <a:lnTo>
                  <a:pt x="8224" y="11782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8000" y="404640"/>
            <a:ext cx="54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ет необходимости преувеличивать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человеческого фа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в Плюшкине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н попал под взгляд Гого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о найти в э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персонаже человеческ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на этом осн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реабилитировать его — и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н был заду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Богом и жизненным пла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и даже ка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сделала его жизнь, кото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могла бы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к нему и помилостивее, — необходи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9080" cy="266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2014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30640" y="3095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461960" y="-588960"/>
            <a:ext cx="6004080" cy="799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сейча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горькой и одинокой стар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люшк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они — вещи - как напоминание о прошл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к некий невероятный залог надеж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к последнее свиде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режней жиз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смести которое прочь собственной рук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трудно и стра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и которое, в редкие светлые мину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ставляет его, как и его тво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повторять про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«О моя юность! о моя свежесть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В.Н.Топо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79280" y="333360"/>
          <a:ext cx="8569440" cy="60354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Прежд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ffcc99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Тепер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ffcc99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</a:tr>
              <a:tr h="48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рудолюбивый хозя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Хлебосольный сосе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Заботливый от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rcRect l="7455" t="0" r="0" b="10158"/>
          <a:stretch/>
        </p:blipFill>
        <p:spPr>
          <a:xfrm>
            <a:off x="4500720" y="1557360"/>
            <a:ext cx="4174920" cy="4751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16200000">
            <a:off x="2014920" y="-854640"/>
            <a:ext cx="5329440" cy="828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7"/>
              </a:gs>
              <a:gs pos="100000">
                <a:srgbClr val="ffcc99"/>
              </a:gs>
            </a:gsLst>
            <a:lin ang="108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79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692280"/>
            <a:ext cx="61455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еудач было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ни шли по нарастающ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осили тяжелый харак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и с каждой ступен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се более и более поверг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черашнего благополучн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 горе и одино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В.Н.Топ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356000" y="407160"/>
            <a:ext cx="446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«Плюшкин «недоработан», и мы должны быть благодарны Гоголю за эту «недоработанность», за то, что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х у д о ж н и к   не справился впол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 своей задачей, что в этом ипостасном узле поэмы художник не мог до конца оттеснить человека и что это «человеческое» несколько потесни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«художническое», за то, наконец, что за маской Плюшкина мы неясно и со срывами все-таки узреваем если не  л и ц о, то хотя б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ч е р т ы  л и ц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люшк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 через них узреваем и лицо его создателя, за ту, пожалуй, инстинктивную деликатность взгляда, которая не позволила здесь свести все к типу, к маск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cc9900"/>
                </a:solidFill>
                <a:latin typeface="Arial"/>
              </a:rPr>
              <a:t>В.Н.Топ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774960" cy="496872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24000" y="260280"/>
            <a:ext cx="6624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.Н.Топоров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– автор исследования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«Вещь в антропоцентрической перспективе (апология Плюшкина)», 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ысоко оцененный соотечествен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за плодотворный опыт служения филологии национальному самопознанию в све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христианской тради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0630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016360" cy="27370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8244000" y="285264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rcRect l="0" t="0" r="378" b="16676"/>
          <a:stretch/>
        </p:blipFill>
        <p:spPr>
          <a:xfrm>
            <a:off x="179280" y="3933720"/>
            <a:ext cx="2160720" cy="2590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46384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4076640"/>
            <a:ext cx="64803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С.Т.Аксаков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- русский писатель и общественный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еятель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литературный и театральный критик, мемуарист, его книга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«История моего знакомства с Гоголем»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до сих пор остается и важнейшим источником материалов к биографии великого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8244000" y="6021360"/>
            <a:ext cx="503280" cy="53964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159">
                <a:moveTo>
                  <a:pt x="0" y="0"/>
                </a:moveTo>
                <a:lnTo>
                  <a:pt x="21600" y="0"/>
                </a:lnTo>
                <a:lnTo>
                  <a:pt x="21600" y="23159"/>
                </a:lnTo>
                <a:lnTo>
                  <a:pt x="0" y="23159"/>
                </a:lnTo>
                <a:close/>
              </a:path>
              <a:path fill="lightenLess" w="21600" h="231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9">
                <a:moveTo>
                  <a:pt x="21600" y="0"/>
                </a:moveTo>
                <a:lnTo>
                  <a:pt x="21600" y="23159"/>
                </a:lnTo>
                <a:lnTo>
                  <a:pt x="20200" y="21759"/>
                </a:lnTo>
                <a:lnTo>
                  <a:pt x="20200" y="1400"/>
                </a:lnTo>
                <a:close/>
              </a:path>
              <a:path fill="darkenLess" w="21600" h="23159">
                <a:moveTo>
                  <a:pt x="21600" y="23159"/>
                </a:moveTo>
                <a:lnTo>
                  <a:pt x="0" y="23159"/>
                </a:lnTo>
                <a:lnTo>
                  <a:pt x="1400" y="21759"/>
                </a:lnTo>
                <a:lnTo>
                  <a:pt x="20200" y="21759"/>
                </a:lnTo>
                <a:close/>
              </a:path>
              <a:path fill="lighten" w="21600" h="23159">
                <a:moveTo>
                  <a:pt x="0" y="231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9"/>
                </a:lnTo>
                <a:close/>
              </a:path>
              <a:path fill="darken" w="21600" h="23159">
                <a:moveTo>
                  <a:pt x="3794" y="11580"/>
                </a:moveTo>
                <a:lnTo>
                  <a:pt x="17806" y="4573"/>
                </a:lnTo>
                <a:lnTo>
                  <a:pt x="17806" y="1858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40017" t="20857" r="0" b="0"/>
          <a:stretch/>
        </p:blipFill>
        <p:spPr>
          <a:xfrm>
            <a:off x="5219640" y="1844640"/>
            <a:ext cx="3384720" cy="4753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59800" y="214560"/>
            <a:ext cx="776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«…это странное явл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этот съежившийся старичишка…»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                                                               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Н.В.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06720"/>
            <a:ext cx="505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Яв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то, в че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явля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обнаруж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сущность;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" y="4508640"/>
            <a:ext cx="466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Странно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- необыч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трудно объясним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ызывающее недоумение.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16360" y="333360"/>
            <a:ext cx="5327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…Нельзя понять 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Мертвые души»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cc66"/>
                  </a:solidFill>
                  <a:prstDash val="lgDash"/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первого раза». </a:t>
            </a:r>
            <a:endParaRPr b="1" lang="en-US" sz="1800" spc="1" strike="noStrike">
              <a:ln w="12600">
                <a:solidFill>
                  <a:srgbClr val="ffcc66"/>
                </a:solidFill>
                <a:prstDash val="lgDash"/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5589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С.Т.Акса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10240" y="5157720"/>
            <a:ext cx="24544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3457440" cy="49690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8567640" y="6246720"/>
            <a:ext cx="576360" cy="611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11280"/>
              <a:gd name="textAreaBottom" fmla="*/ 574200 h 611280"/>
            </a:gdLst>
            <a:ahLst/>
            <a:rect l="textAreaLeft" t="textAreaTop" r="textAreaRight" b="textAreaBottom"/>
            <a:pathLst>
              <a:path w="21600" h="22908">
                <a:moveTo>
                  <a:pt x="0" y="0"/>
                </a:moveTo>
                <a:lnTo>
                  <a:pt x="21600" y="0"/>
                </a:lnTo>
                <a:lnTo>
                  <a:pt x="21600" y="22908"/>
                </a:lnTo>
                <a:lnTo>
                  <a:pt x="0" y="22908"/>
                </a:lnTo>
                <a:close/>
              </a:path>
              <a:path fill="lightenLess" w="21600" h="22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08">
                <a:moveTo>
                  <a:pt x="21600" y="0"/>
                </a:moveTo>
                <a:lnTo>
                  <a:pt x="21600" y="22908"/>
                </a:lnTo>
                <a:lnTo>
                  <a:pt x="20200" y="21508"/>
                </a:lnTo>
                <a:lnTo>
                  <a:pt x="20200" y="1400"/>
                </a:lnTo>
                <a:close/>
              </a:path>
              <a:path fill="darkenLess" w="21600" h="22908">
                <a:moveTo>
                  <a:pt x="21600" y="22908"/>
                </a:moveTo>
                <a:lnTo>
                  <a:pt x="0" y="22908"/>
                </a:lnTo>
                <a:lnTo>
                  <a:pt x="1400" y="21508"/>
                </a:lnTo>
                <a:lnTo>
                  <a:pt x="20200" y="21508"/>
                </a:lnTo>
                <a:close/>
              </a:path>
              <a:path fill="lighten" w="21600" h="22908">
                <a:moveTo>
                  <a:pt x="0" y="22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08"/>
                </a:lnTo>
                <a:close/>
              </a:path>
              <a:path fill="darken" w="21600" h="22908">
                <a:moveTo>
                  <a:pt x="10800" y="444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08">
                <a:moveTo>
                  <a:pt x="10800" y="48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08">
                <a:moveTo>
                  <a:pt x="8224" y="8878"/>
                </a:moveTo>
                <a:lnTo>
                  <a:pt x="12088" y="8878"/>
                </a:lnTo>
                <a:lnTo>
                  <a:pt x="12088" y="15875"/>
                </a:lnTo>
                <a:lnTo>
                  <a:pt x="13376" y="15875"/>
                </a:lnTo>
                <a:lnTo>
                  <a:pt x="13376" y="16798"/>
                </a:lnTo>
                <a:lnTo>
                  <a:pt x="8224" y="16798"/>
                </a:lnTo>
                <a:lnTo>
                  <a:pt x="8224" y="15875"/>
                </a:lnTo>
                <a:lnTo>
                  <a:pt x="9512" y="15875"/>
                </a:lnTo>
                <a:lnTo>
                  <a:pt x="9512" y="9783"/>
                </a:lnTo>
                <a:lnTo>
                  <a:pt x="8224" y="9783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8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38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38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0800000">
            <a:off x="394920" y="333000"/>
            <a:ext cx="7921800" cy="6048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6200000"/>
          </a:gra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04640"/>
            <a:ext cx="63356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План шестой гл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Лирическое отступление «О моя юность!  О моя свежес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Дере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Д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Интерь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ортрет Плю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История ге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Беседа о покупке мертвых д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люшкин и 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Уго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осле отъезда Чич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5920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«Прежде, давно, в лета моей юности, в лета не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мелькнувшего моего дет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мне было весело подъез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 первый раз к незнакомому мест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се рав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ыла  ли   то дерев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бедный уездный городи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село  ли,  слобод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любопытного много открывал в нем детский любопытный взгля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7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Ключевые слова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в лирическом отступ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ff5050"/>
                </a:solidFill>
                <a:latin typeface="Arial"/>
              </a:rPr>
              <a:t>Преж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Вес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Любопы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Теп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Зрел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Печ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Не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Нелюбопыт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равноду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021360"/>
            <a:ext cx="85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О моя юность! о моя свеже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960720" cy="4321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9000" y="349200"/>
            <a:ext cx="459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Мошенник. Такой скряга, какого вообразить тру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 тюрьме колодники лучше живут, чем он: всех людей переморил гол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(Собак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781360"/>
            <a:ext cx="345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А, заплатан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заплатанной! –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9900"/>
                </a:solidFill>
                <a:latin typeface="Arial"/>
              </a:rPr>
              <a:t>вскрикнул муж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400" y="4579920"/>
            <a:ext cx="3794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И сам он обрат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наконец в какую-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прорех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на человечеств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(Н.В.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4602240"/>
            <a:ext cx="2232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5050"/>
                </a:solidFill>
                <a:latin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5280" y="476280"/>
          <a:ext cx="8353440" cy="573876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Что увидел Чич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ccffff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остояние владен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7"/>
                        </a:gs>
                        <a:gs pos="50000">
                          <a:srgbClr val="ccffff"/>
                        </a:gs>
                        <a:gs pos="100000">
                          <a:srgbClr val="fffff7"/>
                        </a:gs>
                      </a:gsLst>
                      <a:lin ang="5400000"/>
                    </a:gradFill>
                  </a:tcPr>
                </a:tc>
              </a:tr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Обширное село со множеством изб и ул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акая-то особенная ветхость…на всех деревенских стро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ревенчатая мост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Бревна, как фортепьянные клавиши, подымались то вверх, то вн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ома с балкончиками под крышами и пер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покосились и почерн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Две сельские церкви, одна возле другой, опустевшая деревянная и каменная, с желтенькими ст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спятнанная, истрескавшая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сподский 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Каким-то дряхлым инвалидом глядел сей странный замок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7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60280"/>
            <a:ext cx="8964720" cy="74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Сей  в е т х и й  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сей с а д  г л у х о й..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ндрей Турген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тдать я рада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Всю эту в е т о ш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маскарада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а полку кни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а  д и к и й  с а 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лександр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И      в е т х и й   д о м  и  с т а р ы й  с а 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Где зелень разрослась так густо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Каролина Пав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Приветствую тебя, о п у с т о ш е н н ы й   д о м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              …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И пышный прежде с а д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,  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г л у х о й  и  о д и ч а л ы й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Алексей Толст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Ты помнишь ли, Мария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один  с т а р и н н ы й  д о 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безмолвные аллеи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з а г л о х ш и й  с т а р ы й  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(Иван Бунин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3932" r="11169" b="0"/>
          <a:stretch/>
        </p:blipFill>
        <p:spPr>
          <a:xfrm>
            <a:off x="1332000" y="404640"/>
            <a:ext cx="4033800" cy="3240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 rot="5400000">
            <a:off x="-2781360" y="2960640"/>
            <a:ext cx="6858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cc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раз сада в литературе</a:t>
            </a:r>
            <a:endParaRPr b="1" lang="en-US" sz="2800" spc="1" strike="noStrike">
              <a:ln w="9360">
                <a:solidFill>
                  <a:srgbClr val="cc9900"/>
                </a:solidFill>
                <a:miter/>
              </a:ln>
              <a:solidFill>
                <a:srgbClr val="cc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928960" y="5805360"/>
            <a:ext cx="5027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д Плюшки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1:18:53Z</dcterms:created>
  <dc:creator>Home</dc:creator>
  <dc:description/>
  <dc:language>en-US</dc:language>
  <cp:lastModifiedBy>User</cp:lastModifiedBy>
  <dcterms:modified xsi:type="dcterms:W3CDTF">2009-11-09T04:57:16Z</dcterms:modified>
  <cp:revision>84</cp:revision>
  <dc:subject/>
  <dc:title>Слайд 1</dc:title>
</cp:coreProperties>
</file>