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gif" ContentType="image/gif"/>
  <Override PartName="/ppt/media/image11.gif" ContentType="image/gi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145-B556-4561-853B-8758A78B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790-9A24-4354-A5D4-5D37EF8C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7E0-DAC5-4F9E-BBAE-6CDFFED1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96B-FB2F-4374-B28B-43DDD624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121-3F6E-44E4-804D-1D16CE8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CF6-B1FA-48B6-88FC-CE1273A7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4C1-F254-4D4C-BC03-EF382645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B1D-2EF1-47FD-BF59-84016B55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596-466D-4C84-8357-9CF8CD0A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7BB-345C-4B74-A1C2-FA32B65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7E6-59A6-41EC-B0DF-4A70C6B1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E32-7589-4FF5-9451-FD949D9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DDEC-1C0E-47FD-B274-5EFE2EE7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8;&#1072;&#1082;%20&#1082;&#1077;&#1084;%20&#1078;&#1077;%20&#1073;&#1099;&#1083;%20&#1055;&#1083;&#1102;&#1096;&#1082;&#1080;&#1085;.ppt" TargetMode="Externa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0.xml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8;&#1072;&#1082;%20&#1082;&#1077;&#1084;%20&#1078;&#1077;%20&#1073;&#1099;&#1083;%20&#1055;&#1083;&#1102;&#1096;&#1082;&#1080;&#1085;.ppt#21. &#1057;&#1083;&#1072;&#1081;&#1076; 21" TargetMode="External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3440" y="4934520"/>
            <a:ext cx="8449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Так кем же все-таки был Плюшкин?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Урок-исследование текста 6 гла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оэмы «Мертвые душ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8420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9548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40017" t="20857" r="0" b="0"/>
          <a:stretch/>
        </p:blipFill>
        <p:spPr>
          <a:xfrm>
            <a:off x="3203640" y="189000"/>
            <a:ext cx="2663640" cy="4248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1264600">
            <a:off x="323640" y="476280"/>
            <a:ext cx="2666880" cy="41050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rcRect l="44163" t="26873" r="31881" b="48991"/>
          <a:stretch/>
        </p:blipFill>
        <p:spPr>
          <a:xfrm rot="360000">
            <a:off x="6012000" y="475920"/>
            <a:ext cx="2808000" cy="4095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rId1"/>
          </p:cNvPr>
          <p:cNvSpPr/>
          <p:nvPr/>
        </p:nvSpPr>
        <p:spPr>
          <a:xfrm rot="16200000">
            <a:off x="1189080" y="-531720"/>
            <a:ext cx="6480000" cy="7921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7"/>
              </a:gs>
              <a:gs pos="100000">
                <a:srgbClr val="ffcc99"/>
              </a:gs>
            </a:gsLst>
            <a:lin ang="10800000"/>
          </a:gra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сам факт появления такого пейзаж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таком месте также не може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отнесен к случайностям: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  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т а к о м у  саду персонаж-ма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персонаж-карикатура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наконец, персонаж комическ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ронический, сатирический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не могу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под стать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, и, однако, сад и его хозя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несомненно, соотнесены друг с друг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если мы в технике этого соотнес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замечаем изъяны и непоследова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то они должны быть поставл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графу авторских просчетов: он не сум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до конца выдержать ровность «тона», как 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друг чего-то убоявшись и передум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 action="ppaction://hlinksldjump"/>
              </a:rPr>
              <a:t>                                                    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Arial"/>
                <a:hlinkClick r:id="rId3" action="ppaction://hlinksldjump"/>
              </a:rPr>
              <a:t>В.Н.Топ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8532720" y="6021360"/>
            <a:ext cx="432000" cy="5382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38200"/>
              <a:gd name="textAreaBottom" fmla="*/ 510480 h 538200"/>
            </a:gdLst>
            <a:ahLst/>
            <a:rect l="textAreaLeft" t="textAreaTop" r="textAreaRight" b="textAreaBottom"/>
            <a:pathLst>
              <a:path w="21600" h="26906">
                <a:moveTo>
                  <a:pt x="0" y="0"/>
                </a:moveTo>
                <a:lnTo>
                  <a:pt x="21600" y="0"/>
                </a:lnTo>
                <a:lnTo>
                  <a:pt x="21600" y="26906"/>
                </a:lnTo>
                <a:lnTo>
                  <a:pt x="0" y="26906"/>
                </a:lnTo>
                <a:close/>
              </a:path>
              <a:path fill="lightenLess" w="21600" h="269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6">
                <a:moveTo>
                  <a:pt x="21600" y="0"/>
                </a:moveTo>
                <a:lnTo>
                  <a:pt x="21600" y="26906"/>
                </a:lnTo>
                <a:lnTo>
                  <a:pt x="20200" y="25506"/>
                </a:lnTo>
                <a:lnTo>
                  <a:pt x="20200" y="1400"/>
                </a:lnTo>
                <a:close/>
              </a:path>
              <a:path fill="darkenLess" w="21600" h="26906">
                <a:moveTo>
                  <a:pt x="21600" y="26906"/>
                </a:moveTo>
                <a:lnTo>
                  <a:pt x="0" y="26906"/>
                </a:lnTo>
                <a:lnTo>
                  <a:pt x="1400" y="25506"/>
                </a:lnTo>
                <a:lnTo>
                  <a:pt x="20200" y="25506"/>
                </a:lnTo>
                <a:close/>
              </a:path>
              <a:path fill="lighten" w="21600" h="26906">
                <a:moveTo>
                  <a:pt x="0" y="269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6"/>
                </a:lnTo>
                <a:close/>
              </a:path>
              <a:path fill="darken" w="21600" h="26906">
                <a:moveTo>
                  <a:pt x="10800" y="644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906">
                <a:moveTo>
                  <a:pt x="10800" y="682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906">
                <a:moveTo>
                  <a:pt x="8224" y="10876"/>
                </a:moveTo>
                <a:lnTo>
                  <a:pt x="12088" y="10876"/>
                </a:lnTo>
                <a:lnTo>
                  <a:pt x="12088" y="17874"/>
                </a:lnTo>
                <a:lnTo>
                  <a:pt x="13376" y="17874"/>
                </a:lnTo>
                <a:lnTo>
                  <a:pt x="13376" y="18797"/>
                </a:lnTo>
                <a:lnTo>
                  <a:pt x="8224" y="18797"/>
                </a:lnTo>
                <a:lnTo>
                  <a:pt x="8224" y="17874"/>
                </a:lnTo>
                <a:lnTo>
                  <a:pt x="9512" y="17874"/>
                </a:lnTo>
                <a:lnTo>
                  <a:pt x="9512" y="11782"/>
                </a:lnTo>
                <a:lnTo>
                  <a:pt x="8224" y="11782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8000" y="404640"/>
            <a:ext cx="54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Нет необходимости преувеличивать 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человеческого фа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в Плюшкине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он попал под взгляд Гогол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но найти в э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персонаже человеческо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на этом осн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реабилитировать его — и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он был заду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Богом и жизненным пла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и даже ка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сделала его жизнь, кото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могла бы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к нему и помилостивее, — необходим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908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2014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130640" y="3095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1461960" y="-588960"/>
            <a:ext cx="6004080" cy="799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7"/>
              </a:gs>
              <a:gs pos="100000">
                <a:srgbClr val="ffcc99"/>
              </a:gs>
            </a:gsLst>
            <a:lin ang="10800000"/>
          </a:gra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сейча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горькой и одинокой стар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люшк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они — вещи - как напоминание о прошл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ак некий невероятный залог надеж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ак последнее свиде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режней жи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смести которое прочь собственной рук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трудно и стра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которое, в редкие светлые мину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заставляет его, как и его тво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овторять про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«О моя юность! о моя свежесть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В.Н.Топо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79280" y="333360"/>
          <a:ext cx="8569440" cy="60354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Прежд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50000">
                          <a:srgbClr val="ffcc99"/>
                        </a:gs>
                        <a:gs pos="100000">
                          <a:srgbClr val="fffff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Теперь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50000">
                          <a:srgbClr val="ffcc99"/>
                        </a:gs>
                        <a:gs pos="100000">
                          <a:srgbClr val="fffff7"/>
                        </a:gs>
                      </a:gsLst>
                      <a:lin ang="5400000"/>
                    </a:gradFill>
                  </a:tcPr>
                </a:tc>
              </a:tr>
              <a:tr h="48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рудолюбивый хозя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Хлебосольный сос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Заботливый от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rcRect l="7455" t="0" r="0" b="10158"/>
          <a:stretch/>
        </p:blipFill>
        <p:spPr>
          <a:xfrm>
            <a:off x="4500720" y="1557360"/>
            <a:ext cx="4174920" cy="475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6200000">
            <a:off x="2014920" y="-854640"/>
            <a:ext cx="5329440" cy="828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7"/>
              </a:gs>
              <a:gs pos="100000">
                <a:srgbClr val="ffcc99"/>
              </a:gs>
            </a:gsLst>
            <a:lin ang="10800000"/>
          </a:gra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7984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692280"/>
            <a:ext cx="614556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еудач было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ни шли по нарастающ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осили тяжелый харак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и с каждой ступен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се более и более поверг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черашнего благополучн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 горе и одино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В.Н.Топ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356000" y="407160"/>
            <a:ext cx="446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«Плюшкин «недоработан», и мы должны быть благодарны Гоголю за эту «недоработанность», за то, что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х у д о ж н и к   не справился впол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 своей задачей, что в этом ипостасном узле поэмы художник не мог до конца оттеснить человека и что это «человеческое» несколько потесн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«художническое», за то, наконец, что за маской Плюшкина мы неясно и со срывами все-таки узреваем если не  л и ц о, то хотя б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ч е р т ы  л и ц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люшк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 через них узреваем и лицо его создателя, за ту, пожалуй, инстинктивную деликатность взгляда, которая не позволила здесь свести все к типу, к маск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                            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В.Н.Топ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774960" cy="496872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24000" y="260280"/>
            <a:ext cx="66247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.Н.Топоров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– автор исследования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«Вещь в антропоцентрической перспективе (апология Плюшкина)», 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ысоко оцененный соотечествен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за плодотворный опыт служения филологии национальному самопознанию в св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христианской тради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06304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016360" cy="27370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8244000" y="285264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rcRect l="0" t="0" r="378" b="16676"/>
          <a:stretch/>
        </p:blipFill>
        <p:spPr>
          <a:xfrm>
            <a:off x="179280" y="3933720"/>
            <a:ext cx="2160720" cy="25909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463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4076640"/>
            <a:ext cx="6480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С.Т.Аксаков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- русский писатель и общественный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еятель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, литературный и театральный критик, мемуарист, его книга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«История моего знакомства с Гоголем»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до сих пор остается и важнейшим источником материалов к биографии великого пис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244000" y="6021360"/>
            <a:ext cx="503280" cy="539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159">
                <a:moveTo>
                  <a:pt x="0" y="0"/>
                </a:moveTo>
                <a:lnTo>
                  <a:pt x="21600" y="0"/>
                </a:lnTo>
                <a:lnTo>
                  <a:pt x="21600" y="23159"/>
                </a:lnTo>
                <a:lnTo>
                  <a:pt x="0" y="23159"/>
                </a:lnTo>
                <a:close/>
              </a:path>
              <a:path fill="lightenLess" w="21600" h="231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9">
                <a:moveTo>
                  <a:pt x="21600" y="0"/>
                </a:moveTo>
                <a:lnTo>
                  <a:pt x="21600" y="23159"/>
                </a:lnTo>
                <a:lnTo>
                  <a:pt x="20200" y="21759"/>
                </a:lnTo>
                <a:lnTo>
                  <a:pt x="20200" y="1400"/>
                </a:lnTo>
                <a:close/>
              </a:path>
              <a:path fill="darkenLess" w="21600" h="23159">
                <a:moveTo>
                  <a:pt x="21600" y="23159"/>
                </a:moveTo>
                <a:lnTo>
                  <a:pt x="0" y="23159"/>
                </a:lnTo>
                <a:lnTo>
                  <a:pt x="1400" y="21759"/>
                </a:lnTo>
                <a:lnTo>
                  <a:pt x="20200" y="21759"/>
                </a:lnTo>
                <a:close/>
              </a:path>
              <a:path fill="lighten" w="21600" h="23159">
                <a:moveTo>
                  <a:pt x="0" y="231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9"/>
                </a:lnTo>
                <a:close/>
              </a:path>
              <a:path fill="darken" w="21600" h="23159">
                <a:moveTo>
                  <a:pt x="3794" y="11580"/>
                </a:moveTo>
                <a:lnTo>
                  <a:pt x="17806" y="4573"/>
                </a:lnTo>
                <a:lnTo>
                  <a:pt x="17806" y="1858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40017" t="20857" r="0" b="0"/>
          <a:stretch/>
        </p:blipFill>
        <p:spPr>
          <a:xfrm>
            <a:off x="5219640" y="1844640"/>
            <a:ext cx="3384720" cy="47530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59800" y="214560"/>
            <a:ext cx="776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«…это странное явл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этот съежившийся старичишка…»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5050"/>
                </a:solidFill>
                <a:latin typeface="Arial"/>
              </a:rPr>
              <a:t>                                                               </a:t>
            </a:r>
            <a:r>
              <a:rPr b="1" i="1" lang="en-US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Н.В.Го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06720"/>
            <a:ext cx="5050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Явл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то, в чем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явля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бнаруж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ущность;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9320" y="4508640"/>
            <a:ext cx="4667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Странное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необыч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рудно объясним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ызывающее недоумение.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16360" y="333360"/>
            <a:ext cx="5327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66"/>
                  </a:solidFill>
                  <a:prstDash val="lgDash"/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…Нельзя понять </a:t>
            </a:r>
            <a:endParaRPr b="1" lang="en-US" sz="1800" spc="1" strike="noStrike">
              <a:ln w="12600">
                <a:solidFill>
                  <a:srgbClr val="ffcc66"/>
                </a:solidFill>
                <a:prstDash val="lgDash"/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66"/>
                  </a:solidFill>
                  <a:prstDash val="lgDash"/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Мертвые души»</a:t>
            </a:r>
            <a:endParaRPr b="1" lang="en-US" sz="1800" spc="1" strike="noStrike">
              <a:ln w="12600">
                <a:solidFill>
                  <a:srgbClr val="ffcc66"/>
                </a:solidFill>
                <a:prstDash val="lgDash"/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66"/>
                  </a:solidFill>
                  <a:prstDash val="lgDash"/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cc66"/>
                  </a:solidFill>
                  <a:prstDash val="lgDash"/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 первого раза». </a:t>
            </a:r>
            <a:endParaRPr b="1" lang="en-US" sz="1800" spc="1" strike="noStrike">
              <a:ln w="12600">
                <a:solidFill>
                  <a:srgbClr val="ffcc66"/>
                </a:solidFill>
                <a:prstDash val="lgDash"/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55897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С.Т.Акса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10240" y="5157720"/>
            <a:ext cx="245448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3457440" cy="49690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8567640" y="6246720"/>
            <a:ext cx="576360" cy="611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11280"/>
              <a:gd name="textAreaBottom" fmla="*/ 574200 h 611280"/>
            </a:gdLst>
            <a:ahLst/>
            <a:rect l="textAreaLeft" t="textAreaTop" r="textAreaRight" b="textAreaBottom"/>
            <a:pathLst>
              <a:path w="21600" h="22908">
                <a:moveTo>
                  <a:pt x="0" y="0"/>
                </a:moveTo>
                <a:lnTo>
                  <a:pt x="21600" y="0"/>
                </a:lnTo>
                <a:lnTo>
                  <a:pt x="21600" y="22908"/>
                </a:lnTo>
                <a:lnTo>
                  <a:pt x="0" y="22908"/>
                </a:lnTo>
                <a:close/>
              </a:path>
              <a:path fill="lightenLess" w="21600" h="22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08">
                <a:moveTo>
                  <a:pt x="21600" y="0"/>
                </a:moveTo>
                <a:lnTo>
                  <a:pt x="21600" y="22908"/>
                </a:lnTo>
                <a:lnTo>
                  <a:pt x="20200" y="21508"/>
                </a:lnTo>
                <a:lnTo>
                  <a:pt x="20200" y="1400"/>
                </a:lnTo>
                <a:close/>
              </a:path>
              <a:path fill="darkenLess" w="21600" h="22908">
                <a:moveTo>
                  <a:pt x="21600" y="22908"/>
                </a:moveTo>
                <a:lnTo>
                  <a:pt x="0" y="22908"/>
                </a:lnTo>
                <a:lnTo>
                  <a:pt x="1400" y="21508"/>
                </a:lnTo>
                <a:lnTo>
                  <a:pt x="20200" y="21508"/>
                </a:lnTo>
                <a:close/>
              </a:path>
              <a:path fill="lighten" w="21600" h="22908">
                <a:moveTo>
                  <a:pt x="0" y="22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08"/>
                </a:lnTo>
                <a:close/>
              </a:path>
              <a:path fill="darken" w="21600" h="22908">
                <a:moveTo>
                  <a:pt x="10800" y="444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908">
                <a:moveTo>
                  <a:pt x="10800" y="48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908">
                <a:moveTo>
                  <a:pt x="8224" y="8878"/>
                </a:moveTo>
                <a:lnTo>
                  <a:pt x="12088" y="8878"/>
                </a:lnTo>
                <a:lnTo>
                  <a:pt x="12088" y="15875"/>
                </a:lnTo>
                <a:lnTo>
                  <a:pt x="13376" y="15875"/>
                </a:lnTo>
                <a:lnTo>
                  <a:pt x="13376" y="16798"/>
                </a:lnTo>
                <a:lnTo>
                  <a:pt x="8224" y="16798"/>
                </a:lnTo>
                <a:lnTo>
                  <a:pt x="8224" y="15875"/>
                </a:lnTo>
                <a:lnTo>
                  <a:pt x="9512" y="15875"/>
                </a:lnTo>
                <a:lnTo>
                  <a:pt x="9512" y="9783"/>
                </a:lnTo>
                <a:lnTo>
                  <a:pt x="8224" y="9783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8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385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0800000">
            <a:off x="394920" y="333000"/>
            <a:ext cx="7921800" cy="6048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6200000"/>
          </a:gra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04640"/>
            <a:ext cx="633564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План шестой гл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Лирическое отступление «О моя юность!  О моя свежес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Дере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Д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Интерь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Портрет Плю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История ге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Беседа о покупке мертвых д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Плюшкин и 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Уго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После отъезда Чич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5920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«Прежде, давно, в лета моей юности, в лета не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мелькнувшего моего дет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мне было весело подъез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в первый раз к незнакомому мест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все рав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была  ли   то деревуш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бедный уездный городиш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село  ли,  слобод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любопытного много открывал в нем детский любопытный взгля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7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Ключевые слова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в лирическом отступ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             </a:t>
            </a:r>
            <a:r>
              <a:rPr b="1" i="1" lang="en-US" sz="3600" spc="-1" strike="noStrike">
                <a:solidFill>
                  <a:srgbClr val="ff5050"/>
                </a:solidFill>
                <a:latin typeface="Arial"/>
              </a:rPr>
              <a:t>Преж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Вес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Любопы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Теп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Зрел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Печ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Не 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Нелюбопыт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равноду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021360"/>
            <a:ext cx="85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О моя юность! о моя свежес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960720" cy="4321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47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9000" y="349200"/>
            <a:ext cx="459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Мошенник. Такой скряга, какого вообразить тру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 тюрьме колодники лучше живут, чем он: всех людей переморил голо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Собак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781360"/>
            <a:ext cx="345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А, заплатанн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заплатанной! –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9900"/>
                </a:solidFill>
                <a:latin typeface="Arial"/>
              </a:rPr>
              <a:t>вскрикнул муж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400" y="4579920"/>
            <a:ext cx="3794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И сам он обрат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наконец в какую-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прорех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на человечеств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(Н.В.Го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4602240"/>
            <a:ext cx="2232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5050"/>
                </a:solidFill>
                <a:latin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476280"/>
          <a:ext cx="8353440" cy="573876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Что увидел Чич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50000">
                          <a:srgbClr val="ccffff"/>
                        </a:gs>
                        <a:gs pos="100000">
                          <a:srgbClr val="fffff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Состояние владе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50000">
                          <a:srgbClr val="ccffff"/>
                        </a:gs>
                        <a:gs pos="100000">
                          <a:srgbClr val="fffff7"/>
                        </a:gs>
                      </a:gsLst>
                      <a:lin ang="5400000"/>
                    </a:gradFill>
                  </a:tcPr>
                </a:tc>
              </a:tr>
              <a:tr h="106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бширное село со множеством изб и ул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Какая-то особенная ветхость…на всех деревенских строе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Бревенчатая мост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Бревна, как фортепьянные клавиши, подымались то вверх, то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ома с балкончиками под крышами и пер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косились и почерн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ве сельские церкви, одна возле другой, опустевшая деревянная и каменная, с желтенькими ст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испятнанная, истрескавшая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Господский д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Каким-то дряхлым инвалидом глядел сей странный замок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60280"/>
            <a:ext cx="8964720" cy="74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Сей  в е т х и й  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сей с а д  г л у х о й..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Андрей Турген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дать я рада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Всю эту в е т о ш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маскарада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а полку кни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а  д и к и й  с а 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Александр Пу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И      в е т х и й   д о м  и  с т а р ы й  с а 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Где зелень разрослась так густо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Каролина Павл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Приветствую тебя, о п у с т о ш е н н ы й   д о м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              …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И пышный прежде с а д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,  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г л у х о й  и  о д и ч а л ы й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Алексей Толст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Ты помнишь ли, Мария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один  с т а р и н н ы й  д о 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      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безмолвные аллеи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з а г л о х ш и й  с т а р ы й  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Иван Буни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13932" r="11169" b="0"/>
          <a:stretch/>
        </p:blipFill>
        <p:spPr>
          <a:xfrm>
            <a:off x="1332000" y="404640"/>
            <a:ext cx="4033800" cy="32403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 rot="5400000">
            <a:off x="-2781360" y="2960640"/>
            <a:ext cx="685800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раз сада в литературе</a:t>
            </a:r>
            <a:endParaRPr b="1" lang="en-US" sz="28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928960" y="5805360"/>
            <a:ext cx="50277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д Плюшки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1:18:53Z</dcterms:created>
  <dc:creator>Home</dc:creator>
  <dc:description/>
  <dc:language>en-US</dc:language>
  <cp:lastModifiedBy>User</cp:lastModifiedBy>
  <dcterms:modified xsi:type="dcterms:W3CDTF">2009-11-09T04:57:16Z</dcterms:modified>
  <cp:revision>84</cp:revision>
  <dc:subject/>
  <dc:title>Слайд 1</dc:title>
</cp:coreProperties>
</file>