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F9E-5B99-4EB4-9878-2AE89A55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DEF-64E8-427D-B6D4-9A8A3A8D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522-F83A-4BBE-8B65-6962F2A5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127-B503-410E-B159-6597D633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0B12-FB1A-4744-B8E7-D6879AF4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4C78-0082-4E81-8FB4-F0E12AAC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BA69-CBC2-4BAF-8FBB-350AB6F0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1FF1-2BD9-419F-8C45-E41EEAB3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FC7D-17B9-4D7E-865E-43CFC9A0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64CD-D797-4030-B16D-B4D3187E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A358-8F0C-4857-823C-3E11DBCB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B9C-2B47-454A-A94F-6DAAC83C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35D7-03B8-489F-8858-3A6B5E71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9918-2743-43F1-81A0-C9F962FA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9449-1B57-4A30-A99F-AB515FC0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4F60-A0EF-4B24-8422-F67BF317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2C3A-2E4F-47CC-8BA7-95112FFF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E4B17-DA1B-4C88-B7F3-CE868DD5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EBADA-2011-4F2A-8DE9-4E943205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F8AAE-5C8E-47FE-87C4-958E7A09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EDA77-DFD7-4864-BB1C-FC2EB331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D1CA2-402B-4326-A31D-F936D7E5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981-0EFA-4E3F-A577-B8726624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40057-739F-4F20-8C4D-1453CFE4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39546-EF4C-4B25-A080-52ACA7FF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0D7DF-B1F0-41ED-8D57-014E4904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2828A-6C74-43D9-A8DC-3D97C3FE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3BC2E-2E9A-4221-9F5D-4A460407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03F50-4795-4A6B-9BD4-2BF5BE93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F6DD2-AD0F-4378-96C5-0A4BD825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79DF9-093E-4747-840F-60A58C99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57993-A46B-49C4-8402-92406CBD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E17A-4373-4AE8-8203-C4CA36DE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8C2-684B-4214-8556-9BBFDDCC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4DCF-1AF4-45D6-9127-0E2902D2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2B7F9-17FA-431F-93B9-7844F472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9AC51-D7FE-4C09-A472-B6DEB7A4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7E96-6DCD-41C7-B6EE-E577C5EC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2D6C-CFEB-4786-AE16-371484A7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5E3B-CCBC-4CFF-A90B-6CB74CA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4CCA-17D7-468E-8B90-0CEF4D2E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D7D1-E083-4C30-939F-69560CEC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DE342-455F-47C2-AF48-33604400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7FA-471E-42CC-B247-5C3A7AB5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ED6-642A-42A4-A13D-01F00E57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9C7-9266-4C16-95DD-1BA89253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CA8-82EE-406D-9BA1-8D2D0A7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B2F-67AA-4852-AA20-4A85F42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D4DB-FB6F-4FFC-B9C0-DE586DFB6D8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9A41-CD65-4E1E-B16C-ADEC184866D2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5357-5035-4683-800D-682C3E1C143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F72A-039B-483A-8D78-F7883DDDFA0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4c600"/>
                </a:solidFill>
                <a:latin typeface="Century Gothic"/>
              </a:rPr>
              <a:t>ТРУД</a:t>
            </a:r>
            <a:endParaRPr b="0" lang="en-US" sz="6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900000" y="1484280"/>
            <a:ext cx="777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сого нет берлоги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ужна ему нора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рагов спасают ноги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т голода – кора. 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http://go3.imgsmail.ru/imgpreview?key=http%3A//xn--g1acmfevh.com.ua/wp-content/uploads/2012/12/zayats-rusak_1600x1200.jpg&amp;mb=imgdb_preview_972"/>
          <p:cNvPicPr/>
          <p:nvPr/>
        </p:nvPicPr>
        <p:blipFill>
          <a:blip r:embed="rId1"/>
          <a:stretch/>
        </p:blipFill>
        <p:spPr>
          <a:xfrm>
            <a:off x="420840" y="549360"/>
            <a:ext cx="4321080" cy="3235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http://www.floraprice.ru/v2/wp-content/uploads/2009/02/z.jpg"/>
          <p:cNvPicPr/>
          <p:nvPr/>
        </p:nvPicPr>
        <p:blipFill>
          <a:blip r:embed="rId2"/>
          <a:stretch/>
        </p:blipFill>
        <p:spPr>
          <a:xfrm>
            <a:off x="4500720" y="3213000"/>
            <a:ext cx="42004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Users\Ольга\Desktop\труд\artyom.gif"/>
          <p:cNvPicPr/>
          <p:nvPr/>
        </p:nvPicPr>
        <p:blipFill>
          <a:blip r:embed="rId1"/>
          <a:stretch/>
        </p:blipFill>
        <p:spPr>
          <a:xfrm>
            <a:off x="468360" y="533520"/>
            <a:ext cx="3959280" cy="5790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C:\Users\Ольга\Desktop\труд\veronika.gif"/>
          <p:cNvPicPr/>
          <p:nvPr/>
        </p:nvPicPr>
        <p:blipFill>
          <a:blip r:embed="rId2"/>
          <a:stretch/>
        </p:blipFill>
        <p:spPr>
          <a:xfrm>
            <a:off x="4427640" y="449280"/>
            <a:ext cx="432108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4:51:21Z</dcterms:created>
  <dc:creator>Ольга</dc:creator>
  <dc:description/>
  <dc:language>en-US</dc:language>
  <cp:lastModifiedBy>Ольга</cp:lastModifiedBy>
  <dcterms:modified xsi:type="dcterms:W3CDTF">2014-01-22T14:59:39Z</dcterms:modified>
  <cp:revision>1</cp:revision>
  <dc:subject/>
  <dc:title>ТРУД</dc:title>
</cp:coreProperties>
</file>