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DD0-3582-4E80-922B-8874CFF5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9147-0285-4E9D-B066-0A713CFF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130-2261-4D29-AECE-F16EB294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F8A-14B0-4D42-8238-3D659FCD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7754-97FA-4725-B501-D8781EEA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DC70-D7E6-414A-921E-7D1AC292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614C-0086-4147-B056-2167EA7E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F847-5388-4D79-B2E6-D4AC7FAC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01A1-570F-4E02-A036-BE4ED1F4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F30D-B25B-4460-8FC6-508E5DF6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AACA-5F74-4381-A004-5ECC6599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1E8-FE45-4606-BE33-633F1566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3CD4-30CD-468D-B71C-CFBB8F9D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8CE6-BA7E-43B9-A755-6815EB46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4008-9D43-409B-BB6F-EAD618BC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AFDA-3081-4F54-91B9-5EBB4CC3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76DD-77C1-4379-82C3-56A25437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2C24E-2777-4604-B385-68D4D907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C7589-139C-43CF-84C7-07868DAB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3EB00-821E-4E26-AC47-F2B3D6FF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E46C5-19CF-433D-A1EC-01090B1E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D74B6-89E7-4F87-A081-2B5694D1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CB7-563D-4A87-9816-4FC3EFCF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3FEAA-AFB1-4E48-A9EE-7CA09089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D8942-759B-4668-B961-16350CF1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5EA18-7570-4C85-A439-09695DBA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FF4B7-78F6-4691-9081-42FC4F85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DB2F7-4E38-4822-B5EA-742D2256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56180-34B6-4E81-866C-1C69FFA2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7D757-167E-40B3-8A92-7C93650E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256F-A85C-4028-AA59-B8862CBF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A665-F817-4C21-852A-BC0E0767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C0423-67A2-45B4-8CAB-9A0E091B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A57-A912-4336-9538-8E6DA71E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AFA1-50D1-425D-AD7F-3F40EED2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ABB3-6057-4031-BAFD-0DED5A8F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C529D-FBE6-419B-BF8A-08870C64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0F8A-F385-485B-8F48-8C1A900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05D2-0F18-4FDB-8001-B6AA1E9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E17FC-54D6-48BC-AD93-6612996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BA330-995E-49F6-B747-450231DC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89581-F37B-49CF-9925-D805B928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C838-6F5F-475D-8B8B-B1734A6E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DF0-165A-40DB-B311-96A3F91A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58A-41B2-4879-A42C-73007E3C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81E-B6D5-47A7-B599-9E4E09F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39B-AE7B-4209-A0C2-152D1FEC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886-DBE0-4CEA-8CF2-98736132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2A3-81F2-477B-8462-C8D4137EF21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587D-7707-41A1-BB99-5A9518C3345B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7AA1-155E-45E8-AF6C-B5A6A954BC45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B133-4E47-4932-92E7-B4440434B3B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4c600"/>
                </a:solidFill>
                <a:latin typeface="Century Gothic"/>
              </a:rPr>
              <a:t>ТРУД</a:t>
            </a:r>
            <a:endParaRPr b="0" lang="en-US" sz="6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900000" y="1484280"/>
            <a:ext cx="777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сого нет берлоги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ужна ему нора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рагов спасают ноги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т голода – кора. 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http://go3.imgsmail.ru/imgpreview?key=http%3A//xn--g1acmfevh.com.ua/wp-content/uploads/2012/12/zayats-rusak_1600x1200.jpg&amp;mb=imgdb_preview_972"/>
          <p:cNvPicPr/>
          <p:nvPr/>
        </p:nvPicPr>
        <p:blipFill>
          <a:blip r:embed="rId1"/>
          <a:stretch/>
        </p:blipFill>
        <p:spPr>
          <a:xfrm>
            <a:off x="420840" y="549360"/>
            <a:ext cx="4321080" cy="3235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http://www.floraprice.ru/v2/wp-content/uploads/2009/02/z.jpg"/>
          <p:cNvPicPr/>
          <p:nvPr/>
        </p:nvPicPr>
        <p:blipFill>
          <a:blip r:embed="rId2"/>
          <a:stretch/>
        </p:blipFill>
        <p:spPr>
          <a:xfrm>
            <a:off x="4500720" y="3213000"/>
            <a:ext cx="42004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:\Users\Ольга\Desktop\труд\artyom.gif"/>
          <p:cNvPicPr/>
          <p:nvPr/>
        </p:nvPicPr>
        <p:blipFill>
          <a:blip r:embed="rId1"/>
          <a:stretch/>
        </p:blipFill>
        <p:spPr>
          <a:xfrm>
            <a:off x="468360" y="533520"/>
            <a:ext cx="3959280" cy="5790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C:\Users\Ольга\Desktop\труд\veronika.gif"/>
          <p:cNvPicPr/>
          <p:nvPr/>
        </p:nvPicPr>
        <p:blipFill>
          <a:blip r:embed="rId2"/>
          <a:stretch/>
        </p:blipFill>
        <p:spPr>
          <a:xfrm>
            <a:off x="4427640" y="449280"/>
            <a:ext cx="432108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4:51:21Z</dcterms:created>
  <dc:creator>Ольга</dc:creator>
  <dc:description/>
  <dc:language>en-US</dc:language>
  <cp:lastModifiedBy>Ольга</cp:lastModifiedBy>
  <dcterms:modified xsi:type="dcterms:W3CDTF">2014-01-22T14:59:39Z</dcterms:modified>
  <cp:revision>1</cp:revision>
  <dc:subject/>
  <dc:title>ТРУД</dc:title>
</cp:coreProperties>
</file>