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chimes.wav" ContentType="audio/x-wav"/>
  <Override PartName="/ppt/media/image7.gif" ContentType="image/gif"/>
  <Override PartName="/ppt/media/image9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8D8-0990-4115-928D-9F05BE8E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944-05C1-4B63-B93B-A88FD2C1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55842-CC5D-4647-96A9-1B38FB54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7B28F-4477-4AF3-A53D-47447496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94885-A938-482B-8406-AD899AC0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2E507-12AE-4261-99E2-1CB5A560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057AD-E3BF-4251-BE61-55E814BF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876E6-3E4A-4662-A435-2334EEEF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CF585-15EB-415F-95BB-ABB1275B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F861B-3553-4112-9827-45AD35B8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F011C-5702-470A-BD20-C908A324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D87B0-6A3A-4EBB-B7A6-DA3B76CF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8D4-46D5-45C1-9801-6250D369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3A484-3A2C-43E7-8EB2-4FD634AE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64E53-171C-4EF1-B86F-90C525B5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A6B8F-AFDB-4AB4-9CF2-5CF233F3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B9D9C-E45C-4ACE-9D5F-42DF8782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9249F-A8A0-4D80-A56E-51940467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DB819-2516-44E9-91EE-807949E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12064-3C36-4E2B-BAAE-6D59147B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9B28C-9838-4553-86D2-AFFDBF1E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09575-2A02-4C21-9A7C-4EA36AE3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7A526-B6DF-4BA8-BDD0-19C05CD3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566-8934-4806-840A-6ECFAEB2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BDE18-D181-4104-82A6-EF32CD4F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888F1-470A-4F15-A861-581DE79A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26CE7-40D2-45FF-B61F-FB44AFFF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E5F10-D481-42C4-94FA-E61EF01F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D6A85-CE21-45BF-985D-F9A3B943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B65BF-013D-4ADC-A650-4F5F1CD5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B50A2-FC7E-48A4-A5BE-CA886A79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239BA-5528-4BA7-817C-1C72FA24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0605B-7F05-4E5F-B4C2-F10D9591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0D6FB-C282-433C-983B-7F5B325C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F240-AA61-4FFA-B46B-A1A08384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73F48-DA61-49CC-A2F4-A4C41736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E68A9-026C-4A9C-95D7-CF667DA5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11316-C598-4461-94A5-0B04A298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B0DFB-3DFE-4D77-83E3-914D102A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49E4C-1B4E-40F6-A8EA-3D7E0C6B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C544B-29AF-4864-9CDC-8E364DA3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37E8A-4305-4055-BBDB-1879D932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09261-79E8-49E7-868C-B148B2AF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A2491-46FF-44A2-A23E-CBDE3824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0DA45-458B-4FF8-90D5-3AE83BB9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6C86-B4EA-469F-B164-B96C2ACA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DFC4A-14F8-489C-9E08-3F24476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5E773-EAA4-436F-8FBF-F71D6909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179CD-40B6-4DB3-8AEB-CBB4184D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DF718-DEF2-44BD-A513-A11CB144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951AA-30C4-478A-AAAB-C18AC4EE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5A776-F2E1-40CE-834A-71851A75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569DE-3207-4800-9252-C2BEEB36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053C9-64C8-434F-B11C-6BCECEFB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190E2-D823-47AA-AA02-B9981CA8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FDC2C-A30D-42B2-B6F5-02EFB2C6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2966-B18D-489F-B6BB-340A7C9E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97CAD-AB07-43FD-8B91-B1C88DAD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A00D0-A7DA-4CE7-9F7C-45380972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4A719-635C-4BEB-8AE1-E83EC974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9206E-5B1D-45C4-A819-C8C6AD86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323BC-4CBF-484E-A98F-36D67453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8BFF4-FFEF-403B-8E85-556FFCDB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F762F-AE24-4C21-8037-8EEACC8B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80134-BD33-4519-967F-D927569F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EFED2-5BD8-4C4A-8E95-ADF91F0A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DDFF3-3736-426F-8F1D-13ECB93D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AD03-A5BD-428A-81F7-E0CDDC89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82F55-58DE-4836-91FF-136F6257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42C81-21BC-458B-ADD3-217577A2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37B59-5F12-4344-AB69-DFFC0BB3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52E7B-FEF5-4577-AAD2-9FBD78C3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7A02A-C21D-46E1-9AD5-62EB19F0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4EA298-DEE9-4D2F-A830-43D5FD13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FB7CD-57BD-4613-A2CA-B8EFA6CE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753E1-D7B5-4439-898C-D26F229B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2B3E8-4949-4ACA-81FA-19CE0BC9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B2B8A-156B-41B2-AE7D-5645E7F2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3C1B-ADF9-45C6-BDB2-789FCF32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D5BF3-42EF-447B-B768-59B40AD2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83490-91F9-4FAE-AAAD-7EEA6749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33491-6A17-4B19-B847-3C5F3D90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DAD5F-70FD-4D24-A865-C0109AF5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C79B6-10D2-4731-9AEE-500C34FC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FF913-4A6C-42DE-842B-D2BD7F29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0A06C-DA9A-49AB-84D4-EA49774B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F7345E-972E-485C-93E5-E342AF7E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3F98A-FCFB-4C72-B54E-4C9DF4FE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ECB53-59DB-42C4-BE0B-D14FB3AF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FA76-91B8-4191-A5CA-F6C6C03C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1A7AC-7590-483A-97F5-D28736E7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36B4-FB77-452E-96D7-D1FD38B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0B9-9A5F-4210-91F3-FCB4D820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198A-6868-4217-8823-1E64EB92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848C-E9D1-4119-8589-A0988BF9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5F1A-0B0A-4565-898D-F401BB9D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386D-F794-432D-9DD7-0A40A6BB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BEC5-4AED-4BC5-B342-D7B9CE45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7C92-291D-4544-88FA-B35D5274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7EE3-FB9B-4A54-A8B3-2E804A69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C915-4D73-4026-9C4C-9AA6ADBA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F7D00-6A4E-44D5-9550-638D9418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E79A-D43D-4528-8EEC-E644D48D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917-C4BD-48E1-A78C-F57DA3A6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0EB9-5947-4F4F-9C41-B33A655A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83AB-83DE-4004-BFDB-4926839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B454A-2330-4500-9BB2-6C26E85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B7DB-9947-471E-826F-05E81E2B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1E099-4B9D-45E4-99C0-E7CD5E73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9F34-71CE-467E-AEAE-5C8B970B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B00B-DFB8-4CD2-AC54-4FC2A0D9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6D80-0EAB-4384-BE9A-A288A266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CEE32-64E7-4387-AFDD-C89AC8A1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DC07-2389-431E-B6E8-C9AC0587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B44-F760-48C3-A04E-C5DF7C38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258A1-9B71-4672-A437-DC538F77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AD55-0108-4B6E-AA47-15ABE291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0CCE0-EFD4-41A3-BFAE-E0A3EFD5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5EE3B-C1CC-47B5-8145-0BE744D3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1EC3-385E-4BF8-B57F-D303727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DD8A-D03C-4279-9284-EAE2EFFA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23EB7-48B0-4926-A963-E4E1D30D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6E2A-EC6E-43D0-B63B-4AFA5CC1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456A5-0408-4A60-9858-D89A4CC0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E9D34-A958-4BAC-8227-B7DB3E3B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B51-8311-4C92-9863-2853B0E1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ABE0F-ACA5-4F02-A724-30E5B636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2A425-3AE3-4DCD-ABC9-EF9EBBC9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4D09A-0698-4428-BB98-D5414BDD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E0C9D-96D6-4962-AB3F-5FCB5D8D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39AA-532E-4A14-8137-CF84B8CE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347CD-080B-40E7-A797-A8D4271C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56BC5-A8A2-4885-98C7-A6BE835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80D88-3E53-47C9-B9DB-FC557FFC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3A6F0-467E-4017-A6F0-151A95A8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63E04-7D62-4C77-B30F-5F561013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1F5-E1A0-4A5C-9AEF-5BE8AA37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691D5-DEBF-4DCB-8151-6C1E757A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27EFF-AF47-43C6-AC86-5AB66359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CF81B-6AF1-4D23-8D2E-519C5A5D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82935-FFE0-43D1-BFE1-F1636297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F5CD9-5C76-4AB0-B7B5-9A914E84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54E14-119C-42B8-B1C0-67A2045F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6AE63-4970-4307-BEDB-11C0FA3F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437A2-D67D-4D4C-B4CB-60EA6EF0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CA907-4EAC-4C82-B834-4BA6AE5E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20A1F-6133-4A57-AA4E-D5169F7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712-455F-4701-9D20-7D0E4200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AF811-BBDA-4FA9-9BC8-E5895C08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ECA2A-13D5-4B98-94D9-EBD638D4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76F0F-3A56-4F4A-8288-5E70759D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2F21-E03F-4397-BED4-9E113ABF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E3A52-78CC-4E22-A350-3221EF61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F7090-51BB-46EE-BA6F-F42FC3CA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3F931-D437-4DAB-AEFB-9EF910B2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EC601-57F6-418A-8ADC-5E6A3838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92933-E64D-491A-ADE7-515F4EE9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3618B-E640-47F5-A7F1-72E57B1D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DCA-A106-4116-BDA8-14505A64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317B3-657E-453B-90C9-4538EBF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79B5B-C31B-43AF-B898-7061F9F3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3D38F-253A-4025-93E6-761BEC3D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34862-2755-4B48-85FB-20C851FD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7CCA7-408A-45AD-86C7-1698AED4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D8E2-92EE-4AD0-BD77-437A882A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F671E-F8AE-44B8-95E8-AD114FA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6D537-6D6B-4E44-9CF0-E7E123E4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60871-4A12-46F7-9B0A-19E26DEC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711D-3682-42BA-A708-A4EEDBB6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AD4-8CB9-4468-99C1-62A817A7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2944A-722F-4C9E-907B-1F24143D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2DE4B-09B7-4CB3-A5E0-09BCE66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FD713-273E-4D18-94DC-C2B37E66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2F720-49F0-45EF-8B4D-E3420A1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D3463-C702-4D71-B99D-1F3643F6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B0C5B-0B86-4C21-BB73-9791DEF6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33611-FA95-4743-A58F-2BD23A31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C5620-2DAC-43B9-9690-A1639499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F989F-A890-4F74-AE72-B04331FE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5C3DC-9120-4002-AA9D-2796F8D0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00B4-58C3-4361-A9B3-272B1B28A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2504-B265-4754-8CF6-36D254D7DB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5A94-C8D9-42E8-87B2-78AA4CAC202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1811-D4F1-4622-8438-92D605FC16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54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5D4E-FA89-4CA9-BA22-E89B50A65F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8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0437-05E8-4BC8-83C0-81C0DCBAE94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63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F0AF-093A-411C-BD7A-50792A315C5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1AAA-37FE-4CEF-87D3-4C42C3639A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764C-8F87-49C8-937B-3AEAB69C4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2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0F04-D16F-4E52-85D9-9BC8FF7D2688}" type="slidenum">
              <a:rPr b="0" lang="ru-RU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79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CF2E-4455-4F6A-B9A3-81396865FC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2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8CDC-29B4-49CD-9703-1BB5D34FA0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74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2AA2-27E6-4F2B-A91B-303432E7B7A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74D9-F399-4424-B2EF-CC13553B8B6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CF73-FB02-4DD0-BFDF-6CD406DF50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5e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Заголовок 1" descr=""/>
          <p:cNvPicPr/>
          <p:nvPr/>
        </p:nvPicPr>
        <p:blipFill>
          <a:blip r:embed="rId1"/>
          <a:stretch/>
        </p:blipFill>
        <p:spPr>
          <a:xfrm>
            <a:off x="1322280" y="-128520"/>
            <a:ext cx="7419960" cy="42559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а: Ерёменко Людмила Владимировна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начальных классов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СОШ с.Катенино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>
            <a:off x="954000" y="285840"/>
            <a:ext cx="75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 получили следующее чис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2"/>
          <p:cNvSpPr/>
          <p:nvPr/>
        </p:nvSpPr>
        <p:spPr>
          <a:xfrm>
            <a:off x="785880" y="2714760"/>
            <a:ext cx="135720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3"/>
          <p:cNvSpPr/>
          <p:nvPr/>
        </p:nvSpPr>
        <p:spPr>
          <a:xfrm>
            <a:off x="7286760" y="2857680"/>
            <a:ext cx="135720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4"/>
          <p:cNvSpPr/>
          <p:nvPr/>
        </p:nvSpPr>
        <p:spPr>
          <a:xfrm>
            <a:off x="5286240" y="4357800"/>
            <a:ext cx="135756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5"/>
          <p:cNvSpPr/>
          <p:nvPr/>
        </p:nvSpPr>
        <p:spPr>
          <a:xfrm>
            <a:off x="5429160" y="1428840"/>
            <a:ext cx="135756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6"/>
          <p:cNvSpPr/>
          <p:nvPr/>
        </p:nvSpPr>
        <p:spPr>
          <a:xfrm>
            <a:off x="2571840" y="1357200"/>
            <a:ext cx="135720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7"/>
          <p:cNvSpPr/>
          <p:nvPr/>
        </p:nvSpPr>
        <p:spPr>
          <a:xfrm>
            <a:off x="2571840" y="4286160"/>
            <a:ext cx="1357200" cy="10000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Прямая со стрелкой 9"/>
          <p:cNvCxnSpPr>
            <a:stCxn id="684" idx="7"/>
            <a:endCxn id="688" idx="3"/>
          </p:cNvCxnSpPr>
          <p:nvPr/>
        </p:nvCxnSpPr>
        <p:spPr>
          <a:xfrm flipV="1">
            <a:off x="1943640" y="2210760"/>
            <a:ext cx="826200" cy="6498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1" name="Прямая со стрелкой 12"/>
          <p:cNvCxnSpPr>
            <a:endCxn id="687" idx="2"/>
          </p:cNvCxnSpPr>
          <p:nvPr/>
        </p:nvCxnSpPr>
        <p:spPr>
          <a:xfrm flipV="1">
            <a:off x="3786120" y="1928520"/>
            <a:ext cx="1643760" cy="86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2" name="Прямая со стрелкой 14"/>
          <p:cNvCxnSpPr>
            <a:endCxn id="685" idx="1"/>
          </p:cNvCxnSpPr>
          <p:nvPr/>
        </p:nvCxnSpPr>
        <p:spPr>
          <a:xfrm>
            <a:off x="6643440" y="2222280"/>
            <a:ext cx="842040" cy="78156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3" name="Прямая со стрелкой 16"/>
          <p:cNvCxnSpPr/>
          <p:nvPr/>
        </p:nvCxnSpPr>
        <p:spPr>
          <a:xfrm flipH="1" flipV="1">
            <a:off x="1713960" y="3714120"/>
            <a:ext cx="913320" cy="72612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4" name="Прямая со стрелкой 19"/>
          <p:cNvCxnSpPr>
            <a:endCxn id="686" idx="7"/>
          </p:cNvCxnSpPr>
          <p:nvPr/>
        </p:nvCxnSpPr>
        <p:spPr>
          <a:xfrm flipH="1">
            <a:off x="6444360" y="3651120"/>
            <a:ext cx="985320" cy="8532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5" name="Прямая со стрелкой 21"/>
          <p:cNvCxnSpPr/>
          <p:nvPr/>
        </p:nvCxnSpPr>
        <p:spPr>
          <a:xfrm flipH="1" flipV="1">
            <a:off x="3928680" y="4928400"/>
            <a:ext cx="1286640" cy="252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696" name="Picture 70" descr="что-то полосатое, анимашка"/>
          <p:cNvPicPr/>
          <p:nvPr/>
        </p:nvPicPr>
        <p:blipFill>
          <a:blip r:embed="rId2"/>
          <a:stretch/>
        </p:blipFill>
        <p:spPr>
          <a:xfrm>
            <a:off x="6715080" y="4214880"/>
            <a:ext cx="20430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838080" y="5335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2819520" y="533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4114800" y="10666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alibri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2286000" y="2057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4343400" y="26668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Calibri"/>
              </a:rPr>
              <a:t>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3276720" y="33526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Calibri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6858000" y="1371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Calibri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9"/>
          <p:cNvSpPr/>
          <p:nvPr/>
        </p:nvSpPr>
        <p:spPr>
          <a:xfrm>
            <a:off x="5791320" y="36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0"/>
          <p:cNvSpPr/>
          <p:nvPr/>
        </p:nvSpPr>
        <p:spPr>
          <a:xfrm>
            <a:off x="990720" y="4343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cc"/>
                </a:solidFill>
                <a:latin typeface="Calibri"/>
              </a:rPr>
              <a:t>8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1"/>
          <p:cNvSpPr/>
          <p:nvPr/>
        </p:nvSpPr>
        <p:spPr>
          <a:xfrm>
            <a:off x="5943600" y="48769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alibri"/>
              </a:rPr>
              <a:t>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2"/>
          <p:cNvSpPr/>
          <p:nvPr/>
        </p:nvSpPr>
        <p:spPr>
          <a:xfrm>
            <a:off x="4419720" y="56386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Calibri"/>
              </a:rPr>
              <a:t>9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7848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Calibri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533520" y="1828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Calibri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5"/>
          <p:cNvSpPr/>
          <p:nvPr/>
        </p:nvSpPr>
        <p:spPr>
          <a:xfrm>
            <a:off x="1752480" y="990720"/>
            <a:ext cx="10670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6"/>
          <p:cNvSpPr/>
          <p:nvPr/>
        </p:nvSpPr>
        <p:spPr>
          <a:xfrm>
            <a:off x="3657600" y="1143000"/>
            <a:ext cx="609480" cy="2286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17"/>
          <p:cNvSpPr/>
          <p:nvPr/>
        </p:nvSpPr>
        <p:spPr>
          <a:xfrm flipH="1">
            <a:off x="3200400" y="1752480"/>
            <a:ext cx="1371600" cy="6098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8"/>
          <p:cNvSpPr/>
          <p:nvPr/>
        </p:nvSpPr>
        <p:spPr>
          <a:xfrm flipH="1" flipV="1">
            <a:off x="1219320" y="2438280"/>
            <a:ext cx="2133360" cy="15242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9"/>
          <p:cNvSpPr/>
          <p:nvPr/>
        </p:nvSpPr>
        <p:spPr>
          <a:xfrm>
            <a:off x="3124080" y="2743200"/>
            <a:ext cx="1143000" cy="304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0"/>
          <p:cNvSpPr/>
          <p:nvPr/>
        </p:nvSpPr>
        <p:spPr>
          <a:xfrm flipH="1">
            <a:off x="4038120" y="3429000"/>
            <a:ext cx="685800" cy="304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1"/>
          <p:cNvSpPr/>
          <p:nvPr/>
        </p:nvSpPr>
        <p:spPr>
          <a:xfrm flipV="1">
            <a:off x="1371600" y="1828800"/>
            <a:ext cx="5410080" cy="3808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2"/>
          <p:cNvSpPr/>
          <p:nvPr/>
        </p:nvSpPr>
        <p:spPr>
          <a:xfrm flipH="1">
            <a:off x="6324480" y="2133720"/>
            <a:ext cx="914400" cy="1676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3"/>
          <p:cNvSpPr/>
          <p:nvPr/>
        </p:nvSpPr>
        <p:spPr>
          <a:xfrm flipH="1">
            <a:off x="1752480" y="4419720"/>
            <a:ext cx="4191120" cy="457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24"/>
          <p:cNvSpPr/>
          <p:nvPr/>
        </p:nvSpPr>
        <p:spPr>
          <a:xfrm>
            <a:off x="1828800" y="5029200"/>
            <a:ext cx="42670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5"/>
          <p:cNvSpPr/>
          <p:nvPr/>
        </p:nvSpPr>
        <p:spPr>
          <a:xfrm flipH="1">
            <a:off x="5181120" y="5486400"/>
            <a:ext cx="762120" cy="3808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26"/>
          <p:cNvSpPr/>
          <p:nvPr/>
        </p:nvSpPr>
        <p:spPr>
          <a:xfrm flipV="1">
            <a:off x="5486400" y="4952520"/>
            <a:ext cx="2743200" cy="12193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7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азовите числа в порядке возрас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" descr="D:\мама\Мои рисунки\анимации\f212.gif"/>
          <p:cNvPicPr/>
          <p:nvPr/>
        </p:nvPicPr>
        <p:blipFill>
          <a:blip r:embed="rId2"/>
          <a:stretch/>
        </p:blipFill>
        <p:spPr>
          <a:xfrm flipH="1">
            <a:off x="999720" y="5429160"/>
            <a:ext cx="171468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Box 1"/>
          <p:cNvSpPr/>
          <p:nvPr/>
        </p:nvSpPr>
        <p:spPr>
          <a:xfrm>
            <a:off x="3075480" y="404640"/>
            <a:ext cx="29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Calibri"/>
              </a:rPr>
              <a:t>Вычис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2"/>
          <p:cNvSpPr/>
          <p:nvPr/>
        </p:nvSpPr>
        <p:spPr>
          <a:xfrm>
            <a:off x="717120" y="1571760"/>
            <a:ext cx="142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0+3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1-1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4-8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+9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"/>
          <p:cNvSpPr/>
          <p:nvPr/>
        </p:nvSpPr>
        <p:spPr>
          <a:xfrm>
            <a:off x="2290680" y="1571760"/>
            <a:ext cx="59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7"/>
          <p:cNvSpPr/>
          <p:nvPr/>
        </p:nvSpPr>
        <p:spPr>
          <a:xfrm>
            <a:off x="6003720" y="1571760"/>
            <a:ext cx="142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0-2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+1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4-2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0-9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8"/>
          <p:cNvSpPr/>
          <p:nvPr/>
        </p:nvSpPr>
        <p:spPr>
          <a:xfrm>
            <a:off x="5005440" y="1571760"/>
            <a:ext cx="59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9"/>
          <p:cNvSpPr/>
          <p:nvPr/>
        </p:nvSpPr>
        <p:spPr>
          <a:xfrm>
            <a:off x="3582360" y="1571760"/>
            <a:ext cx="147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0-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4+1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7-2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0+9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0"/>
          <p:cNvSpPr/>
          <p:nvPr/>
        </p:nvSpPr>
        <p:spPr>
          <a:xfrm>
            <a:off x="7358040" y="1571760"/>
            <a:ext cx="63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3"/>
          <p:cNvSpPr/>
          <p:nvPr/>
        </p:nvSpPr>
        <p:spPr>
          <a:xfrm>
            <a:off x="2743560" y="4500720"/>
            <a:ext cx="290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Провер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3" descr="D:\мама\Мои рисунки\анимации\f335.gif"/>
          <p:cNvPicPr/>
          <p:nvPr/>
        </p:nvPicPr>
        <p:blipFill>
          <a:blip r:embed="rId2"/>
          <a:stretch/>
        </p:blipFill>
        <p:spPr>
          <a:xfrm>
            <a:off x="6215040" y="3521160"/>
            <a:ext cx="200016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9" dur="indefinite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0" dur="indefinite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0.02708 -0.57107 E">
                                      <p:cBhvr>
                                        <p:cTn id="93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16:19:37Z</dcterms:created>
  <dc:creator>школа</dc:creator>
  <dc:description/>
  <dc:language>en-US</dc:language>
  <cp:lastModifiedBy>школа</cp:lastModifiedBy>
  <dcterms:modified xsi:type="dcterms:W3CDTF">2014-01-03T13:36:47Z</dcterms:modified>
  <cp:revision>2</cp:revision>
  <dc:subject/>
  <dc:title>Устный счёт 20 декабря</dc:title>
</cp:coreProperties>
</file>