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chimes.wav" ContentType="audio/x-wav"/>
  <Override PartName="/ppt/media/image7.gif" ContentType="image/gif"/>
  <Override PartName="/ppt/media/image9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7E2-89B4-4D64-A513-B8ED736C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73A-22CC-4928-9EA4-8FCF62E4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E8F22-3365-4E72-824A-9D766850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CD678-E1C3-4A1F-80D4-7B1821F0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97F87-ED35-4B8B-BEEA-06DE967C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213CD-3B60-4ADC-8D7C-9B4F1B23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C395-5800-4126-8F9E-163D1C6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E4DBF-B3DB-4261-96A0-051CB13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BBA2-BE7C-46F8-A4BD-103E4EB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CB28-4EC1-4318-8E77-97E1D1A0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9DBF3-DA2A-408E-B228-14E08079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D5166-C875-453F-9A85-68F46967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09D-69FF-4BA5-AE37-0E315FC4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EEDF0-CD0B-401F-B8DC-8BFD609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84BB1-A7C9-486D-968C-A0EE689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DBF6C-B997-4F76-8C27-6A52932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2C238-9B01-4B94-9368-CF4EED6F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89DB-5C06-4C11-9D81-0A5A6663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8A1F9-67B4-4453-99A7-ADF0742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F2224-726D-4DB9-A60B-DA2C06E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5E7E1-89DD-4CD0-A2E9-D1B484C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80D98-25D7-4773-9F2C-CFB66DA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C7C67-2879-4011-8A8A-1C9933A9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46E-69BF-4655-8B88-8078C919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29161-50C4-4344-AF1B-DB765CC6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AC3FD-D51C-49E3-8DB7-00538BE2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CD732-BA36-461E-B53A-F011728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0A192-228C-4649-AF02-F5D7AA7F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C655B-2CEE-47B5-8809-A5579BC8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201D-C9C4-47E3-8FE4-8A96B75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6F432-1217-4ADB-9D45-F13F4A0F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87D05-4045-4C72-B228-67D9288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8D47A-648A-4579-90C5-9530B45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CD0DC-176D-4893-89C7-64F6104A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6BF1-597F-4283-BC46-335BDDC2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EB452-FB89-4FAE-8453-94030707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A8514-82CB-4EFC-8A17-C8D0BD3F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7950-1C15-4DB3-BD7E-51B9D92A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40AA0-6834-4C08-B4EC-4329F7A5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25CA6-3F25-4561-BFE7-18DA33D3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E5B51-47D1-418C-9565-EB7ED28A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13F72-F271-4FB1-8EEB-ED5C36C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68620-7100-4A3F-B633-13CE74B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4D1A4-08AC-4749-910C-1B3149D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28B2A-3758-4DE6-82FC-0D7C669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6071-2E58-4FF9-A32B-3B41539C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EA56F-7AE5-4C3F-8F08-40D4D0C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F3E79-3F3D-426A-908F-CFC8797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9DDBB-ED2D-40D1-9552-EA9DB1C6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F1692-0FF0-454B-A9B5-8CC6B140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36F0B-758A-43DC-B046-C67F67FE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AFDA8-51FC-4858-88F7-2A5467AD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06937-8183-454F-A445-F918A71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D9949-99BC-4E3E-A31A-51A09ED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5A01D-1A41-4241-9E82-40BAA7FF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8F88A-D308-4C18-9727-D2C8AA3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5030-9FA2-4778-9E64-79180009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4C902-724E-4FF8-88DB-68D9401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E2D97-D9E5-4427-96C0-BFD4A03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BFCF8-E23F-4D0E-BD5E-94116B1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1E4FB-AEE8-4326-99A6-E22C4C80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D891B-BE74-4CEE-9972-153A6AF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BF6FF-043A-4D17-B456-6CC87855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84858-93CC-4359-9617-0DF4FBF1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F7E4D-7952-4D87-A74B-76510870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0D7C6-5D48-4853-AD24-CE71EDD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3AD1F-B44E-42B6-B28E-FDD7D6D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C63-B891-48F6-B092-2FD2769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22FC0-4E34-4291-AE42-23D95B39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C07EB-26A4-4584-99C0-3396435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1E61A-3E71-45C5-93B9-83A1777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759CF-FBE7-4153-BB0B-8CA524F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91ECF-BABD-402E-8765-89D2002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FD605-6CFB-40E0-ACCC-07855FB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81B2E-F712-4215-B5C7-CF6041D1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6F610-AB05-4E49-AC26-97BA4773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92D7D-2B9A-4A2E-9817-7D0DF960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D35D2-8755-4104-AF14-21517DB4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5731-EBD2-4DE6-BE2D-3AA20DA7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CBAD6-B3BB-4A75-B5AE-C2652075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70BEF-C738-47C4-B3D6-D959957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5E1B5-021F-4FD6-80FD-19C1388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34D5B-2A88-4D68-BD5C-6BB10D4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5C140-B3A6-4CEB-9137-24E5BA1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4FE77-E05A-4D6C-BAF7-59C8891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3A153-E813-4071-9659-B2F5988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12832-486D-4FE8-8F19-FEB712E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32AC5-C78D-47AC-884E-2774F81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F39BB-0D11-4EA6-B3DE-D372C710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1439-3944-49C2-BBDC-15679C9B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EFDA1-706D-4770-9E35-CE474E70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4C95-6C8C-4F45-9874-808F285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4A5-2AF9-41D3-92A5-0E5510FE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D77B-9FBE-4DCC-8979-45BF76F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42A9-FEBF-43DC-B925-40AE92C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FE5-7786-4334-B7F5-37183896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8414-56DA-4D05-AFF6-ECD78F80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7E6B-E3F1-4C63-A30D-E85AEAFF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6705-9FDB-4773-BB9F-14862AF6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745D-CBB8-4E23-B2C1-0EB9FB97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2209-0D8F-4E9B-9E7B-20FD5C45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CEAF-BD25-4CE6-AF82-C4185B2C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336C-3651-42F3-B2B8-4E5B6812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947-17B5-404F-AD03-B7C3800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D248-3FC2-4F6C-9A3A-9E734FA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43FF-1E94-4D16-9C29-7CC5446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D321-2168-4FBA-95C4-C7F23AD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8ADF-9048-4A29-80CF-B2AD7A2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68ED-C1A9-434F-A2AD-4545063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9B97-CAB6-4AB5-89CF-E9BA6FDC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C121-0C10-4783-BEB1-39EF853E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C652-276A-45D2-8896-323E16CB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BDEF-1496-4B45-A32E-3EC2C91F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D49B-49E0-45C1-9D09-5BEA328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BB8-FC45-47E0-8E3E-CC4A097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16C2-ECBF-40DE-A5E1-93A67B2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6369-C204-415B-90EF-3020B2FD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961D-B6D0-48F5-AC6C-F1863E61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C53E1-8101-4EA8-A3A3-20FF8C7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EC75-6822-436E-B49D-EA26BD67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167B-2BED-492A-BCEA-A6364E3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DE03-16C7-440D-8ED9-2325F5D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B5FE-704F-4296-895F-463529FA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1E5C-1F81-4569-9A19-64856095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31F6-EA46-4C2E-A768-278E871A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7FB-A8C0-4581-BFE5-D9B5532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2AE3D-8757-497A-8048-52E9EFBF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AA20B-206C-4259-9FAE-42F9B09E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E322-4A4E-4906-95FD-0910E7C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DC8B-F3D1-48D6-9656-A26181F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56F5-DA58-4CC6-B035-5EBB318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F02A-E276-43DD-8CA9-03E684F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C7CC7-E94A-40E0-8AE5-178652E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37A2B-E913-4BB7-BAC0-1B383F8C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3700-E237-4F11-BA69-4D95548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4C4D-52F8-4ABB-A8F2-1C190C0B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A9A-CF3A-44D7-B226-53898FBD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96A6-04E9-49DC-835A-4D571FAD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6B6D-E72A-495B-BCB7-51AA952B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4CFE6-9271-432A-B6C9-B3E4887D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C37BD-1C2E-49D3-A926-604C208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DB91-AC89-4205-BA79-4D540187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B1BE2-9C23-4551-B655-4FA09AC2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86F72-58D7-4AE3-A934-3BC23DB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BAFDF-FDBE-4597-8702-8C1793A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91ABA-8B42-4C75-AA9F-A79F14F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D938-EF05-41B6-957B-59EC672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348-EE32-4A14-9282-41CE630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EF87-60CB-4DFE-828E-90968A68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1559-33AC-4B77-B48D-6EDC8503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2ED09-FC44-453A-86DB-967B1264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46D6-1159-4708-954E-6ACD14C0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53C03-136F-4678-B273-E255B3E9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FE6A-B9F6-4101-BDB6-162337D6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94C6-4F9B-42E7-8008-5C4FCD50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0383-D51E-4BE4-992F-22AAA34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32B18-0131-4E86-89DF-87DB22A2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112F1-C212-42A5-AC30-7407728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D62-D756-44CE-8457-BC267D2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A54F-0FBE-4079-B561-21A776C5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5BFA-3AAA-4926-9EFC-F3A8E4D6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13DE-A0AD-481E-84F5-57E09D0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ACA17-A4E2-442C-B8CB-E70345D6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88119-074D-4160-A0F7-0C3CE36A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5962-2DAC-46A6-A89D-18CCD3E9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3998-1369-449D-8217-91B4F50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10198-B347-4B63-8529-A973DC75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88554-9DC9-47AB-8586-DBCAB781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A95A-4690-425D-A61A-82CF90E9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0A3-4601-4AC9-BFF9-45EAAD6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25519-9A10-4CCE-81BC-75D7DF40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D5BF-0D5A-4C5A-B562-145CE7A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723F-738F-4B01-A4B9-19D3164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EE4BB-F3E2-4EE6-8710-FBFA175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EFFDE-FAD1-4B4C-9292-B2F5B49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F6D8-EB77-427D-A961-96A6B478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DF07-F6BB-4AEF-A701-0625A729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80E09-B195-4BDB-B33E-1B1D1264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E46CD-835D-43AB-8DC0-267C159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EF25E-C8F3-4D11-AA81-78F74DCC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379-F193-4ED8-BA44-EF8477C1A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D862-5D2C-4705-B15E-9376D3764C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3639-E392-4AE7-9FB6-451A1FEF40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660-1B68-46D5-8FD9-5AB0534081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4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1D5-0C1E-4C8E-B56B-7F937D9020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8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932-B25A-42EF-B79B-CA0052B55B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3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2218-11D6-4864-BE45-A160DAA783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C8D-900D-4B03-AE42-FBAAAB210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D46-2D04-4E01-88DD-08E34DBB4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7E66-F1D2-4736-8B69-883EC0BDDE50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79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A9B-C53F-4021-846A-7030C68E0E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FEA2-AA52-4C03-9860-CFF7C790F2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7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7E9-D81B-4E0A-8738-84326A7253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40E5-1838-4FE2-B0DC-F4610C8975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EC93-9280-46A4-8B3A-0D6B707B73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5e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Заголовок 1" descr=""/>
          <p:cNvPicPr/>
          <p:nvPr/>
        </p:nvPicPr>
        <p:blipFill>
          <a:blip r:embed="rId1"/>
          <a:stretch/>
        </p:blipFill>
        <p:spPr>
          <a:xfrm>
            <a:off x="1322280" y="-128520"/>
            <a:ext cx="7419960" cy="42559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: Ерёменко Людмила Владимировн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начальных классов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СОШ с.Катенино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>
            <a:off x="954000" y="285840"/>
            <a:ext cx="75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получили следующее чис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2"/>
          <p:cNvSpPr/>
          <p:nvPr/>
        </p:nvSpPr>
        <p:spPr>
          <a:xfrm>
            <a:off x="785880" y="271476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3"/>
          <p:cNvSpPr/>
          <p:nvPr/>
        </p:nvSpPr>
        <p:spPr>
          <a:xfrm>
            <a:off x="7286760" y="285768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4"/>
          <p:cNvSpPr/>
          <p:nvPr/>
        </p:nvSpPr>
        <p:spPr>
          <a:xfrm>
            <a:off x="5286240" y="4357800"/>
            <a:ext cx="135756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5"/>
          <p:cNvSpPr/>
          <p:nvPr/>
        </p:nvSpPr>
        <p:spPr>
          <a:xfrm>
            <a:off x="5429160" y="1428840"/>
            <a:ext cx="135756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6"/>
          <p:cNvSpPr/>
          <p:nvPr/>
        </p:nvSpPr>
        <p:spPr>
          <a:xfrm>
            <a:off x="2571840" y="135720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7"/>
          <p:cNvSpPr/>
          <p:nvPr/>
        </p:nvSpPr>
        <p:spPr>
          <a:xfrm>
            <a:off x="2571840" y="428616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Прямая со стрелкой 9"/>
          <p:cNvCxnSpPr>
            <a:stCxn id="684" idx="7"/>
            <a:endCxn id="688" idx="3"/>
          </p:cNvCxnSpPr>
          <p:nvPr/>
        </p:nvCxnSpPr>
        <p:spPr>
          <a:xfrm flipV="1">
            <a:off x="1943640" y="2210760"/>
            <a:ext cx="826200" cy="6498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1" name="Прямая со стрелкой 12"/>
          <p:cNvCxnSpPr>
            <a:endCxn id="687" idx="2"/>
          </p:cNvCxnSpPr>
          <p:nvPr/>
        </p:nvCxnSpPr>
        <p:spPr>
          <a:xfrm flipV="1">
            <a:off x="3786120" y="1928520"/>
            <a:ext cx="1643760" cy="86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2" name="Прямая со стрелкой 14"/>
          <p:cNvCxnSpPr>
            <a:endCxn id="685" idx="1"/>
          </p:cNvCxnSpPr>
          <p:nvPr/>
        </p:nvCxnSpPr>
        <p:spPr>
          <a:xfrm>
            <a:off x="6643440" y="2222280"/>
            <a:ext cx="842040" cy="7815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3" name="Прямая со стрелкой 16"/>
          <p:cNvCxnSpPr/>
          <p:nvPr/>
        </p:nvCxnSpPr>
        <p:spPr>
          <a:xfrm flipH="1" flipV="1">
            <a:off x="1713960" y="3714120"/>
            <a:ext cx="913320" cy="7261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4" name="Прямая со стрелкой 19"/>
          <p:cNvCxnSpPr>
            <a:endCxn id="686" idx="7"/>
          </p:cNvCxnSpPr>
          <p:nvPr/>
        </p:nvCxnSpPr>
        <p:spPr>
          <a:xfrm flipH="1">
            <a:off x="6444360" y="3651120"/>
            <a:ext cx="985320" cy="853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5" name="Прямая со стрелкой 21"/>
          <p:cNvCxnSpPr/>
          <p:nvPr/>
        </p:nvCxnSpPr>
        <p:spPr>
          <a:xfrm flipH="1" flipV="1">
            <a:off x="3928680" y="4928400"/>
            <a:ext cx="1286640" cy="252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696" name="Picture 70" descr="что-то полосатое, анимашка"/>
          <p:cNvPicPr/>
          <p:nvPr/>
        </p:nvPicPr>
        <p:blipFill>
          <a:blip r:embed="rId2"/>
          <a:stretch/>
        </p:blipFill>
        <p:spPr>
          <a:xfrm>
            <a:off x="6715080" y="4214880"/>
            <a:ext cx="20430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83808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2819520" y="533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4114800" y="10666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2286000" y="2057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4343400" y="2666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alibri"/>
              </a:rPr>
              <a:t>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32767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Calibri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6858000" y="1371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Calibri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5791320" y="36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9907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Calibri"/>
              </a:rPr>
              <a:t>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1"/>
          <p:cNvSpPr/>
          <p:nvPr/>
        </p:nvSpPr>
        <p:spPr>
          <a:xfrm>
            <a:off x="5943600" y="4876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alibri"/>
              </a:rPr>
              <a:t>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4419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Calibri"/>
              </a:rPr>
              <a:t>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7848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Calibri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533520" y="1828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alibri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1752480" y="990720"/>
            <a:ext cx="10670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6"/>
          <p:cNvSpPr/>
          <p:nvPr/>
        </p:nvSpPr>
        <p:spPr>
          <a:xfrm>
            <a:off x="3657600" y="1143000"/>
            <a:ext cx="609480" cy="2286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7"/>
          <p:cNvSpPr/>
          <p:nvPr/>
        </p:nvSpPr>
        <p:spPr>
          <a:xfrm flipH="1">
            <a:off x="3200400" y="1752480"/>
            <a:ext cx="1371600" cy="6098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8"/>
          <p:cNvSpPr/>
          <p:nvPr/>
        </p:nvSpPr>
        <p:spPr>
          <a:xfrm flipH="1" flipV="1">
            <a:off x="1219320" y="2438280"/>
            <a:ext cx="2133360" cy="15242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>
            <a:off x="3124080" y="2743200"/>
            <a:ext cx="11430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0"/>
          <p:cNvSpPr/>
          <p:nvPr/>
        </p:nvSpPr>
        <p:spPr>
          <a:xfrm flipH="1">
            <a:off x="4038120" y="3429000"/>
            <a:ext cx="6858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 flipV="1">
            <a:off x="1371600" y="1828800"/>
            <a:ext cx="541008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2"/>
          <p:cNvSpPr/>
          <p:nvPr/>
        </p:nvSpPr>
        <p:spPr>
          <a:xfrm flipH="1">
            <a:off x="6324480" y="2133720"/>
            <a:ext cx="914400" cy="1676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 flipH="1">
            <a:off x="1752480" y="4419720"/>
            <a:ext cx="4191120" cy="457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>
            <a:off x="1828800" y="5029200"/>
            <a:ext cx="42670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5"/>
          <p:cNvSpPr/>
          <p:nvPr/>
        </p:nvSpPr>
        <p:spPr>
          <a:xfrm flipH="1">
            <a:off x="5181120" y="5486400"/>
            <a:ext cx="76212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6"/>
          <p:cNvSpPr/>
          <p:nvPr/>
        </p:nvSpPr>
        <p:spPr>
          <a:xfrm flipV="1">
            <a:off x="5486400" y="4952520"/>
            <a:ext cx="2743200" cy="12193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зовите числа в порядке возрас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D:\мама\Мои рисунки\анимации\f212.gif"/>
          <p:cNvPicPr/>
          <p:nvPr/>
        </p:nvPicPr>
        <p:blipFill>
          <a:blip r:embed="rId2"/>
          <a:stretch/>
        </p:blipFill>
        <p:spPr>
          <a:xfrm flipH="1">
            <a:off x="999720" y="5429160"/>
            <a:ext cx="171468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Box 1"/>
          <p:cNvSpPr/>
          <p:nvPr/>
        </p:nvSpPr>
        <p:spPr>
          <a:xfrm>
            <a:off x="3075480" y="404640"/>
            <a:ext cx="29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Calibri"/>
              </a:rPr>
              <a:t>Вычис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"/>
          <p:cNvSpPr/>
          <p:nvPr/>
        </p:nvSpPr>
        <p:spPr>
          <a:xfrm>
            <a:off x="717120" y="1571760"/>
            <a:ext cx="142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+3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1-1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4-8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+9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2290680" y="157176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7"/>
          <p:cNvSpPr/>
          <p:nvPr/>
        </p:nvSpPr>
        <p:spPr>
          <a:xfrm>
            <a:off x="6003720" y="1571760"/>
            <a:ext cx="142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0-2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+1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4-2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0-9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5005440" y="157176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9"/>
          <p:cNvSpPr/>
          <p:nvPr/>
        </p:nvSpPr>
        <p:spPr>
          <a:xfrm>
            <a:off x="3582360" y="1571760"/>
            <a:ext cx="147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0-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4+1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7-2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0+9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0"/>
          <p:cNvSpPr/>
          <p:nvPr/>
        </p:nvSpPr>
        <p:spPr>
          <a:xfrm>
            <a:off x="7358040" y="1571760"/>
            <a:ext cx="63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2743560" y="4500720"/>
            <a:ext cx="29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ровер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3" descr="D:\мама\Мои рисунки\анимации\f335.gif"/>
          <p:cNvPicPr/>
          <p:nvPr/>
        </p:nvPicPr>
        <p:blipFill>
          <a:blip r:embed="rId2"/>
          <a:stretch/>
        </p:blipFill>
        <p:spPr>
          <a:xfrm>
            <a:off x="6215040" y="3521160"/>
            <a:ext cx="200016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0" dur="indefinite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02708 -0.57107 E">
                                      <p:cBhvr>
                                        <p:cTn id="93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6:19:37Z</dcterms:created>
  <dc:creator>школа</dc:creator>
  <dc:description/>
  <dc:language>en-US</dc:language>
  <cp:lastModifiedBy>школа</cp:lastModifiedBy>
  <dcterms:modified xsi:type="dcterms:W3CDTF">2014-01-03T13:36:47Z</dcterms:modified>
  <cp:revision>2</cp:revision>
  <dc:subject/>
  <dc:title>Устный счёт 20 декабря</dc:title>
</cp:coreProperties>
</file>