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D70-C2DA-470C-A809-C940146C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B7D-11ED-4C7B-8F64-955600EE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CBB-3F31-4FC5-9D5A-F513911F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906-2E61-47DE-97A3-B60949AA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DE2E-4D10-4A48-9C65-A988316F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53EC-83FC-4CC4-8A1B-EB8F5741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9CB4-9CFD-46FA-81CB-CDAAE84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B4C0-AB06-4C24-98CC-7E2A550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D97F-BC5D-4487-B2B2-C4ED2FFA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24A4-8BEE-46E0-8D94-A210B31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F484-FBA8-4675-AE78-550111E2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890-7C6C-4B0A-B58C-08B5E1F5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B164-6D4D-41CB-81BC-6F6308E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2AC7-A24F-4586-96EC-1816188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6424-1B15-4CD1-AE4A-58788606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CF55-498D-4CC5-85B8-2B0BB4C6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01CF-7988-44C2-BE42-AEFF9AA8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E07-5067-4E40-8FCE-CF0A682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F63-AF9F-46F5-96C6-7E1E736D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868-AA7D-4DAF-90C8-6C2AD1ED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8E4-544C-4729-8116-7B073A41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33A-AFC7-4682-90C1-D9D6065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ABE-D4C7-4F0E-8361-A5304FE8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EC2-3070-49E3-911C-6FA07979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B949-3166-4DE7-91E9-C406D2C2C3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2640"/>
              <a:ext cx="3622680" cy="6129360"/>
              <a:chOff x="5408280" y="62640"/>
              <a:chExt cx="3622680" cy="61293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8120"/>
                <a:ext cx="211608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32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00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720" y="297720"/>
              <a:ext cx="891360" cy="829440"/>
              <a:chOff x="565272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432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64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2280" y="5253480"/>
              <a:ext cx="1062360" cy="833400"/>
              <a:chOff x="96228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748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08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364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50000"/>
              <a:ext cx="1689840" cy="1146600"/>
              <a:chOff x="375480" y="45000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8480"/>
                <a:ext cx="3553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364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70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840" y="3712320"/>
              <a:ext cx="1155600" cy="1607760"/>
              <a:chOff x="73778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56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328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C1BC-B044-4DBA-AFF4-BCC01FB24A2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575english.ucoz.ru/60073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1896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заимодействие участников коррекционно-образовательного процесса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блема дисграфии</a:t>
            </a:r>
            <a:br>
              <a:rPr sz="2400"/>
            </a:b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омендации учителям</a:t>
            </a:r>
            <a:endParaRPr b="0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i-main-pic" descr="Картинка 157 из 192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743200"/>
            <a:ext cx="5257800" cy="3809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5715000" y="4655160"/>
            <a:ext cx="312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ил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-логопед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БОУ СОШ № 1034  г. Москв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пылов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лена Валерьев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213840"/>
            <a:ext cx="879156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ЗНИКНОВЕНИЯ ДИСГРАФИ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50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шение звукопроизнош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шение или задержка в развитии фонематического восприя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шение языкового анализа и синтез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шение лексико-грамматических категор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или нарушение пространственно временных представлен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ледственный факто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вуязычие в семь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ОШИБКИ ДОЛЖНЫ  НАСТОРОЖИТЬ УЧИТЕЛЯ НАЧАЛЬНЫХ КЛАССОВ?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5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, связанные с нарушением произношения (сапка – шапка, калман – карман...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мешение фонем по акустико-артикуляторному сходству (смешиваются гласные «ё-ю, о-у» (лёбит-любит); согласные «й-л», «р-л»; парные звонкие и глухие согласные (тупло – дупло), свистящие  и шипящие (шушки-сушки), звуки «ц», «ч», «щ» (сыплята-цыплята, тяшка-чашка, сётка-щётка) и т.д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ск или перестановки букв, слогов, недописывание окончаний слов (мшна-машина, кошолад-шоколад, пата-парта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мешение букв по оптическому и кинетическому сходству («б-д», «п-т», «д-у», «Е-З» и др.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«застревания» (За замом росла мамина. – За домом росла малина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i-main-pic" descr="Картинка 19 из 74214"/>
          <p:cNvPicPr/>
          <p:nvPr/>
        </p:nvPicPr>
        <p:blipFill>
          <a:blip r:embed="rId1"/>
          <a:stretch/>
        </p:blipFill>
        <p:spPr>
          <a:xfrm>
            <a:off x="2057400" y="152280"/>
            <a:ext cx="4114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«предвосхищения» (Дод небом лолубым. – Под небом голубым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умение передавать на письме мягкость согласных (сольить –солить, Луба-Люба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тное написание предлогов. Раздельное написание приставок. Нарушение слитности написания слов в предлож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утствие точек и заглавных букв в предлож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тыре этапа  логопедической работы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04920" y="16765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80880" y="38419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80880" y="39178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52280" y="3851280"/>
            <a:ext cx="8991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0" y="574668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0" y="5824440"/>
            <a:ext cx="8805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88394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I этап – диагностический с 1 по 15 сентябр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чи этапа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пределение структуры и степени выраженности речевых нарушений у школьников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ланирование соответствующей коррекционной работы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ступление на родительских собраниях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ие учителя-логопеда в работе методических объединений учителей начальных классов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ультации учителя-логопеда для учителей начальных классов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ие в работе ПМПк и др.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II этап - подготовительный (октябрь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точняются созданные в процессе обучения предпосылки овладения грамот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ится работа по развитию мыслительных операций: анализа, синтеза, сравнения, сопоставлени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ится работа по развитию свойств внимания, памят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ятся мероприятия по коррекции почерк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возможности параллельно ведуться занятия с  психологом,  направленные на снятие «страха письма», неуверенности, тревожности, склонности к негативным реакция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тыре этапа  логопедической работы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III этап - коррекционный 15 сентября - 15 ма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дачи этапа: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ранение речевых нарушений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устной и письменной речи до уровня, на котором ребенок мог бы успешно обучаться в школе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огопед  информирует учителя начальных классов о специфике и содержании коррекционной работы с детьми и получает информацию об их успеваемости (в течение учебного года)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 начальных классов  помогает детям в автоматизации поставленных звук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 начальных классов с помощью логопеда осуществляет контроль над правильной речью детей, участвует в воспитании у них самоконтрол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дает задания соответствующие программному материал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проводит анализ письменных работ учащихс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ведёт индивидуальные и тематические консультации для педагогов по вопросам развития и коррекции устной и письменной речи учащихс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выступает на совместных методических объединениях, педсоветах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заимопосещение уроков и логопедических занятий учителем начальных классов и учителем-логопедо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тыре этапа  логопедической работы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IV этап – оценочный ( с 15 по 30 мая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чи этапа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ведение итогов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ение анализа коррекционной и учебно-воспитательной работы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перспективы дальнейшей деятельност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роприяти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ом содружества учителя начальных классов и учителя-логопеда становится повышение успеваемости и качества знаний у школьников, имевших на начало учебного года речевые нарушени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47960" y="99036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ёт структуры нарушения и подбор соответствующего речевого материала для каждого ученика (как на логопедических занятиях, так и на уроках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ёт возрастных особенностей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ДИНЫЕ ТРЕБОВАНИЯ К РЕБЁНКУ С ДИСГРАФИ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i-main-pic" descr="Картинка 122 из 19257"/>
          <p:cNvPicPr/>
          <p:nvPr/>
        </p:nvPicPr>
        <p:blipFill>
          <a:blip r:embed="rId1"/>
          <a:stretch/>
        </p:blipFill>
        <p:spPr>
          <a:xfrm>
            <a:off x="228600" y="12193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ДИНЫЕ ТРЕБОВАНИЯ К РЕБЁНКУ С ДИСГРАФИЕ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33560" y="60948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ъявление программных требований к учащимся с учётом специфических ошибок и оказание опережающей помощи для их предупрежд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уществление индивилуального подхода на фоне коллективной деятель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репление знаний, умений и навыков, полученных учащимися как на логопедических занятиях, так и на урок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i-main-pic" descr="Картинка 15 из 19257"/>
          <p:cNvPicPr/>
          <p:nvPr/>
        </p:nvPicPr>
        <p:blipFill>
          <a:blip r:embed="rId1"/>
          <a:stretch/>
        </p:blipFill>
        <p:spPr>
          <a:xfrm>
            <a:off x="152280" y="685800"/>
            <a:ext cx="348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ФИЛАКТИКА ДИСГРАФИ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Корректурная правка» или «Найди букву»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роткие диктанты «карандашом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е «Пишем вслух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е «Пропущенные буквы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на развитие фонематического восприят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на развитие звукового, слогового и языкового анализа и синтез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ение «самоконтроля» ребёнка в период автоматизации звуков в реч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i-main-pic" descr="Картинка 28 из 19257"/>
          <p:cNvPicPr/>
          <p:nvPr/>
        </p:nvPicPr>
        <p:blipFill>
          <a:blip r:embed="rId1"/>
          <a:stretch/>
        </p:blipFill>
        <p:spPr>
          <a:xfrm>
            <a:off x="2438280" y="873000"/>
            <a:ext cx="3505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КТОРЫ УСПЕШНОСТИ РЕБЁНКА В ШКОЛЕ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880" y="91440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е умственное развити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вень познавательной актив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хранять и поддерживать учебную деятельно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чинение своих действий правилам, которые предлагает учител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держивание необходимого уровня вним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адание развитой речевой, слуховой и зрительной память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адание достаточно высоким темпом деятельности и д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i-main-pic" descr="Картинка 171 из 19257"/>
          <p:cNvPicPr/>
          <p:nvPr/>
        </p:nvPicPr>
        <p:blipFill>
          <a:blip r:embed="rId1"/>
          <a:stretch/>
        </p:blipFill>
        <p:spPr>
          <a:xfrm>
            <a:off x="304920" y="106668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14200"/>
            <a:ext cx="8638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КОМЕНДАЦИИ ПО  РАБОТЕ С ДЕТЬМИ-ДИСГРАФИКАМ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306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всём протяжении занятий ребёнку необходим режим благоприятствова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уроках чтения разрешать ребёнку читать медленно, чётко проговаривая окончания слов и соблюдая знаки препин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возможности отказаться от проверки техники чтения, так как это является стрессовой ситуацией для ребёнк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Picture 4" descr="258355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02960"/>
            <a:ext cx="89154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КОМЕНДАЦИИ ПО  РАБОТЕ С ДЕТЬМИ-ДИСГРАФИКАМ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уроках русского языка просить ребёнка, чтобы он проговаривал шёпотом те слова и предложения, которые пишет (синхронизация движений руки и слова)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ценивании письменных работ желательно не засчитывать ошибки, которые ребёнок нашёл и исправил самостоятель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роверке тетрадей детей-дисграфиков, желательно (на время) отказаться от исправлений красным цветом (взять фиолетовый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ям с дисграфией желательно не давать неоткорректированные тексты (поиск ошибок)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КОМЕНДАЦИИ ПО  РАБОТЕ С ДЕТЬМИ-ДИСГРАФИКАМ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19720" y="9140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вать задания на развитие фонематического восприятия и звуко-слогового анализа и синтез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омоздкие домашние задания по русскому языку и чтению дети-дисграфики должны выполнять с перерывами, разбив текст на част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чень важно не показывать ребёнку свою эмоциональную вовлечённость: не злиться, не раздражаться и не радоваться слишком бурно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i-main-pic" descr="Картинка 252 из 19257"/>
          <p:cNvPicPr/>
          <p:nvPr/>
        </p:nvPicPr>
        <p:blipFill>
          <a:blip r:embed="rId1"/>
          <a:stretch/>
        </p:blipFill>
        <p:spPr>
          <a:xfrm>
            <a:off x="152280" y="1600200"/>
            <a:ext cx="4114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ТОГ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600" y="837720"/>
            <a:ext cx="4191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ррекционно развивающая работа по предупреждению и преодолению нарушений письменной речи у детей многоаспектна, она предполагает взаимодействие всех специалистов и носит комплексный характе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496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ТЕРАТУРА И ИНТЕРНЕТ РЕСУРСЫ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фименкова Л.Н. Коррекция устной и письменной речи учащихся начальных классов. – М., 2001 г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алаева Р.И., Венедиктова Л.В. Диагностика и коррекция нарушений письма у младших школьников. – С.-Петербург., Союз, 2001 г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довникова И.Н. Нарушение письменной речи и их преодоление у младших школьников. – М., Владос, 1995 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Бельская В.И. «Взаимосвязь в работе учителя-логопеда и учителя начальных классов, способствующая повышению результативности логопедической работы и лучшему усвоению учебного материала детьми-логопатами». 1 сентября Фестиваль педагогических идей «Открытый урок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Ястребова А.В., Спирова Л.Ф., Бессонова Т.П. – «Учителю о детях с недостатками речи». – М.1997 г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Свободина Н.Г. «Я не виноват, я стараюсь...» Консультация для учителей начальной школы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нет ресурсы: </a:t>
            </a: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http://images.yandex.ru/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80808"/>
                </a:solidFill>
                <a:latin typeface="Verdana"/>
              </a:rPr>
              <a:t>http://festival.1september.ru/articles/504430/, </a:t>
            </a: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http://www.solnet.ee/, </a:t>
            </a:r>
            <a:r>
              <a:rPr b="0" lang="en-US" sz="1200" spc="-1" strike="noStrike">
                <a:solidFill>
                  <a:srgbClr val="080808"/>
                </a:solidFill>
                <a:latin typeface="Verdana"/>
              </a:rPr>
              <a:t>C</a:t>
            </a:r>
            <a:r>
              <a:rPr b="0" lang="ru-RU" sz="1200" spc="-1" strike="noStrike">
                <a:solidFill>
                  <a:srgbClr val="080808"/>
                </a:solidFill>
                <a:latin typeface="Verdana"/>
              </a:rPr>
              <a:t> сайта СШ №166 г. Минска.</a:t>
            </a: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1143000" y="2057400"/>
            <a:ext cx="651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АСИБО ЗА ВНИМ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Verdana"/>
              </a:rPr>
              <a:t>Хорошая речь – это важнейшее условие всестороннего и полноценного развития ребёнк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Чем богаче и правильнее у ребёнка речь, т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легче ему высказывать свои мысл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тем шире его возможности в познании окружающей действительнос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содержательнее и полноценнее отношения со сверстниками и взрослым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тем активнее осуществляется его психическое развит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8"/>
          <p:cNvSpPr/>
          <p:nvPr/>
        </p:nvSpPr>
        <p:spPr>
          <a:xfrm>
            <a:off x="1523880" y="1752480"/>
            <a:ext cx="5943600" cy="914400"/>
          </a:xfrm>
          <a:prstGeom prst="rect">
            <a:avLst/>
          </a:prstGeom>
          <a:solidFill>
            <a:srgbClr val="ffe36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евые нарушен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304920" y="3733920"/>
            <a:ext cx="2361960" cy="2514600"/>
          </a:xfrm>
          <a:prstGeom prst="rect">
            <a:avLst/>
          </a:prstGeom>
          <a:solidFill>
            <a:srgbClr val="e6f3f6"/>
          </a:solidFill>
          <a:ln w="9360">
            <a:solidFill>
              <a:srgbClr val="8fd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етическ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екты произноше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 отдельных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 или их групп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3200400" y="3733920"/>
            <a:ext cx="2666880" cy="25146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ематическ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екты произ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шения звуков 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о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различени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6248520" y="3733920"/>
            <a:ext cx="2666880" cy="25146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е звуков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мысловой сторон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4419720" y="2743200"/>
            <a:ext cx="152280" cy="762120"/>
          </a:xfrm>
          <a:prstGeom prst="upArrow">
            <a:avLst>
              <a:gd name="adj1" fmla="val 50000"/>
              <a:gd name="adj2" fmla="val 125118"/>
            </a:avLst>
          </a:prstGeom>
          <a:solidFill>
            <a:srgbClr val="8fd0d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1676520" y="2743200"/>
            <a:ext cx="152280" cy="762120"/>
          </a:xfrm>
          <a:prstGeom prst="upArrow">
            <a:avLst>
              <a:gd name="adj1" fmla="val 50000"/>
              <a:gd name="adj2" fmla="val 125118"/>
            </a:avLst>
          </a:prstGeom>
          <a:solidFill>
            <a:srgbClr val="8fd0d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162920" y="2743200"/>
            <a:ext cx="152280" cy="762120"/>
          </a:xfrm>
          <a:prstGeom prst="upArrow">
            <a:avLst>
              <a:gd name="adj1" fmla="val 50000"/>
              <a:gd name="adj2" fmla="val 125118"/>
            </a:avLst>
          </a:prstGeom>
          <a:solidFill>
            <a:srgbClr val="8fd0d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ОГОПЕДИЧЕСКАЯ ПОМОЩЬ УЧАЩИМСЯ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ой факто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лияющий на успеваемость школьника – это уровень развития устной и письменной речи ребёнка.</a:t>
            </a:r>
            <a:br>
              <a:rPr sz="24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Verdana"/>
              </a:rPr>
              <a:t>Образовательные, воспитательные и коррекционных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оздание и развитие единого коррекционно-образовательного пространств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поиск новых  средств, стимулирующих речевое и личностное развитие ребёнк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работа над повышением профессиональной компетентности специалистов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пропаганда логопедических занятий среди педагогов и родителей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расширение интегрированных связей и объединения усилий педагогов, логопедов, психологов, родителей, детей в целях коррекции речевых нарушен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ЗАИМОДЕЙСТВИЕ ШКОЛЬНЫХ СПЕЦИАЛИСТОВ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коррекционной направленности общеобразовательных уроков и внеклассной работ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системного подхода к учащим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максимального выявления и использования резервов психического развития ребён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индивидуализации и дифференциации обуч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систематичности и последовательности в рабо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деятельностного подх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ора на личный опыт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438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хема взаимодействия школьных специалистов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600200" y="533520"/>
            <a:ext cx="6095880" cy="1371600"/>
          </a:xfrm>
          <a:prstGeom prst="rect">
            <a:avLst/>
          </a:prstGeom>
          <a:solidFill>
            <a:srgbClr val="e6f3f6"/>
          </a:solidFill>
          <a:ln w="9360">
            <a:solidFill>
              <a:srgbClr val="8fd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-логопед: максимальная коррекция речевых нарушен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и степени тяжести нарушения,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новка и автоматизация зву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и коррекция письменной и устной реч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ическая помощь всем участникам образовательного процесс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азание консультативной помощи родителя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2280" y="1981080"/>
            <a:ext cx="2819520" cy="213372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онная установка на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тую речь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словаря и граммати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еского строя речи учащихся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жим благоприятствования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едение техники чтения 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щадящей форме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ьчиковая гимнастика, физ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утк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553080" y="1981080"/>
            <a:ext cx="2438640" cy="213372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итатель ГПД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за речью дете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нятиях и во врем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жимных моментов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мелкой моторик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ивидуальные занят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детьми (по просьбе лого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),расширение словаря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лексическим тема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505320" y="2743200"/>
            <a:ext cx="2514600" cy="1143000"/>
          </a:xfrm>
          <a:prstGeom prst="rect">
            <a:avLst/>
          </a:prstGeom>
          <a:solidFill>
            <a:srgbClr val="ffe36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ёнок 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м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152280" y="4572000"/>
            <a:ext cx="2048040" cy="19080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 музык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над просодич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й стороной реч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правильного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ого дыхания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матизация зву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распевках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286000" y="4572000"/>
            <a:ext cx="2124000" cy="19080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сихолог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агностика, выявле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е трудносте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рекция основных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ических процессов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ятие тревож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негативном настро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учебный процесс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781680" y="4572000"/>
            <a:ext cx="2210040" cy="19080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 физкультур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общей мотори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 и координации движе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на мышеч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ю релаксацию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. упражнения: бег,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дьба, плавание и т.д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4495680" y="4572000"/>
            <a:ext cx="2210040" cy="190512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уководитель кружк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матизация зву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в в спонтанной реч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над интона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онной и мимическо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зительностью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гащение словаря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хся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4572000" y="21337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724280" y="3962520"/>
            <a:ext cx="228600" cy="539640"/>
          </a:xfrm>
          <a:prstGeom prst="upArrow">
            <a:avLst>
              <a:gd name="adj1" fmla="val 50000"/>
              <a:gd name="adj2" fmla="val 59016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6095880" y="320040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200400" y="32004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 rot="10800000">
            <a:off x="914040" y="761760"/>
            <a:ext cx="609480" cy="1143000"/>
          </a:xfrm>
          <a:custGeom>
            <a:avLst/>
            <a:gdLst>
              <a:gd name="textAreaLeft" fmla="*/ 82800 w 609480"/>
              <a:gd name="textAreaRight" fmla="*/ 562320 w 609480"/>
              <a:gd name="textAreaTop" fmla="*/ 758520 h 1143000"/>
              <a:gd name="textAreaBottom" fmla="*/ 1054800 h 1143000"/>
            </a:gdLst>
            <a:ahLst/>
            <a:rect l="textAreaLeft" t="textAreaTop" r="textAreaRight" b="textAreaBottom"/>
            <a:pathLst>
              <a:path w="21600" h="21600">
                <a:moveTo>
                  <a:pt x="17132" y="0"/>
                </a:moveTo>
                <a:lnTo>
                  <a:pt x="12664" y="4696"/>
                </a:lnTo>
                <a:lnTo>
                  <a:pt x="14336" y="4696"/>
                </a:lnTo>
                <a:lnTo>
                  <a:pt x="14336" y="14336"/>
                </a:lnTo>
                <a:lnTo>
                  <a:pt x="4696" y="14336"/>
                </a:lnTo>
                <a:lnTo>
                  <a:pt x="4696" y="12664"/>
                </a:lnTo>
                <a:lnTo>
                  <a:pt x="0" y="17132"/>
                </a:lnTo>
                <a:lnTo>
                  <a:pt x="4696" y="21600"/>
                </a:lnTo>
                <a:lnTo>
                  <a:pt x="4696" y="19928"/>
                </a:lnTo>
                <a:lnTo>
                  <a:pt x="19928" y="19928"/>
                </a:lnTo>
                <a:lnTo>
                  <a:pt x="19928" y="4696"/>
                </a:lnTo>
                <a:lnTo>
                  <a:pt x="21600" y="4696"/>
                </a:lnTo>
                <a:lnTo>
                  <a:pt x="17132" y="0"/>
                </a:lnTo>
                <a:close/>
              </a:path>
            </a:pathLst>
          </a:cu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23"/>
          <p:cNvSpPr/>
          <p:nvPr/>
        </p:nvSpPr>
        <p:spPr>
          <a:xfrm flipH="1" rot="10800000">
            <a:off x="7772400" y="761760"/>
            <a:ext cx="533520" cy="1143000"/>
          </a:xfrm>
          <a:custGeom>
            <a:avLst/>
            <a:gdLst>
              <a:gd name="textAreaLeft" fmla="*/ 72720 w 533520"/>
              <a:gd name="textAreaRight" fmla="*/ 492840 w 533520"/>
              <a:gd name="textAreaTop" fmla="*/ 758520 h 1143000"/>
              <a:gd name="textAreaBottom" fmla="*/ 1054800 h 1143000"/>
            </a:gdLst>
            <a:ahLst/>
            <a:rect l="textAreaLeft" t="textAreaTop" r="textAreaRight" b="textAreaBottom"/>
            <a:pathLst>
              <a:path w="21600" h="21600">
                <a:moveTo>
                  <a:pt x="17132" y="0"/>
                </a:moveTo>
                <a:lnTo>
                  <a:pt x="12664" y="4696"/>
                </a:lnTo>
                <a:lnTo>
                  <a:pt x="14336" y="4696"/>
                </a:lnTo>
                <a:lnTo>
                  <a:pt x="14336" y="14336"/>
                </a:lnTo>
                <a:lnTo>
                  <a:pt x="4696" y="14336"/>
                </a:lnTo>
                <a:lnTo>
                  <a:pt x="4696" y="12664"/>
                </a:lnTo>
                <a:lnTo>
                  <a:pt x="0" y="17132"/>
                </a:lnTo>
                <a:lnTo>
                  <a:pt x="4696" y="21600"/>
                </a:lnTo>
                <a:lnTo>
                  <a:pt x="4696" y="19928"/>
                </a:lnTo>
                <a:lnTo>
                  <a:pt x="19928" y="19928"/>
                </a:lnTo>
                <a:lnTo>
                  <a:pt x="19928" y="4696"/>
                </a:lnTo>
                <a:lnTo>
                  <a:pt x="21600" y="4696"/>
                </a:lnTo>
                <a:lnTo>
                  <a:pt x="17132" y="0"/>
                </a:lnTo>
                <a:close/>
              </a:path>
            </a:pathLst>
          </a:cu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8"/>
          <p:cNvSpPr/>
          <p:nvPr/>
        </p:nvSpPr>
        <p:spPr>
          <a:xfrm>
            <a:off x="4191120" y="3962520"/>
            <a:ext cx="228600" cy="539640"/>
          </a:xfrm>
          <a:prstGeom prst="upArrow">
            <a:avLst>
              <a:gd name="adj1" fmla="val 50000"/>
              <a:gd name="adj2" fmla="val 59016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34"/>
          <p:cNvSpPr/>
          <p:nvPr/>
        </p:nvSpPr>
        <p:spPr>
          <a:xfrm>
            <a:off x="914400" y="4114800"/>
            <a:ext cx="304920" cy="431640"/>
          </a:xfrm>
          <a:prstGeom prst="upDownArrow">
            <a:avLst>
              <a:gd name="adj1" fmla="val 50000"/>
              <a:gd name="adj2" fmla="val 28181"/>
            </a:avLst>
          </a:prstGeom>
          <a:solidFill>
            <a:srgbClr val="e6f3f6"/>
          </a:solidFill>
          <a:ln w="9360">
            <a:solidFill>
              <a:srgbClr val="8fd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7696080" y="4114800"/>
            <a:ext cx="304920" cy="431640"/>
          </a:xfrm>
          <a:prstGeom prst="upDownArrow">
            <a:avLst>
              <a:gd name="adj1" fmla="val 50000"/>
              <a:gd name="adj2" fmla="val 28181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38"/>
          <p:cNvSpPr/>
          <p:nvPr/>
        </p:nvSpPr>
        <p:spPr>
          <a:xfrm>
            <a:off x="1523880" y="3962520"/>
            <a:ext cx="2514600" cy="533160"/>
          </a:xfrm>
          <a:custGeom>
            <a:avLst/>
            <a:gdLst>
              <a:gd name="textAreaLeft" fmla="*/ 0 w 2514600"/>
              <a:gd name="textAreaRight" fmla="*/ 2312640 w 2514600"/>
              <a:gd name="textAreaTop" fmla="*/ 47556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8788" y="0"/>
                </a:moveTo>
                <a:lnTo>
                  <a:pt x="15975" y="7819"/>
                </a:lnTo>
                <a:lnTo>
                  <a:pt x="17711" y="7819"/>
                </a:lnTo>
                <a:lnTo>
                  <a:pt x="17711" y="19259"/>
                </a:lnTo>
                <a:lnTo>
                  <a:pt x="0" y="19259"/>
                </a:lnTo>
                <a:lnTo>
                  <a:pt x="0" y="21600"/>
                </a:lnTo>
                <a:lnTo>
                  <a:pt x="19864" y="21600"/>
                </a:lnTo>
                <a:lnTo>
                  <a:pt x="19864" y="7819"/>
                </a:lnTo>
                <a:lnTo>
                  <a:pt x="21600" y="7819"/>
                </a:lnTo>
                <a:lnTo>
                  <a:pt x="18788" y="0"/>
                </a:lnTo>
                <a:close/>
              </a:path>
            </a:pathLst>
          </a:custGeom>
          <a:solidFill>
            <a:srgbClr val="e6f3f6"/>
          </a:solidFill>
          <a:ln w="9360">
            <a:solidFill>
              <a:srgbClr val="8fd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39"/>
          <p:cNvSpPr/>
          <p:nvPr/>
        </p:nvSpPr>
        <p:spPr>
          <a:xfrm flipH="1">
            <a:off x="5180760" y="3962520"/>
            <a:ext cx="2210040" cy="533160"/>
          </a:xfrm>
          <a:custGeom>
            <a:avLst/>
            <a:gdLst>
              <a:gd name="textAreaLeft" fmla="*/ -360 w 2210040"/>
              <a:gd name="textAreaRight" fmla="*/ 2032200 w 2210040"/>
              <a:gd name="textAreaTop" fmla="*/ 47556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8788" y="0"/>
                </a:moveTo>
                <a:lnTo>
                  <a:pt x="15975" y="7819"/>
                </a:lnTo>
                <a:lnTo>
                  <a:pt x="17711" y="7819"/>
                </a:lnTo>
                <a:lnTo>
                  <a:pt x="17711" y="19259"/>
                </a:lnTo>
                <a:lnTo>
                  <a:pt x="0" y="19259"/>
                </a:lnTo>
                <a:lnTo>
                  <a:pt x="0" y="21600"/>
                </a:lnTo>
                <a:lnTo>
                  <a:pt x="19864" y="21600"/>
                </a:lnTo>
                <a:lnTo>
                  <a:pt x="19864" y="7819"/>
                </a:lnTo>
                <a:lnTo>
                  <a:pt x="21600" y="7819"/>
                </a:lnTo>
                <a:lnTo>
                  <a:pt x="18788" y="0"/>
                </a:lnTo>
                <a:close/>
              </a:path>
            </a:pathLst>
          </a:cu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и учителя-логопеда и учителя начальных классов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Задача логопед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устранить речевые нарушения (дефекты) и развить устную и письменную речь ребёнка до такого уровня, на котором он бы смог успешно осваивать школьную программ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Задача учител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продолжить речевое развитие ребёнка на уроках, опираясь на усвоенные им умения и навык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аким образом происходит интеграция логопедической работы и образовательно-воспитатель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РУШЕНИЯ ПИСЬМА И ЧТ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95320" y="609480"/>
            <a:ext cx="44960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СГРАФИЯ И ДИСЛЕКСИЯ 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стичное наруш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ссов письма и чтени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являющееся в стойких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вторяющихся ошибках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условленны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формированностью высших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сихических функций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авствующих в процессах письм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я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искажении и замене букв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кажении звукослоговой структуры слов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рушении слитности написания слов в предложении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еркальном письме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грамматизмах и др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dffd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i-main-pic" descr="Картинка 7 из 19257"/>
          <p:cNvPicPr/>
          <p:nvPr/>
        </p:nvPicPr>
        <p:blipFill>
          <a:blip r:embed="rId1"/>
          <a:stretch/>
        </p:blipFill>
        <p:spPr>
          <a:xfrm>
            <a:off x="152280" y="1515960"/>
            <a:ext cx="4343400" cy="343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4-01-28T10:32:55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