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24.jpeg" ContentType="image/jpeg"/>
  <Override PartName="/ppt/media/image83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23.jpeg" ContentType="image/jpeg"/>
  <Override PartName="/ppt/media/image82.jpeg" ContentType="image/jpeg"/>
  <Override PartName="/ppt/media/image3.png" ContentType="image/png"/>
  <Override PartName="/ppt/media/image5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10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8F7E-7435-426E-902D-34EA45762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07DE-A390-487E-8236-A0E3F0B53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1AB-83FE-4EA2-B8EB-0352DDDB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BF2-7A75-441F-A13C-CFF0F399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D06-14BA-49DB-8228-35635EDD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116-C426-409F-8D47-5C2B412C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251-3FFE-42AD-9BB0-E0061B03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03E-7A64-4505-AC23-4F8076BA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E13-A6CC-4956-9113-51381DFA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368-5B87-47EE-AD26-2F65CE6D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864-12C4-4864-B8FF-308E1DA0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3AD-841D-4386-A436-27236B38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F77-24F4-43D0-9E17-9EFE68C5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051-F472-467A-9CC0-A4A92A35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6E3E-7201-45EE-AFA2-1697B5D774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ln-pskov.ru/pictures/0628203433.jpg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rb7.ru/files/news_img/kyrit_4954.jpg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www.e-crimea.info/pictures/h_1YvfpidCUn56D3XFKA2MZo4jNyQ0xJaS_.jpg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tyumen.rfn.ru/p/s_18753.jpg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altaypressa.ru/uploads/3-1264824579.jpg" TargetMode="External"/><Relationship Id="rId10" Type="http://schemas.openxmlformats.org/officeDocument/2006/relationships/image" Target="../media/image43.jpeg"/><Relationship Id="rId11" Type="http://schemas.openxmlformats.org/officeDocument/2006/relationships/hyperlink" Target="http://www.sostav.ru/articles/rus/2008/15.02/news/images/m_145070.jpg" TargetMode="External"/><Relationship Id="rId12" Type="http://schemas.openxmlformats.org/officeDocument/2006/relationships/image" Target="../media/image44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udte-zdorovi.ru/files/Food/var-food.jpg" TargetMode="External"/><Relationship Id="rId2" Type="http://schemas.openxmlformats.org/officeDocument/2006/relationships/image" Target="../media/image45.jpeg"/><Relationship Id="rId3" Type="http://schemas.openxmlformats.org/officeDocument/2006/relationships/hyperlink" Target="http://vladnews.ru/uploads/12/22/mya.jpg" TargetMode="External"/><Relationship Id="rId4" Type="http://schemas.openxmlformats.org/officeDocument/2006/relationships/image" Target="../media/image46.jpeg"/><Relationship Id="rId5" Type="http://schemas.openxmlformats.org/officeDocument/2006/relationships/hyperlink" Target="http://forum.municipalrussia.ru/pls/img/get?n=17957" TargetMode="External"/><Relationship Id="rId6" Type="http://schemas.openxmlformats.org/officeDocument/2006/relationships/image" Target="../media/image47.jpeg"/><Relationship Id="rId7" Type="http://schemas.openxmlformats.org/officeDocument/2006/relationships/hyperlink" Target="http://img0.liveinternet.ru/images/attach/b/3/27/849/27849817_1214400154_Natyurmort.jpg" TargetMode="External"/><Relationship Id="rId8" Type="http://schemas.openxmlformats.org/officeDocument/2006/relationships/image" Target="../media/image48.jpeg"/><Relationship Id="rId9" Type="http://schemas.openxmlformats.org/officeDocument/2006/relationships/hyperlink" Target="http://knigi.tomsk.ru/top/images/69/82/25000226982.jpg" TargetMode="External"/><Relationship Id="rId10" Type="http://schemas.openxmlformats.org/officeDocument/2006/relationships/image" Target="../media/image49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rbeevo-kolledge.narod.ru/foto_images/sport4.jpg" TargetMode="External"/><Relationship Id="rId2" Type="http://schemas.openxmlformats.org/officeDocument/2006/relationships/image" Target="../media/image50.jpeg"/><Relationship Id="rId3" Type="http://schemas.openxmlformats.org/officeDocument/2006/relationships/hyperlink" Target="http://myrt.ru/news/uploads/posts/2008-05/1211836668_rasslabitsja.jpg" TargetMode="External"/><Relationship Id="rId4" Type="http://schemas.openxmlformats.org/officeDocument/2006/relationships/image" Target="../media/image51.jpeg"/><Relationship Id="rId5" Type="http://schemas.openxmlformats.org/officeDocument/2006/relationships/hyperlink" Target="http://dp.ric.ua/uploads/posts/2009-04/1239373220_girls1.jpg" TargetMode="External"/><Relationship Id="rId6" Type="http://schemas.openxmlformats.org/officeDocument/2006/relationships/image" Target="../media/image52.jpeg"/><Relationship Id="rId7" Type="http://schemas.openxmlformats.org/officeDocument/2006/relationships/hyperlink" Target="http://www.yamolodayamama.ru/wp-content/uploads/2009/10/d180d0b0d0b7d0b2d0b8d182d0b8d0b5-d0b4d0b2d0b8d0b3d0b0d182d0b5d0bbd18cd0bdd0bed0b9d0b0d0bad182d0b8d0b2d0bdd0bed181d182d0b8.jpg" TargetMode="External"/><Relationship Id="rId8" Type="http://schemas.openxmlformats.org/officeDocument/2006/relationships/image" Target="../media/image53.jpeg"/><Relationship Id="rId9" Type="http://schemas.openxmlformats.org/officeDocument/2006/relationships/hyperlink" Target="http://www.dspushkino.ru/images/upload/upload_1052.jpg" TargetMode="External"/><Relationship Id="rId10" Type="http://schemas.openxmlformats.org/officeDocument/2006/relationships/image" Target="../media/image5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7/535/47535165_081509_1358_1.jpg" TargetMode="External"/><Relationship Id="rId2" Type="http://schemas.openxmlformats.org/officeDocument/2006/relationships/image" Target="../media/image55.jpeg"/><Relationship Id="rId3" Type="http://schemas.openxmlformats.org/officeDocument/2006/relationships/hyperlink" Target="http://img-2007-04.photosight.ru/30/2062696.jpg" TargetMode="External"/><Relationship Id="rId4" Type="http://schemas.openxmlformats.org/officeDocument/2006/relationships/image" Target="../media/image56.jpeg"/><Relationship Id="rId5" Type="http://schemas.openxmlformats.org/officeDocument/2006/relationships/hyperlink" Target="http://www.photohost.ru/t/600/400/73120.jpg" TargetMode="External"/><Relationship Id="rId6" Type="http://schemas.openxmlformats.org/officeDocument/2006/relationships/image" Target="../media/image57.jpeg"/><Relationship Id="rId7" Type="http://schemas.openxmlformats.org/officeDocument/2006/relationships/hyperlink" Target="http://s004.radikal.ru/i206/1001/d6/580340b7a2f4.jpg" TargetMode="External"/><Relationship Id="rId8" Type="http://schemas.openxmlformats.org/officeDocument/2006/relationships/image" Target="../media/image58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689.narod.ru/FOTO27/1a.jpg" TargetMode="External"/><Relationship Id="rId2" Type="http://schemas.openxmlformats.org/officeDocument/2006/relationships/image" Target="../media/image59.jpeg"/><Relationship Id="rId3" Type="http://schemas.openxmlformats.org/officeDocument/2006/relationships/hyperlink" Target="http://www.ledinn.ru/userfiles/36b4809d708e7a79c7a2af7a4dce1c64.jpg" TargetMode="External"/><Relationship Id="rId4" Type="http://schemas.openxmlformats.org/officeDocument/2006/relationships/image" Target="../media/image60.jpeg"/><Relationship Id="rId5" Type="http://schemas.openxmlformats.org/officeDocument/2006/relationships/hyperlink" Target="http://www.stomat-korolev.ru/admin/data/Kab-222.jpg" TargetMode="External"/><Relationship Id="rId6" Type="http://schemas.openxmlformats.org/officeDocument/2006/relationships/image" Target="../media/image61.jpeg"/><Relationship Id="rId7" Type="http://schemas.openxmlformats.org/officeDocument/2006/relationships/hyperlink" Target="http://kids.nationalgeographic.com/staticfiles/NGS/Shared/StaticFiles/NGKids/Image/kids-washing-lg.jpg" TargetMode="External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hyperlink" Target="http://static-p3.fotolia.com/jpg/00/04/18/82/400_F_4188202_x9aw5O5BA8whjsKf2dd6dHA4J9jptiMg.jpg" TargetMode="External"/><Relationship Id="rId11" Type="http://schemas.openxmlformats.org/officeDocument/2006/relationships/image" Target="../media/image64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image" Target="../media/image83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ssia.rin.ru/pictures/656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763640" y="1268280"/>
            <a:ext cx="5688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ассный час</a:t>
            </a:r>
            <a:endParaRPr b="1" i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доровый</a:t>
            </a:r>
            <a:endParaRPr b="1" i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жизни"</a:t>
            </a:r>
            <a:endParaRPr b="1" i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7"/>
          <a:stretch/>
        </p:blipFill>
        <p:spPr>
          <a:xfrm>
            <a:off x="3670200" y="5048280"/>
            <a:ext cx="52657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РАВСТВЕН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5480" y="1356840"/>
            <a:ext cx="83581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Нрав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особая форма индивидуального сознания, определяющая принципы межличностных отнош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m8-tub.yandex.net/i?id=69643761&amp;tov=8"/>
          <p:cNvPicPr/>
          <p:nvPr/>
        </p:nvPicPr>
        <p:blipFill>
          <a:blip r:embed="rId1"/>
          <a:stretch/>
        </p:blipFill>
        <p:spPr>
          <a:xfrm>
            <a:off x="285840" y="3322800"/>
            <a:ext cx="2000160" cy="313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im0-tub.yandex.net/i?id=108754690&amp;tov=0"/>
          <p:cNvPicPr/>
          <p:nvPr/>
        </p:nvPicPr>
        <p:blipFill>
          <a:blip r:embed="rId2"/>
          <a:stretch/>
        </p:blipFill>
        <p:spPr>
          <a:xfrm>
            <a:off x="6643800" y="3156120"/>
            <a:ext cx="2200320" cy="3278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im6-tub.yandex.net/i?id=35285689&amp;tov=6"/>
          <p:cNvPicPr/>
          <p:nvPr/>
        </p:nvPicPr>
        <p:blipFill>
          <a:blip r:embed="rId3"/>
          <a:stretch/>
        </p:blipFill>
        <p:spPr>
          <a:xfrm>
            <a:off x="3286080" y="3714840"/>
            <a:ext cx="2643120" cy="197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42600" y="3714840"/>
            <a:ext cx="7929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Ум человека таков, что он может и Ад сделать Небесным и Небеса Ад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он Мильт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608 – 167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http://im5-tub.yandex.net/i?id=35500476&amp;tov=5"/>
          <p:cNvPicPr/>
          <p:nvPr/>
        </p:nvPicPr>
        <p:blipFill>
          <a:blip r:embed="rId1"/>
          <a:stretch/>
        </p:blipFill>
        <p:spPr>
          <a:xfrm>
            <a:off x="2571840" y="4714920"/>
            <a:ext cx="1357200" cy="181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im7-tub.yandex.net/i?id=99249958&amp;tov=7"/>
          <p:cNvPicPr/>
          <p:nvPr/>
        </p:nvPicPr>
        <p:blipFill>
          <a:blip r:embed="rId2"/>
          <a:stretch/>
        </p:blipFill>
        <p:spPr>
          <a:xfrm>
            <a:off x="428760" y="571680"/>
            <a:ext cx="2487600" cy="192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im8-tub.yandex.net/i?id=10649934&amp;tov=8"/>
          <p:cNvPicPr/>
          <p:nvPr/>
        </p:nvPicPr>
        <p:blipFill>
          <a:blip r:embed="rId3"/>
          <a:stretch/>
        </p:blipFill>
        <p:spPr>
          <a:xfrm>
            <a:off x="5751360" y="642960"/>
            <a:ext cx="296388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im6-tub.yandex.net/i?id=207359249&amp;tov=6"/>
          <p:cNvPicPr/>
          <p:nvPr/>
        </p:nvPicPr>
        <p:blipFill>
          <a:blip r:embed="rId4"/>
          <a:stretch/>
        </p:blipFill>
        <p:spPr>
          <a:xfrm>
            <a:off x="3143160" y="928800"/>
            <a:ext cx="2357640" cy="235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13840" y="142884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каз от вредных пристрастий (курение, алкоголь, наркотики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ациональное питани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оптимальный двигательный режи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закаливание организм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личная гигиен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положительные эмо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тказ от вредных пристрастий (курение, алкоголь, наркотик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1360" y="2500200"/>
            <a:ext cx="670068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4" descr="Картинка 16 из 9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192888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а 21 из 9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714680"/>
            <a:ext cx="3400560" cy="25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Картинка 35 из 85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89480" y="4286160"/>
            <a:ext cx="3854520" cy="2571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Картинка 39 из 85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72120" y="1749600"/>
            <a:ext cx="3071880" cy="25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Картинка 15 из 212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216320"/>
            <a:ext cx="3714840" cy="26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Картинка 41 из 21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143160" y="4638600"/>
            <a:ext cx="2857680" cy="221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ациональное пит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Картинка 2 из 74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143240"/>
            <a:ext cx="4071960" cy="271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Картинка 3 из 74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7920" y="1643040"/>
            <a:ext cx="3000240" cy="1913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Картинка 6 из 74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4143240"/>
            <a:ext cx="4643280" cy="2714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Картинка 12 из 743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5840" y="1571760"/>
            <a:ext cx="2857320" cy="1903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http://knigi.tomsk.ru/top/images/69/82/2500022698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357720" y="1000080"/>
            <a:ext cx="2286000" cy="326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тимальный двигательный режи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-main-pic" descr="Картинка 187 из 96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24400"/>
            <a:ext cx="3643200" cy="2433600"/>
          </a:xfrm>
          <a:prstGeom prst="rect">
            <a:avLst/>
          </a:prstGeom>
          <a:ln w="0">
            <a:noFill/>
          </a:ln>
        </p:spPr>
      </p:pic>
      <p:pic>
        <p:nvPicPr>
          <p:cNvPr id="120" name="i-main-pic" descr="Картинка 152 из 96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1000" y="2286000"/>
            <a:ext cx="3753000" cy="4572000"/>
          </a:xfrm>
          <a:prstGeom prst="rect">
            <a:avLst/>
          </a:prstGeom>
          <a:ln w="0">
            <a:noFill/>
          </a:ln>
        </p:spPr>
      </p:pic>
      <p:pic>
        <p:nvPicPr>
          <p:cNvPr id="121" name="i-main-pic" descr="Картинка 10 из 408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071720"/>
            <a:ext cx="3895560" cy="294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Картинка 105 из 27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43160" y="4000680"/>
            <a:ext cx="2857680" cy="23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Картинка 232 из 271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14880" y="1071720"/>
            <a:ext cx="2857320" cy="250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каливание организ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Картинка 11 из 3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57760"/>
            <a:ext cx="4429080" cy="300024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7 из 416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835440"/>
            <a:ext cx="4643280" cy="302256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45 из 416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071720"/>
            <a:ext cx="3786120" cy="27381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69 из 4165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57840" y="1000080"/>
            <a:ext cx="4286160" cy="285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ичная гигие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Картинка 11 из 15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57200"/>
            <a:ext cx="3429000" cy="2578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артинка 10 из 353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97600" y="1785960"/>
            <a:ext cx="3146400" cy="214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Картинка 59 из 353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86280" y="4335480"/>
            <a:ext cx="3357720" cy="2522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Картинка 3 из 7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28960" y="928800"/>
            <a:ext cx="3805200" cy="242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3"/>
          <p:cNvPicPr/>
          <p:nvPr/>
        </p:nvPicPr>
        <p:blipFill>
          <a:blip r:embed="rId9"/>
          <a:stretch/>
        </p:blipFill>
        <p:spPr>
          <a:xfrm>
            <a:off x="0" y="4371840"/>
            <a:ext cx="3714840" cy="2486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Картинка 14 из 27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7720" y="3048120"/>
            <a:ext cx="255240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ложительные эмо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Картинка 15 из 31"/>
          <p:cNvPicPr/>
          <p:nvPr/>
        </p:nvPicPr>
        <p:blipFill>
          <a:blip r:embed="rId1"/>
          <a:stretch/>
        </p:blipFill>
        <p:spPr>
          <a:xfrm>
            <a:off x="0" y="107172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артинка 2 из 3321"/>
          <p:cNvPicPr/>
          <p:nvPr/>
        </p:nvPicPr>
        <p:blipFill>
          <a:blip r:embed="rId2"/>
          <a:stretch/>
        </p:blipFill>
        <p:spPr>
          <a:xfrm>
            <a:off x="0" y="4000680"/>
            <a:ext cx="369900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Картинка 7 из 3321"/>
          <p:cNvPicPr/>
          <p:nvPr/>
        </p:nvPicPr>
        <p:blipFill>
          <a:blip r:embed="rId3"/>
          <a:stretch/>
        </p:blipFill>
        <p:spPr>
          <a:xfrm>
            <a:off x="5340240" y="4000680"/>
            <a:ext cx="380376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Картинка 11 из 3321"/>
          <p:cNvPicPr/>
          <p:nvPr/>
        </p:nvPicPr>
        <p:blipFill>
          <a:blip r:embed="rId4"/>
          <a:stretch/>
        </p:blipFill>
        <p:spPr>
          <a:xfrm>
            <a:off x="3214800" y="2286000"/>
            <a:ext cx="2543040" cy="3809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Картинка 34 из 3321"/>
          <p:cNvPicPr/>
          <p:nvPr/>
        </p:nvPicPr>
        <p:blipFill>
          <a:blip r:embed="rId5"/>
          <a:stretch/>
        </p:blipFill>
        <p:spPr>
          <a:xfrm>
            <a:off x="6119640" y="1071720"/>
            <a:ext cx="3024360" cy="224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НЕРАЗУМНОЕ ПОВЕДЕНИЕ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Картинка 78 из 35179"/>
          <p:cNvPicPr/>
          <p:nvPr/>
        </p:nvPicPr>
        <p:blipFill>
          <a:blip r:embed="rId1"/>
          <a:stretch/>
        </p:blipFill>
        <p:spPr>
          <a:xfrm>
            <a:off x="214200" y="1285920"/>
            <a:ext cx="3786480" cy="2522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Картинка 176 из 35179"/>
          <p:cNvPicPr/>
          <p:nvPr/>
        </p:nvPicPr>
        <p:blipFill>
          <a:blip r:embed="rId2"/>
          <a:stretch/>
        </p:blipFill>
        <p:spPr>
          <a:xfrm>
            <a:off x="4857840" y="3421080"/>
            <a:ext cx="3929040" cy="305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im8-tub.yandex.net/i?id=183394097&amp;tov=8"/>
          <p:cNvPicPr/>
          <p:nvPr/>
        </p:nvPicPr>
        <p:blipFill>
          <a:blip r:embed="rId3"/>
          <a:stretch/>
        </p:blipFill>
        <p:spPr>
          <a:xfrm>
            <a:off x="428760" y="4214880"/>
            <a:ext cx="2774880" cy="207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Картинка 206 из 35179"/>
          <p:cNvPicPr/>
          <p:nvPr/>
        </p:nvPicPr>
        <p:blipFill>
          <a:blip r:embed="rId4"/>
          <a:stretch/>
        </p:blipFill>
        <p:spPr>
          <a:xfrm>
            <a:off x="5286240" y="1143000"/>
            <a:ext cx="2928960" cy="219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35712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Цель занят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познакомить учащихся с понятием «Здоровый образ жизни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способствовать воспитанию привычек и потребности в здоровом образе жизн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прививать навыки управления своим здоровье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сформировать у учащихся активную позицию в    сохранении и укреплении своего здоровь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воспитание социально значимой лич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помочь детям найти гармонию души и те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437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ледствием неразумного поведения человека является: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падение рождаемости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снижение трудоспособности населения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ухудшение здоровья практически всех возрастных групп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преждевременное старение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рост смертности (в т.ч. насильственной)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депрессивные процессы;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- падение нравственно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im7-tub.yandex.net/i?id=15232331&amp;tov=7"/>
          <p:cNvPicPr/>
          <p:nvPr/>
        </p:nvPicPr>
        <p:blipFill>
          <a:blip r:embed="rId1"/>
          <a:stretch/>
        </p:blipFill>
        <p:spPr>
          <a:xfrm>
            <a:off x="2357280" y="214200"/>
            <a:ext cx="1500480" cy="189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im8-tub.yandex.net/i?id=26166507&amp;tov=8"/>
          <p:cNvPicPr/>
          <p:nvPr/>
        </p:nvPicPr>
        <p:blipFill>
          <a:blip r:embed="rId2"/>
          <a:stretch/>
        </p:blipFill>
        <p:spPr>
          <a:xfrm>
            <a:off x="214200" y="214200"/>
            <a:ext cx="2009880" cy="185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im6-tub.yandex.net/i?id=89391917&amp;tov=6"/>
          <p:cNvPicPr/>
          <p:nvPr/>
        </p:nvPicPr>
        <p:blipFill>
          <a:blip r:embed="rId3"/>
          <a:stretch/>
        </p:blipFill>
        <p:spPr>
          <a:xfrm>
            <a:off x="3929040" y="214200"/>
            <a:ext cx="2354400" cy="176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im5-tub.yandex.net/i?id=32624006&amp;tov=5"/>
          <p:cNvPicPr/>
          <p:nvPr/>
        </p:nvPicPr>
        <p:blipFill>
          <a:blip r:embed="rId4"/>
          <a:stretch/>
        </p:blipFill>
        <p:spPr>
          <a:xfrm>
            <a:off x="6323040" y="214200"/>
            <a:ext cx="2606760" cy="17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ЕЧАЛЬНАЯ  СТАТИ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85480" y="128592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В Тульской области ежегодно рождается 500-600 детей ур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В Тульской области смертность от запоев в 3 раза выше, чем по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http://im6-tub.yandex.net/i?id=153326231&amp;tov=6"/>
          <p:cNvPicPr/>
          <p:nvPr/>
        </p:nvPicPr>
        <p:blipFill>
          <a:blip r:embed="rId1"/>
          <a:stretch/>
        </p:blipFill>
        <p:spPr>
          <a:xfrm>
            <a:off x="714240" y="1285920"/>
            <a:ext cx="2341800" cy="15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im8-tub.yandex.net/i?id=8448438&amp;tov=8"/>
          <p:cNvPicPr/>
          <p:nvPr/>
        </p:nvPicPr>
        <p:blipFill>
          <a:blip r:embed="rId2"/>
          <a:stretch/>
        </p:blipFill>
        <p:spPr>
          <a:xfrm>
            <a:off x="3429000" y="1428840"/>
            <a:ext cx="2043000" cy="1657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im7-tub.yandex.net/i?id=19339336&amp;tov=7"/>
          <p:cNvPicPr/>
          <p:nvPr/>
        </p:nvPicPr>
        <p:blipFill>
          <a:blip r:embed="rId3"/>
          <a:stretch/>
        </p:blipFill>
        <p:spPr>
          <a:xfrm>
            <a:off x="5929200" y="12859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http://im0-tub.yandex.net/i?id=201981903&amp;tov=0"/>
          <p:cNvPicPr/>
          <p:nvPr/>
        </p:nvPicPr>
        <p:blipFill>
          <a:blip r:embed="rId4"/>
          <a:stretch/>
        </p:blipFill>
        <p:spPr>
          <a:xfrm>
            <a:off x="714240" y="3643200"/>
            <a:ext cx="1571760" cy="235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http://im2-tub.yandex.net/i?id=15446123&amp;tov=2"/>
          <p:cNvPicPr/>
          <p:nvPr/>
        </p:nvPicPr>
        <p:blipFill>
          <a:blip r:embed="rId5"/>
          <a:stretch/>
        </p:blipFill>
        <p:spPr>
          <a:xfrm>
            <a:off x="6286680" y="3643200"/>
            <a:ext cx="2009520" cy="235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http://im5-tub.yandex.net/i?id=21412373&amp;tov=5"/>
          <p:cNvPicPr/>
          <p:nvPr/>
        </p:nvPicPr>
        <p:blipFill>
          <a:blip r:embed="rId6"/>
          <a:stretch/>
        </p:blipFill>
        <p:spPr>
          <a:xfrm>
            <a:off x="2857680" y="3857760"/>
            <a:ext cx="2863800" cy="213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 жизни зависит от образа мысли или точнее от мировоззрения, которое складывается из знаний, которыми владеет челов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71720" y="4357800"/>
            <a:ext cx="75722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«Человек  своими мыслями и поступками, подобно гусенице, свивает себе кокон, которые его в последствии и удушает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Е.П.Блаватска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(1831 – 189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Портрет"/>
          <p:cNvPicPr/>
          <p:nvPr/>
        </p:nvPicPr>
        <p:blipFill>
          <a:blip r:embed="rId1"/>
          <a:stretch/>
        </p:blipFill>
        <p:spPr>
          <a:xfrm>
            <a:off x="3857760" y="1428840"/>
            <a:ext cx="1904760" cy="282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ИТОГ ЗАНЯ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85840" y="135720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К сожалению, чаще всего люди озабочены здоровьем тела, при этом не понимают, что надо сначала оздоровить ду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Здоровый образ жизни должен стать образом жизни для кажд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«В человеке  все должно быть прекрасным – и душа, и тело, и мысл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А.П.Чех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(1860 – 190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im7-tub.yandex.net/i?id=121209000&amp;tov=7"/>
          <p:cNvPicPr/>
          <p:nvPr/>
        </p:nvPicPr>
        <p:blipFill>
          <a:blip r:embed="rId1"/>
          <a:stretch/>
        </p:blipFill>
        <p:spPr>
          <a:xfrm>
            <a:off x="4572000" y="4857840"/>
            <a:ext cx="1428840" cy="179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ЗАКРЕПЛЕНИЕ ПРОЙДЕННОГО МАТЕРИ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14200" y="157140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spcBef>
                <a:spcPts val="799"/>
              </a:spcBef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Что такое здоровый образ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2. Основные принципы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3. Каковы составляющие здорового образа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4. Влияние мировоззрения на образ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52437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ЗДОРОВЬ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бесценный дар, который дан человеку самой природ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28600" y="4785840"/>
            <a:ext cx="597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ЗДОРОВЬ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это не просто отсутствие болезней, это состояние физического, психического и социального благополуч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im8-tub.yandex.net/i?id=26393039&amp;tov=8"/>
          <p:cNvPicPr/>
          <p:nvPr/>
        </p:nvPicPr>
        <p:blipFill>
          <a:blip r:embed="rId1"/>
          <a:stretch/>
        </p:blipFill>
        <p:spPr>
          <a:xfrm>
            <a:off x="214200" y="221472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im4-tub.yandex.net/i?id=957799&amp;tov=4"/>
          <p:cNvPicPr/>
          <p:nvPr/>
        </p:nvPicPr>
        <p:blipFill>
          <a:blip r:embed="rId2"/>
          <a:stretch/>
        </p:blipFill>
        <p:spPr>
          <a:xfrm>
            <a:off x="285840" y="4214880"/>
            <a:ext cx="2566800" cy="19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im0-tub.yandex.net/i?id=201622397&amp;tov=0"/>
          <p:cNvPicPr/>
          <p:nvPr/>
        </p:nvPicPr>
        <p:blipFill>
          <a:blip r:embed="rId3"/>
          <a:stretch/>
        </p:blipFill>
        <p:spPr>
          <a:xfrm>
            <a:off x="6572160" y="28584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im5-tub.yandex.net/i?id=57149855&amp;tov=5"/>
          <p:cNvPicPr/>
          <p:nvPr/>
        </p:nvPicPr>
        <p:blipFill>
          <a:blip r:embed="rId4"/>
          <a:stretch/>
        </p:blipFill>
        <p:spPr>
          <a:xfrm>
            <a:off x="4714920" y="1643040"/>
            <a:ext cx="1571760" cy="235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http://im5-tub.yandex.net/i?id=208109033&amp;tov=5"/>
          <p:cNvPicPr/>
          <p:nvPr/>
        </p:nvPicPr>
        <p:blipFill>
          <a:blip r:embed="rId5"/>
          <a:stretch/>
        </p:blipFill>
        <p:spPr>
          <a:xfrm>
            <a:off x="6357960" y="2928960"/>
            <a:ext cx="2428920" cy="183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ttp://im4-tub.yandex.net/i?id=194552591&amp;tov=4"/>
          <p:cNvPicPr/>
          <p:nvPr/>
        </p:nvPicPr>
        <p:blipFill>
          <a:blip r:embed="rId6"/>
          <a:stretch/>
        </p:blipFill>
        <p:spPr>
          <a:xfrm>
            <a:off x="2857680" y="2214720"/>
            <a:ext cx="1714320" cy="257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СТАВЛЯЮЩИЕ ЗДОРОВ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2920" y="13572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уховное (здоровье разу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зическое (здоровье тел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циальное (условия жизни, работ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дыха, пита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а 3 из 4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1214280"/>
            <a:ext cx="3004920" cy="20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im7-tub.yandex.net/i?id=87670133&amp;tov=7"/>
          <p:cNvPicPr/>
          <p:nvPr/>
        </p:nvPicPr>
        <p:blipFill>
          <a:blip r:embed="rId3"/>
          <a:stretch/>
        </p:blipFill>
        <p:spPr>
          <a:xfrm>
            <a:off x="785880" y="4325760"/>
            <a:ext cx="2071800" cy="253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im4-tub.yandex.net/i?id=33744496&amp;tov=4"/>
          <p:cNvPicPr/>
          <p:nvPr/>
        </p:nvPicPr>
        <p:blipFill>
          <a:blip r:embed="rId4"/>
          <a:stretch/>
        </p:blipFill>
        <p:spPr>
          <a:xfrm>
            <a:off x="5572080" y="337500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ритерии оценки здоровья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42960" y="12855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сутствие болезн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рмальная работа организм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е психическое, физическое и социальное благополучи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вновесие организма в системе «природа – человек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особность приспосабливаться к изменениям окружающей сред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особность полноценно трудиться и обращаться с людь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стремление к творчеств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im6-tub.yandex.net/i?id=52844617&amp;tov=6"/>
          <p:cNvPicPr/>
          <p:nvPr/>
        </p:nvPicPr>
        <p:blipFill>
          <a:blip r:embed="rId1"/>
          <a:stretch/>
        </p:blipFill>
        <p:spPr>
          <a:xfrm>
            <a:off x="285840" y="1500120"/>
            <a:ext cx="1857240" cy="248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im6-tub.yandex.net/i?id=47715421&amp;tov=6"/>
          <p:cNvPicPr/>
          <p:nvPr/>
        </p:nvPicPr>
        <p:blipFill>
          <a:blip r:embed="rId2"/>
          <a:stretch/>
        </p:blipFill>
        <p:spPr>
          <a:xfrm>
            <a:off x="285840" y="4357800"/>
            <a:ext cx="2946240" cy="22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im7-tub.yandex.net/i?id=174017145&amp;tov=7"/>
          <p:cNvPicPr/>
          <p:nvPr/>
        </p:nvPicPr>
        <p:blipFill>
          <a:blip r:embed="rId3"/>
          <a:stretch/>
        </p:blipFill>
        <p:spPr>
          <a:xfrm>
            <a:off x="7072200" y="4241880"/>
            <a:ext cx="1795680" cy="238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m5-tub.yandex.net/i?id=94914447&amp;tov=5"/>
          <p:cNvPicPr/>
          <p:nvPr/>
        </p:nvPicPr>
        <p:blipFill>
          <a:blip r:embed="rId4"/>
          <a:stretch/>
        </p:blipFill>
        <p:spPr>
          <a:xfrm>
            <a:off x="6207120" y="1500120"/>
            <a:ext cx="2565360" cy="1928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im5-tub.yandex.net/i?id=46558683&amp;tov=5"/>
          <p:cNvPicPr/>
          <p:nvPr/>
        </p:nvPicPr>
        <p:blipFill>
          <a:blip r:embed="rId5"/>
          <a:stretch/>
        </p:blipFill>
        <p:spPr>
          <a:xfrm>
            <a:off x="1928880" y="2571840"/>
            <a:ext cx="2714400" cy="2041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im5-tub.yandex.net/i?id=4640659&amp;tov=5"/>
          <p:cNvPicPr/>
          <p:nvPr/>
        </p:nvPicPr>
        <p:blipFill>
          <a:blip r:embed="rId6"/>
          <a:stretch/>
        </p:blipFill>
        <p:spPr>
          <a:xfrm>
            <a:off x="4214880" y="1500120"/>
            <a:ext cx="1857240" cy="281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im6-tub.yandex.net/i?id=34777172&amp;tov=6"/>
          <p:cNvPicPr/>
          <p:nvPr/>
        </p:nvPicPr>
        <p:blipFill>
          <a:blip r:embed="rId7"/>
          <a:stretch/>
        </p:blipFill>
        <p:spPr>
          <a:xfrm>
            <a:off x="5429160" y="3429000"/>
            <a:ext cx="2286000" cy="171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im8-tub.yandex.net/i?id=89673900&amp;tov=8"/>
          <p:cNvPicPr/>
          <p:nvPr/>
        </p:nvPicPr>
        <p:blipFill>
          <a:blip r:embed="rId8"/>
          <a:stretch/>
        </p:blipFill>
        <p:spPr>
          <a:xfrm>
            <a:off x="4143240" y="450072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Здоровый образ жизни – это индивидуальная система поведения человека, направленная на сохранение и укрепление своего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im3-tub.yandex.net/i?id=85918766&amp;tov=3"/>
          <p:cNvPicPr/>
          <p:nvPr/>
        </p:nvPicPr>
        <p:blipFill>
          <a:blip r:embed="rId1"/>
          <a:stretch/>
        </p:blipFill>
        <p:spPr>
          <a:xfrm>
            <a:off x="357120" y="22860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im7-tub.yandex.net/i?id=7342573&amp;tov=7"/>
          <p:cNvPicPr/>
          <p:nvPr/>
        </p:nvPicPr>
        <p:blipFill>
          <a:blip r:embed="rId2"/>
          <a:stretch/>
        </p:blipFill>
        <p:spPr>
          <a:xfrm>
            <a:off x="6286680" y="4357800"/>
            <a:ext cx="237960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im8-tub.yandex.net/i?id=5598829&amp;tov=8"/>
          <p:cNvPicPr/>
          <p:nvPr/>
        </p:nvPicPr>
        <p:blipFill>
          <a:blip r:embed="rId3"/>
          <a:stretch/>
        </p:blipFill>
        <p:spPr>
          <a:xfrm>
            <a:off x="3500280" y="2643120"/>
            <a:ext cx="2071800" cy="3097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im3-tub.yandex.net/i?id=91098473&amp;tov=3"/>
          <p:cNvPicPr/>
          <p:nvPr/>
        </p:nvPicPr>
        <p:blipFill>
          <a:blip r:embed="rId4"/>
          <a:stretch/>
        </p:blipFill>
        <p:spPr>
          <a:xfrm>
            <a:off x="285840" y="4572000"/>
            <a:ext cx="2736720" cy="204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http://im7-tub.yandex.net/i?id=175350443&amp;tov=7"/>
          <p:cNvPicPr/>
          <p:nvPr/>
        </p:nvPicPr>
        <p:blipFill>
          <a:blip r:embed="rId5"/>
          <a:stretch/>
        </p:blipFill>
        <p:spPr>
          <a:xfrm>
            <a:off x="6215040" y="2286000"/>
            <a:ext cx="2424240" cy="15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ИНЦИПЫ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Биологическ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ых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т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пл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гательная актив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един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оциальны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стетич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равствен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сутствие волевого нача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к самоограниче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СТ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7120" y="1071360"/>
            <a:ext cx="8429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стетика – наука о прекрас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стетическое воспитание – это высшая форма человеческого воспитания, в основе которого лежит искусство, понятие о красо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im6-tub.yandex.net/i?id=44862707&amp;tov=6"/>
          <p:cNvPicPr/>
          <p:nvPr/>
        </p:nvPicPr>
        <p:blipFill>
          <a:blip r:embed="rId1"/>
          <a:stretch/>
        </p:blipFill>
        <p:spPr>
          <a:xfrm>
            <a:off x="285840" y="1714680"/>
            <a:ext cx="1501560" cy="2214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im8-tub.yandex.net/i?id=106246980&amp;tov=8"/>
          <p:cNvPicPr/>
          <p:nvPr/>
        </p:nvPicPr>
        <p:blipFill>
          <a:blip r:embed="rId2"/>
          <a:stretch/>
        </p:blipFill>
        <p:spPr>
          <a:xfrm>
            <a:off x="1571760" y="2500200"/>
            <a:ext cx="1500120" cy="2257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im7-tub.yandex.net/i?id=55148644&amp;tov=7"/>
          <p:cNvPicPr/>
          <p:nvPr/>
        </p:nvPicPr>
        <p:blipFill>
          <a:blip r:embed="rId3"/>
          <a:stretch/>
        </p:blipFill>
        <p:spPr>
          <a:xfrm>
            <a:off x="2928960" y="1714680"/>
            <a:ext cx="1606680" cy="221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im3-tub.yandex.net/i?id=48094919&amp;tov=3"/>
          <p:cNvPicPr/>
          <p:nvPr/>
        </p:nvPicPr>
        <p:blipFill>
          <a:blip r:embed="rId4"/>
          <a:stretch/>
        </p:blipFill>
        <p:spPr>
          <a:xfrm>
            <a:off x="4429080" y="2500200"/>
            <a:ext cx="1471680" cy="22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://im2-tub.yandex.net/i?id=46025752&amp;tov=2"/>
          <p:cNvPicPr/>
          <p:nvPr/>
        </p:nvPicPr>
        <p:blipFill>
          <a:blip r:embed="rId5"/>
          <a:stretch/>
        </p:blipFill>
        <p:spPr>
          <a:xfrm>
            <a:off x="5857920" y="1714680"/>
            <a:ext cx="1500120" cy="2211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http://im7-tub.yandex.net/i?id=47514767&amp;tov=7"/>
          <p:cNvPicPr/>
          <p:nvPr/>
        </p:nvPicPr>
        <p:blipFill>
          <a:blip r:embed="rId6"/>
          <a:stretch/>
        </p:blipFill>
        <p:spPr>
          <a:xfrm>
            <a:off x="7215120" y="2500200"/>
            <a:ext cx="152424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user</cp:lastModifiedBy>
  <dcterms:modified xsi:type="dcterms:W3CDTF">2013-11-12T17:24:36Z</dcterms:modified>
  <cp:revision>68</cp:revision>
  <dc:subject/>
  <dc:title>ГИДРОДИНАМИЧЕСКИЕ АВАРИИ</dc:title>
</cp:coreProperties>
</file>