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7DF-24ED-4959-837F-D3CD0B78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FA8-7E0E-409D-B39C-6F97F45E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497-17AD-4370-BA21-2A0B1639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E4B-1C60-4CF9-9ECC-F192A2CD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C8BB-B15E-4094-A0A2-58C0B9C6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F2D9-2CA6-48CC-9063-2F8869A5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EA1-2EBE-4530-8F39-AC70C96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20B4-D856-46FB-A144-04723A6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F778-53C2-4A70-AB6A-BDC33850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5B33-DA89-4A3C-9B17-2FC0B3E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D261-6B7A-4CC0-BF52-F358FEF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BA0-0EB5-4BF1-A0CC-F7BCD46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80F7-11BB-4A5C-8D63-162D9A1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C27B-32ED-4DB0-8EC7-D29CB05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B79D-309C-409A-A331-41A11A36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754D-9CAB-4D31-9351-E05F1B27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A547-0B23-48D9-AA7E-9F3B5E8D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AD8-837E-4730-934F-46C1339F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080-F23B-4448-964E-854BD2B0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9EA-09A3-4870-B902-573311D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176-352A-4921-BA9B-722FA595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698-2A01-4A5E-9577-07879B1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21D-1787-4FFB-9D41-5C52D22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AF2-23AA-4E11-AD6B-23B405C1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87D-9AAE-42CF-BEC2-838085A1890E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5106-FD3D-4C07-8BBD-3DE4182ED5A9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а Ахматова и Петербург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3794040"/>
            <a:ext cx="2514600" cy="1984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304812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5029200" cy="366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19051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cc"/>
                </a:solidFill>
                <a:latin typeface="Times New Roman"/>
              </a:rPr>
              <a:t>А́нна Андре́евна Ахма́това(1889-1966)— одна из крупнейших русских поэтов XX века, писатель, литературовед, литературный критик, переводчик. </a:t>
            </a: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74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cccc"/>
                </a:solidFill>
                <a:latin typeface="Arial"/>
              </a:rPr>
              <a:t>Анна Ахматова застала в Ленинграде первые недели блокады с голодом, бомбежками и обстрелами. «И этот скорбный образ родного города, обреченного на неслыханные муки ,навсегда слился для меня с мыслью о войне как о величайшем бедствии ,которое может постичь человечество».Переживая вместе со всеми лишения и ужасы блокады ,Ахматова больше всего откликалась на страдания детей ,а детьми были и малыши ,и уходившие на фронт старшеклассники.</a:t>
            </a:r>
            <a:endParaRPr b="0" lang="en-US" sz="15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4114800" cy="280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Важно с девочками простились, На ходу целовали мать, Во все новое нарядились, Как в солдатики шли играть. Ни плохих, ни хороших, ни средних... Все они по своим местам, Где ни первых нет, ни последних... Все они опочили там. </a:t>
            </a:r>
            <a:br>
              <a:rPr sz="2400"/>
            </a:b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1943, Ташкент 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28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Постучись кулачком - я открою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Я тебе открывала всегда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Я теперь за высокой горою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За пустыней, за ветром и зноем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Но тебя не предам никогда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Твоего я не слышала стона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Хлеба ты у меня не просил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Принеси же мне ветку клена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Или просто травинок зеленых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Как ты прошлой весной приносил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Принеси же мне горсточку чистой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Нашей невской студеной воды,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И с головки твоей золотистой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Я кровавые смою следы.</a:t>
            </a:r>
            <a:br>
              <a:rPr sz="2000"/>
            </a:b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38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cccc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cccccc"/>
                </a:solidFill>
                <a:latin typeface="Arial"/>
              </a:rPr>
              <a:t>Мужество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  <a:p>
            <a:pPr marL="209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Мы знаем, что́ ныне лежит на весах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что́ совершается ныне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Час мужества про́бил на наших часах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мужество нас не покинет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Не страшно под пулями мёртвыми лечь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Не горько остаться без крова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мы сохраним тебя, русская речь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Великое русское слово.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Свободным и чистым тебя пронесём,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И внукам дадим, и от плена спасём —</a:t>
            </a:r>
            <a:br>
              <a:rPr sz="1600"/>
            </a:br>
            <a:r>
              <a:rPr b="0" lang="ru-RU" sz="1600" spc="-1" strike="noStrike">
                <a:solidFill>
                  <a:srgbClr val="cccccc"/>
                </a:solidFill>
                <a:latin typeface="Arial"/>
              </a:rPr>
              <a:t>Навеки!</a:t>
            </a:r>
            <a:br>
              <a:rPr sz="1600"/>
            </a:br>
            <a:r>
              <a:rPr b="0" i="1" lang="ru-RU" sz="1600" spc="-1" strike="noStrike">
                <a:solidFill>
                  <a:srgbClr val="cccccc"/>
                </a:solidFill>
                <a:latin typeface="Arial"/>
              </a:rPr>
              <a:t>&lt;23 февраля 1942&gt;, Ташкент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64832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0:01:02Z</dcterms:created>
  <dc:creator>User</dc:creator>
  <dc:description/>
  <dc:language>en-US</dc:language>
  <cp:lastModifiedBy>User</cp:lastModifiedBy>
  <dcterms:modified xsi:type="dcterms:W3CDTF">2014-01-22T12:0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