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FE6-412A-4B77-B989-B70B8607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125-4768-4EBF-BD57-7869C2B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3DD-C70F-41FD-AB4C-FAD2478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CE1-637D-4F7D-BA87-D83CE60D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EC4-05E6-4C3C-B1DC-84D1DCA1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9CE3-8AD5-4958-BB28-E38C4BE7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9CCC-E393-4012-A749-B59785B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EC47-B330-4ECD-A9C0-183434D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21C-994A-46EE-9C8B-20386B18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835-06DB-439E-93A3-11CBCA3F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B63A-9140-4B0B-810A-C3892EB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BF5-6BDF-4BEC-AA5B-A3CE7F0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212-94B5-4345-A3A7-6FA4E19F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7494-AC63-45EB-8CDA-57BB927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DBD-73DF-4DCE-9D9E-AB960E60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0E7-BD9C-45EC-8546-85065B66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8757-20B1-4069-BBE4-5FD5A64C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992-59A4-4003-944D-F6AEBC6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1E9-B997-4479-A979-C55A408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741-50A9-45A2-AFB1-A88EB5C8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201-EE27-4605-B6D1-D85665B6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D66-B55C-45DF-BF92-145D9ADF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8F1-2968-48BD-A1A9-76CF6D9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4F8-68A3-4403-B586-34D1599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BF8-A06E-4DAE-B9A0-F0BAE97D256B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86F-9792-4A7A-BCA8-E20152C7E049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а Ахматова и Петербург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3794040"/>
            <a:ext cx="2514600" cy="1984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304812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5029200" cy="366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19051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cc"/>
                </a:solidFill>
                <a:latin typeface="Times New Roman"/>
              </a:rPr>
              <a:t>А́нна Андре́евна Ахма́това(1889-1966)— одна из крупнейших русских поэтов XX века, писатель, литературовед, литературный критик, переводчик. </a:t>
            </a: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74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cc"/>
                </a:solidFill>
                <a:latin typeface="Arial"/>
              </a:rPr>
              <a:t>Анна Ахматова застала в Ленинграде первые недели блокады с голодом, бомбежками и обстрелами. «И этот скорбный образ родного города, обреченного на неслыханные муки ,навсегда слился для меня с мыслью о войне как о величайшем бедствии ,которое может постичь человечество».Переживая вместе со всеми лишения и ужасы блокады ,Ахматова больше всего откликалась на страдания детей ,а детьми были и малыши ,и уходившие на фронт старшеклассники.</a:t>
            </a:r>
            <a:endParaRPr b="0" lang="en-US" sz="15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114800" cy="280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Важно с девочками простились, На ходу целовали мать, Во все новое нарядились, Как в солдатики шли играть. Ни плохих, ни хороших, ни средних... Все они по своим местам, Где ни первых нет, ни последних... Все они опочили там. </a:t>
            </a:r>
            <a:br>
              <a:rPr sz="2400"/>
            </a:b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1943, Ташкент 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28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Постучись кулачком - я открою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Я тебе открывала всегда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Я теперь за высокой горою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За пустыней, за ветром и зноем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Но тебя не предам никогда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Твоего я не слышала стона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Хлеба ты у меня не просил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Принеси же мне ветку клена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Или просто травинок зеленых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Как ты прошлой весной приносил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Принеси же мне горсточку чистой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Нашей невской студеной воды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И с головки твоей золотистой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Я кровавые смою следы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cccc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cccccc"/>
                </a:solidFill>
                <a:latin typeface="Arial"/>
              </a:rPr>
              <a:t>Мужество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  <a:p>
            <a:pPr marL="20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Мы знаем, что́ ныне лежит на весах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что́ совершается ныне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Час мужества про́бил на наших часах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мужество нас не покинет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Не страшно под пулями мёртвыми лечь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Не горько остаться без крова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мы сохраним тебя, русская речь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Великое русское слово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Свободным и чистым тебя пронесём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внукам дадим, и от плена спасём —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Навеки!</a:t>
            </a:r>
            <a:br>
              <a:rPr sz="1600"/>
            </a:br>
            <a:r>
              <a:rPr b="0" i="1" lang="ru-RU" sz="1600" spc="-1" strike="noStrike">
                <a:solidFill>
                  <a:srgbClr val="cccccc"/>
                </a:solidFill>
                <a:latin typeface="Arial"/>
              </a:rPr>
              <a:t>&lt;23 февраля 1942&gt;, Ташкент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64832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0:01:02Z</dcterms:created>
  <dc:creator>User</dc:creator>
  <dc:description/>
  <dc:language>en-US</dc:language>
  <cp:lastModifiedBy>User</cp:lastModifiedBy>
  <dcterms:modified xsi:type="dcterms:W3CDTF">2014-01-22T12:0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