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332-BC14-4D52-A98F-6F75B3CD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AA5-1488-46E0-915C-D08FE7A0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EE1-77BA-410B-B2FB-05C2F037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C83-5383-45CD-9B76-A1732059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7AA0-7A77-48BF-8FDB-3BA8FA91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3DA3-A33C-4CA1-A30D-44A1244A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75CF-BDBD-44F2-BF39-A18DAA32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6C8B-A0DE-4192-BDAE-48127E59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1BAE-2195-471F-8F78-EF1B708D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D91D-397E-43E1-ACD6-A9DD99B1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1BE3-9057-40F6-BA70-A3E07D37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40B-1CF7-4483-AAC3-E4CB2791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61B0-CD84-45EE-B892-56D0D8D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DE2D-4982-444C-842C-BE1E4DEB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183B-1B45-4E86-AFD3-44C25700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14B8-0F2D-41AF-80D6-0CF8F044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25FD-559C-4112-9F87-1BB367F0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E04-51C0-47D5-BB32-2ECE140F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715-8089-4C8E-9E55-948246C3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403-4C9A-4369-A305-08C08E87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B61-79CD-4FBF-94BF-82D15BE9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BA1-C66F-4828-86E2-16537A1C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21B-2142-4ADB-BE53-5203EC1D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9B0-03B7-4F5E-BEFB-015D274C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16AD-1BBE-4729-B231-D3E8F77FF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573F-29B3-4283-A405-A71A59E24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18920" y="5105520"/>
            <a:ext cx="7769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Учитель географии МОУ «СОШ№10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Евдокимова Ольга Иванов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к в 7 классе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549360"/>
            <a:ext cx="7920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ff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ганический мир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ccff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ff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ff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стралии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ccff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481800" cy="4152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667560" y="1963800"/>
            <a:ext cx="261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аус эму- круп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тиц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2880" y="-243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лияние человека на природу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52360" y="2060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4248000" cy="2722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392720" y="3500280"/>
            <a:ext cx="4859280" cy="3141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0720" y="1557360"/>
            <a:ext cx="60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редин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а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тралию завезли крол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4000" y="1144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581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тус   опунция- «колюч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оеватель» австралийс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астби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Arial"/>
              </a:rPr>
              <a:t>Цели и задачи уро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676160"/>
            <a:ext cx="7870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чить представление об уникальном мире живой природы Австрал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с представителями раститель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вить своеобразие животного мира Австрал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иродные зоны Австра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56144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Эндемики Австра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08668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75% растений и 95% животных обитают только в Австралии. Их называют эндемиками (от греч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emos 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«местный»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стения Австра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2357280" cy="4365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13080" y="41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17280" y="6184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350040" y="2781360"/>
            <a:ext cx="2793960" cy="407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720" y="179244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вяное дере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20320" y="234936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тылочное дере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7800" y="47242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онтичная ак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стения Австра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5759640" cy="4140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228720" y="2421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81640" y="2368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1542960"/>
            <a:ext cx="313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вкалипт- самое высокое и быстрорастущее дерево в мир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 ви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рэб-  густые заросли кустарников из низкорослых колючих акаций, эвкалиптов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Животные Австра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5400720" cy="4195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24360" y="2565360"/>
            <a:ext cx="314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ала- из-за ценного ме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ходится на гра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чезнов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649680" cy="3682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219640" y="4030560"/>
            <a:ext cx="3672000" cy="282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076720" y="189000"/>
            <a:ext cx="3745080" cy="2739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8920" y="4149720"/>
            <a:ext cx="34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хидна- млекопитающ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йцекладущее с самой низ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пературой тела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46560" y="306864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конос- яйцекладущее млекопитающ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бы собранное из частей других живо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360" y="580536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бака Динго- единственный хищн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томок одичавших домашних соба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30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7743" t="8815" r="7743" b="8851"/>
          <a:stretch/>
        </p:blipFill>
        <p:spPr>
          <a:xfrm>
            <a:off x="2124000" y="549360"/>
            <a:ext cx="5112000" cy="403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508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енгуру-  одно из наиболее известных животных Австралии.   Сумчатое, рожающие детёнышей  размером с грецкий оре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1:57:32Z</dcterms:created>
  <dc:creator>User</dc:creator>
  <dc:description/>
  <dc:language>en-US</dc:language>
  <cp:lastModifiedBy>User</cp:lastModifiedBy>
  <dcterms:modified xsi:type="dcterms:W3CDTF">2008-05-04T09:39:28Z</dcterms:modified>
  <cp:revision>15</cp:revision>
  <dc:subject/>
  <dc:title> </dc:title>
</cp:coreProperties>
</file>