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CA5-2683-44D9-A885-744809D5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6DF-D3A8-4FC3-9162-FC10BD71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97D-0C4F-465D-BDDB-38A97F11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75E-6FB3-48F1-BF19-CDAE40FE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1253-5499-474E-A88E-16B039D6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B917-5FCF-406B-82FA-8C5FA907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E623-C5FB-472A-866F-2C949B3B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AE16-45FA-4612-93B9-45EAFA23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A16D-F762-47BE-B78F-11BB3E96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4611-9F59-4246-BDCE-6A70A069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98E8-8A49-4FD9-B618-B54E9B61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641-76F6-4593-9128-3255A210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3A50-376E-42B4-9765-A62B350A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5D48-40DE-460C-929E-6986BADA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DB45-19B7-4199-8C40-588288F1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A2A4-C050-4855-A15E-8771EAA0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4614-C1AB-4031-98C7-7B9CC409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496-0544-4330-A53F-B6707C31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075-E96C-4DB8-A303-340D2E64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EC0-6AAE-4DF6-B0AC-A45185EF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22B-285E-4557-8094-3BAB86D2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6A0-924F-44F6-B164-29E076B0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053-3C77-48B0-9883-6152E566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12A-A593-415F-BB73-FDF29A46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6620-E8F5-4E0A-A4C2-230B26458E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3F61-8C0B-4EF8-B88D-6CE7B20EBF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18920" y="5105520"/>
            <a:ext cx="7769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Учитель географии МОУ «СОШ№10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Евдокимова Ольга Иванов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ок в 7 классе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549360"/>
            <a:ext cx="7920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ff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рганический мир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ccff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ff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ff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стралии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ccff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481800" cy="4152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667560" y="1963800"/>
            <a:ext cx="261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аус эму- круп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тиц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2880" y="-243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лияние человека на природу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252360" y="2060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4248000" cy="2722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392720" y="3500280"/>
            <a:ext cx="4859280" cy="3141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00720" y="1557360"/>
            <a:ext cx="60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ередин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а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стралию завезли крол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4000" y="1144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581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тус   опунция- «колюч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оеватель» австралийск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астби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cc"/>
                </a:solidFill>
                <a:latin typeface="Arial"/>
              </a:rPr>
              <a:t>Цели и задачи уро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676160"/>
            <a:ext cx="7870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учить представление об уникальном мире живой природы Австрал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 с представителями растительного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явить своеобразие животного мира Австрал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иродные зоны Австра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756144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Эндемики Австра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08668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75% растений и 95% животных обитают только в Австралии. Их называют эндемиками (от греч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demos 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«местный»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стения Австра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2357280" cy="4365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3672000" cy="275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13080" y="4149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17280" y="6184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350040" y="2781360"/>
            <a:ext cx="2793960" cy="407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720" y="179244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авяное дере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20320" y="234936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утылочное дере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7800" y="47242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онтичная ак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стения Австра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5759640" cy="4140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228720" y="2421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81640" y="2368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1542960"/>
            <a:ext cx="313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вкалипт- самое высокое и быстрорастущее дерево в мире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 ви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рэб-  густые заросли кустарников из низкорослых колючих акаций, эвкалиптов.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Животные Австра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5400720" cy="4195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24360" y="2565360"/>
            <a:ext cx="314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ала- из-за ценного ме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ходится на гра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чезнов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649680" cy="3682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219640" y="4030560"/>
            <a:ext cx="3672000" cy="2827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076720" y="189000"/>
            <a:ext cx="3745080" cy="2739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8920" y="4149720"/>
            <a:ext cx="34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хидна- млекопитающ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йцекладущее с самой низ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пературой тела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46560" y="306864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тконос- яйцекладущее млекопитающ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бы собранное из частей других живо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2360" y="580536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бака Динго- единственный хищн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томок одичавших домашних соба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30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7743" t="8815" r="7743" b="8851"/>
          <a:stretch/>
        </p:blipFill>
        <p:spPr>
          <a:xfrm>
            <a:off x="2124000" y="549360"/>
            <a:ext cx="5112000" cy="4032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508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енгуру-  одно из наиболее известных животных Австралии.   Сумчатое, рожающие детёнышей  размером с грецкий оре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1:57:32Z</dcterms:created>
  <dc:creator>User</dc:creator>
  <dc:description/>
  <dc:language>en-US</dc:language>
  <cp:lastModifiedBy>User</cp:lastModifiedBy>
  <dcterms:modified xsi:type="dcterms:W3CDTF">2008-05-04T09:39:28Z</dcterms:modified>
  <cp:revision>15</cp:revision>
  <dc:subject/>
  <dc:title> </dc:title>
</cp:coreProperties>
</file>