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3024-70B8-452F-9109-59A0A1D6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09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3809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484A-8FAC-47D3-8403-10A285A6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866680" y="160020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2866680" y="396648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01C6-2EEA-4BAF-9854-C09E2E5C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226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202480" y="1600200"/>
            <a:ext cx="1226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90920" y="1600200"/>
            <a:ext cx="1226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1226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2202480" y="3966480"/>
            <a:ext cx="1226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3490920" y="3966480"/>
            <a:ext cx="1226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10A2-55A9-4965-A636-00FAAC15A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DB05-E72D-48B2-A5F2-116F4461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380952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EB98-0B2E-406A-8363-9889D18D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0952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0D13-EAC6-45F4-A74D-F4115717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859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866680" y="1600200"/>
            <a:ext cx="1859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58D0-BA6C-45BD-A075-12117EA2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4B91-D9C9-4559-98F8-3D9310EC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EDEB-8BB9-4F62-B35C-43666910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866680" y="1600200"/>
            <a:ext cx="1859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675F-D9C5-44BA-94B3-01C6BFC4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380952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3789-FB6D-4842-BC76-5B58CB48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859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866680" y="160020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866680" y="396648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526A-F42A-4E61-A901-8956D02A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866680" y="160020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809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C1AB-0AEC-47CF-A094-A7E12E21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09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3809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0EB5-318D-4D83-AD26-0F67B999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866680" y="160020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2866680" y="396648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0BF7-7B8E-4A35-8393-4EF4535B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226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202480" y="1600200"/>
            <a:ext cx="1226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490920" y="1600200"/>
            <a:ext cx="1226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1226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2202480" y="3966480"/>
            <a:ext cx="1226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3490920" y="3966480"/>
            <a:ext cx="1226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50B0-9FAB-42F3-BC84-EABC37517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26659-55E7-4BC4-9004-1D73077D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380952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D4576-4B45-4ACB-BBE8-D3A709D2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0952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BE5A2-4E6B-4869-B48F-35096DC0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859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866680" y="1600200"/>
            <a:ext cx="1859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A58CC-A7FF-4F95-A6B3-59F6B151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A34B9-21F9-46BD-9859-FDBF0995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0952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4D3F-18BF-4136-AE3C-85EBEBEA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8D2B6-5E83-43DD-95FC-3E0B0456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866680" y="1600200"/>
            <a:ext cx="1859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37762-0826-4A5A-A69E-ECFF83E3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859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866680" y="160020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866680" y="396648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470AA-7A37-4A66-A5E1-D48F74C5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866680" y="160020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809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310AC-922B-4DEE-96A8-B52610E0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09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3809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350E4-0E10-413E-B6A9-A0B314EB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866680" y="160020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866680" y="396648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671CE-F559-4299-974A-11285B1F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226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202480" y="1600200"/>
            <a:ext cx="1226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490920" y="1600200"/>
            <a:ext cx="1226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1226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2202480" y="3966480"/>
            <a:ext cx="1226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3490920" y="3966480"/>
            <a:ext cx="1226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2B1E3-6BEA-4383-BDDC-1B20BDD0E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859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66680" y="1600200"/>
            <a:ext cx="1859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38C9-261F-4EA4-8748-2AAB6EFA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FC7E-9403-4D53-9CBC-D55085F3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C73C-F2F2-460A-A30F-AFF32744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866680" y="1600200"/>
            <a:ext cx="1859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0B7B-0B13-41BB-9D5F-F4ED12BF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859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866680" y="160020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866680" y="396648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E657-D2FD-42BB-B4A4-88014253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866680" y="160020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809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E035-9FAE-4885-AF6A-4083C7ED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 hidden="1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" name="Прямоугольник 28" hidden="1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" name="Прямоугольник 29" hidden="1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" name="Прямоугольник 30" hidden="1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" name="Прямоугольник 31" hidden="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5" name="Скругленный прямоугольник 32" hidden="1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6" name="Скругленный прямоугольник 33" hidden="1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" name="Прямоугольник 34" hidden="1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Прямоугольник 35" hidden="1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36" hidden="1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0" name="Прямоугольник 37" hidden="1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" name="Прямоугольник 38" hidden="1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" name="Прямоугольник 39" hidden="1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" name="Прямоугольник 22"/>
          <p:cNvSpPr/>
          <p:nvPr/>
        </p:nvSpPr>
        <p:spPr>
          <a:xfrm flipV="1">
            <a:off x="5410080" y="380988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4" name="Прямоугольник 23"/>
          <p:cNvSpPr/>
          <p:nvPr/>
        </p:nvSpPr>
        <p:spPr>
          <a:xfrm flipV="1">
            <a:off x="5410080" y="3897000"/>
            <a:ext cx="3733560" cy="1915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5" name="Прямоугольник 24"/>
          <p:cNvSpPr/>
          <p:nvPr/>
        </p:nvSpPr>
        <p:spPr>
          <a:xfrm flipV="1">
            <a:off x="5410080" y="4115160"/>
            <a:ext cx="373356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6" name="Прямоугольник 25"/>
          <p:cNvSpPr/>
          <p:nvPr/>
        </p:nvSpPr>
        <p:spPr>
          <a:xfrm flipV="1">
            <a:off x="5410080" y="4164480"/>
            <a:ext cx="1965600" cy="18000"/>
          </a:xfrm>
          <a:prstGeom prst="rect">
            <a:avLst/>
          </a:prstGeom>
          <a:solidFill>
            <a:schemeClr val="accent2">
              <a:alpha val="6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6640" bIns="-26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" name="Прямоугольник 26"/>
          <p:cNvSpPr/>
          <p:nvPr/>
        </p:nvSpPr>
        <p:spPr>
          <a:xfrm flipV="1">
            <a:off x="5410080" y="4199400"/>
            <a:ext cx="196560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" name="Скругленный прямоугольник 29"/>
          <p:cNvSpPr/>
          <p:nvPr/>
        </p:nvSpPr>
        <p:spPr>
          <a:xfrm>
            <a:off x="5410080" y="3962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9" name="Скругленный прямоугольник 30"/>
          <p:cNvSpPr/>
          <p:nvPr/>
        </p:nvSpPr>
        <p:spPr>
          <a:xfrm>
            <a:off x="7376400" y="40611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Прямоугольник 6"/>
          <p:cNvSpPr/>
          <p:nvPr/>
        </p:nvSpPr>
        <p:spPr>
          <a:xfrm>
            <a:off x="0" y="3649680"/>
            <a:ext cx="9143640" cy="2437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1" name="Прямоугольник 9"/>
          <p:cNvSpPr/>
          <p:nvPr/>
        </p:nvSpPr>
        <p:spPr>
          <a:xfrm>
            <a:off x="0" y="3675600"/>
            <a:ext cx="9143640" cy="1404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2" name="Прямоугольник 10"/>
          <p:cNvSpPr/>
          <p:nvPr/>
        </p:nvSpPr>
        <p:spPr>
          <a:xfrm flipV="1">
            <a:off x="6414120" y="3642480"/>
            <a:ext cx="2729520" cy="2480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" name="Прямоугольник 18"/>
          <p:cNvSpPr/>
          <p:nvPr/>
        </p:nvSpPr>
        <p:spPr>
          <a:xfrm>
            <a:off x="0" y="0"/>
            <a:ext cx="9143640" cy="37015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6705720" y="4206240"/>
            <a:ext cx="959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5410080" y="4205160"/>
            <a:ext cx="12949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8319960" y="1080"/>
            <a:ext cx="747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000A92-5767-49C1-9D9F-3F51674A0A78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380952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</a:pPr>
            <a:r>
              <a:rPr b="0" lang="ru-RU" sz="26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6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2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body"/>
          </p:nvPr>
        </p:nvSpPr>
        <p:spPr>
          <a:xfrm>
            <a:off x="4876920" y="1600200"/>
            <a:ext cx="380952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</a:pPr>
            <a:r>
              <a:rPr b="0" lang="ru-RU" sz="26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6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2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4"/>
          </p:nvPr>
        </p:nvSpPr>
        <p:spPr>
          <a:xfrm>
            <a:off x="914400" y="6251400"/>
            <a:ext cx="19807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18BCDE-5848-4F3E-9C89-49A2F5AC2EE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1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2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3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4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5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6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7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8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1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2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</a:pPr>
            <a:r>
              <a:rPr b="0" lang="ru-RU" sz="19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19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8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▫"/>
            </a:pPr>
            <a:r>
              <a:rPr b="0" lang="ru-RU" sz="18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8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body"/>
          </p:nvPr>
        </p:nvSpPr>
        <p:spPr>
          <a:xfrm>
            <a:off x="4648320" y="224928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</a:pPr>
            <a:r>
              <a:rPr b="0" lang="ru-RU" sz="19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19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8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▫"/>
            </a:pPr>
            <a:r>
              <a:rPr b="0" lang="ru-RU" sz="18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8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dt" idx="7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9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D8B55A-A0F0-42B0-84BE-16AF43D9F8AB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Геометрия и Пифагор 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191120" y="4143240"/>
            <a:ext cx="495252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6408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         </a:t>
            </a: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Минин Алекс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08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Ученик 8 класса Междуреченской Средней школы №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ифагор и геометрия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0952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marL="358200" indent="-250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менно Пифагор и его ученики придали геометрии характер настоящей науки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358200" indent="-250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ифагору приписывается много открытий в геометрии, но самое главное – знаменитая теорема Пифагора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358200" indent="-250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сследование показало, что это соотношение между сторонами прямоугольного треугольника было известно задолго до Пифагора, но история приписывает теореме имя Пифагора, т. к. именно он доказал это утверждение…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9" name="Picture 12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3080880" cy="280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еорема Пифагора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У Евклида теорема гласила так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прямоугольном треугольнике квадрат стороны, натянутой под прямым углом, равен квадратам на сторонах, заключающих прямой угол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В первом русском переводе теорема гласила так: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прямоугольном треугольнике квадрат из стороны, противолежащей прямому углу, равен сумме квадратов из сторон, содержащих прямой угол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82" name="Picture 10" descr=""/>
          <p:cNvPicPr/>
          <p:nvPr/>
        </p:nvPicPr>
        <p:blipFill>
          <a:blip r:embed="rId1"/>
          <a:stretch/>
        </p:blipFill>
        <p:spPr>
          <a:xfrm>
            <a:off x="6070680" y="3641400"/>
            <a:ext cx="1193040" cy="17416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5"/>
          <p:cNvSpPr/>
          <p:nvPr/>
        </p:nvSpPr>
        <p:spPr>
          <a:xfrm>
            <a:off x="5076720" y="1844640"/>
            <a:ext cx="385092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ямоугольном треугольнике квадрат гипотенузы равен сумме квадратов кат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гласит теорема, доказанная Пифагором и носящая его и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ифагоровы тройки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Треугольник со сторонами 3, 4, 5 называется «Египетским треугольником», потому, что ещё египтяне его использовали для построения прямого угла,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224928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ифагоровы тройки, это числа, удовлетворяющие теореме Пифагора: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3, 4, 5;     7, 24, 25:    11,60, 61;     15, 8, 17;         33, 56,  65:  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35,  12, 37:          63, 16,  65: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Эти числа обладают рядом интересных свойств: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дин из катетов должен быть кратным трём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дин из катетов должен быть кратным четырём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дно из пифагоровых чисел должно быть кратно пяти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87" name="Picture 8" descr=""/>
          <p:cNvPicPr/>
          <p:nvPr/>
        </p:nvPicPr>
        <p:blipFill>
          <a:blip r:embed="rId1"/>
          <a:stretch/>
        </p:blipFill>
        <p:spPr>
          <a:xfrm>
            <a:off x="1116000" y="3500280"/>
            <a:ext cx="2717280" cy="2044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айна Пифагора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94452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Была у Пифагора и пифагорейцев тайна, сохраняемая под угрозой  жизн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ело в том, что во времена Пифагора ещё не знали иррациональных чисел, а Пифагор, находя диагональ квадрата со стороной, равной единице, получил      . Отрезок существует, а числа нет… 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ифагор решил сохранить своё открытие в тайне…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5"/>
          <p:cNvSpPr/>
          <p:nvPr/>
        </p:nvSpPr>
        <p:spPr>
          <a:xfrm>
            <a:off x="0" y="3319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7"/>
          <p:cNvSpPr/>
          <p:nvPr/>
        </p:nvSpPr>
        <p:spPr>
          <a:xfrm>
            <a:off x="0" y="32907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16"/>
          <p:cNvGraphicFramePr/>
          <p:nvPr/>
        </p:nvGraphicFramePr>
        <p:xfrm>
          <a:off x="3419640" y="4221000"/>
          <a:ext cx="323640" cy="29340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95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4221000"/>
                    <a:ext cx="323640" cy="2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1571760" y="46432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8000" spc="-1" strike="noStrike">
                <a:solidFill>
                  <a:srgbClr val="424456"/>
                </a:solidFill>
                <a:latin typeface="Trebuchet MS"/>
              </a:rPr>
              <a:t>               </a:t>
            </a:r>
            <a:endParaRPr b="0" lang="ru-RU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2000160" y="2214720"/>
            <a:ext cx="607176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Спасибо за внимание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Городская">
  <a:themeElements>
    <a:clrScheme name="Городская">
      <a:dk1>
        <a:srgbClr val="000000"/>
      </a:dk1>
      <a:lt1>
        <a:srgbClr val="ffffff"/>
      </a:lt1>
      <a:dk2>
        <a:srgbClr val="424456"/>
      </a:dk2>
      <a:lt2>
        <a:srgbClr val="dedede"/>
      </a:lt2>
      <a:accent1>
        <a:srgbClr val="53548a"/>
      </a:accent1>
      <a:accent2>
        <a:srgbClr val="438086"/>
      </a:accent2>
      <a:accent3>
        <a:srgbClr val="a04da3"/>
      </a:accent3>
      <a:accent4>
        <a:srgbClr val="c4652d"/>
      </a:accent4>
      <a:accent5>
        <a:srgbClr val="8b5d3d"/>
      </a:accent5>
      <a:accent6>
        <a:srgbClr val="5c92b5"/>
      </a:accent6>
      <a:hlink>
        <a:srgbClr val="67afbd"/>
      </a:hlink>
      <a:folHlink>
        <a:srgbClr val="c2a87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ородская">
  <a:themeElements>
    <a:clrScheme name="Городская">
      <a:dk1>
        <a:srgbClr val="000000"/>
      </a:dk1>
      <a:lt1>
        <a:srgbClr val="ffffff"/>
      </a:lt1>
      <a:dk2>
        <a:srgbClr val="424456"/>
      </a:dk2>
      <a:lt2>
        <a:srgbClr val="dedede"/>
      </a:lt2>
      <a:accent1>
        <a:srgbClr val="53548a"/>
      </a:accent1>
      <a:accent2>
        <a:srgbClr val="438086"/>
      </a:accent2>
      <a:accent3>
        <a:srgbClr val="a04da3"/>
      </a:accent3>
      <a:accent4>
        <a:srgbClr val="c4652d"/>
      </a:accent4>
      <a:accent5>
        <a:srgbClr val="8b5d3d"/>
      </a:accent5>
      <a:accent6>
        <a:srgbClr val="5c92b5"/>
      </a:accent6>
      <a:hlink>
        <a:srgbClr val="67afbd"/>
      </a:hlink>
      <a:folHlink>
        <a:srgbClr val="c2a87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Городская">
  <a:themeElements>
    <a:clrScheme name="Городская">
      <a:dk1>
        <a:srgbClr val="000000"/>
      </a:dk1>
      <a:lt1>
        <a:srgbClr val="ffffff"/>
      </a:lt1>
      <a:dk2>
        <a:srgbClr val="424456"/>
      </a:dk2>
      <a:lt2>
        <a:srgbClr val="dedede"/>
      </a:lt2>
      <a:accent1>
        <a:srgbClr val="53548a"/>
      </a:accent1>
      <a:accent2>
        <a:srgbClr val="438086"/>
      </a:accent2>
      <a:accent3>
        <a:srgbClr val="a04da3"/>
      </a:accent3>
      <a:accent4>
        <a:srgbClr val="c4652d"/>
      </a:accent4>
      <a:accent5>
        <a:srgbClr val="8b5d3d"/>
      </a:accent5>
      <a:accent6>
        <a:srgbClr val="5c92b5"/>
      </a:accent6>
      <a:hlink>
        <a:srgbClr val="67afbd"/>
      </a:hlink>
      <a:folHlink>
        <a:srgbClr val="c2a87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646</TotalTime>
  <Application>LibreOffice/7.4.7.2$Linux_X86_64 LibreOffice_project/40$Build-2</Application>
  <AppVersion>15.0000</AppVersion>
  <Words>320</Words>
  <Paragraphs>30</Paragraphs>
  <Company>ТюмГАСУ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8:04:28Z</dcterms:created>
  <dc:creator>АНЯ</dc:creator>
  <dc:description/>
  <dc:language>en-US</dc:language>
  <cp:lastModifiedBy>пк</cp:lastModifiedBy>
  <dcterms:modified xsi:type="dcterms:W3CDTF">2014-01-29T15:11:43Z</dcterms:modified>
  <cp:revision>34</cp:revision>
  <dc:subject/>
  <dc:title>Пифагор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6</vt:r8>
  </property>
</Properties>
</file>