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208-E89A-463F-9C34-F8842D7E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BE7-B378-460D-B164-4BAE9CA2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492-8C7F-4D82-A1CA-2240C7E4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B39-5CFF-4C87-9C48-7C9BF644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17CA-C83E-4284-921F-4AC4E888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0CA5-CC25-48D2-8526-44D88EF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F3C2-6BC6-4E4B-A1BE-537C7CD6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43B-13A6-48F2-86B9-5540495B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C0D4-2602-47D5-830B-326F12ED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F20F-795E-49AD-9D50-D77AB215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5745-6834-440D-83F8-0CEAFA0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1F5-F4B1-435D-B861-9E53D68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0122-729A-456C-A877-87A6586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2C0A-2DBB-49E0-B72F-4C46139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7CC-8231-4CD8-9B82-6EE3E9A5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3E4-00A6-407E-802A-90164DA6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2FC2-B7E4-4790-B249-A34C6071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4797-A9A6-4E61-B17C-B9418B1A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4657-8E56-4A7D-B196-475C9FA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A3F9-8249-4F09-A823-BE0DFC6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B57A-C676-499E-97D4-459D8B08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8F6F-632F-4632-B4EC-0362F133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F8A-C7BB-458D-8247-79CA75F5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3C5A-653E-44AA-B0CD-AEAD6FC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23B3-9663-46E7-9E0C-9CFA0B0C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11F6-45A7-4807-AF13-2AE5411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DED9-0E62-4F12-9602-ABD7F13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7BA3-9475-4383-B333-DAA1D040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3C8F-FDD9-44EC-A3D6-F2C9B07D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20248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90920" y="160020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20248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490920" y="3966480"/>
            <a:ext cx="1226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8579-4159-4390-B700-4E273B68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8D1-6819-4A2E-8F13-C57D8490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524-0512-4965-98F3-E263900A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1E0-EC61-4D11-AA1B-4E963143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230-38D4-41BB-981C-E23AC78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866680" y="396648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911-FC58-4C00-A697-7D6055B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866680" y="1600200"/>
            <a:ext cx="18590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809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08E-0EC6-45FE-9D69-C25EC9E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B7E133-CEB7-4FA7-B92B-B9D51BDF530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487692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914400" y="6251400"/>
            <a:ext cx="19807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61F4E-7EDD-4C64-8C9B-BEA6C4A8B58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211D70-E889-4BE3-982D-BF826C9038C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Геометрия и Пифагор 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191120" y="4143240"/>
            <a:ext cx="495252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4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инин Алек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к 8 класса Междуреченской Средней школы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ифагор и геометри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09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менно Пифагор и его ученики придали геометрии характер настоящей науки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у приписывается много открытий в геометрии, но самое главное – знаменитая теорема Пифагор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58200" indent="-250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следование показало, что это соотношение между сторонами прямоугольного треугольника было известно задолго до Пифагора, но история приписывает теореме имя Пифагора, т. к. именно он доказал это утверждение…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080880" cy="28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орема Пифагор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 Евклида теорема гласила та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ямоугольном треугольнике квадрат стороны, натянутой под прямым углом, равен квадратам на сторонах, заключающих прямой угол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 первом русском переводе теорема гласила так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прямоугольном треугольнике квадрат из стороны, противолежащей прямому углу, равен сумме квадратов из сторон, содержащих прямой угол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1"/>
          <a:stretch/>
        </p:blipFill>
        <p:spPr>
          <a:xfrm>
            <a:off x="6070680" y="3641400"/>
            <a:ext cx="1193040" cy="1741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5076720" y="1844640"/>
            <a:ext cx="38509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гласит теорема, доказанная Пифагором и носящая ег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ифагоровы тройк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реугольник со сторонами 3, 4, 5 называется «Египетским треугольником», потому, что ещё египтяне его использовали для построения прямого угла,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овы тройки, это числа, удовлетворяющие теореме Пифагора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, 4, 5;     7, 24, 25:    11,60, 61;     15, 8, 17;         33, 56,  65:  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5,  12, 37:          63, 16,  65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и числа обладают рядом интересных свойств: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катетов должен быть кратным трём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ин из катетов должен быть кратным четырём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дно из пифагоровых чисел должно быть кратно пяти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2717280" cy="204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айна Пифагор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9445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ыла у Пифагора и пифагорейцев тайна, сохраняемая под угрозой  жизн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ело в том, что во времена Пифагора ещё не знали иррациональных чисел, а Пифагор, находя диагональ квадрата со стороной, равной единице, получил      . Отрезок существует, а числа нет… 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ифагор решил сохранить своё открытие в тайне…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0" y="3319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0" y="3290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6"/>
          <p:cNvGraphicFramePr/>
          <p:nvPr/>
        </p:nvGraphicFramePr>
        <p:xfrm>
          <a:off x="3419640" y="4221000"/>
          <a:ext cx="323640" cy="2934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32364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1571760" y="4643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424456"/>
                </a:solidFill>
                <a:latin typeface="Trebuchet MS"/>
              </a:rPr>
              <a:t>               </a:t>
            </a:r>
            <a:endParaRPr b="0" lang="ru-RU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2000160" y="2214720"/>
            <a:ext cx="60717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Городская">
      <a:dk1>
        <a:srgbClr val="000000"/>
      </a:dk1>
      <a:lt1>
        <a:srgbClr val="ffffff"/>
      </a:lt1>
      <a:dk2>
        <a:srgbClr val="424456"/>
      </a:dk2>
      <a:lt2>
        <a:srgbClr val="dedede"/>
      </a:lt2>
      <a:accent1>
        <a:srgbClr val="53548a"/>
      </a:accent1>
      <a:accent2>
        <a:srgbClr val="438086"/>
      </a:accent2>
      <a:accent3>
        <a:srgbClr val="a04da3"/>
      </a:accent3>
      <a:accent4>
        <a:srgbClr val="c4652d"/>
      </a:accent4>
      <a:accent5>
        <a:srgbClr val="8b5d3d"/>
      </a:accent5>
      <a:accent6>
        <a:srgbClr val="5c92b5"/>
      </a:accent6>
      <a:hlink>
        <a:srgbClr val="67afbd"/>
      </a:hlink>
      <a:folHlink>
        <a:srgbClr val="c2a87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646</TotalTime>
  <Application>LibreOffice/7.4.7.2$Linux_X86_64 LibreOffice_project/40$Build-2</Application>
  <AppVersion>15.0000</AppVersion>
  <Words>320</Words>
  <Paragraphs>30</Paragraphs>
  <Company>ТюмГАСУ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04:28Z</dcterms:created>
  <dc:creator>АНЯ</dc:creator>
  <dc:description/>
  <dc:language>en-US</dc:language>
  <cp:lastModifiedBy>пк</cp:lastModifiedBy>
  <dcterms:modified xsi:type="dcterms:W3CDTF">2014-01-29T15:11:43Z</dcterms:modified>
  <cp:revision>34</cp:revision>
  <dc:subject/>
  <dc:title>Пифаг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