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09C-60C2-4CA5-9F93-87B13798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00F-7CE5-463A-9931-3FE7A83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E20-2458-4485-97B2-B730D565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718-D380-444D-8145-138C6036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95E9-E247-49B4-B5C1-40DF29BF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49D7-C48D-458B-8B56-2CF2A182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F20-76FE-4FA7-B269-CD981C4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9D4B-F13D-484B-A233-20E4954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E352-AF06-46E2-9D70-08B44039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43B-A5E0-4C5D-B6BF-0E7D77A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0AE3-40E5-4A03-AA8F-471AB97E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DCF-8CBF-4ECC-8867-C6E8B965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55A6-1E5F-41D6-A5A4-73575F5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9CC-F75A-43B4-9D4B-A688B2B6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CDA-A259-4DF4-A59E-E421EB1C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F7EC-37C8-4768-A0F8-7E0CD1DF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A630-9B2C-4CA9-81D4-93A14D44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9DB-D2E4-4983-AC51-DC3276E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AF8-D012-4672-815E-4718C71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8AB-6B12-45A6-BCC7-FFC56D6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DA6-FBC8-42E1-A371-85F67C5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FC-911B-4046-BA17-42008C0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9B6-B254-4465-A403-CE54625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A3C-6949-4C82-BB76-A1D53A6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24D4-62CB-4D41-A2C6-5E76C0022B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3F8-1C6B-4B15-9025-69A95DC96B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kymber.ru/photo/book/131_obl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entury"/>
              </a:rPr>
              <a:t>Н. В. Г О Г О Л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90920" y="49528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«Мертвые душ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371600" y="56386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211"/>
                </a:solidFill>
                <a:latin typeface="Arial"/>
              </a:rPr>
              <a:t>Чичиков и помещ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Гоголь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304920"/>
            <a:ext cx="338796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Картинка 89 из 129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73560" y="274680"/>
            <a:ext cx="437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4643280" y="907920"/>
            <a:ext cx="37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СОБАКЕ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21964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492360" y="3429000"/>
            <a:ext cx="5077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ула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Человеконенави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ракобесие (реакционность, враждебность прогресса, культуры, нау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Груб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Прижимист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Чичиков у Собакевича"/>
          <p:cNvPicPr/>
          <p:nvPr/>
        </p:nvPicPr>
        <p:blipFill>
          <a:blip r:embed="rId1"/>
          <a:stretch/>
        </p:blipFill>
        <p:spPr>
          <a:xfrm>
            <a:off x="1258920" y="549360"/>
            <a:ext cx="2808360" cy="3456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203640" y="83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ПЛЮ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63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780000" y="3645000"/>
            <a:ext cx="4176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енасытная жа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уп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Крохоборство (мелочная скупость</a:t>
            </a: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Плюшкин"/>
          <p:cNvPicPr/>
          <p:nvPr/>
        </p:nvPicPr>
        <p:blipFill>
          <a:blip r:embed="rId1"/>
          <a:stretch/>
        </p:blipFill>
        <p:spPr>
          <a:xfrm>
            <a:off x="1116000" y="620640"/>
            <a:ext cx="2879640" cy="37576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4140360" y="9079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ЧИЧ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859280" y="2276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11640" y="3645000"/>
            <a:ext cx="4464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Хищническая цеп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принцип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лонность к афе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Авантюр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Губернский Олимп"/>
          <p:cNvPicPr/>
          <p:nvPr/>
        </p:nvPicPr>
        <p:blipFill>
          <a:blip r:embed="rId1"/>
          <a:stretch/>
        </p:blipFill>
        <p:spPr>
          <a:xfrm>
            <a:off x="1042920" y="620640"/>
            <a:ext cx="3144960" cy="4176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нение критика Шевырев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мнению критика, только один Гоголь сумел настолько гармонично воплотить подобную противоречивость жизни в искусство, и сумел сделать это с пользой для людей и полным пониманием того, что именно необходимо выделить в этой неустанной борьбе между реальностью и вымыслом, без которой невозможно создать высокохудожественное произведение того уровня и смыслового напол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нение критика Герцен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тик Герцен посчитал «Мертвые души» удивительной книгой, которая своими прямолинейными обвинениями потрясла всю Росс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выделяет, прежде всего, целесообразность поэмы и ее реалистичность, которая напоминает крик ужаса и стыда, который испытывает Гоголь за свою Отчизн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ритика Белинского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мнению Белинского, «Мертвые души» стоят выше всего, что было в русской литературе. Главной причиной этого является то, что это же ставшее бессмертным произведение содержит в себе глубину общественной идеи и высокую художественную выразительность образов и карт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03280" y="54936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История замысла поэмы и его ре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16000" y="155736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6600"/>
                </a:solidFill>
                <a:uFillTx/>
                <a:latin typeface="Times New Roman"/>
              </a:rPr>
              <a:t>А.С. Пушкин:</a:t>
            </a:r>
            <a:r>
              <a:rPr b="1" lang="ru-RU" sz="2000" spc="-1" strike="noStrike">
                <a:solidFill>
                  <a:srgbClr val="5132c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«Как с этой способностью угадывать человека и несколькими чертами выставлять его вдруг всего как живого, с этой способностью не приняться за большое сочинение. Это просто грех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95280" y="45720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6600"/>
                </a:solidFill>
                <a:uFillTx/>
                <a:latin typeface="Times New Roman"/>
              </a:rPr>
              <a:t>А. С. Пушкин отдал Гоголю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«свой собственный сюжет, из которого он хотел сделать что-то вроде поэмы и которого, по словам его, он бы не отдал другому никому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295280" y="5562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00"/>
                </a:solidFill>
                <a:uFillTx/>
                <a:latin typeface="Times New Roman"/>
              </a:rPr>
              <a:t>Это был сюжет «Мертвых душ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Пушкин"/>
          <p:cNvPicPr/>
          <p:nvPr/>
        </p:nvPicPr>
        <p:blipFill>
          <a:blip r:embed="rId1"/>
          <a:stretch/>
        </p:blipFill>
        <p:spPr>
          <a:xfrm>
            <a:off x="3124080" y="2819520"/>
            <a:ext cx="198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76360" y="907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Arial"/>
              </a:rPr>
              <a:t>Строки из п</a:t>
            </a: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исьм</a:t>
            </a:r>
            <a:r>
              <a:rPr b="1" lang="ru-RU" sz="2800" spc="-1" strike="noStrike">
                <a:solidFill>
                  <a:srgbClr val="935211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 Гоголя  В.А. Жуковск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600200" y="2666880"/>
            <a:ext cx="64771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«Если совершу это творение так, как нужно его совершить, то…какой огромный, какой оригинальный сюжет. Какая разнообразная куча? Вся Русь явится в нем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87280" y="54936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Композиция поэмы «Мертвые душ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1143000" y="4038480"/>
            <a:ext cx="10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3352680" y="1219320"/>
            <a:ext cx="5334120" cy="1191240"/>
          </a:xfrm>
          <a:prstGeom prst="rect">
            <a:avLst/>
          </a:prstGeom>
          <a:solidFill>
            <a:srgbClr val="916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«Вступление» в поэму, набросок всего, что впоследствии будет развито автором ( приезд Чичикова в губернский город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N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встреча с чиновниками, подготовка почвы для авантю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7"/>
          <p:cNvSpPr/>
          <p:nvPr/>
        </p:nvSpPr>
        <p:spPr>
          <a:xfrm flipV="1">
            <a:off x="2590920" y="335268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3"/>
          <p:cNvSpPr/>
          <p:nvPr/>
        </p:nvSpPr>
        <p:spPr>
          <a:xfrm>
            <a:off x="3352680" y="3048120"/>
            <a:ext cx="5184720" cy="119124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ображение губернского города, в его пределах завершается характеристика владельцев усадеб,но центральное место отведено изображению мира чинов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90"/>
          <p:cNvGrpSpPr/>
          <p:nvPr/>
        </p:nvGrpSpPr>
        <p:grpSpPr>
          <a:xfrm>
            <a:off x="1295280" y="3124080"/>
            <a:ext cx="1441440" cy="657360"/>
            <a:chOff x="1295280" y="3124080"/>
            <a:chExt cx="1441440" cy="657360"/>
          </a:xfrm>
        </p:grpSpPr>
        <p:sp>
          <p:nvSpPr>
            <p:cNvPr id="104" name="Oval 65"/>
            <p:cNvSpPr/>
            <p:nvPr/>
          </p:nvSpPr>
          <p:spPr>
            <a:xfrm>
              <a:off x="1295280" y="3124080"/>
              <a:ext cx="1152360" cy="657360"/>
            </a:xfrm>
            <a:prstGeom prst="ellipse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6"/>
            <p:cNvSpPr/>
            <p:nvPr/>
          </p:nvSpPr>
          <p:spPr>
            <a:xfrm>
              <a:off x="1295280" y="3268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7-10 гла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3"/>
          <p:cNvGrpSpPr/>
          <p:nvPr/>
        </p:nvGrpSpPr>
        <p:grpSpPr>
          <a:xfrm>
            <a:off x="1295280" y="4191120"/>
            <a:ext cx="1152360" cy="641160"/>
            <a:chOff x="1295280" y="4191120"/>
            <a:chExt cx="1152360" cy="641160"/>
          </a:xfrm>
        </p:grpSpPr>
        <p:sp>
          <p:nvSpPr>
            <p:cNvPr id="107" name="Oval 76"/>
            <p:cNvSpPr/>
            <p:nvPr/>
          </p:nvSpPr>
          <p:spPr>
            <a:xfrm>
              <a:off x="1295280" y="4191120"/>
              <a:ext cx="1152360" cy="6411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78"/>
            <p:cNvSpPr/>
            <p:nvPr/>
          </p:nvSpPr>
          <p:spPr>
            <a:xfrm>
              <a:off x="1295280" y="4406760"/>
              <a:ext cx="10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11 гла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79"/>
          <p:cNvSpPr/>
          <p:nvPr/>
        </p:nvSpPr>
        <p:spPr>
          <a:xfrm>
            <a:off x="2590920" y="4495680"/>
            <a:ext cx="492120" cy="171720"/>
          </a:xfrm>
          <a:prstGeom prst="rightArrow">
            <a:avLst>
              <a:gd name="adj1" fmla="val 50000"/>
              <a:gd name="adj2" fmla="val 71646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0"/>
          <p:cNvSpPr/>
          <p:nvPr/>
        </p:nvSpPr>
        <p:spPr>
          <a:xfrm>
            <a:off x="3276720" y="4267080"/>
            <a:ext cx="5290920" cy="642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ествование о жизненной судьбе героя поэмы- Чич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3352680" y="2514600"/>
            <a:ext cx="5327640" cy="368280"/>
          </a:xfrm>
          <a:prstGeom prst="rect">
            <a:avLst/>
          </a:prstGeom>
          <a:solidFill>
            <a:srgbClr val="ca5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ображение жизни российских поме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8"/>
          <p:cNvGrpSpPr/>
          <p:nvPr/>
        </p:nvGrpSpPr>
        <p:grpSpPr>
          <a:xfrm>
            <a:off x="1219320" y="1371600"/>
            <a:ext cx="1315800" cy="705960"/>
            <a:chOff x="1219320" y="1371600"/>
            <a:chExt cx="1315800" cy="705960"/>
          </a:xfrm>
        </p:grpSpPr>
        <p:sp>
          <p:nvSpPr>
            <p:cNvPr id="113" name="Oval 31"/>
            <p:cNvSpPr/>
            <p:nvPr/>
          </p:nvSpPr>
          <p:spPr>
            <a:xfrm>
              <a:off x="1219320" y="1371600"/>
              <a:ext cx="1315800" cy="705960"/>
            </a:xfrm>
            <a:prstGeom prst="ellipse">
              <a:avLst/>
            </a:prstGeom>
            <a:solidFill>
              <a:srgbClr val="9163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4"/>
            <p:cNvSpPr/>
            <p:nvPr/>
          </p:nvSpPr>
          <p:spPr>
            <a:xfrm>
              <a:off x="1363680" y="15184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Times New Roman"/>
                </a:rPr>
                <a:t>1 гла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92"/>
          <p:cNvGrpSpPr/>
          <p:nvPr/>
        </p:nvGrpSpPr>
        <p:grpSpPr>
          <a:xfrm>
            <a:off x="1219320" y="2286000"/>
            <a:ext cx="1292040" cy="685800"/>
            <a:chOff x="1219320" y="2286000"/>
            <a:chExt cx="1292040" cy="685800"/>
          </a:xfrm>
        </p:grpSpPr>
        <p:sp>
          <p:nvSpPr>
            <p:cNvPr id="116" name="Oval 54"/>
            <p:cNvSpPr/>
            <p:nvPr/>
          </p:nvSpPr>
          <p:spPr>
            <a:xfrm>
              <a:off x="1219320" y="2286000"/>
              <a:ext cx="1216080" cy="685800"/>
            </a:xfrm>
            <a:prstGeom prst="ellipse">
              <a:avLst/>
            </a:prstGeom>
            <a:solidFill>
              <a:srgbClr val="ca5c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7"/>
            <p:cNvSpPr/>
            <p:nvPr/>
          </p:nvSpPr>
          <p:spPr>
            <a:xfrm>
              <a:off x="1292400" y="2430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ffff00"/>
                  </a:solidFill>
                  <a:latin typeface="Times New Roman"/>
                </a:rPr>
                <a:t>2-6 глав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81"/>
          <p:cNvSpPr/>
          <p:nvPr/>
        </p:nvSpPr>
        <p:spPr>
          <a:xfrm>
            <a:off x="2590920" y="2514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a5c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2"/>
          <p:cNvSpPr/>
          <p:nvPr/>
        </p:nvSpPr>
        <p:spPr>
          <a:xfrm>
            <a:off x="1066680" y="51814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42035"/>
                </a:solidFill>
                <a:uFillTx/>
                <a:latin typeface="Arial"/>
              </a:rPr>
              <a:t>Заключительные строки поэмы</a:t>
            </a:r>
            <a:r>
              <a:rPr b="1" lang="ru-RU" sz="1800" spc="-1" strike="noStrike">
                <a:solidFill>
                  <a:srgbClr val="d42035"/>
                </a:solidFill>
                <a:latin typeface="Arial"/>
              </a:rPr>
              <a:t> посвящены горячо любимой родине: Гоголь-патриот воспевает величие и силу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7"/>
          <p:cNvSpPr/>
          <p:nvPr/>
        </p:nvSpPr>
        <p:spPr>
          <a:xfrm>
            <a:off x="2666880" y="16765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9163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16000" y="476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Цель «негоции» Чичик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16000" y="1628640"/>
            <a:ext cx="7391520" cy="43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Афера имела под  собой веские юридические и экономические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снования. Он предполагал получить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двести тысяч капиталу»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т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пекунского совета, заложив своих крестья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1-ый этап его деятельности - приобретение крестьян. Самым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дешевыми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казались «мертвые души»-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умершие крестьяне, еще не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опавшие в ревизские сказк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(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официальный документ,в</a:t>
            </a:r>
            <a:r>
              <a:rPr b="1" i="1" lang="ru-RU" sz="1600" spc="-1" strike="noStrike" u="sng">
                <a:solidFill>
                  <a:srgbClr val="5132c2"/>
                </a:solidFill>
                <a:uFillTx/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соответствии с которым помещики вносили в казну подушную за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 u="sng">
                <a:solidFill>
                  <a:srgbClr val="996600"/>
                </a:solidFill>
                <a:uFillTx/>
                <a:latin typeface="Arial"/>
              </a:rPr>
              <a:t>своих крестьян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).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Перепись проводилась раз в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10-15 лет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Помятуя о недавней эпидемии холеры, в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1830 году,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Чичиков справедливо полагал, что чиновники с готовностью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 продадут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«мертвые души»,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чтобы избавиться от уплаты налога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Однако,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без земл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сделка была бы юридически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 незаконной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, поэтому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в его разговорах с городскими чиновниками появляется слово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«на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вывод»: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заселение и освоение земель в южных губерниях Росси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6600"/>
                </a:solidFill>
                <a:latin typeface="Arial"/>
              </a:rPr>
              <a:t>всячески поощрялось, и</a:t>
            </a:r>
            <a:r>
              <a:rPr b="1" i="1" lang="ru-RU" sz="1600" spc="-1" strike="noStrike">
                <a:solidFill>
                  <a:srgbClr val="5132c2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переезд Чичикова в Херсонскую губернию выглядел вполне правдоподоб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996600"/>
                </a:solidFill>
                <a:latin typeface="Garamond"/>
              </a:rPr>
              <a:t>Образы главных героев произведения «Мертвые души»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211640" y="981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МАНИ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419640" y="2349360"/>
            <a:ext cx="47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16000" y="27082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125880" y="3200400"/>
            <a:ext cx="5413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Прожектерство (увлечение несбыточными проект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ечт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характ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ентимент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схозяй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Манилов"/>
          <p:cNvPicPr/>
          <p:nvPr/>
        </p:nvPicPr>
        <p:blipFill>
          <a:blip r:embed="rId1"/>
          <a:stretch/>
        </p:blipFill>
        <p:spPr>
          <a:xfrm>
            <a:off x="1187280" y="692280"/>
            <a:ext cx="2708280" cy="3527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284720" y="9079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КОРОБ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859280" y="2708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124000" y="2852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635280" y="3933720"/>
            <a:ext cx="5183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Дубиноголо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елочная хлопотлив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евеже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копидомство (бережливость до скуп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Корбочка"/>
          <p:cNvPicPr/>
          <p:nvPr/>
        </p:nvPicPr>
        <p:blipFill>
          <a:blip r:embed="rId1"/>
          <a:stretch/>
        </p:blipFill>
        <p:spPr>
          <a:xfrm>
            <a:off x="1066680" y="549360"/>
            <a:ext cx="2837160" cy="3671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140360" y="981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211"/>
                </a:solidFill>
                <a:latin typeface="Century"/>
              </a:rPr>
              <a:t>НОЗДР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43280" y="234936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Черты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924360" y="3500280"/>
            <a:ext cx="403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Хваст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Безалабе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Мот и кут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Наг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Опустошитель и разоритель хозяйства.</a:t>
            </a:r>
            <a:br>
              <a:rPr sz="2000"/>
            </a:b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Ноздрев"/>
          <p:cNvPicPr/>
          <p:nvPr/>
        </p:nvPicPr>
        <p:blipFill>
          <a:blip r:embed="rId1"/>
          <a:stretch/>
        </p:blipFill>
        <p:spPr>
          <a:xfrm>
            <a:off x="1258920" y="692280"/>
            <a:ext cx="2874960" cy="39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03:55:24Z</dcterms:created>
  <dc:creator>Filipp</dc:creator>
  <dc:description/>
  <dc:language>en-US</dc:language>
  <cp:lastModifiedBy>Админ</cp:lastModifiedBy>
  <dcterms:modified xsi:type="dcterms:W3CDTF">2014-01-29T05:56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