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774-A601-4219-9D64-B306379A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993-93B4-4831-A2D6-C74EDFFC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F2D-6FD7-43FB-8689-9ADCCA66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1D6-2565-4E84-A180-FF984BC1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45BD-A036-4532-9FA7-84491BB4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E4F7-82D3-40BB-BBC3-2A2267C2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B1F0-56AD-45DA-BB74-260FF0D8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0760-107F-4873-879F-B0D866D1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5FFD-7F71-4523-B02C-44339EB8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02AB-2CE0-49D2-A915-11485BB1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8424-E090-4CD7-B70A-E4705197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507-D700-4E4F-B5FE-B05DB62D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2717-72FB-47AD-90EA-4D22B15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3115-769A-4AAF-98F0-975CE2F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4F46-5ABE-4B32-988D-E0A6B368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B9A7-DB0E-4C12-98AB-1C34FFA8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3C9E-0B4A-400C-8A1B-148E7685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2F6-BFC8-4F14-8054-4C5C744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B4C-05C1-496F-9B91-F86DA9B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8BF-CCAF-4E94-9F12-E6517D33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1FF-6E81-47B3-9C80-C644188C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941-B64F-4B00-A8EE-21099E5F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533-F7E0-4F18-88CE-E0E32A3D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E43-480F-429B-B327-15D78BCE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41FE-7FCD-4759-92C5-79CFC94239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B30D-A8F0-4EE9-B509-64B4801F7B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248520" y="228600"/>
            <a:ext cx="26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Авт. Зинченко Г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2590920"/>
            <a:ext cx="6400800" cy="104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Готовимся к ГИА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0960" y="6172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Тест 5, част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257800" y="617220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се будет хорош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88620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9. Квадратные уравн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240" y="133668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ит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064040" y="1219320"/>
                <a:ext cx="2693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85800" y="2825640"/>
                <a:ext cx="73915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00" y="3048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17476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17880" y="4994280"/>
            <a:ext cx="35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876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х =  0,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х = -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. Найди координаты точки пересечения, решив систему уравнени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952880" y="198072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4724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71920" y="472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31720" y="19810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35320" y="4800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69480" y="48769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2514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 3х + у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1676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у - 2х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335268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х =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080" y="1946160"/>
            <a:ext cx="336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числите координаты точки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3480" y="263196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15880" y="3124080"/>
                <a:ext cx="16336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8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116000" y="4191120"/>
                <a:ext cx="890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143000" y="4724280"/>
                <a:ext cx="8161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438280" y="5791320"/>
                <a:ext cx="7956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828800" y="5257800"/>
                <a:ext cx="1819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324480" y="6019920"/>
                <a:ext cx="966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800" y="2826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00" y="35013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00" y="3975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00" y="4450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6248520"/>
            <a:ext cx="23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Ответ: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724280" y="1981080"/>
            <a:ext cx="0" cy="3733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962520" y="1752480"/>
            <a:ext cx="1295280" cy="41911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809880" y="2895480"/>
            <a:ext cx="2057400" cy="28195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2895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638320" y="213372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800240" y="36576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1.Составь уравнение по условию задачи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593640" y="1870200"/>
            <a:ext cx="7483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 3 кг картофеля и один лимон покупатель заплатил 100 рублей. Сколько стоит лимон, если известно, что его стоимость на 10 рублей меньше стоимости 1 кг картофеля? Выберите уравнение, соответствующее условию задачи, если буквой х обозначена стоимость лимона в руб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80880" y="4038480"/>
                <a:ext cx="23907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657600" y="4038480"/>
                <a:ext cx="2600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76520" y="4724280"/>
                <a:ext cx="19573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245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00" y="2677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00" y="31712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8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3962520"/>
            <a:ext cx="4572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343400" y="4952880"/>
                <a:ext cx="2552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2. Исследование неравенст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57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60" y="2797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00" y="378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7680" y="1184400"/>
            <a:ext cx="679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ое из приведенных ниже неравенств является верным при любых значения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удовлетворяющих услов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343400" y="1828800"/>
                <a:ext cx="9144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85800" y="2971800"/>
                <a:ext cx="14479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590920" y="2895480"/>
                <a:ext cx="1218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495680" y="289548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6095880" y="2895480"/>
                <a:ext cx="1524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23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00" y="2579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00" y="3053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00" y="3528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00" y="4002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2819520"/>
            <a:ext cx="5335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3. Линейные неравенства и их систем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93640" y="1488960"/>
            <a:ext cx="69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ля каждой системы неравенств укажите номер рисунка, на котором изображено множество ее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09480" y="2514600"/>
                <a:ext cx="1278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00" y="2925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00" y="3656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352680" y="5562720"/>
          <a:ext cx="4647960" cy="1035000"/>
        </p:xfrm>
        <a:graphic>
          <a:graphicData uri="http://schemas.openxmlformats.org/drawingml/2006/table">
            <a:tbl>
              <a:tblPr/>
              <a:tblGrid>
                <a:gridCol w="1549440"/>
                <a:gridCol w="1549080"/>
                <a:gridCol w="154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4267080" y="2666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3276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3886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4495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26668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3276720"/>
            <a:ext cx="213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495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38862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54280" y="4800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03320" y="22096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59000" y="33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70160" y="40384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9600" y="24382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47600" y="30481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760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47600" y="42670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259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2920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4419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47880" y="457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47880" y="3962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47880" y="33526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47880" y="2666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530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81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0572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4419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70160" y="4800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17880" y="552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85800" y="3657600"/>
                <a:ext cx="1523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х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х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80880" y="4572000"/>
                <a:ext cx="1524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44600" y="6095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50480" y="6095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0080" y="6095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4. Прогресс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555480" y="1515960"/>
            <a:ext cx="69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еометрическая прогрессия задана усло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03440" y="1981080"/>
                <a:ext cx="2098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609480" y="2514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ему равен первый член этой прогре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5480" y="3344760"/>
            <a:ext cx="58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1;          2)  - 1;           3)  2;            4) -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335268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84560" y="4156200"/>
            <a:ext cx="23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33520" y="4724280"/>
                <a:ext cx="17049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514600" y="4724280"/>
                <a:ext cx="1752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572000" y="4724280"/>
                <a:ext cx="17622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0" y="26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0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00" y="3496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5. Графики функций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3623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219320" y="129492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10666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8400" y="3048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92120" y="4800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47242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29200" y="487692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23623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477120" y="33526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666880" y="358128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267080" y="1143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71720" y="22096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33200" y="9907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14920" y="472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52400" y="4572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12400" y="8380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88520" y="34290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4640" y="12193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44200" y="243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92320" y="2438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02000" y="4876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9360" y="35053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56680" y="3657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1371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2209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2514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2666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2819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905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752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1600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1447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1523880"/>
            <a:ext cx="1447560" cy="14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85800" y="1447920"/>
            <a:ext cx="68580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0400" y="2209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1905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2514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040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0040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3124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3276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0040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0400" y="1295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238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23880" y="4572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0400" y="2057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0400" y="1752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1600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1447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42670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4876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3880" y="50292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23880" y="5181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47920" y="5334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447920" y="54864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638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3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4724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3809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39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45720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5029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29200" y="51814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05520" y="5334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29200" y="54864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5638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05520" y="57913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05520" y="59436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4267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5780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29200" y="39625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35053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36576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2428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1143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24480" y="32767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35053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2900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9343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8660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23888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39152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4380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487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00100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1992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1500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672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3429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6232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1460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1828800"/>
            <a:ext cx="914400" cy="914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191120" y="1980720"/>
            <a:ext cx="533160" cy="129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209680" y="4266720"/>
            <a:ext cx="68580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2209680" y="4495680"/>
            <a:ext cx="60984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6324120" y="3962520"/>
            <a:ext cx="685800" cy="12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943600" y="4495320"/>
            <a:ext cx="838080" cy="838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43600" y="762120"/>
            <a:ext cx="198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На каком из рисунков изображены графики фун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у = -2х + 4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у = - х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43400" y="3429000"/>
            <a:ext cx="609480" cy="53352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6. График реальной зависим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610160" y="1828800"/>
          <a:ext cx="3771720" cy="4140360"/>
        </p:xfrm>
        <a:graphic>
          <a:graphicData uri="http://schemas.openxmlformats.org/drawingml/2006/table">
            <a:tbl>
              <a:tblPr/>
              <a:tblGrid>
                <a:gridCol w="471600"/>
                <a:gridCol w="471240"/>
                <a:gridCol w="471600"/>
                <a:gridCol w="471600"/>
                <a:gridCol w="471240"/>
                <a:gridCol w="471600"/>
                <a:gridCol w="471600"/>
                <a:gridCol w="471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4648320" y="594360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648320" y="1523520"/>
            <a:ext cx="0" cy="441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769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913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485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0572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9608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153280" y="18288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48320" y="21337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3124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36576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48320" y="41911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48320" y="46483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8320" y="5257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48320" y="57150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48320" y="25909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29000" y="1447920"/>
            <a:ext cx="3049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Comic Sans MS"/>
              </a:rPr>
              <a:t>Количество проданных цв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Даты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4040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09760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5480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3000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6352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92720" y="601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8920" y="5562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76920" y="51055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76920" y="4495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76920" y="39625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00960" y="3505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0880" y="1295280"/>
            <a:ext cx="266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 графиках отражены показатели продаж тюльпанов и гвоздик в период с 10 февраля по 10 марта. Укажите длину наибольшего непрерывного промежутка времени (в днях), в течение которого тюльпанов и гвоздик продавали одинаковое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00200" y="6491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вет: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6248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9368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792600" y="2971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809880" y="2438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49920" y="6019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17120" y="60199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715000"/>
            <a:ext cx="1143000" cy="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019920" y="4876920"/>
            <a:ext cx="152280" cy="838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76920" y="54100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791320" y="4876560"/>
            <a:ext cx="38088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172200" y="3123720"/>
            <a:ext cx="22860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00800" y="3124080"/>
            <a:ext cx="7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124080"/>
            <a:ext cx="228600" cy="2133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05720" y="525780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34320" y="548640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467480" y="3657600"/>
            <a:ext cx="4572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24680" y="3657600"/>
            <a:ext cx="22860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77120" y="3124080"/>
            <a:ext cx="457200" cy="18288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934320" y="4952880"/>
            <a:ext cx="533160" cy="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467480" y="2819520"/>
            <a:ext cx="457200" cy="2133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4680" y="2819520"/>
            <a:ext cx="228600" cy="838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45720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гвозд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934320" y="2362320"/>
            <a:ext cx="12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тюльп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. Сравниваем числа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2120" y="3124080"/>
                <a:ext cx="12952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343400" y="2971800"/>
                <a:ext cx="15238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743200" y="2819520"/>
                <a:ext cx="990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85800" y="1371600"/>
            <a:ext cx="481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кажите наименьшее из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51320" y="1219320"/>
                <a:ext cx="2681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,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24480" y="3124080"/>
                <a:ext cx="1197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267080" y="2895480"/>
            <a:ext cx="609840" cy="68580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2. Степень с целым показател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657600"/>
            <a:ext cx="73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) 0,29    2) 0,34      3) 2,91       4) 3,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36576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4876920"/>
                <a:ext cx="3646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,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79520" y="220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7680" y="1870200"/>
            <a:ext cx="733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покраску забора площадью 3,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ход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2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г краски. Определите, сколько в среднем килограммов краски расходуется на окрашивание 1 м</a:t>
            </a:r>
            <a:r>
              <a:rPr b="0" lang="en-US" sz="2000" spc="-1" strike="noStrike" baseline="4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поверхности за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.Проц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143000"/>
            <a:ext cx="7178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апа положил на счет в Сбербанк 10000 руб. В соответствии с договором, заключенным с банком, каждый месяц его счет увеличивается на 1,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т суммы, находящейся на счету. Через 4 месяца папа решил снять со счета все накопившиеся проценты. Какую сумму может снять папа, если в течение четырех месяцев дополнительных вложений он не дела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429000"/>
            <a:ext cx="77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) 261,69р.  2) 390,00р.   3) 395,09р.    4) 530,23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352680"/>
            <a:ext cx="457200" cy="53352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3886200"/>
            <a:ext cx="26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4495680"/>
            <a:ext cx="586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месяц: 100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013 = 1013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месяц: 1013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,013 = 10261,69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месяц: 10161,6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013 = 10395,09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месяц: 10395,0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013=10530,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624852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,013</a:t>
            </a:r>
            <a:r>
              <a:rPr b="0" lang="en-US" sz="2000" spc="-1" strike="noStrike" baseline="4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10530,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4. Вычисление значения выраж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56528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ная расстояние от кончика среднего пальца до локтевого сгиба («локоть»), человек может приближенно измерить длину веревк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= nl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исло «локтей»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длина «локтя». Чему равна длина «локтя», если было измерено 12 м веревки, в которой число «локтей» равно 25? Ответ запишите в сантимет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Ответ: 48 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46680" y="45370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2670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4800600"/>
            <a:ext cx="48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200 см : 25 = 48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5. Буквенное выраж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593640" y="1417680"/>
            <a:ext cx="45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ны буквенные выра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3880" y="1981080"/>
                <a:ext cx="3583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669960" y="278928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ие из этих выражений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 имею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ысла при х = -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86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Только В;   2) А и Б;   3) Б и В;   4) А и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3809880"/>
            <a:ext cx="53352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6. Любимые алгебраические дроб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93640" y="171756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кажите выражение, тождественно равное дро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922320" y="2362320"/>
                <a:ext cx="933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044720" y="3962520"/>
                <a:ext cx="9586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49440" y="3962520"/>
                <a:ext cx="1197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929040" y="3962520"/>
                <a:ext cx="12096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584680" y="3962520"/>
                <a:ext cx="10224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00" y="295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00" y="3623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0" y="428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962520"/>
            <a:ext cx="5331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7.Выражение с арифметическим корнем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0" y="3200400"/>
                <a:ext cx="6714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38280" y="3276720"/>
                <a:ext cx="6764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934320" y="3200400"/>
                <a:ext cx="8204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380880" y="1981080"/>
            <a:ext cx="46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йдите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464832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410080" y="1676520"/>
                <a:ext cx="990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743200" y="5181480"/>
                <a:ext cx="2666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57200" y="3352680"/>
                <a:ext cx="514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343400" y="3352680"/>
            <a:ext cx="6094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8.Тождественные преобразования выраже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67652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прост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114800" y="1676520"/>
                <a:ext cx="2743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57200" y="2590920"/>
                <a:ext cx="22096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62520" y="2590920"/>
                <a:ext cx="24098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57200" y="3352680"/>
                <a:ext cx="2209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62520" y="3352680"/>
                <a:ext cx="2438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24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2678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00" y="3182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0" y="3685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" y="4724280"/>
                <a:ext cx="8381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х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2160" y="3410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66688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22T13:54:41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