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chimes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115E6-5957-48E4-901C-6C6E90438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88B44-380F-4013-9E54-BA7C25830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88920-F1D0-4B49-970E-9800A2744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4179C-814A-425C-8B8E-733D1BDDA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214B3-E37B-42D2-AD13-96F96962B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54996-C276-43B5-82F0-3367E3118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377A4-9181-4309-BA2E-628CCE161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96DC4-4CF9-47E7-842E-204E9044A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9C6A9-E59E-41AF-A8B3-6322E192F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95904-EC30-4858-8D96-7CEDA7217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5CF15-A619-405E-91A6-5484ADAAF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8CCF6-7601-432B-82A2-16CC0B57A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E590B-EEDB-4F5D-831F-1C5859499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AA4F3-3603-4214-90B2-012B0912A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0DE00-DE68-4FD8-B9B7-E66AF86DE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A21A6-837A-477A-AD91-A5F3B32E7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A9C4C-8C5A-4F1A-A87E-B70B97722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96B1B-8052-4D22-BCDB-6F254CBDC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2F001-E8F9-45BB-897F-D6C5531F1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E908C-CC03-4A03-9BCB-8EDAD0571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4CAF7-3F55-4A58-8AA1-9D1DA6116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174F1-E88C-4736-97CE-8142CBB3A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1EB45-906C-4013-95C4-78E6FA6E6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DF617-17AA-4006-B697-4E480D9EB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64503-4BFA-483D-A786-3B134725767D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5A4C2-4509-4301-B075-ABC4574CBD60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6248520" y="228600"/>
            <a:ext cx="260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Авт. Зинченко Г.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371600" y="2590920"/>
            <a:ext cx="6400800" cy="10411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Готовимся к ГИА!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3" name=""/>
          <p:cNvSpPr/>
          <p:nvPr/>
        </p:nvSpPr>
        <p:spPr>
          <a:xfrm>
            <a:off x="300960" y="6172200"/>
            <a:ext cx="231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Тест 5, часть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5257800" y="6172200"/>
            <a:ext cx="3619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Все будет хорошо…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"/>
          <p:cNvSpPr/>
          <p:nvPr/>
        </p:nvSpPr>
        <p:spPr>
          <a:xfrm>
            <a:off x="3886200" y="3886200"/>
            <a:ext cx="142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9 кла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  <p:sndAc>
      <p:stSnd>
        <p:snd r:embed="rId1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870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9. Квадратные уравнения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822240" y="1336680"/>
            <a:ext cx="306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Решите уравнен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4064040" y="1219320"/>
                <a:ext cx="269388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9</m:t>
                    </m:r>
                    <m:r>
                      <m:t xml:space="preserve">х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7" name=""/>
              <p:cNvSpPr txBox="1"/>
              <p:nvPr/>
            </p:nvSpPr>
            <p:spPr>
              <a:xfrm>
                <a:off x="685800" y="2825640"/>
                <a:ext cx="7391520" cy="14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 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b</m:t>
                        </m:r>
                        <m:r>
                          <m:t xml:space="preserve">=</m:t>
                        </m:r>
                        <m:r>
                          <m:t xml:space="preserve">9</m:t>
                        </m:r>
                        <m:r>
                          <m:t xml:space="preserve"> 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 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D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9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2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2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,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−</m:t>
                            </m:r>
                            <m:r>
                              <m:t xml:space="preserve">b</m:t>
                            </m:r>
                            <m:r>
                              <m:t xml:space="preserve">±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D</m:t>
                                </m:r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a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−</m:t>
                            </m:r>
                            <m:r>
                              <m:t xml:space="preserve">9</m:t>
                            </m:r>
                            <m:r>
                              <m:t xml:space="preserve">±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,5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38" name=""/>
          <p:cNvSpPr/>
          <p:nvPr/>
        </p:nvSpPr>
        <p:spPr>
          <a:xfrm>
            <a:off x="0" y="2849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800" y="30488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743200" y="217476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Решен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117880" y="4994280"/>
            <a:ext cx="352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Ответ: 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276720" y="48769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х =  0,5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и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х = - 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  <p:sndAc>
      <p:stSnd>
        <p:snd r:embed="rId1" name="chimes.wav"/>
      </p:stSnd>
    </p:sndAc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" dur="5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10. Найди координаты точки пересечения, решив систему уравнений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4952880" y="1980720"/>
            <a:ext cx="0" cy="358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971800" y="4724280"/>
            <a:ext cx="4495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171920" y="4724280"/>
            <a:ext cx="3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031720" y="1981080"/>
            <a:ext cx="29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035320" y="48006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669480" y="487692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124080" y="251460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- 3х + у =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715000" y="16765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у - 2х =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943600" y="3352680"/>
            <a:ext cx="115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х = -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89080" y="1946160"/>
            <a:ext cx="3368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Вычислите координаты точки 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03480" y="2631960"/>
            <a:ext cx="169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dff"/>
                </a:solidFill>
                <a:latin typeface="Comic Sans MS"/>
              </a:rPr>
              <a:t>Решени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5" name=""/>
              <p:cNvSpPr txBox="1"/>
              <p:nvPr/>
            </p:nvSpPr>
            <p:spPr>
              <a:xfrm>
                <a:off x="515880" y="3124080"/>
                <a:ext cx="1633680" cy="84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3</m:t>
                              </m:r>
                              <m:r>
                                <m:t xml:space="preserve">х</m:t>
                              </m:r>
                              <m:r>
                                <m:t xml:space="preserve">+</m:t>
                              </m:r>
                              <m:r>
                                <m:t xml:space="preserve">у</m:t>
                              </m:r>
                              <m:r>
                                <m:t xml:space="preserve">=</m:t>
                              </m:r>
                              <m:r>
                                <m:t xml:space="preserve">8</m:t>
                              </m:r>
                              <m:r>
                                <m:t xml:space="preserve">,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  <m:r>
                                <m:t xml:space="preserve">х</m:t>
                              </m:r>
                              <m:r>
                                <m:t xml:space="preserve">+</m:t>
                              </m:r>
                              <m:r>
                                <m:t xml:space="preserve">у</m:t>
                              </m:r>
                              <m:r>
                                <m:t xml:space="preserve">=</m:t>
                              </m:r>
                              <m:r>
                                <m:t xml:space="preserve">4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1116000" y="4191120"/>
                <a:ext cx="89064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х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7" name=""/>
              <p:cNvSpPr txBox="1"/>
              <p:nvPr/>
            </p:nvSpPr>
            <p:spPr>
              <a:xfrm>
                <a:off x="1143000" y="4724280"/>
                <a:ext cx="816120" cy="3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2438280" y="5791320"/>
                <a:ext cx="795600" cy="33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у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9" name=""/>
              <p:cNvSpPr txBox="1"/>
              <p:nvPr/>
            </p:nvSpPr>
            <p:spPr>
              <a:xfrm>
                <a:off x="1828800" y="5257800"/>
                <a:ext cx="181944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у</m:t>
                    </m:r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0" name=""/>
              <p:cNvSpPr txBox="1"/>
              <p:nvPr/>
            </p:nvSpPr>
            <p:spPr>
              <a:xfrm>
                <a:off x="6324480" y="6019920"/>
                <a:ext cx="96696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61" name=""/>
          <p:cNvSpPr/>
          <p:nvPr/>
        </p:nvSpPr>
        <p:spPr>
          <a:xfrm>
            <a:off x="1800" y="2826720"/>
            <a:ext cx="22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800" y="3501360"/>
            <a:ext cx="22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800" y="3975840"/>
            <a:ext cx="22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800" y="44506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181480" y="6248520"/>
            <a:ext cx="237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Ответ: 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V="1">
            <a:off x="4724280" y="1981080"/>
            <a:ext cx="0" cy="373392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 flipH="1">
            <a:off x="3962520" y="1752480"/>
            <a:ext cx="1295280" cy="419112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 flipV="1">
            <a:off x="3809880" y="2895480"/>
            <a:ext cx="2057400" cy="281952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2895480"/>
            <a:ext cx="60948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>
            <a:off x="5638320" y="2133720"/>
            <a:ext cx="30492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4800240" y="3657600"/>
            <a:ext cx="15238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  <p:sndAc>
      <p:stSnd>
        <p:snd r:embed="rId1" name="chimes.wav"/>
      </p:stSnd>
    </p:sndAc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3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3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11.Составь уравнение по условию задачи!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" name=""/>
          <p:cNvSpPr/>
          <p:nvPr/>
        </p:nvSpPr>
        <p:spPr>
          <a:xfrm>
            <a:off x="593640" y="1870200"/>
            <a:ext cx="74836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За 3 кг картофеля и один лимон покупатель заплатил 100 рублей. Сколько стоит лимон, если известно, что его стоимость на 10 рублей меньше стоимости 1 кг картофеля? Выберите уравнение, соответствующее условию задачи, если буквой х обозначена стоимость лимона в рубля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4" name=""/>
              <p:cNvSpPr txBox="1"/>
              <p:nvPr/>
            </p:nvSpPr>
            <p:spPr>
              <a:xfrm>
                <a:off x="380880" y="4038480"/>
                <a:ext cx="239076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3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х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</m:d>
                    <m:r>
                      <m:t xml:space="preserve">+</m:t>
                    </m:r>
                    <m:r>
                      <m:t xml:space="preserve">х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" name=""/>
              <p:cNvSpPr txBox="1"/>
              <p:nvPr/>
            </p:nvSpPr>
            <p:spPr>
              <a:xfrm>
                <a:off x="3657600" y="4038480"/>
                <a:ext cx="2600280" cy="4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3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х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−</m:t>
                    </m:r>
                    <m:r>
                      <m:t xml:space="preserve">х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6" name=""/>
              <p:cNvSpPr txBox="1"/>
              <p:nvPr/>
            </p:nvSpPr>
            <p:spPr>
              <a:xfrm>
                <a:off x="1676520" y="4724280"/>
                <a:ext cx="1957320" cy="75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х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х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7" name=""/>
          <p:cNvSpPr/>
          <p:nvPr/>
        </p:nvSpPr>
        <p:spPr>
          <a:xfrm>
            <a:off x="0" y="2459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800" y="2677320"/>
            <a:ext cx="22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800" y="3171240"/>
            <a:ext cx="22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0" y="3836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3505320" y="3962520"/>
            <a:ext cx="457200" cy="6094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2" name=""/>
              <p:cNvSpPr txBox="1"/>
              <p:nvPr/>
            </p:nvSpPr>
            <p:spPr>
              <a:xfrm>
                <a:off x="4343400" y="4952880"/>
                <a:ext cx="255276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х</m:t>
                    </m:r>
                    <m:r>
                      <m:t xml:space="preserve">−</m:t>
                    </m:r>
                    <m:r>
                      <m:t xml:space="preserve">3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х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p:transition spd="med">
    <p:split dir="out" orient="vert"/>
    <p:sndAc>
      <p:stSnd>
        <p:snd r:embed="rId1" name="chimes.wav"/>
      </p:stSnd>
    </p:sndAc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7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761760" y="304920"/>
            <a:ext cx="6870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1</a:t>
            </a:r>
            <a:r>
              <a:rPr b="0" lang="ru-RU" sz="3600" spc="-1" strike="noStrike">
                <a:solidFill>
                  <a:srgbClr val="ff0000"/>
                </a:solidFill>
                <a:latin typeface="Comic Sans MS"/>
              </a:rPr>
              <a:t>2. Исследование неравенств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" name=""/>
          <p:cNvSpPr/>
          <p:nvPr/>
        </p:nvSpPr>
        <p:spPr>
          <a:xfrm>
            <a:off x="0" y="2579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160" y="279792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800" y="32918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800" y="37854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517680" y="1184400"/>
            <a:ext cx="6797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Какое из приведенных ниже неравенств является верным при любых значениях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и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b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, удовлетворяющих услови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9" name=""/>
              <p:cNvSpPr txBox="1"/>
              <p:nvPr/>
            </p:nvSpPr>
            <p:spPr>
              <a:xfrm>
                <a:off x="4343400" y="1828800"/>
                <a:ext cx="914400" cy="3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a</m:t>
                    </m:r>
                    <m:r>
                      <m:t xml:space="preserve">≤</m:t>
                    </m:r>
                    <m:r>
                      <m:t xml:space="preserve">b</m:t>
                    </m:r>
                    <m:r>
                      <m:t xml:space="preserve"> 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0" name=""/>
              <p:cNvSpPr txBox="1"/>
              <p:nvPr/>
            </p:nvSpPr>
            <p:spPr>
              <a:xfrm>
                <a:off x="685800" y="2971800"/>
                <a:ext cx="144792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b</m:t>
                    </m:r>
                    <m:r>
                      <m:t xml:space="preserve">−</m:t>
                    </m:r>
                    <m:r>
                      <m:t xml:space="preserve">a</m:t>
                    </m:r>
                    <m:r>
                      <m:t xml:space="preserve">≥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1" name=""/>
              <p:cNvSpPr txBox="1"/>
              <p:nvPr/>
            </p:nvSpPr>
            <p:spPr>
              <a:xfrm>
                <a:off x="2590920" y="2895480"/>
                <a:ext cx="121896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a</m:t>
                    </m:r>
                    <m:r>
                      <m:t xml:space="preserve">≤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2" name=""/>
              <p:cNvSpPr txBox="1"/>
              <p:nvPr/>
            </p:nvSpPr>
            <p:spPr>
              <a:xfrm>
                <a:off x="4495680" y="2895480"/>
                <a:ext cx="137160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b</m:t>
                    </m:r>
                    <m:r>
                      <m:t xml:space="preserve">≤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3" name=""/>
              <p:cNvSpPr txBox="1"/>
              <p:nvPr/>
            </p:nvSpPr>
            <p:spPr>
              <a:xfrm>
                <a:off x="6095880" y="2895480"/>
                <a:ext cx="15242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b</m:t>
                    </m:r>
                    <m:r>
                      <m:t xml:space="preserve">−</m:t>
                    </m:r>
                    <m:r>
                      <m:t xml:space="preserve">a</m:t>
                    </m:r>
                    <m:r>
                      <m:t xml:space="preserve">≤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4" name=""/>
          <p:cNvSpPr/>
          <p:nvPr/>
        </p:nvSpPr>
        <p:spPr>
          <a:xfrm>
            <a:off x="0" y="2379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1800" y="2579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1800" y="3053520"/>
            <a:ext cx="22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1800" y="35283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1800" y="4002840"/>
            <a:ext cx="22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343400" y="2819520"/>
            <a:ext cx="533520" cy="5331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  <p:sndAc>
      <p:stSnd>
        <p:snd r:embed="rId1" name="chimes.wav"/>
      </p:stSnd>
    </p:sndAc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13. Линейные неравенства и их системы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1" name=""/>
          <p:cNvSpPr/>
          <p:nvPr/>
        </p:nvSpPr>
        <p:spPr>
          <a:xfrm>
            <a:off x="593640" y="1488960"/>
            <a:ext cx="6950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Для каждой системы неравенств укажите номер рисунка, на котором изображено множество ее реше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2" name=""/>
              <p:cNvSpPr txBox="1"/>
              <p:nvPr/>
            </p:nvSpPr>
            <p:spPr>
              <a:xfrm>
                <a:off x="609480" y="2514600"/>
                <a:ext cx="1278000" cy="71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А</m:t>
                    </m:r>
                    <m:r>
                      <m:t xml:space="preserve">)</m:t>
                    </m:r>
                    <m:r>
                      <m:t xml:space="preserve"> 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х</m:t>
                              </m:r>
                              <m:r>
                                <m:t xml:space="preserve">−</m:t>
                              </m:r>
                              <m:r>
                                <m:t xml:space="preserve">4</m:t>
                              </m:r>
                              <m:r>
                                <m:t xml:space="preserve">≥</m:t>
                              </m:r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х</m:t>
                              </m:r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  <m:r>
                                <m:t xml:space="preserve">≥</m:t>
                              </m:r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03" name=""/>
          <p:cNvSpPr/>
          <p:nvPr/>
        </p:nvSpPr>
        <p:spPr>
          <a:xfrm>
            <a:off x="0" y="2468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800" y="2925000"/>
            <a:ext cx="22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1800" y="36568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6" name=""/>
          <p:cNvGraphicFramePr/>
          <p:nvPr/>
        </p:nvGraphicFramePr>
        <p:xfrm>
          <a:off x="3352680" y="5562720"/>
          <a:ext cx="4647960" cy="1035000"/>
        </p:xfrm>
        <a:graphic>
          <a:graphicData uri="http://schemas.openxmlformats.org/drawingml/2006/table">
            <a:tbl>
              <a:tblPr/>
              <a:tblGrid>
                <a:gridCol w="1549440"/>
                <a:gridCol w="1549080"/>
                <a:gridCol w="15494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7" name=""/>
          <p:cNvSpPr/>
          <p:nvPr/>
        </p:nvSpPr>
        <p:spPr>
          <a:xfrm>
            <a:off x="4267080" y="2666880"/>
            <a:ext cx="3200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4267080" y="3276720"/>
            <a:ext cx="3200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267080" y="3886200"/>
            <a:ext cx="3200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267080" y="4495680"/>
            <a:ext cx="3200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867280" y="25146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477120" y="43434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51814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5105520" y="3124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4343400" y="2666880"/>
            <a:ext cx="1447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5105520" y="3276720"/>
            <a:ext cx="2133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5181480" y="4495680"/>
            <a:ext cx="12956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5181480" y="3886200"/>
            <a:ext cx="16002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6254280" y="48006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5503320" y="2209680"/>
            <a:ext cx="38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-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4959000" y="33526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970160" y="4038480"/>
            <a:ext cx="38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-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729600" y="2438280"/>
            <a:ext cx="38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747600" y="3048120"/>
            <a:ext cx="38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3747600" y="3657600"/>
            <a:ext cx="38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747600" y="4267080"/>
            <a:ext cx="38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5791320" y="259092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5029200" y="320040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441972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105520" y="3809880"/>
            <a:ext cx="15228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7247880" y="4572000"/>
            <a:ext cx="3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7247880" y="3962520"/>
            <a:ext cx="3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7247880" y="3352680"/>
            <a:ext cx="3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7247880" y="2666880"/>
            <a:ext cx="3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6553080" y="396252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6781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6705720" y="3809880"/>
            <a:ext cx="15228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181480" y="43434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5105520" y="441972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4970160" y="4800600"/>
            <a:ext cx="38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-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2117880" y="5527800"/>
            <a:ext cx="108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Отве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2" name=""/>
              <p:cNvSpPr txBox="1"/>
              <p:nvPr/>
            </p:nvSpPr>
            <p:spPr>
              <a:xfrm>
                <a:off x="685800" y="3657600"/>
                <a:ext cx="15238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Б</m:t>
                    </m:r>
                    <m:r>
                      <m:t xml:space="preserve">)</m:t>
                    </m:r>
                    <m:r>
                      <m:t xml:space="preserve"> 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4</m:t>
                              </m:r>
                              <m:r>
                                <m:t xml:space="preserve">−</m:t>
                              </m:r>
                              <m:r>
                                <m:t xml:space="preserve">х</m:t>
                              </m:r>
                              <m:r>
                                <m:t xml:space="preserve">≥</m:t>
                              </m:r>
                              <m:r>
                                <m:t xml:space="preserve">0</m:t>
                              </m:r>
                              <m:r>
                                <m:t xml:space="preserve"> </m:t>
                              </m:r>
                              <m:r>
                                <m:t xml:space="preserve">,</m:t>
                              </m:r>
                            </m:e>
                          </m:mr>
                          <m:mr>
                            <m:e>
                              <m:r>
                                <m:t xml:space="preserve">2</m:t>
                              </m:r>
                              <m:r>
                                <m:t xml:space="preserve">+</m:t>
                              </m:r>
                              <m:r>
                                <m:t xml:space="preserve">х</m:t>
                              </m:r>
                              <m:r>
                                <m:t xml:space="preserve">≤</m:t>
                              </m:r>
                              <m:r>
                                <m:t xml:space="preserve">0</m:t>
                              </m:r>
                              <m:r>
                                <m:t xml:space="preserve">;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3" name=""/>
              <p:cNvSpPr txBox="1"/>
              <p:nvPr/>
            </p:nvSpPr>
            <p:spPr>
              <a:xfrm>
                <a:off x="380880" y="4572000"/>
                <a:ext cx="152424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В</m:t>
                    </m:r>
                    <m:r>
                      <m:t xml:space="preserve">)</m:t>
                    </m:r>
                    <m:r>
                      <m:t xml:space="preserve"> 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х</m:t>
                              </m:r>
                              <m:r>
                                <m:t xml:space="preserve">−</m:t>
                              </m:r>
                              <m:r>
                                <m:t xml:space="preserve">4</m:t>
                              </m:r>
                              <m:r>
                                <m:t xml:space="preserve">≤</m:t>
                              </m:r>
                              <m:r>
                                <m:t xml:space="preserve">0</m:t>
                              </m:r>
                              <m:r>
                                <m:t xml:space="preserve"> </m:t>
                              </m:r>
                              <m:r>
                                <m:t xml:space="preserve">,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х</m:t>
                              </m:r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  <m:r>
                                <m:t xml:space="preserve">≤</m:t>
                              </m:r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44" name=""/>
          <p:cNvSpPr/>
          <p:nvPr/>
        </p:nvSpPr>
        <p:spPr>
          <a:xfrm>
            <a:off x="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800" y="3291840"/>
            <a:ext cx="30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4044600" y="60958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5550480" y="60958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940080" y="60958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  <p:sndAc>
      <p:stSnd>
        <p:snd r:embed="rId1" name="chimes.wav"/>
      </p:stSnd>
    </p:sndAc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1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6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1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440" y="304920"/>
            <a:ext cx="6870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14. Прогрессии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0" name=""/>
          <p:cNvSpPr/>
          <p:nvPr/>
        </p:nvSpPr>
        <p:spPr>
          <a:xfrm>
            <a:off x="555480" y="1515960"/>
            <a:ext cx="69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Геометрическая прогрессия задана условия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2" name=""/>
              <p:cNvSpPr txBox="1"/>
              <p:nvPr/>
            </p:nvSpPr>
            <p:spPr>
              <a:xfrm>
                <a:off x="703440" y="1981080"/>
                <a:ext cx="2098440" cy="42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8</m:t>
                    </m:r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53" name=""/>
          <p:cNvSpPr/>
          <p:nvPr/>
        </p:nvSpPr>
        <p:spPr>
          <a:xfrm>
            <a:off x="609480" y="2514600"/>
            <a:ext cx="792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Чему равен первый член этой прогресси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55480" y="3344760"/>
            <a:ext cx="584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) 1;          2)  - 1;           3)  2;            4) - 4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1752480" y="3352680"/>
            <a:ext cx="457200" cy="4572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184560" y="4156200"/>
            <a:ext cx="237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dff"/>
                </a:solidFill>
                <a:latin typeface="Comic Sans MS"/>
              </a:rPr>
              <a:t>Решени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8" name=""/>
              <p:cNvSpPr txBox="1"/>
              <p:nvPr/>
            </p:nvSpPr>
            <p:spPr>
              <a:xfrm>
                <a:off x="533520" y="4724280"/>
                <a:ext cx="1704960" cy="59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8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9" name=""/>
              <p:cNvSpPr txBox="1"/>
              <p:nvPr/>
            </p:nvSpPr>
            <p:spPr>
              <a:xfrm>
                <a:off x="2514600" y="4724280"/>
                <a:ext cx="175248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4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0" name=""/>
              <p:cNvSpPr txBox="1"/>
              <p:nvPr/>
            </p:nvSpPr>
            <p:spPr>
              <a:xfrm>
                <a:off x="4572000" y="4724280"/>
                <a:ext cx="1762200" cy="62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61" name=""/>
          <p:cNvSpPr/>
          <p:nvPr/>
        </p:nvSpPr>
        <p:spPr>
          <a:xfrm>
            <a:off x="0" y="267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0" y="308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1800" y="3496680"/>
            <a:ext cx="22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  <p:sndAc>
      <p:stSnd>
        <p:snd r:embed="rId1" name="chimes.wav"/>
      </p:stSnd>
    </p:sndAc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2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8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6870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15. Графики функций</a:t>
            </a:r>
            <a:br>
              <a:rPr sz="3600"/>
            </a:b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5" name=""/>
          <p:cNvSpPr/>
          <p:nvPr/>
        </p:nvSpPr>
        <p:spPr>
          <a:xfrm>
            <a:off x="380880" y="2362320"/>
            <a:ext cx="20574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 flipV="1">
            <a:off x="1219320" y="1294920"/>
            <a:ext cx="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304920" y="1066680"/>
            <a:ext cx="37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6098400" y="3048120"/>
            <a:ext cx="29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2292120" y="48006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1447920" y="4724280"/>
            <a:ext cx="2666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029200" y="4876920"/>
            <a:ext cx="3124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3200400" y="2362320"/>
            <a:ext cx="23623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 flipV="1">
            <a:off x="6477120" y="3352680"/>
            <a:ext cx="0" cy="2895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 flipV="1">
            <a:off x="2666880" y="3581280"/>
            <a:ext cx="0" cy="2362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 flipV="1">
            <a:off x="4267080" y="1143000"/>
            <a:ext cx="0" cy="2362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571720" y="2209680"/>
            <a:ext cx="3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833200" y="990720"/>
            <a:ext cx="38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8314920" y="4724280"/>
            <a:ext cx="3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352400" y="4572000"/>
            <a:ext cx="3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3812400" y="838080"/>
            <a:ext cx="29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2288520" y="3429000"/>
            <a:ext cx="29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764640" y="1219320"/>
            <a:ext cx="29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844200" y="24382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3892320" y="24382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6102000" y="48769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4509360" y="3505320"/>
            <a:ext cx="38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156680" y="3657600"/>
            <a:ext cx="38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1371600" y="1371600"/>
            <a:ext cx="0" cy="19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523880" y="1371600"/>
            <a:ext cx="0" cy="19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1676520" y="1371600"/>
            <a:ext cx="0" cy="19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828800" y="1371600"/>
            <a:ext cx="0" cy="19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1981080" y="1371600"/>
            <a:ext cx="0" cy="19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2133720" y="1371600"/>
            <a:ext cx="0" cy="19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57200" y="1371600"/>
            <a:ext cx="0" cy="19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609480" y="1371600"/>
            <a:ext cx="0" cy="19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762120" y="1371600"/>
            <a:ext cx="0" cy="19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914400" y="1371600"/>
            <a:ext cx="0" cy="19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1066680" y="1371600"/>
            <a:ext cx="0" cy="19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304920" y="220968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304920" y="205740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304920" y="251460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304920" y="266688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304920" y="28195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04920" y="297180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04920" y="312408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4920" y="32767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304920" y="19051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04920" y="175248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04920" y="160020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04920" y="14479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533520" y="1523880"/>
            <a:ext cx="1447560" cy="14479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 flipV="1">
            <a:off x="685800" y="1447920"/>
            <a:ext cx="685800" cy="13716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3200400" y="220968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200400" y="190512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3200400" y="251460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3200400" y="281952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3200400" y="266688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3200400" y="297180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200400" y="312408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200400" y="327672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200400" y="342900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3200400" y="129528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523880" y="441972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523880" y="457200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3200400" y="205740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3200400" y="175248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3200400" y="160020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3200400" y="144792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1676520" y="457200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1523880" y="4267080"/>
            <a:ext cx="2590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1447920" y="487692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1523880" y="5029200"/>
            <a:ext cx="2590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1523880" y="5181480"/>
            <a:ext cx="2590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1447920" y="533412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1447920" y="5486400"/>
            <a:ext cx="2590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600200" y="5638680"/>
            <a:ext cx="24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1523880" y="579132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1523880" y="411480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5029200" y="472428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1600200" y="380988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1600200" y="396252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5029200" y="457200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5029200" y="502920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5029200" y="518148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5105520" y="53341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5029200" y="548640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5029200" y="563868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5105520" y="57913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5105520" y="594360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5105520" y="609588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502920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5029200" y="411480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5029200" y="426708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5257800" y="609588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5029200" y="380988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029200" y="39625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5029200" y="35053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5029200" y="365760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4419720" y="114300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4572000" y="114300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4724280" y="114300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876920" y="114300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5029200" y="114300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5181480" y="114300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5334120" y="114300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4114800" y="114300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962520" y="114300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3809880" y="114300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3657600" y="114300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3505320" y="114300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3352680" y="114300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6324480" y="3276720"/>
            <a:ext cx="0" cy="297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6172200" y="3352680"/>
            <a:ext cx="0" cy="297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6629400" y="3429000"/>
            <a:ext cx="0" cy="274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6781680" y="3352680"/>
            <a:ext cx="0" cy="2819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2819520" y="350532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2971800" y="35812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3124080" y="35812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3276720" y="35812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3429000" y="35812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3581280" y="35812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733920" y="35812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6934320" y="3352680"/>
            <a:ext cx="0" cy="2819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086600" y="3429000"/>
            <a:ext cx="0" cy="2819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238880" y="3429000"/>
            <a:ext cx="0" cy="2819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7391520" y="3429000"/>
            <a:ext cx="0" cy="2819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7543800" y="3429000"/>
            <a:ext cx="0" cy="2819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696080" y="3352680"/>
            <a:ext cx="0" cy="2819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7848720" y="3352680"/>
            <a:ext cx="0" cy="2819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001000" y="3352680"/>
            <a:ext cx="0" cy="2819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6019920" y="3429000"/>
            <a:ext cx="0" cy="2819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5715000" y="3352680"/>
            <a:ext cx="0" cy="2819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5867280" y="3352680"/>
            <a:ext cx="0" cy="2819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257800" y="3429000"/>
            <a:ext cx="0" cy="2819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5562720" y="3352680"/>
            <a:ext cx="0" cy="2819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5410080" y="3352680"/>
            <a:ext cx="0" cy="2819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3886200" y="35812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209680" y="365760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62320" y="365760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514600" y="365760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1752480" y="365760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1905120" y="373392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057400" y="365760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3886200" y="1828800"/>
            <a:ext cx="914400" cy="9144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 flipV="1">
            <a:off x="4191120" y="1980720"/>
            <a:ext cx="533160" cy="12956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 flipV="1">
            <a:off x="2209680" y="4266720"/>
            <a:ext cx="685800" cy="7621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2209680" y="4495680"/>
            <a:ext cx="609840" cy="10670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6324120" y="3962520"/>
            <a:ext cx="685800" cy="129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 flipV="1">
            <a:off x="5943600" y="4495320"/>
            <a:ext cx="838080" cy="8384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5943600" y="762120"/>
            <a:ext cx="1981080" cy="23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На каком из рисунков изображены графики функц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у = -2х + 4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у = - х -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4343400" y="3429000"/>
            <a:ext cx="609480" cy="533520"/>
          </a:xfrm>
          <a:prstGeom prst="ellipse">
            <a:avLst/>
          </a:prstGeom>
          <a:noFill/>
          <a:ln w="2844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  <p:sndAc>
      <p:stSnd>
        <p:snd r:embed="rId1" name="chimes.wav"/>
      </p:stSnd>
    </p:sndAc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5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6870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16. График реальной зависимост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513" name=""/>
          <p:cNvGraphicFramePr/>
          <p:nvPr/>
        </p:nvGraphicFramePr>
        <p:xfrm>
          <a:off x="4610160" y="1828800"/>
          <a:ext cx="3771720" cy="4140360"/>
        </p:xfrm>
        <a:graphic>
          <a:graphicData uri="http://schemas.openxmlformats.org/drawingml/2006/table">
            <a:tbl>
              <a:tblPr/>
              <a:tblGrid>
                <a:gridCol w="471600"/>
                <a:gridCol w="471240"/>
                <a:gridCol w="471600"/>
                <a:gridCol w="471600"/>
                <a:gridCol w="471240"/>
                <a:gridCol w="471600"/>
                <a:gridCol w="471600"/>
                <a:gridCol w="4712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4" name=""/>
          <p:cNvSpPr/>
          <p:nvPr/>
        </p:nvSpPr>
        <p:spPr>
          <a:xfrm>
            <a:off x="4648320" y="5943600"/>
            <a:ext cx="40384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 flipV="1">
            <a:off x="4648320" y="1523520"/>
            <a:ext cx="0" cy="4419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4876920" y="182880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5334120" y="182880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5791320" y="182880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6248520" y="182880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6705720" y="182880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7238880" y="182880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7696080" y="182880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8153280" y="182880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4648320" y="2133720"/>
            <a:ext cx="3733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4648320" y="3124080"/>
            <a:ext cx="3733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4572000" y="3657600"/>
            <a:ext cx="3733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4648320" y="4191120"/>
            <a:ext cx="3733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4648320" y="4648320"/>
            <a:ext cx="3733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4648320" y="5257800"/>
            <a:ext cx="3733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4648320" y="5715000"/>
            <a:ext cx="3733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4648320" y="2590920"/>
            <a:ext cx="3733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429000" y="1447920"/>
            <a:ext cx="304920" cy="465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3300"/>
                </a:solidFill>
                <a:latin typeface="Comic Sans MS"/>
              </a:rPr>
              <a:t>Количество проданных цвет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6858000" y="63244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Comic Sans MS"/>
              </a:rPr>
              <a:t>Даты прода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4640400" y="601992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5097600" y="601992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5554800" y="601992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6030000" y="601992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6563520" y="601992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7092720" y="60199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958920" y="5562720"/>
            <a:ext cx="5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3976920" y="5105520"/>
            <a:ext cx="5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3976920" y="4495680"/>
            <a:ext cx="5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5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3976920" y="3962520"/>
            <a:ext cx="5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7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900960" y="3505320"/>
            <a:ext cx="5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9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380880" y="1295280"/>
            <a:ext cx="266724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На графиках отражены показатели продаж тюльпанов и гвоздик в период с 10 февраля по 10 марта. Укажите длину наибольшего непрерывного промежутка времени (в днях), в течение которого тюльпанов и гвоздик продавали одинаковое количеств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1600200" y="649116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Ответ: 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2895480" y="624852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733920" y="2936880"/>
            <a:ext cx="68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3792600" y="297180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809880" y="243828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3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7549920" y="60199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7917120" y="601992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4876920" y="5715000"/>
            <a:ext cx="1143000" cy="0"/>
          </a:xfrm>
          <a:prstGeom prst="line">
            <a:avLst/>
          </a:prstGeom>
          <a:ln w="2844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 flipV="1">
            <a:off x="6019920" y="4876920"/>
            <a:ext cx="152280" cy="838080"/>
          </a:xfrm>
          <a:prstGeom prst="line">
            <a:avLst/>
          </a:prstGeom>
          <a:ln w="2844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4876920" y="5410080"/>
            <a:ext cx="9144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 flipV="1">
            <a:off x="5791320" y="4876560"/>
            <a:ext cx="380880" cy="5331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 flipV="1">
            <a:off x="6172200" y="3123720"/>
            <a:ext cx="228600" cy="17528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6400800" y="3124080"/>
            <a:ext cx="763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6477120" y="3124080"/>
            <a:ext cx="228600" cy="2133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6705720" y="5257800"/>
            <a:ext cx="228600" cy="228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6934320" y="5486400"/>
            <a:ext cx="5331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 flipV="1">
            <a:off x="7467480" y="3657600"/>
            <a:ext cx="457200" cy="1828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7924680" y="3657600"/>
            <a:ext cx="228600" cy="7621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6477120" y="3124080"/>
            <a:ext cx="457200" cy="1828800"/>
          </a:xfrm>
          <a:prstGeom prst="line">
            <a:avLst/>
          </a:prstGeom>
          <a:ln w="2844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6934320" y="4952880"/>
            <a:ext cx="533160" cy="0"/>
          </a:xfrm>
          <a:prstGeom prst="line">
            <a:avLst/>
          </a:prstGeom>
          <a:ln w="2844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 flipV="1">
            <a:off x="7467480" y="2819520"/>
            <a:ext cx="457200" cy="2133360"/>
          </a:xfrm>
          <a:prstGeom prst="line">
            <a:avLst/>
          </a:prstGeom>
          <a:ln w="2844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7924680" y="2819520"/>
            <a:ext cx="228600" cy="838080"/>
          </a:xfrm>
          <a:prstGeom prst="line">
            <a:avLst/>
          </a:prstGeom>
          <a:ln w="2844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7696080" y="4572000"/>
            <a:ext cx="108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omic Sans MS"/>
              </a:rPr>
              <a:t>гвозди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6934320" y="2362320"/>
            <a:ext cx="1234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03dff"/>
                </a:solidFill>
                <a:latin typeface="Comic Sans MS"/>
              </a:rPr>
              <a:t>тюльпан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  <p:sndAc>
      <p:stSnd>
        <p:snd r:embed="rId1" name="chimes.wav"/>
      </p:stSnd>
    </p:sndAc>
  </p:transition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20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68706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1. Сравниваем числа!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762120" y="3124080"/>
                <a:ext cx="1295280" cy="5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1,2</m:t>
                    </m:r>
                    <m:r>
                      <m:t xml:space="preserve">;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4343400" y="2971800"/>
                <a:ext cx="152388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2,1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2743200" y="2819520"/>
                <a:ext cx="990720" cy="85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0" name=""/>
          <p:cNvSpPr/>
          <p:nvPr/>
        </p:nvSpPr>
        <p:spPr>
          <a:xfrm>
            <a:off x="685800" y="1371600"/>
            <a:ext cx="4816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Укажите наименьшее из чисе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5251320" y="1219320"/>
                <a:ext cx="2681280" cy="77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,2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2,1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6324480" y="3124080"/>
                <a:ext cx="119700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3" name=""/>
          <p:cNvSpPr/>
          <p:nvPr/>
        </p:nvSpPr>
        <p:spPr>
          <a:xfrm>
            <a:off x="4267080" y="2895480"/>
            <a:ext cx="609840" cy="685800"/>
          </a:xfrm>
          <a:prstGeom prst="ellipse">
            <a:avLst/>
          </a:prstGeom>
          <a:noFill/>
          <a:ln w="2844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  <p:sndAc>
      <p:stSnd>
        <p:snd r:embed="rId1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6870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2. Степень с целым показателем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"/>
          <p:cNvSpPr/>
          <p:nvPr/>
        </p:nvSpPr>
        <p:spPr>
          <a:xfrm>
            <a:off x="457200" y="3657600"/>
            <a:ext cx="736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1) 0,29    2) 0,34      3) 2,91       4) 3,4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952880" y="3657600"/>
            <a:ext cx="457200" cy="4572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71800" y="426708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Решен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2514600" y="4876920"/>
                <a:ext cx="3646440" cy="83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,2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r>
                          <m:t xml:space="preserve">3,5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≈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343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≈</m:t>
                    </m:r>
                    <m:r>
                      <m:t xml:space="preserve">3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43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кг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9" name=""/>
          <p:cNvSpPr/>
          <p:nvPr/>
        </p:nvSpPr>
        <p:spPr>
          <a:xfrm>
            <a:off x="479520" y="22017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17680" y="1870200"/>
            <a:ext cx="73310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На покраску забора площадью 3,5 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.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2000" spc="-1" strike="noStrike" baseline="4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м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2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расходует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,2 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3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кг краски. Определите, сколько в среднем килограммов краски расходуется на окрашивание 1 м</a:t>
            </a:r>
            <a:r>
              <a:rPr b="0" lang="en-US" sz="2000" spc="-1" strike="noStrike" baseline="4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поверхности забо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  <p:sndAc>
      <p:stSnd>
        <p:snd r:embed="rId1" name="chimes.wav"/>
      </p:stSnd>
    </p:sndAc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3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304920"/>
            <a:ext cx="6870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3.Процент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"/>
          <p:cNvSpPr/>
          <p:nvPr/>
        </p:nvSpPr>
        <p:spPr>
          <a:xfrm>
            <a:off x="457200" y="1143000"/>
            <a:ext cx="71787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апа положил на счет в Сбербанк 10000 руб. В соответствии с договором, заключенным с банком, каждый месяц его счет увеличивается на 1,3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%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от суммы, находящейся на счету. Через 4 месяца папа решил снять со счета все накопившиеся проценты. Какую сумму может снять папа, если в течение четырех месяцев дополнительных вложений он не делал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80880" y="3429000"/>
            <a:ext cx="771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) 261,69р.  2) 390,00р.   3) 395,09р.    4) 530,23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019920" y="3352680"/>
            <a:ext cx="457200" cy="533520"/>
          </a:xfrm>
          <a:prstGeom prst="ellipse">
            <a:avLst/>
          </a:prstGeom>
          <a:noFill/>
          <a:ln w="2844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819520" y="3886200"/>
            <a:ext cx="260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Решен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981080" y="4495680"/>
            <a:ext cx="5867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 месяц: 1000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 .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,013 = 10130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 месяц: 10130 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1,013 = 10261,69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3 месяц: 10161,69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 .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,013 = 10395,09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 месяц: 10395,09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 .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,013=10530,2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057400" y="6248520"/>
            <a:ext cx="352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000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 .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,013</a:t>
            </a:r>
            <a:r>
              <a:rPr b="0" lang="en-US" sz="2000" spc="-1" strike="noStrike" baseline="4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= 10530,2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  <p:sndAc>
      <p:stSnd>
        <p:snd r:embed="rId1" name="chimes.wav"/>
      </p:stSnd>
    </p:sndAc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5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440" y="304920"/>
            <a:ext cx="6870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4. Вычисление значения выражения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"/>
          <p:cNvSpPr/>
          <p:nvPr/>
        </p:nvSpPr>
        <p:spPr>
          <a:xfrm>
            <a:off x="304920" y="1565280"/>
            <a:ext cx="79246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Зная расстояние от кончика среднего пальца до локтевого сгиба («локоть»), человек может приближенно измерить длину веревки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t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о формуле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 = nl,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где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 –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число «локтей»,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– длина «локтя». Чему равна длина «локтя», если было измерено 12 м веревки, в которой число «локтей» равно 25? Ответ запишите в сантиметр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133720" y="60199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Ответ: 48 с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946680" y="4537080"/>
            <a:ext cx="2759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0400" y="4267080"/>
            <a:ext cx="16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Решен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905120" y="4800600"/>
            <a:ext cx="48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1200 см : 25 = 48 с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  <p:sndAc>
      <p:stSnd>
        <p:snd r:embed="rId1" name="chimes.wav"/>
      </p:stSnd>
    </p:sndAc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870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5. Буквенное выражение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"/>
          <p:cNvSpPr/>
          <p:nvPr/>
        </p:nvSpPr>
        <p:spPr>
          <a:xfrm>
            <a:off x="593640" y="1417680"/>
            <a:ext cx="4587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Даны буквенные выражения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1523880" y="1981080"/>
                <a:ext cx="3583080" cy="67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А</m:t>
                    </m:r>
                    <m:r>
                      <m:t xml:space="preserve">)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х</m:t>
                        </m:r>
                      </m:num>
                      <m:den>
                        <m:r>
                          <m:t xml:space="preserve">х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Б</m:t>
                    </m:r>
                    <m:r>
                      <m:t xml:space="preserve">)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х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В</m:t>
                    </m:r>
                    <m:r>
                      <m:t xml:space="preserve">)</m:t>
                    </m:r>
                    <m:f>
                      <m:num>
                        <m:r>
                          <m:t xml:space="preserve">х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х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9" name=""/>
          <p:cNvSpPr/>
          <p:nvPr/>
        </p:nvSpPr>
        <p:spPr>
          <a:xfrm>
            <a:off x="669960" y="2789280"/>
            <a:ext cx="6873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Какие из этих выражений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не имеют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смысла при х = - 1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" y="388620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) Только В;   2) А и Б;   3) Б и В;   4) А и 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209680" y="3809880"/>
            <a:ext cx="533520" cy="6098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  <p:sndAc>
      <p:stSnd>
        <p:snd r:embed="rId1" name="chimes.wav"/>
      </p:stSnd>
    </p:sndAc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870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6. Любимые алгебраические дроби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"/>
          <p:cNvSpPr/>
          <p:nvPr/>
        </p:nvSpPr>
        <p:spPr>
          <a:xfrm>
            <a:off x="593640" y="1717560"/>
            <a:ext cx="7407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Укажите выражение, тождественно равное дроб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922320" y="2362320"/>
                <a:ext cx="93348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х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х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1044720" y="3962520"/>
                <a:ext cx="958680" cy="67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х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num>
                      <m:den>
                        <m:r>
                          <m:t xml:space="preserve">х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2449440" y="3962520"/>
                <a:ext cx="1197000" cy="6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х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х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3929040" y="3962520"/>
                <a:ext cx="1209600" cy="68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х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num>
                      <m:den>
                        <m:r>
                          <m:t xml:space="preserve">х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5584680" y="3962520"/>
                <a:ext cx="1022400" cy="66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)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х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х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9" name=""/>
          <p:cNvSpPr/>
          <p:nvPr/>
        </p:nvSpPr>
        <p:spPr>
          <a:xfrm>
            <a:off x="0" y="1903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800" y="2958480"/>
            <a:ext cx="22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800" y="36234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800" y="42886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762120" y="3962520"/>
            <a:ext cx="533160" cy="6094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  <p:sndAc>
      <p:stSnd>
        <p:snd r:embed="rId1" name="chimes.wav"/>
      </p:stSnd>
    </p:sndAc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7.Выражение с арифметическим корнем</a:t>
            </a: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5" name=""/>
              <p:cNvSpPr txBox="1"/>
              <p:nvPr/>
            </p:nvSpPr>
            <p:spPr>
              <a:xfrm>
                <a:off x="4572000" y="3200400"/>
                <a:ext cx="671400" cy="90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)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"/>
              <p:cNvSpPr txBox="1"/>
              <p:nvPr/>
            </p:nvSpPr>
            <p:spPr>
              <a:xfrm>
                <a:off x="2438280" y="3276720"/>
                <a:ext cx="676440" cy="90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)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" name=""/>
              <p:cNvSpPr txBox="1"/>
              <p:nvPr/>
            </p:nvSpPr>
            <p:spPr>
              <a:xfrm>
                <a:off x="6934320" y="3200400"/>
                <a:ext cx="820440" cy="91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)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8" name=""/>
          <p:cNvSpPr/>
          <p:nvPr/>
        </p:nvSpPr>
        <p:spPr>
          <a:xfrm>
            <a:off x="380880" y="1981080"/>
            <a:ext cx="4664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Найдите значение выраж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0" y="2863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800" y="32918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581280" y="4648320"/>
            <a:ext cx="207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Решен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5410080" y="1676520"/>
                <a:ext cx="990720" cy="93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7</m:t>
                                </m:r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2</m:t>
                                    </m:r>
                                  </m:e>
                                </m:ra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3" name=""/>
              <p:cNvSpPr txBox="1"/>
              <p:nvPr/>
            </p:nvSpPr>
            <p:spPr>
              <a:xfrm>
                <a:off x="2743200" y="5181480"/>
                <a:ext cx="266688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7</m:t>
                                </m:r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2</m:t>
                                    </m:r>
                                  </m:e>
                                </m:ra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9</m:t>
                        </m:r>
                        <m:r>
                          <m:t xml:space="preserve">⋅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14" name=""/>
          <p:cNvSpPr/>
          <p:nvPr/>
        </p:nvSpPr>
        <p:spPr>
          <a:xfrm>
            <a:off x="1800" y="32918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5" name=""/>
              <p:cNvSpPr txBox="1"/>
              <p:nvPr/>
            </p:nvSpPr>
            <p:spPr>
              <a:xfrm>
                <a:off x="457200" y="3352680"/>
                <a:ext cx="51444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6" name=""/>
          <p:cNvSpPr/>
          <p:nvPr/>
        </p:nvSpPr>
        <p:spPr>
          <a:xfrm>
            <a:off x="4343400" y="3352680"/>
            <a:ext cx="609480" cy="6858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  <p:sndAc>
      <p:stSnd>
        <p:snd r:embed="rId1" name="chimes.wav"/>
      </p:stSnd>
    </p:sndAc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440" y="304920"/>
            <a:ext cx="6870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8.Тождественные преобразования выражений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"/>
          <p:cNvSpPr/>
          <p:nvPr/>
        </p:nvSpPr>
        <p:spPr>
          <a:xfrm>
            <a:off x="2666880" y="396252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Решен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57200" y="1676520"/>
            <a:ext cx="428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Упростить выраж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0" name=""/>
              <p:cNvSpPr txBox="1"/>
              <p:nvPr/>
            </p:nvSpPr>
            <p:spPr>
              <a:xfrm>
                <a:off x="4114800" y="1676520"/>
                <a:ext cx="274320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х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e>
                    </m:d>
                    <m:r>
                      <m:t xml:space="preserve">−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х</m:t>
                            </m:r>
                            <m:r>
                              <m:t xml:space="preserve">+</m:t>
                            </m:r>
                            <m:r>
                              <m:t xml:space="preserve">7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457200" y="2590920"/>
                <a:ext cx="2209680" cy="58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6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х</m:t>
                    </m:r>
                    <m:r>
                      <m:t xml:space="preserve">+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2" name=""/>
              <p:cNvSpPr txBox="1"/>
              <p:nvPr/>
            </p:nvSpPr>
            <p:spPr>
              <a:xfrm>
                <a:off x="3962520" y="2590920"/>
                <a:ext cx="240984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5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9</m:t>
                    </m:r>
                    <m:r>
                      <m:t xml:space="preserve">х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4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3" name=""/>
              <p:cNvSpPr txBox="1"/>
              <p:nvPr/>
            </p:nvSpPr>
            <p:spPr>
              <a:xfrm>
                <a:off x="457200" y="3352680"/>
                <a:ext cx="2209680" cy="47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8</m:t>
                    </m:r>
                    <m:r>
                      <m:t xml:space="preserve">х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5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962520" y="3352680"/>
                <a:ext cx="2438280" cy="5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5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t xml:space="preserve">х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6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5" name=""/>
          <p:cNvSpPr/>
          <p:nvPr/>
        </p:nvSpPr>
        <p:spPr>
          <a:xfrm>
            <a:off x="0" y="2441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800" y="26787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800" y="3182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800" y="3685320"/>
            <a:ext cx="22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0" y="3173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228600" y="4724280"/>
                <a:ext cx="83818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х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e>
                    </m:d>
                    <m:r>
                      <m:t xml:space="preserve">−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х</m:t>
                            </m:r>
                            <m:r>
                              <m:t xml:space="preserve">+</m:t>
                            </m:r>
                            <m:r>
                              <m:t xml:space="preserve">7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6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х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t xml:space="preserve">х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49</m:t>
                    </m:r>
                    <m:r>
                      <m:t xml:space="preserve">=</m:t>
                    </m:r>
                    <m:r>
                      <m:t xml:space="preserve">5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9</m:t>
                    </m:r>
                    <m:r>
                      <m:t xml:space="preserve">х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49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1" name=""/>
          <p:cNvSpPr/>
          <p:nvPr/>
        </p:nvSpPr>
        <p:spPr>
          <a:xfrm>
            <a:off x="2160" y="3410640"/>
            <a:ext cx="39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09880" y="2666880"/>
            <a:ext cx="533520" cy="4572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  <p:sndAc>
      <p:stSnd>
        <p:snd r:embed="rId1" name="chimes.wav"/>
      </p:stSnd>
    </p:sndAc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3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1</cp:lastModifiedBy>
  <dcterms:modified xsi:type="dcterms:W3CDTF">2009-03-22T13:54:41Z</dcterms:modified>
  <cp:revision>10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