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1E9-4F49-4A16-BD8F-FE51F2D8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468-6191-4353-BD04-2C1D113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E90-D2F6-46FE-B9C2-87BD866C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5FC-4CA9-445B-9DFB-DF93377F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D66FF-078E-4703-9D56-ECACA519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7F365-E23C-442E-A54F-7BC35D88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F0B5-650A-45DD-952A-77009A51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27A17-91A5-4D1D-9EDC-9EC13F4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D998D-7F33-4BCE-849C-B6A6EC7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C6F6-D847-4540-B432-D65449F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DCA35-6430-42B1-B428-DB0E7F7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73A-0C90-4403-BFFF-1A21672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E34E3-E0A4-4101-9AB3-627E906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0581-FAC2-4278-A523-70216E4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34D68-D74B-4A87-9E94-7E696899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BD5ED-1078-4F1C-ACAF-3B86DA74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F0F1-9D73-4A4B-836E-AF791A2C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DF-92A1-4B20-BE6F-E6054E8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EF1-E995-4CF1-9560-4BF100EB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A7B-7238-4A1F-9DE8-BDBC260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FDE-E57C-4F39-B12F-8836720A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1C3-904A-45FF-9044-3396158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9D3-1780-4328-BD5F-712919B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429-40B1-4278-9F29-4AE4597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FDF-895A-4AC0-B89F-E14E19BA78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0C72-79EB-4B2E-96D8-932554133D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80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ОКОДИЛЫ ПЛАЧУТ 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743200" y="3657600"/>
          <a:ext cx="3962520" cy="121932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0c142ca99a97eb7cb917eba169612de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 ПРЯЧУТСЯ ГУСЕН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ЧУТСЯ ПОД КАМЕНЬ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ЧУТСЯ В ТРАВЕ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КИРУЮТСЯ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МАСКИРУЮТС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i?id=529940910-60-72&amp;n=24"/>
          <p:cNvPicPr/>
          <p:nvPr/>
        </p:nvPicPr>
        <p:blipFill>
          <a:blip r:embed="rId1"/>
          <a:stretch/>
        </p:blipFill>
        <p:spPr>
          <a:xfrm>
            <a:off x="2438280" y="1523880"/>
            <a:ext cx="44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КАЗКА ЖУРАВЛЬ И ЛИ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ЛИСА ПРИШЛА К ЖУРАВЛЮ ОНА…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КОЙНО ЕЛА ИЗ КУВШИНА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ТРЯСЛА ЕДУ В ТАРЕЛКУ И СТАЛА Е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ОГЛА ЕСТЬ ИЗ КУВШ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743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МОГЛА ЕСТЬ ИЗ КУВШИ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T37lj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ЗА ПРАВИЛЬНЫЙ ОТВЕТ-    2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ЗА НЕПРАВИЛЬНЫЙ ОТВЕТ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УС 1Б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ПРОСИКИ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Wingdings"/>
                <a:ea typeface="Wingdings"/>
              </a:rPr>
              <a:t>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ТО БЕГАЕТ ДО 60 КМ В ЧАС ?                 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НОТ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ШАДЬ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fotobears36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УЩЕСТВУЮТ ДУШИСТЫЕ БАБОЧКИ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90920" y="4267080"/>
          <a:ext cx="3809880" cy="106704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wp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ГДЕ ЖИВУТ ДУШИСТЫЕ БАБОЧ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РАЗИЛИИ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СКВЕ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 ИНДИИ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БРАЗИЛ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christ_travel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1-29T12:25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