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FBF-79E6-4467-8438-A44F21EB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F22-21F3-4517-9375-D128FC11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DF03-E47F-4A85-BFD3-F625D453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E49-D3A6-4639-85BB-6EAC2F74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3ABE7-B8A2-472C-B205-3A8205AF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3D472-EBFD-4DD8-847F-4B68A9CE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4E933-4236-4999-B4F6-D71DE325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00E8D-5C82-4B12-9F01-22E6F572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0E8C7-01A4-43D8-8EF5-F459A199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59268-E403-472C-BFDB-FC4ED766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94D14-597C-4E44-94A2-F354BE87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F822-9544-4EBD-BA33-D8D89F64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6C4EC-254A-4ED5-83DC-FCA742DC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08AD2-BC42-4903-AD3B-59644606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EE02C-4DBE-41D5-8218-787B43F0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AC8D1-5FC2-4050-BD6F-A9BEF743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21244-2AA1-4B98-A215-A0E95581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C77D-1DF4-4736-984C-4564B023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FB98-BD7F-47E7-9E02-19DB3EC2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9628-793E-4080-8632-450BD25C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988D-F116-4171-BC4C-35D086AE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AF94-FF6C-4A06-9CA9-C7FAD199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C068-F94F-483B-9F6C-2E918B99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3BA6-BB3E-4E02-B3D2-042CD15C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8B3D-1BC0-41E6-9591-3CF30197011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EB83-FE53-4F6C-9533-422500F2325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800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ИГР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4190760"/>
            <a:ext cx="60199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ЖИВОТ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РОКОДИЛЫ ПЛАЧУТ 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743200" y="3657600"/>
          <a:ext cx="3962520" cy="121932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0c142ca99a97eb7cb917eba169612ded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АК ПРЯЧУТСЯ ГУСЕНИЦЫ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ЯЧУТСЯ ПОД КАМЕНЬ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ЯЧУТСЯ В ТРАВЕ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СКИРУЮТСЯ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МАСКИРУЮТСЯ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5" descr="i?id=529940910-60-72&amp;n=24"/>
          <p:cNvPicPr/>
          <p:nvPr/>
        </p:nvPicPr>
        <p:blipFill>
          <a:blip r:embed="rId1"/>
          <a:stretch/>
        </p:blipFill>
        <p:spPr>
          <a:xfrm>
            <a:off x="2438280" y="1523880"/>
            <a:ext cx="4476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КАЗКА ЖУРАВЛЬ И ЛИ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ГДА ЛИСА ПРИШЛА К ЖУРАВЛЮ ОНА…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КОЙНО ЕЛА ИЗ КУВШИНА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ТРЯСЛА ЕДУ В ТАРЕЛКУ И СТАЛА Е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МОГЛА ЕСТЬ ИЗ КУВШ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7432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НЕ МОГЛА ЕСТЬ ИЗ КУВШИН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T37lj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ОНЕЦ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АСИБО ЗА ВНИМАНИЕ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АВИЛА ИГ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ЗА ПРАВИЛЬНЫЙ ОТВЕТ-    2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ЗА НЕПРАВИЛЬНЫЙ ОТВЕТ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НУС 1Б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ОПРОСИКИ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Wingdings"/>
                <a:ea typeface="Wingdings"/>
              </a:rPr>
              <a:t>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2590920"/>
            <a:ext cx="7391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ТО БЕГАЕТ ДО 60 КМ В ЧАС ?                   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НОТ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ОШАДЬ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ВЕДЬ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fotobears36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УЩЕСТВУЮТ ДУШИСТЫЕ БАБОЧКИ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590920" y="4267080"/>
          <a:ext cx="3809880" cy="106704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Picture 6" descr="wp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ГДЕ ЖИВУТ ДУШИСТЫЕ БАБОЧК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БРАЗИЛИИ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ОСКВЕ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 ИНДИИ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 БРАЗИЛ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christ_travel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ксана</cp:lastModifiedBy>
  <dcterms:modified xsi:type="dcterms:W3CDTF">2014-01-29T12:25:3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