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7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9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png" ContentType="image/pn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0D16-996C-4E32-B030-C1A4D1F7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1BD3-1EEC-409D-8C35-1673BF03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B0B2-1CE0-4414-AE39-07E8C2D6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0E00-FF13-4E28-8473-7317D786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ED54-13BB-436D-926C-65509749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2DA2-6E1F-4B45-B6A7-D2A0C0F9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689B-0E7A-4A65-92AA-48378506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9E47-4E9F-4BBA-ABF5-110A6E04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F203-EA60-4C2B-B20D-C510C2B4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8B33-8804-43B9-BECB-3199FA1D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D4E0-9F05-4733-843F-B814D3ED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7B6E-E50C-4028-B65E-B1DF10F5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BFC2-8779-4A7B-8D03-CC874E36AB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ru.wikipedia.org/w/index.php?title=&#1060;&#1072;&#1081;&#1083;:Treponema_pallidum.jpg&amp;filetimestamp=2007061718260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85;&#1077;&#1088;&#1080;&#1095;&#1077;&#1089;&#1082;&#1086;&#1077;_&#1079;&#1072;&#1073;&#1086;&#1083;&#1077;&#1074;&#1072;&#1085;&#1080;&#1077;" TargetMode="External"/><Relationship Id="rId2" Type="http://schemas.openxmlformats.org/officeDocument/2006/relationships/hyperlink" Target="http://ru.wikipedia.org/wiki/&#1050;&#1088;&#1086;&#1074;&#1100;" TargetMode="External"/><Relationship Id="rId3" Type="http://schemas.openxmlformats.org/officeDocument/2006/relationships/hyperlink" Target="http://ru.wikipedia.org/wiki/&#1058;&#1088;&#1072;&#1085;&#1089;&#1092;&#1091;&#1079;&#1080;&#1103;" TargetMode="External"/><Relationship Id="rId4" Type="http://schemas.openxmlformats.org/officeDocument/2006/relationships/hyperlink" Target="http://ru.wikipedia.org/wiki/&#1053;&#1072;&#1088;&#1082;&#1086;&#1084;&#1072;&#1085;" TargetMode="External"/><Relationship Id="rId5" Type="http://schemas.openxmlformats.org/officeDocument/2006/relationships/hyperlink" Target="http://ru.wikipedia.org/wiki/&#1064;&#1087;&#1088;&#1080;&#1094;" TargetMode="External"/><Relationship Id="rId6" Type="http://schemas.openxmlformats.org/officeDocument/2006/relationships/hyperlink" Target="http://ru.wikipedia.org/wiki/&#1053;&#1072;&#1088;&#1082;&#1086;&#1090;&#1080;&#1082;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72;&#1073;&#1086;&#1083;&#1077;&#1074;&#1072;&#1085;&#1080;&#1103;,_&#1087;&#1077;&#1088;&#1077;&#1076;&#1072;&#1102;&#1097;&#1080;&#1077;&#1089;&#1103;_&#1087;&#1086;&#1083;&#1086;&#1074;&#1099;&#1084;_&#1087;&#1091;&#1090;&#1105;&#1084;" TargetMode="External"/><Relationship Id="rId2" Type="http://schemas.openxmlformats.org/officeDocument/2006/relationships/hyperlink" Target="http://ru.wikipedia.org/wiki/&#1048;&#1085;&#1092;&#1077;&#1082;&#1094;&#1080;&#1086;&#1085;&#1085;&#1086;&#1077;_&#1079;&#1072;&#1073;&#1086;&#1083;&#1077;&#1074;&#1072;&#1085;&#1080;&#1077;" TargetMode="External"/><Relationship Id="rId3" Type="http://schemas.openxmlformats.org/officeDocument/2006/relationships/hyperlink" Target="http://ru.wikipedia.org/wiki/&#1041;&#1072;&#1082;&#1090;&#1077;&#1088;&#1080;&#1103;" TargetMode="External"/><Relationship Id="rId4" Type="http://schemas.openxmlformats.org/officeDocument/2006/relationships/hyperlink" Target="http://ru.wikipedia.org/wiki/Treponema_pallidum" TargetMode="External"/><Relationship Id="rId5" Type="http://schemas.openxmlformats.org/officeDocument/2006/relationships/hyperlink" Target="http://ru.wikipedia.org/w/index.php?title=&#1058;&#1088;&#1077;&#1087;&#1086;&#1085;&#1077;&#1084;&#1072;&amp;action=edit&amp;redlink=1" TargetMode="External"/><Relationship Id="rId6" Type="http://schemas.openxmlformats.org/officeDocument/2006/relationships/hyperlink" Target="http://ru.wikipedia.org/w/index.php?title=Treponema&amp;action=edit&amp;redlink=1" TargetMode="External"/><Relationship Id="rId7" Type="http://schemas.openxmlformats.org/officeDocument/2006/relationships/hyperlink" Target="http://ru.wikipedia.org/w/index.php?title=Spirochaetaceae&amp;action=edit&amp;redlink=1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Болезни, передаваемые половым пут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Бледная трепон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трепонема"/>
          <p:cNvPicPr/>
          <p:nvPr/>
        </p:nvPicPr>
        <p:blipFill>
          <a:blip r:embed="rId1"/>
          <a:stretch/>
        </p:blipFill>
        <p:spPr>
          <a:xfrm>
            <a:off x="395280" y="1844640"/>
            <a:ext cx="3854520" cy="3638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Treponema pallidum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1844640"/>
            <a:ext cx="41749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Пути передачи сифили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Сифилис передаётся в основном половым путём, в связи с чем относится к групп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енерических заболеваний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, или ИППП (инфекций, передаваемых половым путём). Однако возможна передача сифилиса и через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ровь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, например, при переливании крови заражённого сифилисом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донора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, или у инъекционных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наркоманов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 при пользовании общим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шприцами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 и/или общими ёмкостями для растворов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наркотиков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, или в быту при пользовании общим «кровавым» инструментом типа зубных щёток или бри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Стадии развития боле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Инкубационный период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– от момента проникновения возбудителя в организм до появления твердого шанкра. Длится 3-4 недели, но может уменьшится до 8-10 дней, или увеличиться до 108-109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Первичный период заболевания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– с момента появления твердого шанкра до возникновения на коже и слизистых специфической сыпи. Длится 6-7 недель с поражением близлежащих лимфатических у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Вторичный сифилис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– высыпания на коже, поражение нервной системы, костей, печени, поч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Третичный сифилис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– поражение всех органов и систем орга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24360" y="1125360"/>
            <a:ext cx="475308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ифили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это тяжелое заболевание с поражением почти всех внутренних органов, центральной нервной системы, костей и специфическими изменениями кожи и слизистых оболоч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кроорганизм чувствителен в различным воздействиям и быстро погибает от тепла, холода, мыла, дезинфекции и при высушив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следствия заболеваний, передаваемых половым пут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179280" y="6308640"/>
            <a:ext cx="43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ольной сифилисом на 3 стадии заболе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sif"/>
          <p:cNvPicPr/>
          <p:nvPr/>
        </p:nvPicPr>
        <p:blipFill>
          <a:blip r:embed="rId1"/>
          <a:stretch/>
        </p:blipFill>
        <p:spPr>
          <a:xfrm>
            <a:off x="395280" y="1268280"/>
            <a:ext cx="3240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995640" y="1197000"/>
            <a:ext cx="475308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мптомы сифилиса: перви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ым симптомом сифилиса первой стадии развития является появление на месте инфицирования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вердого шанк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вердый шанкр 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лотное, красное, безболезненное образование с эрозией красного цвета (поверхностной язвочкой) на верхушке. Появляется 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овых органах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нусе, на слизистой губ, гло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оит внимательно отнестись к этому сигналу, ведь через неделю эрозии исчезают, на их месте воспаляются близрасположенные лимфоуз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следствия заболеваний, передаваемых половым пут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39640" y="6553080"/>
            <a:ext cx="30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вердый шанк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sif"/>
          <p:cNvPicPr/>
          <p:nvPr/>
        </p:nvPicPr>
        <p:blipFill>
          <a:blip r:embed="rId1"/>
          <a:stretch/>
        </p:blipFill>
        <p:spPr>
          <a:xfrm>
            <a:off x="611280" y="1125360"/>
            <a:ext cx="3024000" cy="2205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89"/>
          <p:cNvPicPr/>
          <p:nvPr/>
        </p:nvPicPr>
        <p:blipFill>
          <a:blip r:embed="rId2"/>
          <a:stretch/>
        </p:blipFill>
        <p:spPr>
          <a:xfrm>
            <a:off x="611280" y="3500280"/>
            <a:ext cx="3024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8"/>
          <p:cNvSpPr/>
          <p:nvPr/>
        </p:nvSpPr>
        <p:spPr>
          <a:xfrm>
            <a:off x="3995640" y="1197000"/>
            <a:ext cx="475308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мптомы сифилис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вторич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мптомы вторичного сифилиса дают о себе знать через 6-8 неде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коже появляется сыпь и папулы – маленькие розовые узелки, которые не зудя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иод может длиться от 2-5 до 10 ле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является пигментация, усиленное выпадение волос. возникает  осиплость голоса, увеличиваются лимфоузл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же могут наблюдаться такие симптомы как выпадение волос, ломкость ногт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sifilis-foto"/>
          <p:cNvPicPr/>
          <p:nvPr/>
        </p:nvPicPr>
        <p:blipFill>
          <a:blip r:embed="rId1"/>
          <a:stretch/>
        </p:blipFill>
        <p:spPr>
          <a:xfrm>
            <a:off x="684360" y="1341360"/>
            <a:ext cx="2808000" cy="1871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Профилактика заболеваний, передаваемых половым путём"/>
          <p:cNvPicPr/>
          <p:nvPr/>
        </p:nvPicPr>
        <p:blipFill>
          <a:blip r:embed="rId2"/>
          <a:stretch/>
        </p:blipFill>
        <p:spPr>
          <a:xfrm>
            <a:off x="684360" y="3429000"/>
            <a:ext cx="2808000" cy="2444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3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следствия заболеваний, передаваемых половым пут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7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следствия заболеваний, передаваемых половым пут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995640" y="1130400"/>
            <a:ext cx="514836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мптомы сифилиса третичный пери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тичный период сифилиса (по прошествии 3-4 лет) предполагает воспалительные процессы на любых тканях и органах организма, которые сопровождаются образованием узлов – гумм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разрушении гуммов разрушается и та ткань, к которой он прикрепл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данной стадии болезнь практически не поддается леч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ронический сифилис, поздние стадии его развития имеют тяжелейшие осложнения и последствия, вплоть до летального исх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5" descr="sif2"/>
          <p:cNvPicPr/>
          <p:nvPr/>
        </p:nvPicPr>
        <p:blipFill>
          <a:blip r:embed="rId1"/>
          <a:stretch/>
        </p:blipFill>
        <p:spPr>
          <a:xfrm>
            <a:off x="971640" y="836640"/>
            <a:ext cx="2952720" cy="1601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Картинка 1 из 177"/>
          <p:cNvPicPr/>
          <p:nvPr/>
        </p:nvPicPr>
        <p:blipFill>
          <a:blip r:embed="rId2"/>
          <a:srcRect l="0" t="0" r="0" b="1985"/>
          <a:stretch/>
        </p:blipFill>
        <p:spPr>
          <a:xfrm>
            <a:off x="0" y="2924280"/>
            <a:ext cx="27525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следствия заболеваний, передаваемых половым пут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995640" y="692280"/>
            <a:ext cx="514836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мптомы сифил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раж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рвная ткань спинного мозга, теряется чувствительность ног, поражаются зубы, проваливается н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ронический сифилис, поздние стадии его развития имеют тяжелейшие осложнения и последствия, вплоть до летального исх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Картинка 32 из 177"/>
          <p:cNvPicPr/>
          <p:nvPr/>
        </p:nvPicPr>
        <p:blipFill>
          <a:blip r:embed="rId1"/>
          <a:stretch/>
        </p:blipFill>
        <p:spPr>
          <a:xfrm>
            <a:off x="468360" y="1125360"/>
            <a:ext cx="3317760" cy="4896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некроз при сиф"/>
          <p:cNvPicPr/>
          <p:nvPr/>
        </p:nvPicPr>
        <p:blipFill>
          <a:blip r:embed="rId2"/>
          <a:stretch/>
        </p:blipFill>
        <p:spPr>
          <a:xfrm>
            <a:off x="5508720" y="3213000"/>
            <a:ext cx="2952720" cy="35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8000" y="404280"/>
            <a:ext cx="56880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учае подозрения на заболевание  немедленно обратиться в лечебное  учрежд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мунитет после сифилиса не вырабатыв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филис передается по наследст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ранней стадии сифилис лечится , но процедура эта очень болезненна и стоит достаточно  дор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дотвратить заболевание сифилисом невозможно, вакцины против него не существу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филис родителей опасен для потомства – дети сифилитиков имеют специфическое поражение костей, глухоту и часто рождаются деби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POST_77__0"/>
          <p:cNvPicPr/>
          <p:nvPr/>
        </p:nvPicPr>
        <p:blipFill>
          <a:blip r:embed="rId1"/>
          <a:stretch/>
        </p:blipFill>
        <p:spPr>
          <a:xfrm>
            <a:off x="5867280" y="333360"/>
            <a:ext cx="3097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Гоноре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Гоноре́я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(от др.-греч. γόνος «семенная жидкость» и ῥέω «теку») — инфекционное заболевание, вызываемое грамотрицательным диплококком — гонококком лат. Neisseria gonorrhoeae, Передаваемая половым путём и характеризующаяся поражением слизистых оболочек мочеполовых органов. Относится к венерическим заболева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следние годы во всем мире широко распространились инфекционные заболеван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ередающиеся от человека к человеку  преимущественно половым путе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на из главных причин – это более свободный  взгляд  на секс и сексуальные отношения молодых люде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ньше они называлис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енерическими заболевания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сейчас по классификации Всемирной организации здравоохранения (ВОЗ) – заболевания, передаваемыми половым путем (ЗППП)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OST_77__0"/>
          <p:cNvPicPr/>
          <p:nvPr/>
        </p:nvPicPr>
        <p:blipFill>
          <a:blip r:embed="rId1"/>
          <a:stretch/>
        </p:blipFill>
        <p:spPr>
          <a:xfrm>
            <a:off x="1116000" y="2973240"/>
            <a:ext cx="67690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Гонокок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гонококк 1"/>
          <p:cNvPicPr/>
          <p:nvPr/>
        </p:nvPicPr>
        <p:blipFill>
          <a:blip r:embed="rId1"/>
          <a:stretch/>
        </p:blipFill>
        <p:spPr>
          <a:xfrm>
            <a:off x="179280" y="1844640"/>
            <a:ext cx="4537080" cy="4105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гонококк"/>
          <p:cNvPicPr/>
          <p:nvPr/>
        </p:nvPicPr>
        <p:blipFill>
          <a:blip r:embed="rId2"/>
          <a:stretch/>
        </p:blipFill>
        <p:spPr>
          <a:xfrm>
            <a:off x="4754520" y="1844640"/>
            <a:ext cx="43894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следствия заболеваний, передаваемых половым пут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50920" y="234936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кубационный период составляет от 2 до 5 дней с момента заражения, после чего появляются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имптомы заболева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нойные желтовато-коричневые выделения с неприятным запахо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 и жжение при мочеиспускан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аление мочеиспускательного кан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данной болезни поражаются органы мочеполовой системы, прямая кишка, глаза. При длительном течении гонореи инфекция распространяется на дыхательную, сердечно-сосудистую, нервную сист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яжелых случаях возможно поражение суставов и заражение крови (сепсис). Приблизительно у половины зараженных людей не наблюдается никаких симптомов, особенно в начале заболевания. Наиболее склонны к малосимптомному/бессимптомному течению заболевания женщины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чение больных должно быть комплексным, индивидуальным, одновременным для обоих половых партне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468360" y="836640"/>
            <a:ext cx="8424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оноре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c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едача инфекции наиболее часто происходит половым путем, реже - внеполовым (у детей), через загрязненное белье, губки, полотенца. Гонококк поражает те отделы мочеполового аппарата, которые выстланы цилиндрическим эпителием: шейку матки, маточные трубы, мочеиспускательный канал, покровный эпителий яич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Проявления гоноре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гонорея глаз"/>
          <p:cNvPicPr/>
          <p:nvPr/>
        </p:nvPicPr>
        <p:blipFill>
          <a:blip r:embed="rId1"/>
          <a:stretch/>
        </p:blipFill>
        <p:spPr>
          <a:xfrm>
            <a:off x="971640" y="1413000"/>
            <a:ext cx="6696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Генитальный герп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Возбудитель герпетической инфекции половых путей вирус простого герпеса (Herpes simplex virus HSV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Различают два вида вируса простого герпес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HSV-1 обычно вызывает поражения полости р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HSV-2 вызывает поражения половых органов (генитальный герпес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Вирус герпе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Herpescapsid"/>
          <p:cNvPicPr/>
          <p:nvPr/>
        </p:nvPicPr>
        <p:blipFill>
          <a:blip r:embed="rId1"/>
          <a:stretch/>
        </p:blipFill>
        <p:spPr>
          <a:xfrm>
            <a:off x="468360" y="1844640"/>
            <a:ext cx="3809880" cy="3914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герпес ирус"/>
          <p:cNvPicPr/>
          <p:nvPr/>
        </p:nvPicPr>
        <p:blipFill>
          <a:blip r:embed="rId2"/>
          <a:stretch/>
        </p:blipFill>
        <p:spPr>
          <a:xfrm>
            <a:off x="4427640" y="1557360"/>
            <a:ext cx="4427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следствия заболеваний, передаваемых половым пут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50920" y="2646360"/>
            <a:ext cx="864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сновные симптом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заболев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звенные образования на внутренних и наружных половых органа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краснение участка кожи вокруг очаг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уд, жже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рушения мочеиспуск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деления различной интенсивности и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блюдается общее ухудшение самочувствия: у больного повышается температура, заметно возрастает утомляемость, возможны и лихорадочные прояв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смотря на то, что попав в организм, герпес сохраняется в нем пожизненно, консультация со специалистом все же необходима. Незначительные пузырьковые высыпания при бесконтрольном развитии угрожают превратиться в язвенные поражения, охватывающие значительные участки кожи или слизистой оболоч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rcRect l="13373" t="0" r="5436" b="19257"/>
          <a:stretch/>
        </p:blipFill>
        <p:spPr>
          <a:xfrm>
            <a:off x="684360" y="83664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3708360" y="1052640"/>
            <a:ext cx="525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енитальный герпе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вирусное венерическое заболевание, проявляющееся в характерных пузырьковых высыпаниях на половых орган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Пути передачи генитального герп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Заражение вирусом герпеса происходит при половом контакте и при поцелуе. </a:t>
            </a:r>
            <a:br>
              <a:rPr sz="2400"/>
            </a:b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Распространение инфекции происходит при генитальных, орогенитальных и анальных половых контактах, а также во время родов, когда заражение новорожденных происходит от инфицированной мате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Также возможно заражение вирусом герпеса во время прямого контакта с выделениями больных через различные предметы. Заражение может произойти от инфицированного пациента как при наличии симптомов заболевания, так и при их отсутствии. </a:t>
            </a:r>
            <a:br>
              <a:rPr sz="2400"/>
            </a:b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Самоинфицирование может наблюдаться, когда больной сам переносит вирус герпеса из очага инфекции на незараженные части тела лицо, руки, глаза, полость рта или половые орг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Проявления генитального герп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генит герпес"/>
          <p:cNvPicPr/>
          <p:nvPr/>
        </p:nvPicPr>
        <p:blipFill>
          <a:blip r:embed="rId1"/>
          <a:stretch/>
        </p:blipFill>
        <p:spPr>
          <a:xfrm>
            <a:off x="324000" y="1773360"/>
            <a:ext cx="3289320" cy="4525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baby2 герпес"/>
          <p:cNvPicPr/>
          <p:nvPr/>
        </p:nvPicPr>
        <p:blipFill>
          <a:blip r:embed="rId2"/>
          <a:stretch/>
        </p:blipFill>
        <p:spPr>
          <a:xfrm>
            <a:off x="3780000" y="4267080"/>
            <a:ext cx="4689360" cy="2590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герпес"/>
          <p:cNvPicPr/>
          <p:nvPr/>
        </p:nvPicPr>
        <p:blipFill>
          <a:blip r:embed="rId3"/>
          <a:stretch/>
        </p:blipFill>
        <p:spPr>
          <a:xfrm>
            <a:off x="3780000" y="1484280"/>
            <a:ext cx="49528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Хламидио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Хламидиоз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 — инфекционное заболевание, передающееся половым путём, вызываемое хламидиями (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Chlamydia trachomatis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Chlamydomonas_z10000xg"/>
          <p:cNvPicPr/>
          <p:nvPr/>
        </p:nvPicPr>
        <p:blipFill>
          <a:blip r:embed="rId1"/>
          <a:stretch/>
        </p:blipFill>
        <p:spPr>
          <a:xfrm>
            <a:off x="1476360" y="2997360"/>
            <a:ext cx="6408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следствия заболеваний, передаваемых половым пут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79280" y="907920"/>
            <a:ext cx="8964720" cy="4948560"/>
          </a:xfrm>
          <a:prstGeom prst="rect">
            <a:avLst/>
          </a:prstGeom>
          <a:noFill/>
          <a:ln w="9360">
            <a:solidFill>
              <a:srgbClr val="6b6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Хламидио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заболевание, передающееся половым путем, либо в процессе родов инфекция переходит от матери к ребе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 настоящему времени известно </a:t>
            </a: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пять видов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ламид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вида передаются только </a:t>
            </a: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контактно – половы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ем, а два могут передаваться </a:t>
            </a: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бытовым путё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имптомы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елые или желтые выделения из уретры, болезненное мочеиспускание, зуд в области отверстия мочеиспускательного канала, периодические боли в промежности, яичках. Инкубационный период хламидиоза составляет от 5 до 30 дней, но в 50% случаев хламидиоз бессимптомен и проявляется лишь выделением из уретры после сна небольшого количества мутноватой слиз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з симптомов хламидиоз протекает у 46 % мужчин и 67 % женщ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обой опасности при хламидиозе подвержены беременные женщины, у которых инфекция может стать причиной самопроизвольного аборта, неразвивающейся беременности, преждевременной отслойки плаценты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539640" y="18900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езни, передаваемые половым путем (БППП), по традиции называются еще венерическими заболеваниями. (сокращенно —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ППП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ППП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ППП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Динамика венерических заболеваний"/>
          <p:cNvPicPr/>
          <p:nvPr/>
        </p:nvPicPr>
        <p:blipFill>
          <a:blip r:embed="rId1"/>
          <a:stretch/>
        </p:blipFill>
        <p:spPr>
          <a:xfrm>
            <a:off x="1258920" y="1844640"/>
            <a:ext cx="6626160" cy="48261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7164360" y="18446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95280" y="907920"/>
            <a:ext cx="87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прощенное отношение к сексуальной жизни, неразборчивые, случайные связи с разными партнерами многократно повышают риск заражения БППП. Некоторые из них передаются контактно-бытовым пут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следствия заболеваний, передаваемых половым пут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484360" y="998640"/>
            <a:ext cx="6443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рихомоноз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заболевание, передающееся половым путем, поражает влагалище у женщин и уретру, семенные пузырьки и предстательную железу (простату) у мужч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кубационный период трихомониаза составляет от нескольких дней до нескольких месяц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сновные симптомы у мужчи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лесые или серые пенистые выде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уд в мочеиспускательном канал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уд и жжение при мочеиспуска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Характерные симптомы у женщи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лтоватые пенистые выде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 при мочеиспускан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краснение и зуд наружных половых орга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рез три-четыре недели, если не было проведено лечение, трихомониаз переходит в хроническую фор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хомонадная инфекция из уретры распространяется и на другие органы мочеполовой системы, становясь причиной хронического простатита, орхита, эпидидимита, везикулита, воспаления мочевого пузыря и почек, бесплод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Трихомониаз"/>
          <p:cNvPicPr/>
          <p:nvPr/>
        </p:nvPicPr>
        <p:blipFill>
          <a:blip r:embed="rId1"/>
          <a:stretch/>
        </p:blipFill>
        <p:spPr>
          <a:xfrm>
            <a:off x="395280" y="1125360"/>
            <a:ext cx="191628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Гепати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пат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Гепатит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это острое или хроническое воспаление печени. Наиболее распространены вирусные гепатиты А,В,С и Д. Эти гепатиты делятся на несколько типов по способу пере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рус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епатита 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дается бытовым пут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рус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епатитов В и Д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даются через кровь, сперму и женские вагинальные выдел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рус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епатита 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 основном передается через кровь, вероятность заражения через сперму и вагинальные выделения гораздо ме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Гепатит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его иногда называю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желтухой или болезнь Ботк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далеко не так серьезно, как гепатиты В, С и Д. Проходит он быстро и без последствий, не переходя в хроническую форму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бы не заразиться вирусом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епатита 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ужно соблюдать гигиену: мыть руки перед едой, не пить некипяченую воду , не есть немытые овощи и фрукты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26366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Гепатиты В, С и Д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это тяжелые заболе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большого количества больных развивается хроническая форма, которая может привести к циррозу или раку печ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рая форма может перейти в хроническую через несколько месяц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этом чем раньше начато лечение хронического гепатита, тем лучше его прогно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00360" y="115920"/>
            <a:ext cx="419724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ычные симптомы гепати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желтение кож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шно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во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сутствие аппети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б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темнение мо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ветление к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о острая форма гепатита (А) вообще проходит без симптомов или наблюдаются лишь небольшие недомогания вроде тошноты, общей слабости или отсутствия аппет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бы выявить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епатит – необходимо сдать анализ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032000" cy="5472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офилактика заболеваний, передаваемых половым пу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284720" y="907920"/>
            <a:ext cx="4680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ый надежный способ уберечься от БППП - это полное воздержание от беспорядочных половых связ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бы предотвратить заражение при контакте сексуальных партнеров необходимо пользоваться средствами контрацепции и соблюдать правила личной гиги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Сифилис"/>
          <p:cNvPicPr/>
          <p:nvPr/>
        </p:nvPicPr>
        <p:blipFill>
          <a:blip r:embed="rId1"/>
          <a:stretch/>
        </p:blipFill>
        <p:spPr>
          <a:xfrm>
            <a:off x="395280" y="981000"/>
            <a:ext cx="31669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ние: Заполнить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600200"/>
          <a:ext cx="8229600" cy="2405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звание боле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тадии протек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ути пере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20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звестно более 20 возбудителей болезни, передающихся половым путем :</a:t>
            </a:r>
            <a:br>
              <a:rPr sz="2000"/>
            </a:br>
            <a:br>
              <a:rPr sz="2000"/>
            </a:b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бактерии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вирусы 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простейшие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дрожжевые грибы 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членистоногие </a:t>
            </a:r>
            <a:r>
              <a:rPr b="0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2276280"/>
            <a:ext cx="4978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ЗППП относятся 22 болезни трех групп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1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8c93"/>
                </a:solidFill>
                <a:latin typeface="Arial"/>
              </a:rPr>
              <a:t>классические венерические заболевания</a:t>
            </a:r>
            <a:r>
              <a:rPr b="0" lang="ru-RU" sz="20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ифилис, гоноре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1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8c93"/>
                </a:solidFill>
                <a:latin typeface="Arial"/>
              </a:rPr>
              <a:t>болезни мочеполовой системы</a:t>
            </a:r>
            <a:r>
              <a:rPr b="0" lang="ru-RU" sz="2000" spc="-1" strike="noStrike">
                <a:solidFill>
                  <a:srgbClr val="3c8c93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мочеполовой хламидиоз, трихомониаз, микоплазмоз, генитальный герпес, лобковый педикулез (вшивость, чесот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1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8c93"/>
                </a:solidFill>
                <a:latin typeface="Arial"/>
              </a:rPr>
              <a:t>болезни передающиеся преимущественно половым путем</a:t>
            </a:r>
            <a:r>
              <a:rPr b="0" lang="ru-RU" sz="20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ПИД, гепатит, лямблиоз, сепсис новорожденны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{4E7038C3-FCF6-46A6-AE1D-5060B593599E}"/>
          <p:cNvPicPr/>
          <p:nvPr/>
        </p:nvPicPr>
        <p:blipFill>
          <a:blip r:embed="rId1"/>
          <a:stretch/>
        </p:blipFill>
        <p:spPr>
          <a:xfrm>
            <a:off x="5435640" y="476280"/>
            <a:ext cx="352908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250920" y="18900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основным видам заболеваний, передаваемых половым путём, относятся: сифилис, гонорея, генитальный герпес, хламидиоз, трихомоноз и др. В настоящее время таких болезней насчитывается  2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Наиболее распространенные заболевания, передаваемые половым путём"/>
          <p:cNvPicPr/>
          <p:nvPr/>
        </p:nvPicPr>
        <p:blipFill>
          <a:blip r:embed="rId1"/>
          <a:stretch/>
        </p:blipFill>
        <p:spPr>
          <a:xfrm>
            <a:off x="971640" y="1268280"/>
            <a:ext cx="7129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Смертельно опасные ЗППП:</a:t>
            </a:r>
            <a:br>
              <a:rPr sz="4400"/>
            </a:b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1) ВИЧ</a:t>
            </a:r>
            <a:br>
              <a:rPr sz="4400"/>
            </a:b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2) генитальные бородавки(кондиломы)</a:t>
            </a:r>
            <a:br>
              <a:rPr sz="4400"/>
            </a:b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3) гонорея</a:t>
            </a:r>
            <a:br>
              <a:rPr sz="4400"/>
            </a:b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4) сифилис</a:t>
            </a:r>
            <a:br>
              <a:rPr sz="4400"/>
            </a:b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5) хламидиоз</a:t>
            </a:r>
            <a:br>
              <a:rPr sz="4400"/>
            </a:b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6) генитальный герпес</a:t>
            </a:r>
            <a:br>
              <a:rPr sz="4400"/>
            </a:b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7) гепатиты В и 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Пути передачи ИПП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324000" y="1197000"/>
            <a:ext cx="864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buClr>
                <a:srgbClr val="ffc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оловой путь передачи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: любые виды се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ffc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Контактно – бытовой путь: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поцелуи, тесные объятия, общее пользование зубной щеткой, бритвой, полотенцем, купание в бассейне, нестерилизованный медицинский инстру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3. Внутриутробный путь: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при родах, через плаценту во время берем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4. 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арентеральный путь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: попадание инфекции в кровь и на слизистые (внутривенное введение наркотиков, нестерильное переливание кров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5. 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Другие пути: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через слюну, мочу, выделения из половых органов, грудное моло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ведомо известное заражение другого лица венерической болезнью подлежит уголовному наказанию в соответствии со ст.121 Уголовного Кодекса Р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Ответственность за заражение другого лица венерической болезнью"/>
          <p:cNvPicPr/>
          <p:nvPr/>
        </p:nvPicPr>
        <p:blipFill>
          <a:blip r:embed="rId1"/>
          <a:stretch/>
        </p:blipFill>
        <p:spPr>
          <a:xfrm>
            <a:off x="826920" y="9079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Сифили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(устар. ЛЮЭС) - хроническое системно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енерическое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инфекционное заболевание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с поражением кожи, слизистых оболочек, внутренних органов, костей, нервной системы с последовательной сменой стадий болезни, вызываемо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бактериями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вида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Treponema pallidum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(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бледная трепонема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) подвида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pallidum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, относящимся к роду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репонема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(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Treponema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) семейства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Spirochaetace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8T18:45:52Z</dcterms:created>
  <dc:creator>Admin</dc:creator>
  <dc:description/>
  <dc:language>en-US</dc:language>
  <cp:lastModifiedBy>Alex</cp:lastModifiedBy>
  <dcterms:modified xsi:type="dcterms:W3CDTF">2013-11-11T09:13:22Z</dcterms:modified>
  <cp:revision>16</cp:revision>
  <dc:subject/>
  <dc:title>Болезни, передаваемые половым путем</dc:title>
</cp:coreProperties>
</file>